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15D-8280-4CEF-941E-9DAC0C2A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B93D-C9B3-494C-8C1F-323C04DB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AB41-E9D7-4E88-B82E-E29A23BE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7BDF-71B6-45CE-A859-97EB7A82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2A9-A7CC-4A13-A64F-989EBBE45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B6D-2A01-4C28-9D02-B2A7CDD0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6154-AA70-4E25-A290-FA925EBF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C22-34BE-46EF-99DA-CF58DE90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45D-BBED-4CDC-8E3C-2E0A9CEA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3033-F799-442D-A153-282648FA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61DC-0534-4A3B-B04F-0D7F5C56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54B9-B695-4A5E-972C-07042979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4EC4-D3D2-499F-B3D9-B0463C5C9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413000"/>
            <a:ext cx="79153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L32D- Análisis y Modelación de Sistemas Dinámic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348000" y="3860640"/>
            <a:ext cx="3581280" cy="20862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rabajo en Cla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450864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5011560"/>
            <a:ext cx="3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851280" y="5877000"/>
            <a:ext cx="1441440" cy="287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6019920"/>
            <a:ext cx="3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844640"/>
            <a:ext cx="784872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Obtener el modelo fenomenológico del siguiente sistema en tiempo discr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6360" y="40035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9800" y="5516640"/>
            <a:ext cx="172728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83280" y="328464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= 0, T, 2T, …nT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o de tiempo discr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2060640"/>
            <a:ext cx="741672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ciendo los mismos supuestos que en el caso de tiempo contin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rada:  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917880"/>
            <a:ext cx="71294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ado:     h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lida:     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n)= 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odelo de tiempo discr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2060640"/>
            <a:ext cx="71294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yes de Conservación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(n+1) - 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h(n) =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42920" y="3716280"/>
            <a:ext cx="712944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ordenando: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(n+1) = h(n) 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n)- F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n))/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5445000"/>
            <a:ext cx="71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ción en hoja de cálcu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ación Empírica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773360"/>
            <a:ext cx="8569080" cy="33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Fenomenología desconocidas (Caja Negr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Desconocida en parte (modelos gris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istemas no line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implificar fenóme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268280"/>
            <a:ext cx="8569080" cy="28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paramétricos E/S (entrada/salida) de tiempo discreto Lineales en los paráme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Forma general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4637160"/>
            <a:ext cx="91440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48428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Usan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71640" y="2133720"/>
            <a:ext cx="7704000" cy="22111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79280" y="4437000"/>
            <a:ext cx="856944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Se obtien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700360" y="5054760"/>
            <a:ext cx="3743280" cy="97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36360" y="1422360"/>
            <a:ext cx="644364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Caso particula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(AutoRegresive with eXogenous input, auto-regresivo con entrada exóge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268360" y="5084640"/>
            <a:ext cx="4105440" cy="1071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708360" y="1911240"/>
            <a:ext cx="5435640" cy="1067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-181080" y="4221000"/>
            <a:ext cx="4465800" cy="752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4788000" y="4437000"/>
            <a:ext cx="435600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structura de los Modelo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6524640"/>
            <a:ext cx="88549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Dpto.  Ingeniería Eléctrica- fcfm - Universidad de Chile                   EL32D- Análisis y Modelación de Sistemas Dinám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268280"/>
            <a:ext cx="856944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Generaliz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Modelos AR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AutoRegressive with Moving Average and Exogenous inpu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979640" y="4352760"/>
            <a:ext cx="46800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8-07T01:33:49Z</dcterms:modified>
  <cp:revision>29</cp:revision>
  <dc:subject/>
  <dc:title>EL63A-Taller de Proyecto en Control II</dc:title>
</cp:coreProperties>
</file>