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581F-8237-4BC5-AD2F-6C61F72E1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7E0F-0102-449C-8B8F-4011FFC7E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AF2B-1B4E-450D-81D3-E97119CA4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DB9F-0D80-4A37-9064-7AAB12508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0467-E6D1-4901-A5AF-D1E14AA2D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FE41-D4F0-4C43-BA1D-07BB47527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21C5-40F8-4B04-93A0-6C1200A30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6F61-53D0-439D-B122-A2CF369BB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C6F1-45FC-4EBB-BE7A-0FDF0B976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EDB4-41CF-47D9-B394-503B0756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5901-0005-4E2F-BF72-1D01D51A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68EB-2C6B-4D21-8DC6-2BDE0E01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4031C-0DC7-48A4-B967-7331A4694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413000"/>
            <a:ext cx="79153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L32D- Análisis y Modelación de Sistemas Dinámic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348000" y="3860640"/>
            <a:ext cx="3581280" cy="20862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rabajo en Cla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4508640"/>
            <a:ext cx="0" cy="12952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59280" y="5011560"/>
            <a:ext cx="34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851280" y="5877000"/>
            <a:ext cx="1441440" cy="2872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00720" y="6019920"/>
            <a:ext cx="34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1844640"/>
            <a:ext cx="7848720" cy="19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Obtener el modelo fenomenológico del siguiente sistema en tiempo discre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16360" y="40035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589800" y="5516640"/>
            <a:ext cx="1727280" cy="3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= 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83280" y="328464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 = 0, T, 2T, …nT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odelo de tiempo discret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42920" y="2060640"/>
            <a:ext cx="7416720" cy="18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ciendo los mismos supuestos que en el caso de tiempo continu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trada:   F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(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42920" y="3917880"/>
            <a:ext cx="712944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ado:     h(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alida:      F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(n)= 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(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odelo de tiempo discret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42920" y="2060640"/>
            <a:ext cx="712944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eyes de Conservación: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(n+1) - 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h(n) =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in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F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42920" y="3716280"/>
            <a:ext cx="712944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ordenando: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(n+1) = h(n) +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(F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(n)- F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(n))/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47640" y="5445000"/>
            <a:ext cx="71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ción en hoja de cálcu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ación Empírica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1773360"/>
            <a:ext cx="8569080" cy="330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Fenomenología desconocidas (Caja Negr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Desconocida en parte (modelos gris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Sistemas no line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Simplificar fenómen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structura de los Model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1268280"/>
            <a:ext cx="8569080" cy="28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Modelos paramétricos E/S (entrada/salida) de tiempo discreto Lineales en los parámet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Forma genera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4637160"/>
            <a:ext cx="9144000" cy="6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structura de los Model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9280" y="148428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Usand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971640" y="2133720"/>
            <a:ext cx="7704000" cy="22111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79280" y="443700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Se obtien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700360" y="5054760"/>
            <a:ext cx="374328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structura de los Model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36360" y="1422360"/>
            <a:ext cx="6443640" cy="27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Caso particula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Modelos AR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(AutoRegresive with eXogenous input, auto-regresivo con entrada exóge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268360" y="5084640"/>
            <a:ext cx="4105440" cy="1071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3708360" y="1911240"/>
            <a:ext cx="5435640" cy="10670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-181080" y="4221000"/>
            <a:ext cx="4465800" cy="7527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4788000" y="4437000"/>
            <a:ext cx="4356000" cy="5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structura de los Model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268280"/>
            <a:ext cx="8569440" cy="29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Generaliz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Modelos ARMA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AutoRegressive with Moving Average and Exogenous inpu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979640" y="4352760"/>
            <a:ext cx="4680000" cy="13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7-08-07T01:33:49Z</dcterms:modified>
  <cp:revision>29</cp:revision>
  <dc:subject/>
  <dc:title>EL63A-Taller de Proyecto en Control II</dc:title>
</cp:coreProperties>
</file>