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658-FF6F-409A-A2DE-8545CEC8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A1E-CB05-40DC-AF7B-2DFF9E1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5B3-D069-4142-AC34-746F8CA8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6BF-6E09-423A-B910-263B9CFD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777-9D18-4F0E-ACED-BA5E35AC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5BE-16A0-4C23-818F-83D7E4AC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F90-855A-43CB-9CAC-C6E1B015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DF2-0E9A-4325-BFCC-A4E92A06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51E-3BE6-45F2-A698-69C64A10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2A6-E07E-4FA9-B393-23A603A0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D6E-988A-4DCB-885C-9E15526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174-C35E-44C3-969D-573F3D83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1E53-C8EF-4FEA-BB7E-D8ACE0AB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581280" cy="20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bajo en Cl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450864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1156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1280" y="5877000"/>
            <a:ext cx="144144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601992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44640"/>
            <a:ext cx="7848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Obtener el modelo fenomenológico del siguiente sistema en tiempo disc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4003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9800" y="5516640"/>
            <a:ext cx="17272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3280" y="32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= 0, T, 2T, …nT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060640"/>
            <a:ext cx="741672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iendo los mismos supuestos que en el caso de tiemp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: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9178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:    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ida:   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n)=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06064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es de Conservación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-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(n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37162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ordenando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= h(n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-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)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544500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en hoja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ación Empír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773360"/>
            <a:ext cx="85690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enomenología desconocidas (Caja Neg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esconocida en parte (modelos gri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stemas no lin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mplificar fenóme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268280"/>
            <a:ext cx="856908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paramétricos E/S (entrada/salida) de tiempo discreto Lineales en los pará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orma gene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637160"/>
            <a:ext cx="91440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3:49Z</dcterms:modified>
  <cp:revision>29</cp:revision>
  <dc:subject/>
  <dc:title>EL63A-Taller de Proyecto en Control II</dc:title>
</cp:coreProperties>
</file>