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D71D-DC42-426F-9845-750C20CE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B09-B590-41F5-A7E7-298489A9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7AC-A4BC-4C97-B9EB-D2D1BF79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3490-901E-4177-91C0-AE4F5457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36B-5FAE-4F49-B0F6-5EE45E43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E17-B3F8-42C3-A37A-EF30923F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406-64AA-47EE-84B1-6C69E0F6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74F-4048-48C0-B557-5205F3D2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D0E1-0CCA-49BE-8843-09132B22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F61B-273F-437D-8AB7-A1E0A223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C1E-F817-46CA-B9E8-F84263A7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CCD8-D315-4CB8-90EA-ACB1C0D5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4EA4-84AB-4258-AABB-AD8D5DDC7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581280" cy="2086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abajo en Cla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450864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5011560"/>
            <a:ext cx="3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851280" y="5877000"/>
            <a:ext cx="1441440" cy="287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00720" y="6019920"/>
            <a:ext cx="3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844640"/>
            <a:ext cx="78487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Obtener el modelo fenomenológico del siguiente sistema en tiempo discr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6360" y="4003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9800" y="5516640"/>
            <a:ext cx="17272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3280" y="3284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= 0, T, 2T, …nT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o de tiempo discr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2060640"/>
            <a:ext cx="741672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iendo los mismos supuestos que en el caso de tiempo contin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ada:  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917880"/>
            <a:ext cx="712944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do:     h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lida:     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n)= 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o de tiempo discr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2060640"/>
            <a:ext cx="712944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yes de Conservación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(n+1) -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h(n)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3716280"/>
            <a:ext cx="712944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ordenando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(n+1) = h(n)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n)-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n))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544500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ción en hoja de cálc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ación Empíric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773360"/>
            <a:ext cx="8569080" cy="33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Fenomenología desconocidas (Caja Neg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esconocida en parte (modelos gris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istemas no line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implificar fenóme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268280"/>
            <a:ext cx="8569080" cy="28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paramétricos E/S (entrada/salida) de tiempo discreto Lineales en los paráme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Forma gener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4637160"/>
            <a:ext cx="91440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1484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Usan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7704000" cy="221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9280" y="443700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e obtie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700360" y="5054760"/>
            <a:ext cx="37432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6360" y="1422360"/>
            <a:ext cx="644364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so particul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(AutoRegresive with eXogenous input, auto-regresivo con entrada exóg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68360" y="5084640"/>
            <a:ext cx="4105440" cy="1071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708360" y="1911240"/>
            <a:ext cx="5435640" cy="1067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-181080" y="4221000"/>
            <a:ext cx="4465800" cy="752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788000" y="4437000"/>
            <a:ext cx="43560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268280"/>
            <a:ext cx="856944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General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AutoRegressive with Moving Average and Exogenous inpu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79640" y="4352760"/>
            <a:ext cx="46800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8-07T01:33:49Z</dcterms:modified>
  <cp:revision>29</cp:revision>
  <dc:subject/>
  <dc:title>EL63A-Taller de Proyecto en Control II</dc:title>
</cp:coreProperties>
</file>