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20E-AFA6-495F-A1CE-1A78F562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4DC-E181-4070-A750-5BE4A4A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C93-1D2E-4579-9478-79E7A6C3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367-3783-4711-8A43-8ED19F77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DA2-ADAF-4FDD-9F43-1CE1B655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1CD-4557-4601-A698-13C3C05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BA1-A845-4CDD-BE51-CB459C1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E9D-3E49-49CE-A975-17D75C3C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C6C-AA58-4089-8DF5-262DB17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C7C-8A62-4D4C-8661-94101EA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AFA-5A4F-406F-AD19-57EEA67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1A4-9DAA-4B32-85D1-5ACC34E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949A-30EB-4138-BAA8-651F275093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6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7.wmf"/><Relationship Id="rId14" Type="http://schemas.openxmlformats.org/officeDocument/2006/relationships/package" Target="../embeddings/oleObject7.xlsx"/><Relationship Id="rId15" Type="http://schemas.openxmlformats.org/officeDocument/2006/relationships/image" Target="../media/image8.wmf"/><Relationship Id="rId16" Type="http://schemas.openxmlformats.org/officeDocument/2006/relationships/package" Target="../embeddings/oleObject8.xlsx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ementos del sistema Termómet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700280"/>
            <a:ext cx="316872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tradas (u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alidas (y):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stados (x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arámet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16286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emperatura Externa (re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24908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ectura de temp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297240"/>
            <a:ext cx="6048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lor en Mercu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4292640"/>
            <a:ext cx="6048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pacidad Cal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eficiente de Dila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ometría Termóm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¿Cómo Analizamos estos Sistem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7201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stim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_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ular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val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imación de Paráme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64000" y="2060640"/>
            <a:ext cx="4952520" cy="2743200"/>
            <a:chOff x="3564000" y="2060640"/>
            <a:chExt cx="4952520" cy="2743200"/>
          </a:xfrm>
        </p:grpSpPr>
        <p:sp>
          <p:nvSpPr>
            <p:cNvPr id="162" name=""/>
            <p:cNvSpPr/>
            <p:nvPr/>
          </p:nvSpPr>
          <p:spPr>
            <a:xfrm>
              <a:off x="3564000" y="2060640"/>
              <a:ext cx="480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249800" y="2551320"/>
              <a:ext cx="4266720" cy="1161360"/>
              <a:chOff x="4249800" y="2551320"/>
              <a:chExt cx="4266720" cy="1161360"/>
            </a:xfrm>
          </p:grpSpPr>
          <p:sp>
            <p:nvSpPr>
              <p:cNvPr id="164" name=""/>
              <p:cNvSpPr/>
              <p:nvPr/>
            </p:nvSpPr>
            <p:spPr>
              <a:xfrm>
                <a:off x="7678440" y="2551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99"/>
                    </a:solidFill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249800" y="2779920"/>
                <a:ext cx="3979800" cy="932760"/>
                <a:chOff x="4249800" y="2779920"/>
                <a:chExt cx="3979800" cy="932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697360" y="2779920"/>
                  <a:ext cx="1567080" cy="398880"/>
                </a:xfrm>
                <a:prstGeom prst="rect">
                  <a:avLst/>
                </a:pr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3399"/>
                      </a:solidFill>
                      <a:latin typeface="Verdana"/>
                    </a:rPr>
                    <a:t>PROCES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697360" y="3313800"/>
                  <a:ext cx="1567080" cy="398880"/>
                </a:xfrm>
                <a:prstGeom prst="rect">
                  <a:avLst/>
                </a:prstGeom>
                <a:noFill/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3399"/>
                      </a:solidFill>
                      <a:latin typeface="Verdana"/>
                    </a:rPr>
                    <a:t>MODEL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297560" y="3008520"/>
                  <a:ext cx="9320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297560" y="3542760"/>
                  <a:ext cx="9320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0" name=""/>
                    <p:cNvSpPr txBox="1"/>
                    <p:nvPr/>
                  </p:nvSpPr>
                  <p:spPr>
                    <a:xfrm>
                      <a:off x="7754760" y="3161160"/>
                      <a:ext cx="21924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71" name=""/>
                <p:cNvSpPr/>
                <p:nvPr/>
              </p:nvSpPr>
              <p:spPr>
                <a:xfrm>
                  <a:off x="5087880" y="3008520"/>
                  <a:ext cx="0" cy="54324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87880" y="3008520"/>
                  <a:ext cx="6206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87880" y="3542760"/>
                  <a:ext cx="62064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402080" y="3237480"/>
                  <a:ext cx="69840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49800" y="2779920"/>
                  <a:ext cx="2962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333399"/>
                      </a:solidFill>
                      <a:latin typeface="Verdana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64200" y="3978360"/>
                  <a:ext cx="22604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y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  <m:r>
                                    <m:t xml:space="preserve"> 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276360" cy="1903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564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500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42920" y="436572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45086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pos de Modelos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4360" y="2276640"/>
            <a:ext cx="7343280" cy="480960"/>
            <a:chOff x="684360" y="2276640"/>
            <a:chExt cx="7343280" cy="480960"/>
          </a:xfrm>
        </p:grpSpPr>
        <p:sp>
          <p:nvSpPr>
            <p:cNvPr id="185" name=""/>
            <p:cNvSpPr/>
            <p:nvPr/>
          </p:nvSpPr>
          <p:spPr>
            <a:xfrm>
              <a:off x="3383280" y="2276640"/>
              <a:ext cx="46443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enomenológico - Empír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4360" y="2276640"/>
              <a:ext cx="269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4360" y="2917800"/>
            <a:ext cx="7416360" cy="582480"/>
            <a:chOff x="684360" y="2917800"/>
            <a:chExt cx="7416360" cy="582480"/>
          </a:xfrm>
        </p:grpSpPr>
        <p:sp>
          <p:nvSpPr>
            <p:cNvPr id="188" name=""/>
            <p:cNvSpPr/>
            <p:nvPr/>
          </p:nvSpPr>
          <p:spPr>
            <a:xfrm>
              <a:off x="3410280" y="2930400"/>
              <a:ext cx="46904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terminísticos – Aleato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4360" y="2917800"/>
              <a:ext cx="2725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aturale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4360" y="3605040"/>
            <a:ext cx="7200360" cy="831960"/>
            <a:chOff x="684360" y="3605040"/>
            <a:chExt cx="7200360" cy="831960"/>
          </a:xfrm>
        </p:grpSpPr>
        <p:sp>
          <p:nvSpPr>
            <p:cNvPr id="191" name=""/>
            <p:cNvSpPr/>
            <p:nvPr/>
          </p:nvSpPr>
          <p:spPr>
            <a:xfrm>
              <a:off x="3330720" y="3605040"/>
              <a:ext cx="45540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onovariables – Multi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4360" y="3605040"/>
              <a:ext cx="26463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úmero de 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84360" y="4670280"/>
            <a:ext cx="7200360" cy="1495440"/>
            <a:chOff x="684360" y="4670280"/>
            <a:chExt cx="7200360" cy="1495440"/>
          </a:xfrm>
        </p:grpSpPr>
        <p:sp>
          <p:nvSpPr>
            <p:cNvPr id="194" name=""/>
            <p:cNvSpPr/>
            <p:nvPr/>
          </p:nvSpPr>
          <p:spPr>
            <a:xfrm>
              <a:off x="3330720" y="4670280"/>
              <a:ext cx="45540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continuo – V. contin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continuo – V. discre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discreto – V. contin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. discreto – V. discre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4670280"/>
              <a:ext cx="264636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ntinuidad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4360" y="6165720"/>
              <a:ext cx="720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451720" y="1601640"/>
            <a:ext cx="9720" cy="478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132000" y="1557000"/>
            <a:ext cx="0" cy="48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601640"/>
            <a:ext cx="0" cy="478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1601640"/>
            <a:ext cx="8127360" cy="637920"/>
            <a:chOff x="324000" y="1601640"/>
            <a:chExt cx="8127360" cy="637920"/>
          </a:xfrm>
        </p:grpSpPr>
        <p:sp>
          <p:nvSpPr>
            <p:cNvPr id="201" name=""/>
            <p:cNvSpPr/>
            <p:nvPr/>
          </p:nvSpPr>
          <p:spPr>
            <a:xfrm>
              <a:off x="3311280" y="1601640"/>
              <a:ext cx="51400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Clasific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1601640"/>
              <a:ext cx="2987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Punto de V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00" y="22190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00" y="223956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33360" y="638172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451800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51648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878200"/>
            <a:ext cx="812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14776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60164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pos de Modelos 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1720" y="1601640"/>
            <a:ext cx="7920" cy="434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13200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601640"/>
            <a:ext cx="0" cy="434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1601640"/>
            <a:ext cx="8127360" cy="637920"/>
            <a:chOff x="324000" y="1601640"/>
            <a:chExt cx="8127360" cy="637920"/>
          </a:xfrm>
        </p:grpSpPr>
        <p:sp>
          <p:nvSpPr>
            <p:cNvPr id="219" name=""/>
            <p:cNvSpPr/>
            <p:nvPr/>
          </p:nvSpPr>
          <p:spPr>
            <a:xfrm>
              <a:off x="3311280" y="1601640"/>
              <a:ext cx="51400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Clasific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" y="1601640"/>
              <a:ext cx="2987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Punto de V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2190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000" y="223956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000" y="1601640"/>
              <a:ext cx="8127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33360" y="59500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229360"/>
            <a:ext cx="8127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4219560"/>
            <a:ext cx="8127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139920"/>
            <a:ext cx="8127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2147760"/>
            <a:ext cx="8127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01640"/>
            <a:ext cx="812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5280" y="3213000"/>
            <a:ext cx="8064000" cy="914400"/>
            <a:chOff x="395280" y="3213000"/>
            <a:chExt cx="8064000" cy="914400"/>
          </a:xfrm>
        </p:grpSpPr>
        <p:sp>
          <p:nvSpPr>
            <p:cNvPr id="232" name=""/>
            <p:cNvSpPr/>
            <p:nvPr/>
          </p:nvSpPr>
          <p:spPr>
            <a:xfrm>
              <a:off x="3359160" y="3213000"/>
              <a:ext cx="5100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riables - In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5280" y="3213000"/>
              <a:ext cx="3110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mportamiento 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8360" y="4221000"/>
            <a:ext cx="7990920" cy="914400"/>
            <a:chOff x="468360" y="4221000"/>
            <a:chExt cx="7990920" cy="914400"/>
          </a:xfrm>
        </p:grpSpPr>
        <p:sp>
          <p:nvSpPr>
            <p:cNvPr id="235" name=""/>
            <p:cNvSpPr/>
            <p:nvPr/>
          </p:nvSpPr>
          <p:spPr>
            <a:xfrm>
              <a:off x="3405240" y="4221000"/>
              <a:ext cx="505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ineales – No line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360" y="4221000"/>
              <a:ext cx="2936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Linealidad de Variab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5280" y="2205000"/>
            <a:ext cx="8064000" cy="914400"/>
            <a:chOff x="395280" y="2205000"/>
            <a:chExt cx="8064000" cy="914400"/>
          </a:xfrm>
        </p:grpSpPr>
        <p:sp>
          <p:nvSpPr>
            <p:cNvPr id="238" name=""/>
            <p:cNvSpPr/>
            <p:nvPr/>
          </p:nvSpPr>
          <p:spPr>
            <a:xfrm>
              <a:off x="3359160" y="2205000"/>
              <a:ext cx="5100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. concentradas – V. distribui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5280" y="2205000"/>
              <a:ext cx="3110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mportamiento espa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95280" y="3119400"/>
              <a:ext cx="3011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68360" y="5211720"/>
            <a:ext cx="7990920" cy="665280"/>
            <a:chOff x="468360" y="5211720"/>
            <a:chExt cx="7990920" cy="665280"/>
          </a:xfrm>
        </p:grpSpPr>
        <p:sp>
          <p:nvSpPr>
            <p:cNvPr id="242" name=""/>
            <p:cNvSpPr/>
            <p:nvPr/>
          </p:nvSpPr>
          <p:spPr>
            <a:xfrm>
              <a:off x="3405240" y="5211720"/>
              <a:ext cx="50540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ausales - Anticip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8360" y="5211720"/>
              <a:ext cx="29368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lizabi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360" y="5877000"/>
              <a:ext cx="799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1773360"/>
            <a:ext cx="7200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Basados en la Fenomenología del sistema, es decir fenómen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76360" y="3141720"/>
            <a:ext cx="56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ecánic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Hidráu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léc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tre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916280"/>
            <a:ext cx="7848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plicar Leyes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plicar Principio de Mínima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yes de Conserv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916280"/>
            <a:ext cx="784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nservación 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270828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a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ner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rga eléct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1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yes de Conserv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1916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- Plantear ecuaciones de balance diná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9640" y="2997360"/>
            <a:ext cx="7921800" cy="1800000"/>
            <a:chOff x="539640" y="2997360"/>
            <a:chExt cx="7921800" cy="1800000"/>
          </a:xfrm>
        </p:grpSpPr>
        <p:sp>
          <p:nvSpPr>
            <p:cNvPr id="264" name=""/>
            <p:cNvSpPr/>
            <p:nvPr/>
          </p:nvSpPr>
          <p:spPr>
            <a:xfrm>
              <a:off x="611280" y="3068640"/>
              <a:ext cx="216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Variación de X en e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19640" y="3068640"/>
              <a:ext cx="216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Entrada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neta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de X  a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56360" y="3068640"/>
              <a:ext cx="2305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Generación </a:t>
              </a: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neta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de X  al sist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500280"/>
              <a:ext cx="6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0000" y="35002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64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1964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6360" y="2997360"/>
              <a:ext cx="2232000" cy="1800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276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- Expresar ecuaciones de balance, en función de variables de entrada y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005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- Determinar pará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7336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mensionamiento de equip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valuación de ries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ptimización de Proceso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iseño de Estrategias de Operación/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773360"/>
            <a:ext cx="784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Ejemplo 1:  Termóme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78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Balance de calor: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79640" y="4005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+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788000" y="4005360"/>
            <a:ext cx="576000" cy="79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-k*A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/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581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78136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k:  Conductividad térmica vidrio (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: Área de Cont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:   Espesor vid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ación Fenomenológ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s-ES_tradnl" sz="1800" spc="-1" strike="noStrike">
                <a:solidFill>
                  <a:srgbClr val="0000ff"/>
                </a:solidFill>
                <a:latin typeface="Times New Roman"/>
              </a:rPr>
              <a:t>ter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 = 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263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:  Capacidad calórica Mercu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50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( 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 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08000" y="4437000"/>
            <a:ext cx="49690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Q/dt = 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Q/C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l-GR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 </a:t>
            </a: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*T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5373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puesto: Ajustar parámetros obtener curv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s en sistemas de Contr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2637000"/>
            <a:ext cx="5400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Exp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ontrol Predi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lejidad de un Mod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700280"/>
            <a:ext cx="4465440" cy="1582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0560" y="4365720"/>
            <a:ext cx="2881440" cy="1224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06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3357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i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48360" y="3197160"/>
            <a:ext cx="2663640" cy="954000"/>
            <a:chOff x="5148360" y="3197160"/>
            <a:chExt cx="2663640" cy="954000"/>
          </a:xfrm>
        </p:grpSpPr>
        <p:sp>
          <p:nvSpPr>
            <p:cNvPr id="62" name=""/>
            <p:cNvSpPr/>
            <p:nvPr/>
          </p:nvSpPr>
          <p:spPr>
            <a:xfrm>
              <a:off x="5219640" y="36306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j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1640" y="31971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8360" y="3213000"/>
              <a:ext cx="25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lejidad de un Mod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87280" y="1773360"/>
            <a:ext cx="6697800" cy="4537080"/>
            <a:chOff x="1187280" y="1773360"/>
            <a:chExt cx="6697800" cy="4537080"/>
          </a:xfrm>
        </p:grpSpPr>
        <p:sp>
          <p:nvSpPr>
            <p:cNvPr id="69" name=""/>
            <p:cNvSpPr/>
            <p:nvPr/>
          </p:nvSpPr>
          <p:spPr>
            <a:xfrm>
              <a:off x="4427640" y="1990800"/>
              <a:ext cx="215640" cy="4032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6000" y="1773360"/>
              <a:ext cx="360360" cy="360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08360" y="5734080"/>
              <a:ext cx="1655640" cy="576360"/>
            </a:xfrm>
            <a:prstGeom prst="blockArc">
              <a:avLst>
                <a:gd name="adj1" fmla="val 10737810"/>
                <a:gd name="adj2" fmla="val 62190"/>
                <a:gd name="adj3" fmla="val 47185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1280" y="2492280"/>
              <a:ext cx="4248360" cy="144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033640" y="3303360"/>
              <a:ext cx="900000" cy="259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IMPLEZ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6138720" y="3303360"/>
              <a:ext cx="900000" cy="259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PREC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187280" y="2637000"/>
              <a:ext cx="12970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2484000" y="2637000"/>
              <a:ext cx="129564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292720" y="2637000"/>
              <a:ext cx="12970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6589800" y="2637000"/>
              <a:ext cx="1295280" cy="1512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4360" y="2203560"/>
              <a:ext cx="1222200" cy="28872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stema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84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Ejemplo: Termómetr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2924280"/>
              <a:ext cx="7632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20000" y="1773360"/>
            <a:ext cx="288720" cy="4319280"/>
            <a:chOff x="7020000" y="1773360"/>
            <a:chExt cx="288720" cy="4319280"/>
          </a:xfrm>
        </p:grpSpPr>
        <p:sp>
          <p:nvSpPr>
            <p:cNvPr id="88" name=""/>
            <p:cNvSpPr/>
            <p:nvPr/>
          </p:nvSpPr>
          <p:spPr>
            <a:xfrm>
              <a:off x="7078320" y="1773360"/>
              <a:ext cx="172800" cy="4079880"/>
            </a:xfrm>
            <a:custGeom>
              <a:avLst/>
              <a:gdLst>
                <a:gd name="textAreaLeft" fmla="*/ 8280 w 172800"/>
                <a:gd name="textAreaRight" fmla="*/ 164520 w 172800"/>
                <a:gd name="textAreaTop" fmla="*/ 8280 h 4079880"/>
                <a:gd name="textAreaBottom" fmla="*/ 4071600 h 4079880"/>
              </a:gdLst>
              <a:ahLst/>
              <a:rect l="textAreaLeft" t="textAreaTop" r="textAreaRight" b="textAreaBottom"/>
              <a:pathLst>
                <a:path w="21600" h="508970">
                  <a:moveTo>
                    <a:pt x="3600" y="0"/>
                  </a:moveTo>
                  <a:arcTo wR="3600" hR="3600" stAng="16200000" swAng="-5400000"/>
                  <a:lnTo>
                    <a:pt x="0" y="505370"/>
                  </a:lnTo>
                  <a:arcTo wR="3600" hR="3600" stAng="10800000" swAng="-5400000"/>
                  <a:lnTo>
                    <a:pt x="18000" y="5089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36640" y="1895040"/>
              <a:ext cx="57240" cy="4019040"/>
            </a:xfrm>
            <a:custGeom>
              <a:avLst/>
              <a:gdLst>
                <a:gd name="textAreaLeft" fmla="*/ 2520 w 57240"/>
                <a:gd name="textAreaRight" fmla="*/ 54720 w 57240"/>
                <a:gd name="textAreaTop" fmla="*/ 2520 h 4019040"/>
                <a:gd name="textAreaBottom" fmla="*/ 4016520 h 4019040"/>
              </a:gdLst>
              <a:ahLst/>
              <a:rect l="textAreaLeft" t="textAreaTop" r="textAreaRight" b="textAreaBottom"/>
              <a:pathLst>
                <a:path w="21600" h="1507275">
                  <a:moveTo>
                    <a:pt x="3600" y="0"/>
                  </a:moveTo>
                  <a:arcTo wR="3600" hR="3600" stAng="16200000" swAng="-5400000"/>
                  <a:lnTo>
                    <a:pt x="0" y="1503675"/>
                  </a:lnTo>
                  <a:arcTo wR="3600" hR="3600" stAng="10800000" swAng="-5400000"/>
                  <a:lnTo>
                    <a:pt x="18000" y="15072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35560" y="4474080"/>
              <a:ext cx="57240" cy="1440000"/>
            </a:xfrm>
            <a:custGeom>
              <a:avLst/>
              <a:gdLst>
                <a:gd name="textAreaLeft" fmla="*/ 2520 w 57240"/>
                <a:gd name="textAreaRight" fmla="*/ 54720 w 57240"/>
                <a:gd name="textAreaTop" fmla="*/ 2520 h 1440000"/>
                <a:gd name="textAreaBottom" fmla="*/ 1437480 h 1440000"/>
              </a:gdLst>
              <a:ahLst/>
              <a:rect l="textAreaLeft" t="textAreaTop" r="textAreaRight" b="textAreaBottom"/>
              <a:pathLst>
                <a:path w="21600" h="540135">
                  <a:moveTo>
                    <a:pt x="3600" y="0"/>
                  </a:moveTo>
                  <a:arcTo wR="3600" hR="3600" stAng="16200000" swAng="-5400000"/>
                  <a:lnTo>
                    <a:pt x="0" y="536535"/>
                  </a:lnTo>
                  <a:arcTo wR="3600" hR="3600" stAng="10800000" swAng="-5400000"/>
                  <a:lnTo>
                    <a:pt x="18000" y="540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5793840"/>
              <a:ext cx="288720" cy="29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135200" y="2013840"/>
              <a:ext cx="115560" cy="3299040"/>
              <a:chOff x="7135200" y="2013840"/>
              <a:chExt cx="115560" cy="32990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7135200" y="20138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7135200" y="231336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135200" y="261540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135200" y="29152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135200" y="32144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135200" y="351432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135200" y="38116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135200" y="411156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135200" y="441324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135200" y="471312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7135200" y="501300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7135200" y="5312880"/>
                <a:ext cx="11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39640" y="620640"/>
          <a:ext cx="747576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747576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9640" y="620640"/>
          <a:ext cx="7493040" cy="5473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619200"/>
          <a:ext cx="7493040" cy="54738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61920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34960" y="620640"/>
          <a:ext cx="7493040" cy="5473800"/>
        </p:xfrm>
        <a:graphic>
          <a:graphicData uri="http://schemas.openxmlformats.org/presentationml/2006/ole">
            <p:oleObj progId="Excel.Sheet.12" r:id="rId1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960" y="620640"/>
                    <a:ext cx="749304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2627280" y="4076640"/>
            <a:ext cx="4826160" cy="820080"/>
            <a:chOff x="2627280" y="4076640"/>
            <a:chExt cx="4826160" cy="820080"/>
          </a:xfrm>
        </p:grpSpPr>
        <p:sp>
          <p:nvSpPr>
            <p:cNvPr id="124" name=""/>
            <p:cNvSpPr/>
            <p:nvPr/>
          </p:nvSpPr>
          <p:spPr>
            <a:xfrm rot="16200000">
              <a:off x="3816360" y="2889360"/>
              <a:ext cx="287280" cy="2665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156360" y="3284280"/>
              <a:ext cx="287280" cy="1872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2000"/>
                <a:gd name="textAreaBottom" fmla="*/ 1823400 h 18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9280" y="4437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Transci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64000" y="4437000"/>
              <a:ext cx="20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erman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Es el termómetro un Sistema Dinámic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141720"/>
            <a:ext cx="7772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Es relevante su Dinámic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lementos de un Sist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78440" y="2828880"/>
            <a:ext cx="208764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66080" y="36925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30800" y="369252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6600" y="47721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s “extern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40960" y="31161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8080" y="31161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idas 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5520" y="232416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riable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22800" y="30430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ado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24600" y="3691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205000"/>
            <a:ext cx="360360" cy="2303640"/>
          </a:xfrm>
          <a:custGeom>
            <a:avLst/>
            <a:gdLst>
              <a:gd name="textAreaLeft" fmla="*/ 0 w 360360"/>
              <a:gd name="textAreaRight" fmla="*/ 129960 w 36036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2276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ipuladas (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turbaciones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me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1T03:13:32Z</dcterms:modified>
  <cp:revision>22</cp:revision>
  <dc:subject/>
  <dc:title>EL63A-Taller de Proyecto en Control II</dc:title>
</cp:coreProperties>
</file>