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78E-F0E7-4FC7-9FEE-91EE411A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4E9-43FB-4588-A01A-1AB937AF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7A3-7A39-41AC-83FD-AC6B1287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A72-C509-49F2-95FB-940B0F4C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18A-2D74-4A3B-BCFD-BA298619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A52-FBBA-423C-A841-1D5811CE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EF0-9520-420C-942E-DEAC70E5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AB9-FD80-4BA9-BAA1-4EB2946F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14D-403A-4EF8-A533-29BBF761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258-84BF-453A-85D2-A2CF4C98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488-B82A-4168-B169-A0983DB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C47-652D-477A-A50D-300D932A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85A4-B83F-4800-9C72-C9113E450A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4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5.wmf"/><Relationship Id="rId10" Type="http://schemas.openxmlformats.org/officeDocument/2006/relationships/package" Target="../embeddings/oleObject5.xlsx"/><Relationship Id="rId11" Type="http://schemas.openxmlformats.org/officeDocument/2006/relationships/image" Target="../media/image6.wmf"/><Relationship Id="rId12" Type="http://schemas.openxmlformats.org/officeDocument/2006/relationships/package" Target="../embeddings/oleObject6.xlsx"/><Relationship Id="rId13" Type="http://schemas.openxmlformats.org/officeDocument/2006/relationships/image" Target="../media/image7.wmf"/><Relationship Id="rId14" Type="http://schemas.openxmlformats.org/officeDocument/2006/relationships/package" Target="../embeddings/oleObject7.xlsx"/><Relationship Id="rId15" Type="http://schemas.openxmlformats.org/officeDocument/2006/relationships/image" Target="../media/image8.wmf"/><Relationship Id="rId16" Type="http://schemas.openxmlformats.org/officeDocument/2006/relationships/package" Target="../embeddings/oleObject8.xlsx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ementos del sistema Termóme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700280"/>
            <a:ext cx="316872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ntradas (u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alidas (y):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stados (x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arámet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1628640"/>
            <a:ext cx="60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Temperatura Externa (re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2490840"/>
            <a:ext cx="60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Lectura de tempera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3297240"/>
            <a:ext cx="60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lor en Mercu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4292640"/>
            <a:ext cx="6048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pacidad Caló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oeficiente de Dila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ometría Termóme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¿Cómo Analizamos estos Sistem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72010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stimar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_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ará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mular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val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imación de Parámet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64000" y="2060640"/>
            <a:ext cx="4952520" cy="2743200"/>
            <a:chOff x="3564000" y="2060640"/>
            <a:chExt cx="4952520" cy="2743200"/>
          </a:xfrm>
        </p:grpSpPr>
        <p:sp>
          <p:nvSpPr>
            <p:cNvPr id="162" name=""/>
            <p:cNvSpPr/>
            <p:nvPr/>
          </p:nvSpPr>
          <p:spPr>
            <a:xfrm>
              <a:off x="3564000" y="2060640"/>
              <a:ext cx="4800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249800" y="2551320"/>
              <a:ext cx="4266720" cy="1161360"/>
              <a:chOff x="4249800" y="2551320"/>
              <a:chExt cx="4266720" cy="1161360"/>
            </a:xfrm>
          </p:grpSpPr>
          <p:sp>
            <p:nvSpPr>
              <p:cNvPr id="164" name=""/>
              <p:cNvSpPr/>
              <p:nvPr/>
            </p:nvSpPr>
            <p:spPr>
              <a:xfrm>
                <a:off x="7678440" y="2551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99"/>
                    </a:solidFill>
                    <a:latin typeface="Verdan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4249800" y="2779920"/>
                <a:ext cx="3979800" cy="932760"/>
                <a:chOff x="4249800" y="2779920"/>
                <a:chExt cx="3979800" cy="9327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697360" y="2779920"/>
                  <a:ext cx="1567080" cy="398880"/>
                </a:xfrm>
                <a:prstGeom prst="rect">
                  <a:avLst/>
                </a:prstGeom>
                <a:noFill/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3399"/>
                      </a:solidFill>
                      <a:latin typeface="Verdana"/>
                    </a:rPr>
                    <a:t>PROCES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697360" y="3313800"/>
                  <a:ext cx="1567080" cy="398880"/>
                </a:xfrm>
                <a:prstGeom prst="rect">
                  <a:avLst/>
                </a:prstGeom>
                <a:noFill/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3399"/>
                      </a:solidFill>
                      <a:latin typeface="Verdana"/>
                    </a:rPr>
                    <a:t>MODEL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297560" y="3008520"/>
                  <a:ext cx="9320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297560" y="3542760"/>
                  <a:ext cx="9320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0" name=""/>
                    <p:cNvSpPr txBox="1"/>
                    <p:nvPr/>
                  </p:nvSpPr>
                  <p:spPr>
                    <a:xfrm>
                      <a:off x="7754760" y="3161160"/>
                      <a:ext cx="219240" cy="306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71" name=""/>
                <p:cNvSpPr/>
                <p:nvPr/>
              </p:nvSpPr>
              <p:spPr>
                <a:xfrm>
                  <a:off x="5087880" y="3008520"/>
                  <a:ext cx="0" cy="54324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087880" y="3008520"/>
                  <a:ext cx="6206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087880" y="3542760"/>
                  <a:ext cx="6206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4402080" y="3237480"/>
                  <a:ext cx="69840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49800" y="2779920"/>
                  <a:ext cx="2962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333399"/>
                      </a:solidFill>
                      <a:latin typeface="Verdana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164200" y="3978360"/>
                  <a:ext cx="22604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y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  <m:r>
                                    <m:t xml:space="preserve"> 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3276360" cy="1903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5564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500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042920" y="4365720"/>
            <a:ext cx="1441440" cy="287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450864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pos de Modelos 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4360" y="2276640"/>
            <a:ext cx="7343280" cy="480960"/>
            <a:chOff x="684360" y="2276640"/>
            <a:chExt cx="7343280" cy="480960"/>
          </a:xfrm>
        </p:grpSpPr>
        <p:sp>
          <p:nvSpPr>
            <p:cNvPr id="185" name=""/>
            <p:cNvSpPr/>
            <p:nvPr/>
          </p:nvSpPr>
          <p:spPr>
            <a:xfrm>
              <a:off x="3383280" y="2276640"/>
              <a:ext cx="46443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enomenológico - Empír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4360" y="2276640"/>
              <a:ext cx="2698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84360" y="2917800"/>
            <a:ext cx="7416360" cy="582480"/>
            <a:chOff x="684360" y="2917800"/>
            <a:chExt cx="7416360" cy="582480"/>
          </a:xfrm>
        </p:grpSpPr>
        <p:sp>
          <p:nvSpPr>
            <p:cNvPr id="188" name=""/>
            <p:cNvSpPr/>
            <p:nvPr/>
          </p:nvSpPr>
          <p:spPr>
            <a:xfrm>
              <a:off x="3410280" y="2930400"/>
              <a:ext cx="46904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terminísticos – Aleato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4360" y="2917800"/>
              <a:ext cx="2725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Naturale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84360" y="3605040"/>
            <a:ext cx="7200360" cy="831960"/>
            <a:chOff x="684360" y="3605040"/>
            <a:chExt cx="7200360" cy="831960"/>
          </a:xfrm>
        </p:grpSpPr>
        <p:sp>
          <p:nvSpPr>
            <p:cNvPr id="191" name=""/>
            <p:cNvSpPr/>
            <p:nvPr/>
          </p:nvSpPr>
          <p:spPr>
            <a:xfrm>
              <a:off x="3330720" y="3605040"/>
              <a:ext cx="45540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onovariables – Multi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4360" y="3605040"/>
              <a:ext cx="264636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Número de 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84360" y="4670280"/>
            <a:ext cx="7200360" cy="1495440"/>
            <a:chOff x="684360" y="4670280"/>
            <a:chExt cx="7200360" cy="1495440"/>
          </a:xfrm>
        </p:grpSpPr>
        <p:sp>
          <p:nvSpPr>
            <p:cNvPr id="194" name=""/>
            <p:cNvSpPr/>
            <p:nvPr/>
          </p:nvSpPr>
          <p:spPr>
            <a:xfrm>
              <a:off x="3330720" y="4670280"/>
              <a:ext cx="455400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continuo – V. continu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continuo – V. discre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discreto – V. continu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discreto – V. discre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4360" y="4670280"/>
              <a:ext cx="264636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ontinuidad 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4360" y="6165720"/>
              <a:ext cx="720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451720" y="1601640"/>
            <a:ext cx="9720" cy="478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132000" y="1557000"/>
            <a:ext cx="0" cy="48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601640"/>
            <a:ext cx="0" cy="478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4000" y="1601640"/>
            <a:ext cx="8127360" cy="637920"/>
            <a:chOff x="324000" y="1601640"/>
            <a:chExt cx="8127360" cy="637920"/>
          </a:xfrm>
        </p:grpSpPr>
        <p:sp>
          <p:nvSpPr>
            <p:cNvPr id="201" name=""/>
            <p:cNvSpPr/>
            <p:nvPr/>
          </p:nvSpPr>
          <p:spPr>
            <a:xfrm>
              <a:off x="3311280" y="1601640"/>
              <a:ext cx="51400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Clasific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000" y="1601640"/>
              <a:ext cx="29872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Punto de Vi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000" y="22190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000" y="223956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33360" y="6381720"/>
            <a:ext cx="812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4518000"/>
            <a:ext cx="812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516480"/>
            <a:ext cx="812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2878200"/>
            <a:ext cx="812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2147760"/>
            <a:ext cx="812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601640"/>
            <a:ext cx="812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pos de Modelos 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451720" y="1601640"/>
            <a:ext cx="7920" cy="434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13200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1601640"/>
            <a:ext cx="0" cy="434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24000" y="1601640"/>
            <a:ext cx="8127360" cy="637920"/>
            <a:chOff x="324000" y="1601640"/>
            <a:chExt cx="8127360" cy="637920"/>
          </a:xfrm>
        </p:grpSpPr>
        <p:sp>
          <p:nvSpPr>
            <p:cNvPr id="219" name=""/>
            <p:cNvSpPr/>
            <p:nvPr/>
          </p:nvSpPr>
          <p:spPr>
            <a:xfrm>
              <a:off x="3311280" y="1601640"/>
              <a:ext cx="51400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Clasific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000" y="1601640"/>
              <a:ext cx="29872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Punto de Vi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2190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000" y="223956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33360" y="5950080"/>
            <a:ext cx="812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229360"/>
            <a:ext cx="8127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4219560"/>
            <a:ext cx="8127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3139920"/>
            <a:ext cx="8127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2147760"/>
            <a:ext cx="8127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601640"/>
            <a:ext cx="812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95280" y="3213000"/>
            <a:ext cx="8064000" cy="914400"/>
            <a:chOff x="395280" y="3213000"/>
            <a:chExt cx="8064000" cy="914400"/>
          </a:xfrm>
        </p:grpSpPr>
        <p:sp>
          <p:nvSpPr>
            <p:cNvPr id="232" name=""/>
            <p:cNvSpPr/>
            <p:nvPr/>
          </p:nvSpPr>
          <p:spPr>
            <a:xfrm>
              <a:off x="3359160" y="3213000"/>
              <a:ext cx="5100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ariables - In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5280" y="3213000"/>
              <a:ext cx="3110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omportamiento 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68360" y="4221000"/>
            <a:ext cx="7990920" cy="914400"/>
            <a:chOff x="468360" y="4221000"/>
            <a:chExt cx="7990920" cy="914400"/>
          </a:xfrm>
        </p:grpSpPr>
        <p:sp>
          <p:nvSpPr>
            <p:cNvPr id="235" name=""/>
            <p:cNvSpPr/>
            <p:nvPr/>
          </p:nvSpPr>
          <p:spPr>
            <a:xfrm>
              <a:off x="3405240" y="4221000"/>
              <a:ext cx="505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ineales – No line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360" y="4221000"/>
              <a:ext cx="2936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Linealidad de 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5280" y="2205000"/>
            <a:ext cx="8064000" cy="914400"/>
            <a:chOff x="395280" y="2205000"/>
            <a:chExt cx="8064000" cy="914400"/>
          </a:xfrm>
        </p:grpSpPr>
        <p:sp>
          <p:nvSpPr>
            <p:cNvPr id="238" name=""/>
            <p:cNvSpPr/>
            <p:nvPr/>
          </p:nvSpPr>
          <p:spPr>
            <a:xfrm>
              <a:off x="3359160" y="2205000"/>
              <a:ext cx="5100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. concentradas – V. distribui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5280" y="2205000"/>
              <a:ext cx="3110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omportamiento espa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95280" y="3119400"/>
              <a:ext cx="3011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68360" y="5211720"/>
            <a:ext cx="7990920" cy="665280"/>
            <a:chOff x="468360" y="5211720"/>
            <a:chExt cx="7990920" cy="665280"/>
          </a:xfrm>
        </p:grpSpPr>
        <p:sp>
          <p:nvSpPr>
            <p:cNvPr id="242" name=""/>
            <p:cNvSpPr/>
            <p:nvPr/>
          </p:nvSpPr>
          <p:spPr>
            <a:xfrm>
              <a:off x="3405240" y="5211720"/>
              <a:ext cx="50540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ausales - Anticip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8360" y="5211720"/>
              <a:ext cx="29368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alizabil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8360" y="5877000"/>
              <a:ext cx="799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1773360"/>
            <a:ext cx="7200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Basados en la Fenomenología del sistema, es decir fenómeno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76360" y="3141720"/>
            <a:ext cx="56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ecánic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Hidráu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Quím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léc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ntre 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916280"/>
            <a:ext cx="7848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plicar Leyes de Con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plicar Principio de Mínima A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yes de Conservació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1916280"/>
            <a:ext cx="784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onservación 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79640" y="2708280"/>
            <a:ext cx="56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a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ner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rga eléct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yes de Conservació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1916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- Plantear ecuaciones de balance diná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39640" y="2997360"/>
            <a:ext cx="7921800" cy="1800000"/>
            <a:chOff x="539640" y="2997360"/>
            <a:chExt cx="7921800" cy="1800000"/>
          </a:xfrm>
        </p:grpSpPr>
        <p:sp>
          <p:nvSpPr>
            <p:cNvPr id="264" name=""/>
            <p:cNvSpPr/>
            <p:nvPr/>
          </p:nvSpPr>
          <p:spPr>
            <a:xfrm>
              <a:off x="611280" y="3068640"/>
              <a:ext cx="216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Variación de X en el siste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19640" y="3068640"/>
              <a:ext cx="216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Entrada </a:t>
              </a: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neta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de X  al siste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56360" y="3068640"/>
              <a:ext cx="2305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Generación </a:t>
              </a: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neta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de X  al siste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500280"/>
              <a:ext cx="6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80000" y="350028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9640" y="2997360"/>
              <a:ext cx="2232000" cy="1800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19640" y="2997360"/>
              <a:ext cx="2232000" cy="1800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56360" y="2997360"/>
              <a:ext cx="2232000" cy="1800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2276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- Expresar ecuaciones de balance, en función de variables de entrada y sal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4005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.- Determinar pará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en el Dis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773360"/>
            <a:ext cx="72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imensionamiento de equip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valuación de ries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Optimización de Procesos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iseño de Estrategias de Operación/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1773360"/>
            <a:ext cx="784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jemplo 1:  Termóme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2781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Balance de calor: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79640" y="4005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Q/dt = 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+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788000" y="4005360"/>
            <a:ext cx="576000" cy="79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1844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= -k*A*( 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er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)/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4581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= -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( 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er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2781360"/>
            <a:ext cx="77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k:  Conductividad térmica vidrio (1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: Área de Cont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l:   Espesor vid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1844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ter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= Q/C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263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:  Capacidad calórica Mercu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50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Q/dt = -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( 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 Q/C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08000" y="4437000"/>
            <a:ext cx="496908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Q/dt = 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</a:rPr>
              <a:t>α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Q/C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4000" y="5373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puesto: Ajustar parámetros obtener curva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s en sistemas de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2637000"/>
            <a:ext cx="5400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stemas Expe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ontrol Predic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plejidad de un Mod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1700280"/>
            <a:ext cx="4465440" cy="1582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0560" y="4365720"/>
            <a:ext cx="2881440" cy="1224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3068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33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nci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48360" y="3197160"/>
            <a:ext cx="2663640" cy="954000"/>
            <a:chOff x="5148360" y="3197160"/>
            <a:chExt cx="2663640" cy="954000"/>
          </a:xfrm>
        </p:grpSpPr>
        <p:sp>
          <p:nvSpPr>
            <p:cNvPr id="62" name=""/>
            <p:cNvSpPr/>
            <p:nvPr/>
          </p:nvSpPr>
          <p:spPr>
            <a:xfrm>
              <a:off x="5219640" y="363060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mplej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1640" y="319716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48360" y="321300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plejidad de un Mod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187280" y="1773360"/>
            <a:ext cx="6697800" cy="4537080"/>
            <a:chOff x="1187280" y="1773360"/>
            <a:chExt cx="6697800" cy="4537080"/>
          </a:xfrm>
        </p:grpSpPr>
        <p:sp>
          <p:nvSpPr>
            <p:cNvPr id="69" name=""/>
            <p:cNvSpPr/>
            <p:nvPr/>
          </p:nvSpPr>
          <p:spPr>
            <a:xfrm>
              <a:off x="4427640" y="1990800"/>
              <a:ext cx="215640" cy="4032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6000" y="1773360"/>
              <a:ext cx="360360" cy="3603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08360" y="5734080"/>
              <a:ext cx="1655640" cy="576360"/>
            </a:xfrm>
            <a:prstGeom prst="blockArc">
              <a:avLst>
                <a:gd name="adj1" fmla="val 10737810"/>
                <a:gd name="adj2" fmla="val 62190"/>
                <a:gd name="adj3" fmla="val 47185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11280" y="2492280"/>
              <a:ext cx="4248360" cy="144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2033640" y="3303360"/>
              <a:ext cx="900000" cy="259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IMPLEZ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6138720" y="3303360"/>
              <a:ext cx="900000" cy="259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REC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187280" y="2637000"/>
              <a:ext cx="129708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2484000" y="2637000"/>
              <a:ext cx="129564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292720" y="2637000"/>
              <a:ext cx="129708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6589800" y="2637000"/>
              <a:ext cx="129528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4360" y="2203560"/>
              <a:ext cx="1222200" cy="28872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stema Dinám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84360" y="2201760"/>
            <a:ext cx="7632720" cy="2773440"/>
            <a:chOff x="684360" y="2201760"/>
            <a:chExt cx="7632720" cy="2773440"/>
          </a:xfrm>
        </p:grpSpPr>
        <p:sp>
          <p:nvSpPr>
            <p:cNvPr id="84" name=""/>
            <p:cNvSpPr/>
            <p:nvPr/>
          </p:nvSpPr>
          <p:spPr>
            <a:xfrm>
              <a:off x="684360" y="4365720"/>
              <a:ext cx="682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4360" y="220176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Ejemplo: Termómetr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360" y="2924280"/>
              <a:ext cx="7632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020000" y="1773360"/>
            <a:ext cx="288720" cy="4319280"/>
            <a:chOff x="7020000" y="1773360"/>
            <a:chExt cx="288720" cy="4319280"/>
          </a:xfrm>
        </p:grpSpPr>
        <p:sp>
          <p:nvSpPr>
            <p:cNvPr id="88" name=""/>
            <p:cNvSpPr/>
            <p:nvPr/>
          </p:nvSpPr>
          <p:spPr>
            <a:xfrm>
              <a:off x="7078320" y="1773360"/>
              <a:ext cx="172800" cy="4079880"/>
            </a:xfrm>
            <a:custGeom>
              <a:avLst/>
              <a:gdLst>
                <a:gd name="textAreaLeft" fmla="*/ 8280 w 172800"/>
                <a:gd name="textAreaRight" fmla="*/ 164520 w 172800"/>
                <a:gd name="textAreaTop" fmla="*/ 8280 h 4079880"/>
                <a:gd name="textAreaBottom" fmla="*/ 4071600 h 4079880"/>
              </a:gdLst>
              <a:ahLst/>
              <a:rect l="textAreaLeft" t="textAreaTop" r="textAreaRight" b="textAreaBottom"/>
              <a:pathLst>
                <a:path w="21600" h="508970">
                  <a:moveTo>
                    <a:pt x="3600" y="0"/>
                  </a:moveTo>
                  <a:arcTo wR="3600" hR="3600" stAng="16200000" swAng="-5400000"/>
                  <a:lnTo>
                    <a:pt x="0" y="505370"/>
                  </a:lnTo>
                  <a:arcTo wR="3600" hR="3600" stAng="10800000" swAng="-5400000"/>
                  <a:lnTo>
                    <a:pt x="18000" y="5089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36640" y="1895040"/>
              <a:ext cx="57240" cy="4019040"/>
            </a:xfrm>
            <a:custGeom>
              <a:avLst/>
              <a:gdLst>
                <a:gd name="textAreaLeft" fmla="*/ 2520 w 57240"/>
                <a:gd name="textAreaRight" fmla="*/ 54720 w 57240"/>
                <a:gd name="textAreaTop" fmla="*/ 2520 h 4019040"/>
                <a:gd name="textAreaBottom" fmla="*/ 4016520 h 4019040"/>
              </a:gdLst>
              <a:ahLst/>
              <a:rect l="textAreaLeft" t="textAreaTop" r="textAreaRight" b="textAreaBottom"/>
              <a:pathLst>
                <a:path w="21600" h="1507275">
                  <a:moveTo>
                    <a:pt x="3600" y="0"/>
                  </a:moveTo>
                  <a:arcTo wR="3600" hR="3600" stAng="16200000" swAng="-5400000"/>
                  <a:lnTo>
                    <a:pt x="0" y="1503675"/>
                  </a:lnTo>
                  <a:arcTo wR="3600" hR="3600" stAng="10800000" swAng="-5400000"/>
                  <a:lnTo>
                    <a:pt x="18000" y="15072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35560" y="4474080"/>
              <a:ext cx="57240" cy="1440000"/>
            </a:xfrm>
            <a:custGeom>
              <a:avLst/>
              <a:gdLst>
                <a:gd name="textAreaLeft" fmla="*/ 2520 w 57240"/>
                <a:gd name="textAreaRight" fmla="*/ 54720 w 57240"/>
                <a:gd name="textAreaTop" fmla="*/ 2520 h 1440000"/>
                <a:gd name="textAreaBottom" fmla="*/ 1437480 h 1440000"/>
              </a:gdLst>
              <a:ahLst/>
              <a:rect l="textAreaLeft" t="textAreaTop" r="textAreaRight" b="textAreaBottom"/>
              <a:pathLst>
                <a:path w="21600" h="540135">
                  <a:moveTo>
                    <a:pt x="3600" y="0"/>
                  </a:moveTo>
                  <a:arcTo wR="3600" hR="3600" stAng="16200000" swAng="-5400000"/>
                  <a:lnTo>
                    <a:pt x="0" y="536535"/>
                  </a:lnTo>
                  <a:arcTo wR="3600" hR="3600" stAng="10800000" swAng="-5400000"/>
                  <a:lnTo>
                    <a:pt x="18000" y="5401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0000" y="5793840"/>
              <a:ext cx="288720" cy="29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7135200" y="2013840"/>
              <a:ext cx="115560" cy="3299040"/>
              <a:chOff x="7135200" y="2013840"/>
              <a:chExt cx="115560" cy="329904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7135200" y="201384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7135200" y="231336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7135200" y="261540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135200" y="291528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135200" y="321444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135200" y="351432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135200" y="381168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135200" y="411156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7135200" y="441324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135200" y="471312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7135200" y="501300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7135200" y="531288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539640" y="620640"/>
          <a:ext cx="7475760" cy="54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747576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619200"/>
          <a:ext cx="7493040" cy="5473800"/>
        </p:xfrm>
        <a:graphic>
          <a:graphicData uri="http://schemas.openxmlformats.org/presentationml/2006/ole">
            <p:oleObj progId="Excel.Sheet.12" r:id="rId1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61920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34960" y="620640"/>
          <a:ext cx="7493040" cy="5473800"/>
        </p:xfrm>
        <a:graphic>
          <a:graphicData uri="http://schemas.openxmlformats.org/presentationml/2006/ole">
            <p:oleObj progId="Excel.Sheet.12" r:id="rId1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496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2627280" y="4076640"/>
            <a:ext cx="4826160" cy="820080"/>
            <a:chOff x="2627280" y="4076640"/>
            <a:chExt cx="4826160" cy="820080"/>
          </a:xfrm>
        </p:grpSpPr>
        <p:sp>
          <p:nvSpPr>
            <p:cNvPr id="124" name=""/>
            <p:cNvSpPr/>
            <p:nvPr/>
          </p:nvSpPr>
          <p:spPr>
            <a:xfrm rot="16200000">
              <a:off x="3816360" y="2889360"/>
              <a:ext cx="287280" cy="26654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69480 h 2665440"/>
                <a:gd name="textAreaBottom" fmla="*/ 259596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6156360" y="3284280"/>
              <a:ext cx="287280" cy="1872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8600 h 1872000"/>
                <a:gd name="textAreaBottom" fmla="*/ 1823400 h 18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9280" y="443700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Transcien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64000" y="4437000"/>
              <a:ext cx="20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erman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Es el termómetro un Sistema Dinámic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141720"/>
            <a:ext cx="7772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Es relevante su Dinámic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lementos de un Siste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78440" y="2828880"/>
            <a:ext cx="2087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66080" y="369252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30800" y="369252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6600" y="477216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s “extern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40960" y="31161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8080" y="311616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lidas 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35520" y="232416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riable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22800" y="30430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ado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24600" y="36910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205000"/>
            <a:ext cx="360360" cy="2303640"/>
          </a:xfrm>
          <a:custGeom>
            <a:avLst/>
            <a:gdLst>
              <a:gd name="textAreaLeft" fmla="*/ 0 w 360360"/>
              <a:gd name="textAreaRight" fmla="*/ 129960 w 36036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276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ipuladas (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rturbaciones 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me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1T03:13:32Z</dcterms:modified>
  <cp:revision>22</cp:revision>
  <dc:subject/>
  <dc:title>EL63A-Taller de Proyecto en Control II</dc:title>
</cp:coreProperties>
</file>