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7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FCCB5-2BEB-4AAB-BE8D-8E1CD9B3A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EE78F-FC93-48B3-AD26-37C804466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65BDC-C61E-4B67-A2FA-DF5BD571D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A82B9-70A0-4366-8B0E-A16B0D306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695E1-3E3F-432D-B2E2-4AE76A610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A8EEF-3360-4619-BEDE-8EB48FB2D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98E5E-FD73-446C-8DDA-247BD160D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C628C-045A-499A-9C73-F887975EC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F8DEB-29A4-4BC6-BDF9-5DF6971AF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00E4B-A904-4EEB-8799-FEB821A03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AB582-0B3E-4929-9910-C252B09D3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C4685-6B60-4B34-8731-C9A69C587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FCEE0-EADF-4D9D-ABEB-94F05EC89F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5.pn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000" y="1413000"/>
            <a:ext cx="791532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EL32D- Análisis y Modelación de Sistemas Dinámico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634920" y="5516280"/>
            <a:ext cx="4568760" cy="62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rof: Héctor Agusto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EL32D- Análisis y Modelación de Sistemas Dinám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760320" y="299736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55640" y="1125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Modelación y Simulació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EL32D- Análisis y Modelación de Sistemas Dinám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684360" y="2637000"/>
            <a:ext cx="7632720" cy="2772720"/>
            <a:chOff x="684360" y="2637000"/>
            <a:chExt cx="7632720" cy="2772720"/>
          </a:xfrm>
        </p:grpSpPr>
        <p:sp>
          <p:nvSpPr>
            <p:cNvPr id="91" name=""/>
            <p:cNvSpPr/>
            <p:nvPr/>
          </p:nvSpPr>
          <p:spPr>
            <a:xfrm>
              <a:off x="684360" y="4800600"/>
              <a:ext cx="6821280" cy="60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3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84360" y="2637000"/>
              <a:ext cx="6912000" cy="80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spcBef>
                  <a:spcPts val="225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36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s-ES_tradnl" sz="3600" spc="-1" strike="noStrike">
                  <a:solidFill>
                    <a:srgbClr val="000000"/>
                  </a:solidFill>
                  <a:latin typeface="Times New Roman"/>
                </a:rPr>
                <a:t>Modelo: representación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84360" y="3359160"/>
              <a:ext cx="7632720" cy="152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44600" indent="-444600">
                <a:lnSpc>
                  <a:spcPct val="130000"/>
                </a:lnSpc>
                <a:spcBef>
                  <a:spcPts val="225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3600" spc="-1" strike="noStrike">
                  <a:solidFill>
                    <a:srgbClr val="000000"/>
                  </a:solidFill>
                  <a:latin typeface="Times New Roman"/>
                </a:rPr>
                <a:t>Simulador: Implementación de un modelo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55640" y="2420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Modelación en el Diseñ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EL32D- Análisis y Modelación de Sistemas Dinám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EL32D- Análisis y Modelación de Sistemas Dinám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L32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24000" y="1413000"/>
            <a:ext cx="84960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Curso de Especial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2638440"/>
            <a:ext cx="84960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Curso de “Ciencias de la Ingeniería”</a:t>
            </a:r>
            <a:br>
              <a:rPr sz="3200"/>
            </a:b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e  basa en “Ciencias básica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24000" y="4581360"/>
            <a:ext cx="84960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Clases:  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Inicio  8:15 Hrs.</a:t>
            </a:r>
            <a:br>
              <a:rPr sz="3200"/>
            </a:b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Fin    10:00 H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EL32D- Análisis y Modelación de Sistemas Dinám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179280" y="1197000"/>
          <a:ext cx="8785440" cy="3998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9280" y="1197000"/>
                    <a:ext cx="8785440" cy="399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EL32D- Análisis y Modelación de Sistemas Dinám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Unidades Temátic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24000" y="1413000"/>
            <a:ext cx="849600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ff"/>
                </a:solidFill>
                <a:latin typeface="Arial"/>
              </a:rPr>
              <a:t>1. Modelación de Sistemas</a:t>
            </a:r>
            <a:br>
              <a:rPr sz="3200"/>
            </a:br>
            <a:r>
              <a:rPr b="1" lang="es-ES" sz="3200" spc="-1" strike="noStrike">
                <a:solidFill>
                  <a:srgbClr val="0000ff"/>
                </a:solidFill>
                <a:latin typeface="Arial"/>
              </a:rPr>
              <a:t>2. Teoría de Sistemas </a:t>
            </a:r>
            <a:br>
              <a:rPr sz="3200"/>
            </a:br>
            <a:r>
              <a:rPr b="1" lang="es-ES" sz="3200" spc="-1" strike="noStrike">
                <a:solidFill>
                  <a:srgbClr val="0000ff"/>
                </a:solidFill>
                <a:latin typeface="Arial"/>
              </a:rPr>
              <a:t>3. Sistemas Lineales de Tiempo Continuo</a:t>
            </a:r>
            <a:br>
              <a:rPr sz="3200"/>
            </a:br>
            <a:r>
              <a:rPr b="1" lang="es-ES" sz="3200" spc="-1" strike="noStrike">
                <a:solidFill>
                  <a:srgbClr val="0000ff"/>
                </a:solidFill>
                <a:latin typeface="Arial"/>
              </a:rPr>
              <a:t>4. Sistemas Lineales de Tiempo Discreto</a:t>
            </a:r>
            <a:br>
              <a:rPr sz="3200"/>
            </a:br>
            <a:r>
              <a:rPr b="1" lang="es-ES" sz="3200" spc="-1" strike="noStrike">
                <a:solidFill>
                  <a:srgbClr val="0000ff"/>
                </a:solidFill>
                <a:latin typeface="Arial"/>
              </a:rPr>
              <a:t>5. </a:t>
            </a:r>
            <a:r>
              <a:rPr b="1" lang="es-CL" sz="3200" spc="-1" strike="noStrike">
                <a:solidFill>
                  <a:srgbClr val="0000ff"/>
                </a:solidFill>
                <a:latin typeface="Arial"/>
              </a:rPr>
              <a:t>Modelos en el Dominio de la Frecuenc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EL32D- Análisis y Modelación de Sistemas Dinám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71280" y="620640"/>
          <a:ext cx="8964720" cy="4684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1280" y="620640"/>
                    <a:ext cx="8964720" cy="468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5564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¿Sistemas Dinámicos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6" name=""/>
          <p:cNvGraphicFramePr/>
          <p:nvPr/>
        </p:nvGraphicFramePr>
        <p:xfrm>
          <a:off x="3995640" y="4221000"/>
          <a:ext cx="3133800" cy="1828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95640" y="4221000"/>
                    <a:ext cx="313380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" name=""/>
          <p:cNvGraphicFramePr/>
          <p:nvPr/>
        </p:nvGraphicFramePr>
        <p:xfrm>
          <a:off x="7167600" y="4221000"/>
          <a:ext cx="1514520" cy="1989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167600" y="4221000"/>
                    <a:ext cx="1514520" cy="198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EL32D- Análisis y Modelación de Sistemas Dinám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6"/>
          <a:stretch/>
        </p:blipFill>
        <p:spPr>
          <a:xfrm>
            <a:off x="4211640" y="1989000"/>
            <a:ext cx="2808360" cy="190044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7"/>
          <a:stretch/>
        </p:blipFill>
        <p:spPr>
          <a:xfrm>
            <a:off x="539640" y="1773360"/>
            <a:ext cx="2033640" cy="40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55640" y="765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¿Por qué analizar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EL32D- Análisis y Modelación de Sistemas Dinám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684360" y="2201760"/>
            <a:ext cx="7632720" cy="2773440"/>
            <a:chOff x="684360" y="2201760"/>
            <a:chExt cx="7632720" cy="2773440"/>
          </a:xfrm>
        </p:grpSpPr>
        <p:sp>
          <p:nvSpPr>
            <p:cNvPr id="77" name=""/>
            <p:cNvSpPr/>
            <p:nvPr/>
          </p:nvSpPr>
          <p:spPr>
            <a:xfrm>
              <a:off x="684360" y="4365720"/>
              <a:ext cx="68212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30000"/>
                </a:lnSpc>
                <a:spcBef>
                  <a:spcPts val="90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3600" spc="-1" strike="noStrike">
                  <a:solidFill>
                    <a:srgbClr val="000000"/>
                  </a:solidFill>
                  <a:latin typeface="Times New Roman"/>
                </a:rPr>
                <a:t>Control de procesos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4360" y="2201760"/>
              <a:ext cx="6912000" cy="80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spcBef>
                  <a:spcPts val="225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36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s-ES_tradnl" sz="3600" spc="-1" strike="noStrike">
                  <a:solidFill>
                    <a:srgbClr val="000000"/>
                  </a:solidFill>
                  <a:latin typeface="Times New Roman"/>
                </a:rPr>
                <a:t>Diseño de nuevos procesos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84360" y="2924280"/>
              <a:ext cx="7632720" cy="152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44600" indent="-444600">
                <a:lnSpc>
                  <a:spcPct val="130000"/>
                </a:lnSpc>
                <a:spcBef>
                  <a:spcPts val="225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3600" spc="-1" strike="noStrike">
                  <a:solidFill>
                    <a:srgbClr val="000000"/>
                  </a:solidFill>
                  <a:latin typeface="Times New Roman"/>
                </a:rPr>
                <a:t>Optimización de procesos   existentes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26920" y="9079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¿Qué es un modelo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EL32D- Análisis y Modelación de Sistemas Dinám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826920" y="29242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Una representación de la Realida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55640" y="2420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¿Por qué modelar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EL32D- Análisis y Modelación de Sistemas Dinám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4T16:52:24Z</dcterms:created>
  <dc:creator>Héctor Agusto A.</dc:creator>
  <dc:description/>
  <dc:language>en-US</dc:language>
  <cp:lastModifiedBy>Uchile</cp:lastModifiedBy>
  <dcterms:modified xsi:type="dcterms:W3CDTF">2007-07-24T11:55:53Z</dcterms:modified>
  <cp:revision>19</cp:revision>
  <dc:subject/>
  <dc:title>EL63A-Taller de Proyecto en Control II</dc:title>
</cp:coreProperties>
</file>