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0ED-91E5-473F-8FBA-52957298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290-CA18-4AED-BE51-7C91D606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EE3-7EAB-4A50-B6CE-F82064F2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B21-9A23-402C-AF53-BF056333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6C0-AE5B-40C3-98F4-56F56BA5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D7C-C14C-4207-B4A5-750B31DD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BE3-EBC5-4C01-B7A6-CB4CDEDD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DA5-EB04-404A-9928-742FEB01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ED7-BD28-43EA-9639-C89DE403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F6C-76C5-4198-BE08-AB2C948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D69-DB54-474C-AA94-5269D244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B5B-1AA7-430D-8B43-B3D3FAB5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1AAC-6971-4D4F-A192-1004F37A0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y Sim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4360" y="2637000"/>
            <a:ext cx="7632720" cy="2772720"/>
            <a:chOff x="684360" y="2637000"/>
            <a:chExt cx="7632720" cy="2772720"/>
          </a:xfrm>
        </p:grpSpPr>
        <p:sp>
          <p:nvSpPr>
            <p:cNvPr id="91" name=""/>
            <p:cNvSpPr/>
            <p:nvPr/>
          </p:nvSpPr>
          <p:spPr>
            <a:xfrm>
              <a:off x="684360" y="4800600"/>
              <a:ext cx="68212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4360" y="263700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Modelo: represent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4360" y="335916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Simulador: Implementación de un 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3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1300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Espec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63844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“Ciencias de la Ingeniería”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  basa en “Ciencias básic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581360"/>
            <a:ext cx="84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ases: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icio  8:15 Hrs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    10:00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1197000"/>
          <a:ext cx="8785440" cy="39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97000"/>
                    <a:ext cx="87854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es Tem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8496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1. Modelación de Sistemas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2. Teoría de Sistemas 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3. Sistemas Lineales de Tiempo Continu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4. Sistemas Lineales de Tiempo Discret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Modelos en el Dominio de la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280" y="620640"/>
          <a:ext cx="89647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20640"/>
                    <a:ext cx="8964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Sistemas Dinámic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95640" y="4221000"/>
          <a:ext cx="3133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4221000"/>
                    <a:ext cx="3133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7600" y="4221000"/>
          <a:ext cx="151452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7600" y="4221000"/>
                    <a:ext cx="15145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211640" y="1989000"/>
            <a:ext cx="280836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9640" y="1773360"/>
            <a:ext cx="203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analiz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77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Control de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Diseño de nuevos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360" y="292428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Optimización de procesos   existent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un model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a representación de la Rea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model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4T11:55:53Z</dcterms:modified>
  <cp:revision>19</cp:revision>
  <dc:subject/>
  <dc:title>EL63A-Taller de Proyecto en Control II</dc:title>
</cp:coreProperties>
</file>