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EA63-1B2F-4470-B429-97948A2E0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B24E-435F-45F0-AB98-F22CEC6D2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BAB7-AEBB-4478-A766-3CD291CB7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FF7F-D669-417B-AB41-E2A7FC18C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E411-CD0A-4EC1-9A76-F8CCB9700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190A-1655-428C-B46E-96A81AE26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ADC2-DE24-4549-A31C-EE65CC963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F8AA-296C-4AA6-BBD3-3426A5C5D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D955-EF0A-4644-B1A9-190084474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2922-CF26-46FD-8A75-45563A65B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41C5-0562-494C-BC2F-496AC7CBB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D9EB-57DD-4CD2-9C4E-2C7A22701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FA832-0CD7-433A-BE8E-A3184775B8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1413000"/>
            <a:ext cx="791532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L32D- Análisis y Modelación de Sistemas Dinámic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: 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5564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Modelación y Simulació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684360" y="2637000"/>
            <a:ext cx="7632720" cy="2772720"/>
            <a:chOff x="684360" y="2637000"/>
            <a:chExt cx="7632720" cy="2772720"/>
          </a:xfrm>
        </p:grpSpPr>
        <p:sp>
          <p:nvSpPr>
            <p:cNvPr id="91" name=""/>
            <p:cNvSpPr/>
            <p:nvPr/>
          </p:nvSpPr>
          <p:spPr>
            <a:xfrm>
              <a:off x="684360" y="4800600"/>
              <a:ext cx="6821280" cy="60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3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84360" y="2637000"/>
              <a:ext cx="6912000" cy="80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spcBef>
                  <a:spcPts val="22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_tradnl" sz="3600" spc="-1" strike="noStrike">
                  <a:solidFill>
                    <a:srgbClr val="000000"/>
                  </a:solidFill>
                  <a:latin typeface="Times New Roman"/>
                </a:rPr>
                <a:t>Modelo: representació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84360" y="3359160"/>
              <a:ext cx="7632720" cy="152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44600" indent="-444600">
                <a:lnSpc>
                  <a:spcPct val="130000"/>
                </a:lnSpc>
                <a:spcBef>
                  <a:spcPts val="22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600" spc="-1" strike="noStrike">
                  <a:solidFill>
                    <a:srgbClr val="000000"/>
                  </a:solidFill>
                  <a:latin typeface="Times New Roman"/>
                </a:rPr>
                <a:t>Simulador: Implementación de un modelo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564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Modelación en el Diseñ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L32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1413000"/>
            <a:ext cx="8496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urso de Especi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2638440"/>
            <a:ext cx="8496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urso de “Ciencias de la Ingeniería”</a:t>
            </a: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  basa en “Ciencias básica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4581360"/>
            <a:ext cx="84960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lases: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nicio  8:15 Hrs.</a:t>
            </a: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in    10:00 H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79280" y="1197000"/>
          <a:ext cx="8785440" cy="3998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197000"/>
                    <a:ext cx="8785440" cy="399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nidades Temát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1413000"/>
            <a:ext cx="849600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Arial"/>
              </a:rPr>
              <a:t>1. Modelación de Sistemas</a:t>
            </a:r>
            <a:br>
              <a:rPr sz="3200"/>
            </a:br>
            <a:r>
              <a:rPr b="1" lang="es-ES" sz="3200" spc="-1" strike="noStrike">
                <a:solidFill>
                  <a:srgbClr val="0000ff"/>
                </a:solidFill>
                <a:latin typeface="Arial"/>
              </a:rPr>
              <a:t>2. Teoría de Sistemas </a:t>
            </a:r>
            <a:br>
              <a:rPr sz="3200"/>
            </a:br>
            <a:r>
              <a:rPr b="1" lang="es-ES" sz="3200" spc="-1" strike="noStrike">
                <a:solidFill>
                  <a:srgbClr val="0000ff"/>
                </a:solidFill>
                <a:latin typeface="Arial"/>
              </a:rPr>
              <a:t>3. Sistemas Lineales de Tiempo Continuo</a:t>
            </a:r>
            <a:br>
              <a:rPr sz="3200"/>
            </a:br>
            <a:r>
              <a:rPr b="1" lang="es-ES" sz="3200" spc="-1" strike="noStrike">
                <a:solidFill>
                  <a:srgbClr val="0000ff"/>
                </a:solidFill>
                <a:latin typeface="Arial"/>
              </a:rPr>
              <a:t>4. Sistemas Lineales de Tiempo Discreto</a:t>
            </a:r>
            <a:br>
              <a:rPr sz="3200"/>
            </a:br>
            <a:r>
              <a:rPr b="1" lang="es-ES" sz="3200" spc="-1" strike="noStrike">
                <a:solidFill>
                  <a:srgbClr val="0000ff"/>
                </a:solidFill>
                <a:latin typeface="Arial"/>
              </a:rPr>
              <a:t>5. </a:t>
            </a:r>
            <a:r>
              <a:rPr b="1" lang="es-CL" sz="3200" spc="-1" strike="noStrike">
                <a:solidFill>
                  <a:srgbClr val="0000ff"/>
                </a:solidFill>
                <a:latin typeface="Arial"/>
              </a:rPr>
              <a:t>Modelos en el Dominio de la Frecu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71280" y="620640"/>
          <a:ext cx="8964720" cy="4684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280" y="620640"/>
                    <a:ext cx="8964720" cy="46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¿Sistemas Dinámico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6" name=""/>
          <p:cNvGraphicFramePr/>
          <p:nvPr/>
        </p:nvGraphicFramePr>
        <p:xfrm>
          <a:off x="3995640" y="4221000"/>
          <a:ext cx="3133800" cy="1828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95640" y="4221000"/>
                    <a:ext cx="31338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7167600" y="4221000"/>
          <a:ext cx="1514520" cy="1989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167600" y="4221000"/>
                    <a:ext cx="1514520" cy="19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6"/>
          <a:stretch/>
        </p:blipFill>
        <p:spPr>
          <a:xfrm>
            <a:off x="4211640" y="1989000"/>
            <a:ext cx="2808360" cy="19004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7"/>
          <a:stretch/>
        </p:blipFill>
        <p:spPr>
          <a:xfrm>
            <a:off x="539640" y="1773360"/>
            <a:ext cx="2033640" cy="40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¿Por qué analizar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4360" y="2201760"/>
            <a:ext cx="7632720" cy="2773440"/>
            <a:chOff x="684360" y="2201760"/>
            <a:chExt cx="7632720" cy="2773440"/>
          </a:xfrm>
        </p:grpSpPr>
        <p:sp>
          <p:nvSpPr>
            <p:cNvPr id="77" name=""/>
            <p:cNvSpPr/>
            <p:nvPr/>
          </p:nvSpPr>
          <p:spPr>
            <a:xfrm>
              <a:off x="684360" y="4365720"/>
              <a:ext cx="68212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30000"/>
                </a:lnSpc>
                <a:spcBef>
                  <a:spcPts val="9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600" spc="-1" strike="noStrike">
                  <a:solidFill>
                    <a:srgbClr val="000000"/>
                  </a:solidFill>
                  <a:latin typeface="Times New Roman"/>
                </a:rPr>
                <a:t>Control de proceso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4360" y="2201760"/>
              <a:ext cx="6912000" cy="80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spcBef>
                  <a:spcPts val="22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_tradnl" sz="3600" spc="-1" strike="noStrike">
                  <a:solidFill>
                    <a:srgbClr val="000000"/>
                  </a:solidFill>
                  <a:latin typeface="Times New Roman"/>
                </a:rPr>
                <a:t>Diseño de nuevos proceso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84360" y="2924280"/>
              <a:ext cx="7632720" cy="152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44600" indent="-444600">
                <a:lnSpc>
                  <a:spcPct val="130000"/>
                </a:lnSpc>
                <a:spcBef>
                  <a:spcPts val="22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600" spc="-1" strike="noStrike">
                  <a:solidFill>
                    <a:srgbClr val="000000"/>
                  </a:solidFill>
                  <a:latin typeface="Times New Roman"/>
                </a:rPr>
                <a:t>Optimización de procesos   existente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2692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¿Qué es un modelo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26920" y="29242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Una representación de la Realida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5564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¿Por qué modelar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7-07-24T11:55:53Z</dcterms:modified>
  <cp:revision>19</cp:revision>
  <dc:subject/>
  <dc:title>EL63A-Taller de Proyecto en Control II</dc:title>
</cp:coreProperties>
</file>