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2C3-4BE1-4742-9BE8-B6791AA8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8A4-5719-4754-A470-DD5FB644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D60-ADF7-4578-8CAD-895BC961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571-2BBA-4E8E-931F-9253EC9D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CEB-8F4C-42B3-8DC2-A9B5EA8E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D7C-D05A-4774-B90B-4CB7FE29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7A0-5CCF-48B6-A8FD-980C5593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F39-34CB-4843-B0EC-6E5BCEE6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7FB-6613-459C-9900-6A94965A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C8C-7C8A-46B4-9388-02129960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0E5-2C59-4459-AE18-F55EF6A7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768-2E79-484E-AED3-2490BDFE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D14C-1389-478C-8915-AC679FA60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y Sim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84360" y="2637000"/>
            <a:ext cx="7632720" cy="2772720"/>
            <a:chOff x="684360" y="2637000"/>
            <a:chExt cx="7632720" cy="2772720"/>
          </a:xfrm>
        </p:grpSpPr>
        <p:sp>
          <p:nvSpPr>
            <p:cNvPr id="91" name=""/>
            <p:cNvSpPr/>
            <p:nvPr/>
          </p:nvSpPr>
          <p:spPr>
            <a:xfrm>
              <a:off x="684360" y="4800600"/>
              <a:ext cx="68212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4360" y="263700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Modelo: representació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4360" y="3359160"/>
              <a:ext cx="763272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Simulador: Implementación de un model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elación en el Diseñ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32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413000"/>
            <a:ext cx="849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rso de Especi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638440"/>
            <a:ext cx="8496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rso de “Ciencias de la Ingeniería”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  basa en “Ciencias básic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581360"/>
            <a:ext cx="8496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lases: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icio  8:15 Hrs.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in    10:00 H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1197000"/>
          <a:ext cx="8785440" cy="399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197000"/>
                    <a:ext cx="878544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dades Temá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8496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1. Modelación de Sistemas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2. Teoría de Sistemas 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3. Sistemas Lineales de Tiempo Continuo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4. Sistemas Lineales de Tiempo Discreto</a:t>
            </a:r>
            <a:br>
              <a:rPr sz="3200"/>
            </a:br>
            <a:r>
              <a:rPr b="1" lang="es-ES" sz="32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lang="es-CL" sz="3200" spc="-1" strike="noStrike">
                <a:solidFill>
                  <a:srgbClr val="0000ff"/>
                </a:solidFill>
                <a:latin typeface="Arial"/>
              </a:rPr>
              <a:t>Modelos en el Dominio de la Frecu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1280" y="620640"/>
          <a:ext cx="8964720" cy="468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" y="620640"/>
                    <a:ext cx="896472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Sistemas Dinámic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3995640" y="4221000"/>
          <a:ext cx="313380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4221000"/>
                    <a:ext cx="3133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167600" y="4221000"/>
          <a:ext cx="1514520" cy="198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7600" y="4221000"/>
                    <a:ext cx="1514520" cy="19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211640" y="1989000"/>
            <a:ext cx="2808360" cy="1900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39640" y="1773360"/>
            <a:ext cx="203364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Por qué analiza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2201760"/>
            <a:ext cx="7632720" cy="2773440"/>
            <a:chOff x="684360" y="2201760"/>
            <a:chExt cx="7632720" cy="2773440"/>
          </a:xfrm>
        </p:grpSpPr>
        <p:sp>
          <p:nvSpPr>
            <p:cNvPr id="77" name=""/>
            <p:cNvSpPr/>
            <p:nvPr/>
          </p:nvSpPr>
          <p:spPr>
            <a:xfrm>
              <a:off x="684360" y="4365720"/>
              <a:ext cx="6821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30000"/>
                </a:lnSpc>
                <a:spcBef>
                  <a:spcPts val="9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Control de proces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2201760"/>
              <a:ext cx="691200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Diseño de nuevos proces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4360" y="2924280"/>
              <a:ext cx="763272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44600" indent="-444600">
                <a:lnSpc>
                  <a:spcPct val="130000"/>
                </a:lnSpc>
                <a:spcBef>
                  <a:spcPts val="22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Times New Roman"/>
                </a:rPr>
                <a:t>Optimización de procesos   existent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un model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na representación de la Real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Por qué modela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24T11:55:53Z</dcterms:modified>
  <cp:revision>19</cp:revision>
  <dc:subject/>
  <dc:title>EL63A-Taller de Proyecto en Control II</dc:title>
</cp:coreProperties>
</file>