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F9A-18D7-4C42-BA77-2CD57108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C79-F8A1-407D-9441-1B3728C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D91-E10E-4805-9FAF-5DDCC9F6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E19-91A9-4C54-889F-F3342D75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365F-FE49-4FD5-A0C9-5D3A5D2F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3015-B07A-42AB-B282-1E853461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B06-9BAB-4B81-B4E3-6CDEA34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4C12-0F8F-455D-AD38-C0B713B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7F8-C2F6-4E2E-9207-25891A7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EB6-14E7-45AB-941D-FB60133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FA1-D3B1-419A-9397-114E41C9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6F1-A87B-4466-B46F-F1F03E2A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26E-C04B-45DD-A422-2B5B8C8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2D4C-8110-4342-81A5-BB58BD1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39E7-67B4-476F-9ADB-F422974F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B50-B4A1-42A5-BA8D-B660822E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CAF-02EE-4F22-8AF8-8B490BE6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C34-D0A9-4740-8734-878280BD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D08-C7B2-4CE7-BF65-03368E2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842-0854-4488-A9A8-8E7E813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078-EEE0-46DE-BCC8-BBA4CA0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853-7662-46F4-BC20-FB536D4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723-3DF3-45C8-BA3D-EF7AE94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2A2-4252-4A29-A70C-9AC20E1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5F7D-BA34-46CD-A937-36979FDAFB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90B-CA0D-4831-8C41-9E4284E11A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49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3197160"/>
            <a:ext cx="5638680" cy="3660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46483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480" y="1828800"/>
            <a:ext cx="882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El ingeniero aprobó las modificaciones,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a pesar de que si se hubiesen hechos los cálculos, se habría determinado que las nuevas conexion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no resistirían.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663560" y="1995480"/>
            <a:ext cx="5508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2570040" y="2498760"/>
            <a:ext cx="4308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403280" y="1700280"/>
            <a:ext cx="6192720" cy="4465080"/>
            <a:chOff x="1403280" y="1700280"/>
            <a:chExt cx="6192720" cy="4465080"/>
          </a:xfrm>
        </p:grpSpPr>
        <p:sp>
          <p:nvSpPr>
            <p:cNvPr id="266" name=""/>
            <p:cNvSpPr/>
            <p:nvPr/>
          </p:nvSpPr>
          <p:spPr>
            <a:xfrm>
              <a:off x="1403280" y="1700280"/>
              <a:ext cx="6192720" cy="446040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7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403280" y="1700280"/>
              <a:ext cx="6192720" cy="446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04880" y="1676520"/>
            <a:ext cx="8439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Luego de la investigación, los principales Ingenieros involucrados en el caso, fueron encontrados culpables por negligencia y conductas inapropiadas. Perdieron sus licencias para ejercer como ingenieros en Missouri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457200"/>
          <a:ext cx="914400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-109800" y="0"/>
            <a:ext cx="419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Mercurio Martes 30 de Octubre de 200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990720"/>
            <a:ext cx="1981080" cy="32763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1600200"/>
            <a:ext cx="71625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l problema a resolver, es saber porqué una señora de una comunidad de Lolol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cuando va a comprar un tarro de café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a parte del valor es para financiar 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 joven de Providencia que va estudiar ingeniería a la Universidad de Chile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¡Plop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ahoma"/>
              </a:rPr>
              <a:t>Nicolás Eyzaguirre, 29 de Octubre de 2007, ante la comisión Investigadora del Transantiago de la Cámara de Dipu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alizar Caso por Grup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7280" y="227664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l 17 de julio de 1981, dos pasarelas colgantes en el Hotel Hyatt Rengency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n Kansas City, Missouri, colapsaron, matando a 114 personas y causand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lesiones en otras 200 personas.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73280" y="137160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2240a"/>
                </a:solidFill>
                <a:latin typeface="Tahoma"/>
              </a:rPr>
              <a:t>Capítulo 5, Etica en la Ingenierí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838080" y="2135160"/>
            <a:ext cx="7772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85800" y="160020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Para simplificar el proceso de construcción de la pasarela, el fabricante de la estructura, instaló conexiones distintas a las especificadas por el ingeniero estructural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077840" y="1905120"/>
            <a:ext cx="3335400" cy="4226760"/>
            <a:chOff x="1077840" y="1905120"/>
            <a:chExt cx="3335400" cy="4226760"/>
          </a:xfrm>
        </p:grpSpPr>
        <p:pic>
          <p:nvPicPr>
            <p:cNvPr id="241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077840" y="1905120"/>
              <a:ext cx="3335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42440" y="5611320"/>
              <a:ext cx="27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iseño Original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19640" y="1628640"/>
            <a:ext cx="3652920" cy="4770360"/>
            <a:chOff x="5219640" y="1628640"/>
            <a:chExt cx="3652920" cy="4770360"/>
          </a:xfrm>
        </p:grpSpPr>
        <p:pic>
          <p:nvPicPr>
            <p:cNvPr id="244" name="" descr="Rectangle: Click to edit Master text styles&#13;&#10;Second level&#13;&#10;Third level&#13;&#10;Fourth level&#13;&#10;Fifth level"/>
            <p:cNvPicPr/>
            <p:nvPr/>
          </p:nvPicPr>
          <p:blipFill>
            <a:blip r:embed="rId4"/>
            <a:stretch/>
          </p:blipFill>
          <p:spPr>
            <a:xfrm>
              <a:off x="5219640" y="1628640"/>
              <a:ext cx="3652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506920" y="587844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Modificación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392120" y="2259000"/>
            <a:ext cx="64929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11-08T13:04:52Z</dcterms:modified>
  <cp:revision>301</cp:revision>
  <dc:subject/>
  <dc:title>Reactor Agitado</dc:title>
</cp:coreProperties>
</file>