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331-ADC1-4FDD-A88E-AF7798FF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939-A321-4D82-870D-4FDFA99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DD1-23E6-4838-ACEF-EE42268B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B78-5AE0-4DA2-AA6A-C6BADA01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BBA4-BE24-4F65-9F00-06F72673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DB2F-F6D4-45A9-9CD7-673E0101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E3DB-17B9-4D50-8DE7-2FF5A927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1DB-A380-4672-9A57-F497D12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EA97-8A02-4040-90FB-0339E25B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6CB-3F3D-4688-9E01-B2EC520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B65-0D89-4BD7-98C1-A460EB7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958-63A7-4319-8DE1-74485DC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A33-4069-4D5D-A08E-07AB480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0C3B-A425-4F5E-976A-CEA19DD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3273-965E-4C5D-81F1-F1CA6E49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A68-6210-40E6-AE7E-3AEAFDA3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AC7-9963-4FCC-A9C2-0AEEDC39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830-EC5A-4828-8C70-A7C89C9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2B4-BA25-4D81-AB94-64AB70C4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EBA-C60C-4BD3-9633-80551670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25-D884-4FC5-9282-70F3E56B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0D-82D5-4A15-A3E6-554B279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1F8-42B8-4B5F-9819-164A50C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C53-09B8-4F17-8755-501867C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1C38-97FD-4666-BBAA-5037D9E4A1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DDB5-3A45-4EF3-B989-6DE66C0D1D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49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3197160"/>
            <a:ext cx="5638680" cy="3660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46483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480" y="1828800"/>
            <a:ext cx="882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El ingeniero aprobó las modificaciones,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a pesar de que si se hubiesen hechos los cálculos, se habría determinado que las nuevas conexion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no resistirían.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663560" y="1995480"/>
            <a:ext cx="5508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2570040" y="2498760"/>
            <a:ext cx="4308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403280" y="1700280"/>
            <a:ext cx="6192720" cy="4465080"/>
            <a:chOff x="1403280" y="1700280"/>
            <a:chExt cx="6192720" cy="4465080"/>
          </a:xfrm>
        </p:grpSpPr>
        <p:sp>
          <p:nvSpPr>
            <p:cNvPr id="266" name=""/>
            <p:cNvSpPr/>
            <p:nvPr/>
          </p:nvSpPr>
          <p:spPr>
            <a:xfrm>
              <a:off x="1403280" y="1700280"/>
              <a:ext cx="6192720" cy="446040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7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403280" y="1700280"/>
              <a:ext cx="6192720" cy="446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04880" y="1676520"/>
            <a:ext cx="8439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Luego de la investigación, los principales Ingenieros involucrados en el caso, fueron encontrados culpables por negligencia y conductas inapropiadas. Perdieron sus licencias para ejercer como ingenieros en Missouri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457200"/>
          <a:ext cx="914400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-109800" y="0"/>
            <a:ext cx="419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Mercurio Martes 30 de Octubre de 200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990720"/>
            <a:ext cx="1981080" cy="32763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1600200"/>
            <a:ext cx="71625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l problema a resolver, es saber porqué una señora de una comunidad de Lolol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cuando va a comprar un tarro de café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a parte del valor es para financiar 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 joven de Providencia que va estudiar ingeniería a la Universidad de Chile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¡Plop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ahoma"/>
              </a:rPr>
              <a:t>Nicolás Eyzaguirre, 29 de Octubre de 2007, ante la comisión Investigadora del Transantiago de la Cámara de Dipu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alizar Caso por Grup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7280" y="227664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l 17 de julio de 1981, dos pasarelas colgantes en el Hotel Hyatt Rengency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n Kansas City, Missouri, colapsaron, matando a 114 personas y causand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lesiones en otras 200 personas.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73280" y="137160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2240a"/>
                </a:solidFill>
                <a:latin typeface="Tahoma"/>
              </a:rPr>
              <a:t>Capítulo 5, Etica en la Ingenierí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838080" y="2135160"/>
            <a:ext cx="7772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85800" y="160020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Para simplificar el proceso de construcción de la pasarela, el fabricante de la estructura, instaló conexiones distintas a las especificadas por el ingeniero estructural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077840" y="1905120"/>
            <a:ext cx="3335400" cy="4226760"/>
            <a:chOff x="1077840" y="1905120"/>
            <a:chExt cx="3335400" cy="4226760"/>
          </a:xfrm>
        </p:grpSpPr>
        <p:pic>
          <p:nvPicPr>
            <p:cNvPr id="241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077840" y="1905120"/>
              <a:ext cx="3335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42440" y="5611320"/>
              <a:ext cx="27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iseño Original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19640" y="1628640"/>
            <a:ext cx="3652920" cy="4770360"/>
            <a:chOff x="5219640" y="1628640"/>
            <a:chExt cx="3652920" cy="4770360"/>
          </a:xfrm>
        </p:grpSpPr>
        <p:pic>
          <p:nvPicPr>
            <p:cNvPr id="244" name="" descr="Rectangle: Click to edit Master text styles&#13;&#10;Second level&#13;&#10;Third level&#13;&#10;Fourth level&#13;&#10;Fifth level"/>
            <p:cNvPicPr/>
            <p:nvPr/>
          </p:nvPicPr>
          <p:blipFill>
            <a:blip r:embed="rId4"/>
            <a:stretch/>
          </p:blipFill>
          <p:spPr>
            <a:xfrm>
              <a:off x="5219640" y="1628640"/>
              <a:ext cx="3652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506920" y="587844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Modificación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392120" y="2259000"/>
            <a:ext cx="64929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11-08T13:04:52Z</dcterms:modified>
  <cp:revision>301</cp:revision>
  <dc:subject/>
  <dc:title>Reactor Agitado</dc:title>
</cp:coreProperties>
</file>