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40D-284F-4FB0-AC56-631F359A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8D1-FD58-40E2-B482-56533FBF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072-334C-4433-B1ED-FAE8F587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A67-56D3-432E-A5B9-8F32BE13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11FF-9364-4CD4-93CA-111FD8A9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6659-40B2-432F-8948-2CD1C6FA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6A4C-3BB0-44D6-91DE-94DB2C57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5C26-5A14-4A85-AE8C-C0807715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1988-158E-4B2D-AB57-ECC4F94D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2BBB-A1B9-4E7B-9211-2A2603ED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E971-BCE1-40B9-A04D-8E1A4D7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AA0-1239-4041-815E-DF33CA20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EDB8-678D-4529-A9CC-16A7DC2A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F738-A4E2-40B7-A1FB-43F8C083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A028-B6C6-49B3-86AD-46901182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6190-2B22-49DC-B3B9-E7C86F10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4899-28E9-445A-A3F1-8F4E1BCE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506-E5AD-4009-A18A-51B66F95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79D-BDCA-420D-84D4-11E3DE8D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155-D321-44BD-A6FD-DBF97B4D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B2F-41A0-4ED1-80B9-A03BE66F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4A1-47FF-4C07-B0B9-55BF2D0E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826-1B88-468C-BE43-B278499C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EE3-8EF1-4FC4-8E66-B95365C4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955F-F458-46EB-8E61-0647BFC758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A2D3-27C0-4006-B353-4C6D662BFD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66920" y="3070080"/>
            <a:ext cx="720720" cy="719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349360"/>
            <a:ext cx="720720" cy="2159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3322800"/>
            <a:ext cx="179640" cy="17928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6920" y="3213000"/>
            <a:ext cx="1441440" cy="43200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2565360"/>
            <a:ext cx="71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2349360"/>
            <a:ext cx="2159280" cy="2159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3213000"/>
            <a:ext cx="432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286080"/>
            <a:ext cx="215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1640" y="2565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51640" y="4005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3070080"/>
            <a:ext cx="718920" cy="719280"/>
          </a:xfrm>
          <a:prstGeom prst="ellipse">
            <a:avLst/>
          </a:prstGeom>
          <a:noFill/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3322800"/>
            <a:ext cx="146160" cy="179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26080"/>
            <a:ext cx="7207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02120" y="471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1760" y="4587840"/>
            <a:ext cx="72072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16240" y="45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4870440"/>
            <a:ext cx="2087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56240" y="4870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4960" y="32860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15" idx="0"/>
          </p:cNvCxnSpPr>
          <p:nvPr/>
        </p:nvCxnSpPr>
        <p:spPr>
          <a:xfrm rot="10800000">
            <a:off x="5795280" y="2565360"/>
            <a:ext cx="1670040" cy="950760"/>
          </a:xfrm>
          <a:prstGeom prst="curvedConnector4">
            <a:avLst>
              <a:gd name="adj1" fmla="val 56899"/>
              <a:gd name="adj2" fmla="val 100189"/>
            </a:avLst>
          </a:prstGeom>
          <a:ln w="3240">
            <a:solidFill>
              <a:srgbClr val="40458c"/>
            </a:solidFill>
            <a:miter/>
          </a:ln>
        </p:spPr>
      </p:cxnSp>
      <p:cxnSp>
        <p:nvCxnSpPr>
          <p:cNvPr id="227" name=""/>
          <p:cNvCxnSpPr>
            <a:stCxn id="225" idx="1"/>
            <a:endCxn id="216" idx="0"/>
          </p:cNvCxnSpPr>
          <p:nvPr/>
        </p:nvCxnSpPr>
        <p:spPr>
          <a:xfrm flipV="1" rot="10800000">
            <a:off x="5795280" y="3515760"/>
            <a:ext cx="1670040" cy="489960"/>
          </a:xfrm>
          <a:prstGeom prst="curvedConnector2">
            <a:avLst/>
          </a:prstGeom>
          <a:ln w="3240">
            <a:solidFill>
              <a:srgbClr val="40458c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296240" y="414972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1"/>
            <a:endCxn id="213" idx="4"/>
          </p:cNvCxnSpPr>
          <p:nvPr/>
        </p:nvCxnSpPr>
        <p:spPr>
          <a:xfrm flipH="1" flipV="1" rot="5400000">
            <a:off x="4678920" y="3262320"/>
            <a:ext cx="734760" cy="1500120"/>
          </a:xfrm>
          <a:prstGeom prst="curvedConnector4">
            <a:avLst>
              <a:gd name="adj1" fmla="val 32647"/>
              <a:gd name="adj2" fmla="val 0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1544760" y="1917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3 c/hil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1"/>
            <a:endCxn id="209" idx="7"/>
          </p:cNvCxnSpPr>
          <p:nvPr/>
        </p:nvCxnSpPr>
        <p:spPr>
          <a:xfrm flipH="1" rot="16200000">
            <a:off x="1490400" y="2201760"/>
            <a:ext cx="1202040" cy="1093320"/>
          </a:xfrm>
          <a:prstGeom prst="curvedConnector4">
            <a:avLst>
              <a:gd name="adj1" fmla="val 29149"/>
              <a:gd name="adj2" fmla="val 25000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2987640" y="4005360"/>
            <a:ext cx="719280" cy="28728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32860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96240" y="17733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4" idx="1"/>
            <a:endCxn id="233" idx="6"/>
          </p:cNvCxnSpPr>
          <p:nvPr/>
        </p:nvCxnSpPr>
        <p:spPr>
          <a:xfrm flipV="1" rot="10800000">
            <a:off x="3490560" y="2002680"/>
            <a:ext cx="805680" cy="1427040"/>
          </a:xfrm>
          <a:prstGeom prst="curvedConnector3">
            <a:avLst>
              <a:gd name="adj1" fmla="val 24497"/>
            </a:avLst>
          </a:prstGeom>
          <a:ln w="3240">
            <a:solidFill>
              <a:srgbClr val="40458c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810108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Pieza para acoplar el motor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6680" y="5181480"/>
            <a:ext cx="820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lanos del Proyecto en cualquier formato digit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31T17:25:17Z</dcterms:modified>
  <cp:revision>327</cp:revision>
  <dc:subject/>
  <dc:title>Reactor Agitado</dc:title>
</cp:coreProperties>
</file>