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8BEE-65FD-43A8-AC73-8DA7EE3E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5F9A-6731-43BD-87F5-CFCFDAE4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6D37-F77C-4493-98BD-5969EB02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4E81-82D2-45A8-AA10-9A8F063B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7B13-3D54-4243-8CDD-4942B08E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8394-9F55-41B7-BBFC-C3B16A3A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A866-A444-4669-A32E-9B7A9DB7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B6E2-526C-4584-A7FD-9B33E8A3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3EEC-001B-4811-BE19-6DD9B3B8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B688-06B0-43AB-B1E4-195CBDF5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5001-97C2-45CD-9B5F-6D3B3A90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D5F6-D95F-4A6B-865E-ED53A0B2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5795-A6BD-4319-B44E-13B4FB4B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02E6-62FE-4343-BDFD-49DE06C1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BE8C-379E-4DC7-9374-089E92F5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584A-53B8-4C77-8293-C257D96D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6D5F-DF21-4D73-BB5F-FD1F342A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65E1-9CA9-42CC-AAEB-0F7D08D0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B79-7CFE-4075-AB88-B7F6D160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0DB2-2BEC-47FE-A94F-1BB7D005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DF6A-166A-4270-88FB-2F0938AC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B6C7-5338-49BD-A1A9-C46DD12F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358E-F33C-42C9-8283-6A787465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5182-9D8C-4288-8355-01BD8F20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D7BE-1089-4D37-9695-04F88AA62E1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4B2E-98BB-4B9B-ACD0-5AA792DA95A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imes New Roman"/>
              </a:rPr>
              <a:t>EI1B2 Introducción a la Ingeniería I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imes New Roman"/>
              </a:rPr>
              <a:t>Jorge Castill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-2286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43000" y="838080"/>
            <a:ext cx="6121440" cy="2683440"/>
            <a:chOff x="1143000" y="838080"/>
            <a:chExt cx="6121440" cy="2683440"/>
          </a:xfrm>
        </p:grpSpPr>
        <p:sp>
          <p:nvSpPr>
            <p:cNvPr id="217" name=""/>
            <p:cNvSpPr/>
            <p:nvPr/>
          </p:nvSpPr>
          <p:spPr>
            <a:xfrm>
              <a:off x="4887720" y="838080"/>
              <a:ext cx="2376720" cy="1323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Producto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(Diseño)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43000" y="1758960"/>
              <a:ext cx="2376360" cy="642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Análisis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87720" y="2198520"/>
              <a:ext cx="2374920" cy="1323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Mejora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(re-diseño)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399800">
              <a:off x="3808080" y="2350440"/>
              <a:ext cx="863280" cy="433440"/>
            </a:xfrm>
            <a:prstGeom prst="rightArrow">
              <a:avLst>
                <a:gd name="adj1" fmla="val 56046"/>
                <a:gd name="adj2" fmla="val 72429"/>
              </a:avLst>
            </a:pr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8614800">
              <a:off x="3734640" y="1271520"/>
              <a:ext cx="863640" cy="433440"/>
            </a:xfrm>
            <a:prstGeom prst="rightArrow">
              <a:avLst>
                <a:gd name="adj1" fmla="val 56046"/>
                <a:gd name="adj2" fmla="val 72459"/>
              </a:avLst>
            </a:pr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14200" y="4724280"/>
            <a:ext cx="89298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40458c"/>
                </a:solidFill>
                <a:latin typeface="Times New Roman"/>
              </a:rPr>
              <a:t>"La Reingeniería es el replanteamiento fundamental y el rediseño radical de los procesos del negocio para lograr mejoras dramáticas dentro de medidas críticas y contemporáneas de desempeño, tales como costo, calidad, servicio y rapidez". (Hammer 1994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65760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¿Es lo mismo que Re-ingeniería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3657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NO!!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4920" y="6391440"/>
            <a:ext cx="407880" cy="475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653400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260280"/>
            <a:ext cx="2016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920" y="9079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uncional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56000" y="90792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Para qué sirve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90792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ción de Funcionamien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1066680"/>
            <a:ext cx="576000" cy="289080"/>
          </a:xfrm>
          <a:prstGeom prst="rightArrow">
            <a:avLst>
              <a:gd name="adj1" fmla="val 56046"/>
              <a:gd name="adj2" fmla="val 72459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9810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structiv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84360" y="191628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De qué (o cómo) está hecho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51640" y="20588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ección (Destructiva o no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213372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429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suario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35772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Quiénes lo usan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08720" y="33764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cuesta de opin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350532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44956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Ético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40000" y="441792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Para qué fue diseñado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80000" y="4427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nálisis de impacto (Ambiental - Social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4648320"/>
            <a:ext cx="576000" cy="288720"/>
          </a:xfrm>
          <a:prstGeom prst="rightArrow">
            <a:avLst>
              <a:gd name="adj1" fmla="val 56046"/>
              <a:gd name="adj2" fmla="val 72550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1840" y="260280"/>
            <a:ext cx="144144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88000" y="260280"/>
            <a:ext cx="1511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s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54864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Económico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05080" y="54975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studio de Cos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43640" y="54864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nálisis de Merc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05520" y="5562720"/>
            <a:ext cx="576000" cy="288720"/>
          </a:xfrm>
          <a:prstGeom prst="rightArrow">
            <a:avLst>
              <a:gd name="adj1" fmla="val 56046"/>
              <a:gd name="adj2" fmla="val 72550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051000" cy="873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50920" y="1943280"/>
            <a:ext cx="819936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3804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307360" cy="38973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royecto 1: Ingeniería Rever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05900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139680"/>
            <a:ext cx="91440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Elección del Produc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-36360" y="1125360"/>
            <a:ext cx="9648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8-02T15:42:03Z</dcterms:modified>
  <cp:revision>293</cp:revision>
  <dc:subject/>
  <dc:title>Reactor Agitado</dc:title>
</cp:coreProperties>
</file>