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E56-EFE9-4789-B643-DA286214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D23-7ED6-4021-980D-723B113B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778-0CE1-44D9-BD82-542625AE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03A-5A80-4E0D-8577-7BBBE565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DFFC-5676-4EFE-9363-63A15A7D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2658-70A3-45D3-B9CC-90558352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C38C-F20E-499E-8FC3-7D97C6EA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280-FA60-4159-86A7-A8E8ADB0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3EC9-3C54-41EE-A140-CF429E31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FF78-21D8-4560-8D97-5CCADDA2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6B87-A53C-4CFA-8401-04A88524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9E8-5678-4367-9A6B-0C7DC01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F6AA-F9DA-4B12-BE7A-3AE849E2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2359-0299-4BA3-9390-7B4995C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4441-8050-498E-AA18-CC5A2C27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AF7F-2E07-4B0C-AA7C-FFF5302D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D641-4D12-433D-96F9-24272B19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041-89FD-4548-809C-210FC033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820-1755-449C-93AF-13F0D2E8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FFB-F6E3-4D0B-9166-BEBA3BB5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749-072A-4C41-A181-4998C978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5A8-7731-44AA-84B9-C1C676C8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4B8-69D9-41C6-8251-3F4ED88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BD2-6493-4AC5-87F7-122EEE8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6489-A8BB-427B-B530-749DB34344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4679-228A-4A77-AD17-A38F9AB03D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Jorge Castillo Guzmá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659448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131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6066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680" y="1143000"/>
            <a:ext cx="79682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l curso, ¿Que es la Ingeniería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finición Proyecto 1, Artefacto Misterios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 , El Rol social de la Ingeniería, H. Galleg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Trabajo en Equipo, Pla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 Proceso de Dise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ica II, La división del Trabajo, Lucro, Adam 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tapas del Proyecto de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Introducción a la Ingeniería I,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91360" y="2743200"/>
            <a:ext cx="726264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Análisis Proyecto 1, Planteamiento Proyecto 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Escri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tica III, la ética en la ingenierí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Expresión Or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2240a"/>
                </a:solidFill>
                <a:latin typeface="Tahoma"/>
              </a:rPr>
              <a:t>Proyecto II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2240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6840" y="914400"/>
            <a:ext cx="74667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esentación de Datos  (Presentaciones Ora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royecto 1, Present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960560"/>
            <a:ext cx="3257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s-ES" sz="4400" spc="-1" strike="noStrike">
                <a:solidFill>
                  <a:srgbClr val="40458c"/>
                </a:solidFill>
                <a:latin typeface="Times New Roman"/>
              </a:rPr>
              <a:t>perar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imes New Roman"/>
              </a:rPr>
              <a:t>(Administrar las operacione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7680" y="2286000"/>
            <a:ext cx="84240" cy="2057400"/>
          </a:xfrm>
          <a:custGeom>
            <a:avLst/>
            <a:gdLst>
              <a:gd name="textAreaLeft" fmla="*/ 0 w 84240"/>
              <a:gd name="textAreaRight" fmla="*/ 30240 w 842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60120" y="289548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1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220968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9960" y="328464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royecto 2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676520"/>
            <a:ext cx="3025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oncebi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iseñ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mplement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40458c"/>
                </a:solidFill>
                <a:latin typeface="Times New Roman"/>
              </a:rPr>
              <a:t>pera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1120" y="1905120"/>
            <a:ext cx="28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Para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70400" y="2819520"/>
            <a:ext cx="229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óm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9000" y="3505320"/>
            <a:ext cx="52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on qué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En qué condiciones?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9680" y="4648320"/>
            <a:ext cx="26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¿Cuándo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73392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7160" y="30492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Caso de estudio evaluado Semestre anteri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3080" y="5867280"/>
            <a:ext cx="81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Bajas Notas : Falta de Coherencia, no es un discur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848720" cy="506556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5000" y="1371600"/>
            <a:ext cx="796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1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Ingeniería Reversa (capítulo 4),  3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Elegir Product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Analizarlo (Funcionamiento, construcción, etc.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poner mejor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1320" y="3962520"/>
            <a:ext cx="69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Proyecto 2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C-DIO de un Proceso 10 semanas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3 grupos en cada etapa de en un proces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0920" y="571500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mbos proyectos con el mismo grupo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0240" y="13716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Evaluació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9520" y="1905120"/>
            <a:ext cx="39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20% Nota de clas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0240" y="2514600"/>
            <a:ext cx="48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80% Nota de Proyecto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4480" y="32004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5% Proyecto 1: Informe-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4120" y="3733920"/>
            <a:ext cx="67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680" y="4724280"/>
            <a:ext cx="37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uto-evaluacion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7-26T17:04:15Z</dcterms:modified>
  <cp:revision>316</cp:revision>
  <dc:subject/>
  <dc:title>Reactor Agitado</dc:title>
</cp:coreProperties>
</file>