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78D-857A-49A2-A525-930AA210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626-3305-42FF-BB8C-B37E5A17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CB9-FBC9-4576-BC80-863EED64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7FF-CC06-4D85-9497-216EC63F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469-50C7-484B-B6A7-FDF8DBD4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E23-9C2E-495E-B23E-721EA01E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74C-D458-42CA-B411-89A84719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E90-1F8B-488B-91EB-A921A756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48D-E216-4F81-B777-CECA40F9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8ACC-1265-45EC-86D5-7FF4EBA1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C12-E3B0-4FAF-9F4A-50919A4F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45F-B7B3-4DB1-996F-AAE29581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4362-5C01-4D2D-BE67-3E463CE14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836640"/>
            <a:ext cx="23767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1757520"/>
            <a:ext cx="23763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2197080"/>
            <a:ext cx="23749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-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399800">
            <a:off x="5221080" y="2349000"/>
            <a:ext cx="863280" cy="433440"/>
          </a:xfrm>
          <a:prstGeom prst="rightArrow">
            <a:avLst>
              <a:gd name="adj1" fmla="val 56046"/>
              <a:gd name="adj2" fmla="val 7242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8614800">
            <a:off x="5147640" y="1270080"/>
            <a:ext cx="863640" cy="43344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61340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8606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¿Es lo mismo que Re-ingenierí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4200" y="386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2016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907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n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90792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si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90792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mulación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119556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22748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1916280"/>
            <a:ext cx="237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De qué (o cómo) está hec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20588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isección (Destructiva o 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3479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35924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ua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2920" y="335772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Quiénes lo us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33764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cuesta de opin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36655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4633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Ét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4179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fue diseñ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4427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impacto (Ambiental - 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470700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1840" y="260280"/>
            <a:ext cx="144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260280"/>
            <a:ext cx="151128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35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Económ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05080" y="54975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udi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45080" y="5506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578628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30T22:54:46Z</dcterms:modified>
  <cp:revision>24</cp:revision>
  <dc:subject/>
  <dc:title>EL63A-Taller de Proyecto en Control II</dc:title>
</cp:coreProperties>
</file>