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043-7D3E-461F-BA38-AE7449FF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4CD-3B18-42F6-B98B-5CB25F43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47D-0C48-4938-ABD7-0263B4E8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287-26F8-4032-8F80-925B7388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E34-B3A2-4004-949C-5DEF305A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B35-B89B-46A2-9A1A-182BEFB8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DA3-39C3-459B-BBE8-E7BA772A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3F5-81CF-4FBF-9799-758E4513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E50-E283-4C2C-BDBC-A75D7820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B9E-353E-41D3-858E-447984BC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57F-D3AE-4D10-9D97-BE532730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969-E4AB-4216-B7A4-F8D84E22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7F3B-F7B0-4A0B-B6E4-DC3139BF7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836640"/>
            <a:ext cx="23767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1757520"/>
            <a:ext cx="23763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2197080"/>
            <a:ext cx="23749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-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399800">
            <a:off x="5221080" y="2349000"/>
            <a:ext cx="863280" cy="433440"/>
          </a:xfrm>
          <a:prstGeom prst="rightArrow">
            <a:avLst>
              <a:gd name="adj1" fmla="val 56046"/>
              <a:gd name="adj2" fmla="val 7242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8614800">
            <a:off x="5147640" y="1270080"/>
            <a:ext cx="863640" cy="43344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61340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8606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¿Es lo mismo que Re-ingenierí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4200" y="386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2016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907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n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90792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si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90792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mulación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119556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22748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1916280"/>
            <a:ext cx="237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De qué (o cómo) está hec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20588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isección (Destructiva o 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3479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35924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ua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2920" y="335772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Quiénes lo us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33764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cuesta de opin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36655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4633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Ét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4179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fue diseñ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4427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impacto (Ambiental - 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470700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1840" y="260280"/>
            <a:ext cx="144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260280"/>
            <a:ext cx="151128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35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Económ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05080" y="54975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udi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45080" y="5506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578628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30T22:54:46Z</dcterms:modified>
  <cp:revision>24</cp:revision>
  <dc:subject/>
  <dc:title>EL63A-Taller de Proyecto en Control II</dc:title>
</cp:coreProperties>
</file>