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5BC-B125-4584-91E3-C89608C9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0C4-DD26-4E9C-82B0-6392FCD9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743-D3B8-422D-BB73-8B3CA0AA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7A6-5BB6-4A15-BAEE-19BD9B2E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139-3F33-48C4-9708-8C217E2C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088-E033-4919-ADE5-F1354402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E1C-40A8-46FC-AB02-D58E049A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304-9814-44E4-A96A-0BF18ABF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A35-A46D-4EAA-BF27-6B4CCD2D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ADB-01AE-4FEF-BA1C-D30CE9B4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427-C674-445C-BF0E-644A5903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C49-2F80-4097-A271-118BAC43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B10-B5E0-494E-9BE6-BC2A18BAA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5600" y="290988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Pu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480" y="83664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so de estudio evaluado Semestre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41040" y="58770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ajas Notas : Falta de Co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0084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040" y="1268280"/>
            <a:ext cx="87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Reversa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legi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poner 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480" y="3716280"/>
            <a:ext cx="785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38200" y="55738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9400" y="350028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8680" y="515772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3T18:03:52Z</dcterms:modified>
  <cp:revision>20</cp:revision>
  <dc:subject/>
  <dc:title>EL63A-Taller de Proyecto en Control II</dc:title>
</cp:coreProperties>
</file>