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991B-3D28-4F91-9ED6-40B8F483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874-DACC-4D80-A48A-EDE8F696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4FAB-E751-4E8D-A601-9FAB3D9F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917E-DF11-47F5-A64B-8A36E43A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87C3-706C-467D-AA79-D7FD907C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DB01-C65E-421D-A1B3-DF827265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1542-E370-4136-9546-07BCFF6A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602A-B4F8-4067-B653-E047D1C5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DD78-1ABA-46A2-9B67-3DCE9C95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02BA-918E-4546-80AC-45F11300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6482-F44D-4C05-ACC2-CE23CCE3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BEC6-6BE6-4B91-B4A2-AB90A5BF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46E9-1D17-4310-B23F-6FF8EF179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960560"/>
            <a:ext cx="3024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2492280"/>
            <a:ext cx="142920" cy="1368360"/>
          </a:xfrm>
          <a:custGeom>
            <a:avLst/>
            <a:gdLst>
              <a:gd name="textAreaLeft" fmla="*/ 0 w 142920"/>
              <a:gd name="textAreaRight" fmla="*/ 514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95600" y="290988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Pue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2492280"/>
            <a:ext cx="217440" cy="2087640"/>
          </a:xfrm>
          <a:custGeom>
            <a:avLst/>
            <a:gdLst>
              <a:gd name="textAreaLeft" fmla="*/ 0 w 217440"/>
              <a:gd name="textAreaRight" fmla="*/ 78480 w 2174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4880" y="328464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Brazo H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981000"/>
            <a:ext cx="302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27280" y="13413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Para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28000" y="226224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0160" y="2987640"/>
            <a:ext cx="44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on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En qué condicion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29080" y="4149720"/>
            <a:ext cx="23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uá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-171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6480" y="836640"/>
            <a:ext cx="78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aso de estudio evaluado Semestre anteri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41040" y="5877000"/>
            <a:ext cx="59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Bajas Notas : Falta de Coh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900840" cy="44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040" y="1268280"/>
            <a:ext cx="878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ngeniería Reversa  3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legir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nalizarlo (Funcionamiento, construcción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poner mej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8480" y="3716280"/>
            <a:ext cx="785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-DIO de un Proceso 10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3 grupos en cada etapa de en un pro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38200" y="5573880"/>
            <a:ext cx="66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mbos proyectos con el mismo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0440" y="1268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2680" y="2133720"/>
            <a:ext cx="34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0% Nota de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9040" y="2781360"/>
            <a:ext cx="42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80% Nota de Proy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9400" y="3500280"/>
            <a:ext cx="66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5% Proyecto 1: Informe-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13000" y="3989520"/>
            <a:ext cx="731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75% Proyecto 2: Ingeniería -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8680" y="5157720"/>
            <a:ext cx="33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uto-eval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7-23T18:03:52Z</dcterms:modified>
  <cp:revision>20</cp:revision>
  <dc:subject/>
  <dc:title>EL63A-Taller de Proyecto en Control II</dc:title>
</cp:coreProperties>
</file>