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341-31CA-4BD1-A062-C8E21288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5F6-A03F-4708-9A27-57636DC6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702-BFD1-4ADA-AF34-E35DA2BC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11B-F656-4AAD-958F-C1D14321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FA4-49F4-40DA-852E-EB87EBAC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97E-5D46-4E32-9779-7A8DF0C4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EF5-DFAD-43A6-9618-82B9839A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8F2-9AC1-4D33-B5C6-C94AD11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1E8-DAF3-4ACA-B3BB-41EB7D2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2A2-5672-4102-A0A0-D974BE7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81D-C361-48DB-920A-1DE9A53E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244-E118-4C9A-833A-1C18296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087A-F577-49EB-AD6D-33B2E6D7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5600" y="290988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Pu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480" y="83664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so de estudio evaluado Semestre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1040" y="58770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ajas Notas : Falta de Co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0084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040" y="1268280"/>
            <a:ext cx="87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Reversa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legi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poner 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480" y="3716280"/>
            <a:ext cx="785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8200" y="55738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9400" y="35002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8680" y="515772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3T18:03:52Z</dcterms:modified>
  <cp:revision>20</cp:revision>
  <dc:subject/>
  <dc:title>EL63A-Taller de Proyecto en Control II</dc:title>
</cp:coreProperties>
</file>