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2766-BD82-43E4-8117-A2AC7807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7851-C9D2-4E65-8866-59940AFF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1798-8432-409F-8658-C983C626D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AA98-1C45-422E-B050-816AA92F4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7903-B427-4691-A934-C6FD04EF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E8A4-EFB6-4DAD-B55C-EB07ECED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13CD-7552-4EFC-AECA-90269B0F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D4C0-D996-4FDE-9348-B5FCAFA6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22BC-982C-4FA2-8C7B-8253F9DE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B4A3-DC0D-4991-8651-068A4641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E49A-5A80-4E2A-B1E8-4D1D9F0F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A8A4-EC19-49A0-8167-326E1BC1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13D4-4BF5-495A-A090-4E072089B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B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5600" y="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 Rever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00720" y="836640"/>
            <a:ext cx="2376720" cy="1169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Diseñ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6000" y="1757520"/>
            <a:ext cx="237636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00720" y="2197080"/>
            <a:ext cx="2374920" cy="1169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j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re-diseñ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399800">
            <a:off x="5221080" y="2349000"/>
            <a:ext cx="863280" cy="433440"/>
          </a:xfrm>
          <a:prstGeom prst="rightArrow">
            <a:avLst>
              <a:gd name="adj1" fmla="val 56046"/>
              <a:gd name="adj2" fmla="val 7242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8614800">
            <a:off x="5147640" y="1270080"/>
            <a:ext cx="863640" cy="433440"/>
          </a:xfrm>
          <a:prstGeom prst="rightArrow">
            <a:avLst>
              <a:gd name="adj1" fmla="val 56046"/>
              <a:gd name="adj2" fmla="val 724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4613400"/>
            <a:ext cx="892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"La Reingeniería es el replanteamiento fundamental y el rediseño radical de los procesos del negocio para lograr mejoras dramáticas dentro de medidas críticas y contemporáneas de desempeño, tales como costo, calidad, servicio y rapidez". (Hammer 19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386064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¿Es lo mismo que Re-ingenierí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4200" y="38606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6391440"/>
            <a:ext cx="407880" cy="47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653400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260280"/>
            <a:ext cx="201600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920" y="9079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uncion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907920"/>
            <a:ext cx="20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¿Para qué sir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0360" y="907920"/>
            <a:ext cx="29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imulación de Funcio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76720" y="1195560"/>
            <a:ext cx="576360" cy="288720"/>
          </a:xfrm>
          <a:prstGeom prst="rightArrow">
            <a:avLst>
              <a:gd name="adj1" fmla="val 56046"/>
              <a:gd name="adj2" fmla="val 7259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22748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nstructi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84360" y="1916280"/>
            <a:ext cx="2374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¿De qué (o cómo) está hech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651640" y="20588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isección (Destructiva o 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720" y="2347920"/>
            <a:ext cx="576360" cy="289080"/>
          </a:xfrm>
          <a:prstGeom prst="rightArrow">
            <a:avLst>
              <a:gd name="adj1" fmla="val 56046"/>
              <a:gd name="adj2" fmla="val 7250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0" y="359244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suar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82920" y="3357720"/>
            <a:ext cx="20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¿Quiénes lo us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08720" y="33764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ncuesta de opin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76720" y="3665520"/>
            <a:ext cx="576360" cy="289080"/>
          </a:xfrm>
          <a:prstGeom prst="rightArrow">
            <a:avLst>
              <a:gd name="adj1" fmla="val 56046"/>
              <a:gd name="adj2" fmla="val 7250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920" y="46339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Ét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40000" y="441792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¿Para qué fue diseña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80000" y="4427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álisis de impacto (Ambiental - Soci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76720" y="4707000"/>
            <a:ext cx="576360" cy="288720"/>
          </a:xfrm>
          <a:prstGeom prst="rightArrow">
            <a:avLst>
              <a:gd name="adj1" fmla="val 56046"/>
              <a:gd name="adj2" fmla="val 7259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01840" y="260280"/>
            <a:ext cx="144144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588000" y="260280"/>
            <a:ext cx="151128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356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Económ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05080" y="549756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studio de Co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45080" y="550692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álisis de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41800" y="5786280"/>
            <a:ext cx="576360" cy="289080"/>
          </a:xfrm>
          <a:prstGeom prst="rightArrow">
            <a:avLst>
              <a:gd name="adj1" fmla="val 56046"/>
              <a:gd name="adj2" fmla="val 7250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3051000" cy="873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50920" y="1943280"/>
            <a:ext cx="819936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83804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307360" cy="3897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yecto 1: Ingeniería Rever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8496000" cy="405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139680"/>
            <a:ext cx="914400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lección del Produ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-36360" y="1125360"/>
            <a:ext cx="96487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7-30T22:54:46Z</dcterms:modified>
  <cp:revision>24</cp:revision>
  <dc:subject/>
  <dc:title>EL63A-Taller de Proyecto en Control II</dc:title>
</cp:coreProperties>
</file>