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40F-46F8-4654-96E8-C946315F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3E6-CF87-4A91-887C-259E534F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67B-569D-47D2-9394-5B077891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420-523E-4468-A0BB-C2EE464D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EE2-E4A8-4E96-9113-557AD37E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9AE-AF64-410D-A396-BBB7AE93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02D-11B4-4AC5-8B29-54329EAD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ACE-286B-49A1-944A-6F9BF69F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830-B72A-4883-BC5B-CE759A5A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0D9-19D2-4554-9345-E3A7DFE6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126-D63A-4C7C-B252-384185CB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B86-1F60-4AEC-BC0E-8B874128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35BF-B46B-48F6-B56E-19B7E923B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836640"/>
            <a:ext cx="23767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1757520"/>
            <a:ext cx="23763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2197080"/>
            <a:ext cx="23749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-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399800">
            <a:off x="5221080" y="2349000"/>
            <a:ext cx="863280" cy="433440"/>
          </a:xfrm>
          <a:prstGeom prst="rightArrow">
            <a:avLst>
              <a:gd name="adj1" fmla="val 56046"/>
              <a:gd name="adj2" fmla="val 7242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8614800">
            <a:off x="5147640" y="1270080"/>
            <a:ext cx="863640" cy="43344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61340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8606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¿Es lo mismo que Re-ingenierí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4200" y="386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2016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907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n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90792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si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90792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mulación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119556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22748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1916280"/>
            <a:ext cx="237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De qué (o cómo) está hec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20588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isección (Destructiva o 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3479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35924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ua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2920" y="335772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Quiénes lo us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33764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cuesta de opin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36655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4633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Ét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4179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fue diseñ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4427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impacto (Ambiental - 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470700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1840" y="260280"/>
            <a:ext cx="144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260280"/>
            <a:ext cx="151128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35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Económ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05080" y="54975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udi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45080" y="5506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578628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30T22:54:46Z</dcterms:modified>
  <cp:revision>24</cp:revision>
  <dc:subject/>
  <dc:title>EL63A-Taller de Proyecto en Control II</dc:title>
</cp:coreProperties>
</file>