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3485-2C8F-4A33-A92E-06155750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07CF-A79C-4C2E-83C8-0F4B6C79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BC39-EBF2-418A-9422-67916144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5482-8D78-4952-9036-145F0FCE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F8C7-2D2B-408C-8B63-52FB0367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CE75-CC28-4FC3-B6F2-409BBDF7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C61B-EAFE-4D7E-A7BF-C4D1B184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E99C-2930-461A-9301-B14D3E92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2706-1A52-470B-9214-18BF4A82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959E-5F21-435A-9748-11292755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C0BA-7CA4-4E88-897C-450795A6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8930-DD67-4DCB-BB1E-558706A1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5177-FF5B-4C7C-A0D6-75CEDC990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5600" y="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00720" y="836640"/>
            <a:ext cx="2376720" cy="1169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ñ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1757520"/>
            <a:ext cx="237636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00720" y="2197080"/>
            <a:ext cx="2374920" cy="1169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j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re-diseñ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399800">
            <a:off x="5221080" y="2349000"/>
            <a:ext cx="863280" cy="433440"/>
          </a:xfrm>
          <a:prstGeom prst="rightArrow">
            <a:avLst>
              <a:gd name="adj1" fmla="val 56046"/>
              <a:gd name="adj2" fmla="val 7242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8614800">
            <a:off x="5147640" y="1270080"/>
            <a:ext cx="863640" cy="433440"/>
          </a:xfrm>
          <a:prstGeom prst="rightArrow">
            <a:avLst>
              <a:gd name="adj1" fmla="val 56046"/>
              <a:gd name="adj2" fmla="val 724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4613400"/>
            <a:ext cx="892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"La Reingeniería es el replanteamiento fundamental y el rediseño radical de los procesos del negocio para lograr mejoras dramáticas dentro de medidas críticas y contemporáneas de desempeño, tales como costo, calidad, servicio y rapidez". (Hammer 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86064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¿Es lo mismo que Re-ingenierí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4200" y="3860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91440"/>
            <a:ext cx="407880" cy="47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653400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260280"/>
            <a:ext cx="20160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920" y="90792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uncion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907920"/>
            <a:ext cx="20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Para qué sir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907920"/>
            <a:ext cx="29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imulación de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76720" y="119556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22748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nstructi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84360" y="1916280"/>
            <a:ext cx="2374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De qué (o cómo) está hec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651640" y="20588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isección (Destructiva o 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76720" y="2347920"/>
            <a:ext cx="576360" cy="289080"/>
          </a:xfrm>
          <a:prstGeom prst="rightArrow">
            <a:avLst>
              <a:gd name="adj1" fmla="val 56046"/>
              <a:gd name="adj2" fmla="val 7250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359244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uar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82920" y="3357720"/>
            <a:ext cx="20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Quiénes lo us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33764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ncuesta de opin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76720" y="3665520"/>
            <a:ext cx="576360" cy="289080"/>
          </a:xfrm>
          <a:prstGeom prst="rightArrow">
            <a:avLst>
              <a:gd name="adj1" fmla="val 56046"/>
              <a:gd name="adj2" fmla="val 7250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0" y="46339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Ét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441792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¿Para qué fue diseña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80000" y="442764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álisis de impacto (Ambiental - Soc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76720" y="470700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01840" y="260280"/>
            <a:ext cx="144144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588000" y="260280"/>
            <a:ext cx="151128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356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Económ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05080" y="549756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studio de Co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45080" y="55069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álisis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41800" y="5786280"/>
            <a:ext cx="576360" cy="289080"/>
          </a:xfrm>
          <a:prstGeom prst="rightArrow">
            <a:avLst>
              <a:gd name="adj1" fmla="val 56046"/>
              <a:gd name="adj2" fmla="val 7250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051000" cy="87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50920" y="1943280"/>
            <a:ext cx="819936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3804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307360" cy="3897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yecto 1: Ingeniería Re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496000" cy="405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139680"/>
            <a:ext cx="914400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ección del 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36360" y="1125360"/>
            <a:ext cx="96487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7-30T22:54:46Z</dcterms:modified>
  <cp:revision>24</cp:revision>
  <dc:subject/>
  <dc:title>EL63A-Taller de Proyecto en Control II</dc:title>
</cp:coreProperties>
</file>