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F46BE-BC04-4F67-A0C2-93793008C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CE45C-3D3E-4D18-B593-007DDE3F8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2ABB9-19D2-4182-9631-53D31193F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E4FFF-A9C3-4F0B-BD05-47CB9C8B8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E7696-7AA0-4A44-A118-7993FC645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47B06-BE8D-4605-A4F8-87D184107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ED3E1-AC62-42D5-9876-C54F55911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4DB92-62CA-43EB-9EC7-A2D2548B2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F1365-12A9-4E9F-AC26-7D8A71797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BAB8F-CBBA-4603-BFB0-DEA5210D5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366AF-62D2-4515-82DA-0402BE014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F24D9-66F8-4F7E-A6CC-5EA3862DF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75EB9-351A-4E4A-A996-034C151F4F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989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I1B2 Introducción a la Ingeniería 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634920" y="5516280"/>
            <a:ext cx="4568760" cy="62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éctor Agusto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808080"/>
                </a:solidFill>
                <a:latin typeface="Arial"/>
              </a:rPr>
              <a:t>Escuela de  Ingeniería - fcfm - Universidad de Chile                                         EI1B2- Introducción a la Ingeniería 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5600" y="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ngeniería Revers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808080"/>
                </a:solidFill>
                <a:latin typeface="Arial"/>
              </a:rPr>
              <a:t>Escuela de  Ingeniería - fcfm - Universidad de Chile                                         EI1B2- Introducción a la Ingeniería 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300720" y="836640"/>
            <a:ext cx="2376720" cy="11692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duc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Diseñ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556000" y="1757520"/>
            <a:ext cx="2376360" cy="5205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áli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300720" y="2197080"/>
            <a:ext cx="2374920" cy="11692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jo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re-diseñ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rot="1399800">
            <a:off x="5221080" y="2349000"/>
            <a:ext cx="863280" cy="433440"/>
          </a:xfrm>
          <a:prstGeom prst="rightArrow">
            <a:avLst>
              <a:gd name="adj1" fmla="val 56046"/>
              <a:gd name="adj2" fmla="val 72429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rot="8614800">
            <a:off x="5147640" y="1270080"/>
            <a:ext cx="863640" cy="433440"/>
          </a:xfrm>
          <a:prstGeom prst="rightArrow">
            <a:avLst>
              <a:gd name="adj1" fmla="val 56046"/>
              <a:gd name="adj2" fmla="val 72459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9280" y="4613400"/>
            <a:ext cx="8929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"La Reingeniería es el replanteamiento fundamental y el rediseño radical de los procesos del negocio para lograr mejoras dramáticas dentro de medidas críticas y contemporáneas de desempeño, tales como costo, calidad, servicio y rapidez". (Hammer 199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50920" y="3860640"/>
            <a:ext cx="568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¿Es lo mismo que Re-ingenierí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794200" y="3860640"/>
            <a:ext cx="10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34920" y="6391440"/>
            <a:ext cx="407880" cy="4759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95280" y="653400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808080"/>
                </a:solidFill>
                <a:latin typeface="Arial"/>
              </a:rPr>
              <a:t>Escuela de  Ingeniería - fcfm - Universidad de Chile                                         EI1B2- Introducción a la Ingeniería 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0920" y="260280"/>
            <a:ext cx="2016000" cy="5205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áli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920" y="907920"/>
            <a:ext cx="20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Funciona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556000" y="907920"/>
            <a:ext cx="201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¿Para qué sirv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940360" y="907920"/>
            <a:ext cx="2987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imulación de Funcionami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076720" y="1195560"/>
            <a:ext cx="576360" cy="288720"/>
          </a:xfrm>
          <a:prstGeom prst="rightArrow">
            <a:avLst>
              <a:gd name="adj1" fmla="val 56046"/>
              <a:gd name="adj2" fmla="val 72595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20" y="227484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Constructiv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84360" y="1916280"/>
            <a:ext cx="2374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¿De qué (o cómo) está hech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651640" y="2058840"/>
            <a:ext cx="360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Disección (Destructiva o n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076720" y="2347920"/>
            <a:ext cx="576360" cy="289080"/>
          </a:xfrm>
          <a:prstGeom prst="rightArrow">
            <a:avLst>
              <a:gd name="adj1" fmla="val 56046"/>
              <a:gd name="adj2" fmla="val 72505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0" y="3592440"/>
            <a:ext cx="244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Usuari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482920" y="3357720"/>
            <a:ext cx="208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¿Quiénes lo usa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508720" y="3376440"/>
            <a:ext cx="360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Encuesta de opin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076720" y="3665520"/>
            <a:ext cx="576360" cy="289080"/>
          </a:xfrm>
          <a:prstGeom prst="rightArrow">
            <a:avLst>
              <a:gd name="adj1" fmla="val 56046"/>
              <a:gd name="adj2" fmla="val 72505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920" y="463392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Étic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340000" y="4417920"/>
            <a:ext cx="2592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¿Para qué fue diseñad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580000" y="4427640"/>
            <a:ext cx="360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Análisis de impacto (Ambiental - Soci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076720" y="4707000"/>
            <a:ext cx="576360" cy="288720"/>
          </a:xfrm>
          <a:prstGeom prst="rightArrow">
            <a:avLst>
              <a:gd name="adj1" fmla="val 56046"/>
              <a:gd name="adj2" fmla="val 72595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201840" y="260280"/>
            <a:ext cx="1441440" cy="5205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s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588000" y="260280"/>
            <a:ext cx="1511280" cy="5205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as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0" y="5713560"/>
            <a:ext cx="21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Arial"/>
              </a:rPr>
              <a:t>Económc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305080" y="5497560"/>
            <a:ext cx="2592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Estudio de Cos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45080" y="5506920"/>
            <a:ext cx="360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Análisis de Merc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041800" y="5786280"/>
            <a:ext cx="576360" cy="289080"/>
          </a:xfrm>
          <a:prstGeom prst="rightArrow">
            <a:avLst>
              <a:gd name="adj1" fmla="val 56046"/>
              <a:gd name="adj2" fmla="val 72505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896472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ngeniería Reversa: Análisis Ejempl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808080"/>
                </a:solidFill>
                <a:latin typeface="Arial"/>
              </a:rPr>
              <a:t>Escuela de  Ingeniería - fcfm - Universidad de Chile                                         EI1B2- Introducción a la Ingeniería 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257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250920" y="1052640"/>
            <a:ext cx="3051000" cy="8730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250920" y="1943280"/>
            <a:ext cx="8199360" cy="43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43920"/>
            <a:ext cx="896472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ngeniería Reversa: Análisis Ejempl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808080"/>
                </a:solidFill>
                <a:latin typeface="Arial"/>
              </a:rPr>
              <a:t>Escuela de  Ingeniería - fcfm - Universidad de Chile                                         EI1B2- Introducción a la Ingeniería 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257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395280" y="1268280"/>
            <a:ext cx="8380440" cy="51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808080"/>
                </a:solidFill>
                <a:latin typeface="Arial"/>
              </a:rPr>
              <a:t>Escuela de  Ingeniería - fcfm - Universidad de Chile                                         EI1B2- Introducción a la Ingeniería 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0" y="257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324000" y="1628640"/>
            <a:ext cx="8307360" cy="389736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43920"/>
            <a:ext cx="896472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ngeniería Reversa: Análisis Ejempl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yecto 1: Ingeniería Revers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808080"/>
                </a:solidFill>
                <a:latin typeface="Arial"/>
              </a:rPr>
              <a:t>Escuela de  Ingeniería - fcfm - Universidad de Chile                                         EI1B2- Introducción a la Ingeniería 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257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324000" y="1413000"/>
            <a:ext cx="8496000" cy="4059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808080"/>
                </a:solidFill>
                <a:latin typeface="Arial"/>
              </a:rPr>
              <a:t>Escuela de  Ingeniería - fcfm - Universidad de Chile                                         EI1B2- Introducción a la Ingeniería 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257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0" y="139680"/>
            <a:ext cx="9144000" cy="624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Elección del Produc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808080"/>
                </a:solidFill>
                <a:latin typeface="Arial"/>
              </a:rPr>
              <a:t>Escuela de  Ingeniería - fcfm - Universidad de Chile                                         EI1B2- Introducción a la Ingeniería 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257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-36360" y="1125360"/>
            <a:ext cx="9648720" cy="35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4T16:52:24Z</dcterms:created>
  <dc:creator>Héctor Agusto A.</dc:creator>
  <dc:description/>
  <dc:language>en-US</dc:language>
  <cp:lastModifiedBy>Uchile</cp:lastModifiedBy>
  <dcterms:modified xsi:type="dcterms:W3CDTF">2007-07-30T22:54:46Z</dcterms:modified>
  <cp:revision>24</cp:revision>
  <dc:subject/>
  <dc:title>EL63A-Taller de Proyecto en Control II</dc:title>
</cp:coreProperties>
</file>