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FC1D-CC23-4084-9BB0-7403E7BB2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990E-8FAF-4741-B73C-769CC8E3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59D1-F5FE-443B-BD34-D6BCBC8F2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66AC-1C98-4EAF-AD52-05FC7673A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D6C3-7472-434C-8B1C-3E395332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6442-7D23-4FD7-95E8-54DCFAFB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61AC-8188-49DC-A927-1A51B81B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36E5-454C-4CAE-9814-4919C16A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9ECC-8978-4B97-B253-5BCEE22E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0A87-CC96-4807-B438-A5AEA68D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1A6D-5E68-41E5-A641-32BD6D6A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EAE1-95D8-45D1-B3B7-F6368AE6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D234-576B-4356-A2DB-0FACC1418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B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¿Qué tiene que ser capaz de hacer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4535280" cy="2873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724360" y="4797360"/>
            <a:ext cx="291636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¿Qué tiene que ser capaz de hacer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1960560"/>
            <a:ext cx="302400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2492280"/>
            <a:ext cx="142920" cy="1368360"/>
          </a:xfrm>
          <a:custGeom>
            <a:avLst/>
            <a:gdLst>
              <a:gd name="textAreaLeft" fmla="*/ 0 w 142920"/>
              <a:gd name="textAreaRight" fmla="*/ 51480 w 1429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95600" y="2909880"/>
            <a:ext cx="199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yec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Pue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96000" y="2492280"/>
            <a:ext cx="217440" cy="2087640"/>
          </a:xfrm>
          <a:custGeom>
            <a:avLst/>
            <a:gdLst>
              <a:gd name="textAreaLeft" fmla="*/ 0 w 217440"/>
              <a:gd name="textAreaRight" fmla="*/ 78480 w 2174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14880" y="3284640"/>
            <a:ext cx="199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yect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Brazo H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flictos Ét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981000"/>
            <a:ext cx="30240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27280" y="1341360"/>
            <a:ext cx="25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Para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28000" y="226224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ó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0160" y="2987640"/>
            <a:ext cx="445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on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En qué condicion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29080" y="4149720"/>
            <a:ext cx="23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uán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-171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flictos Ét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6480" y="836640"/>
            <a:ext cx="78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aso de estudio evaluado Semestre anteri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41040" y="5877000"/>
            <a:ext cx="59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Bajas Notas : Falta de Cohe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6900840" cy="445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4040" y="1268280"/>
            <a:ext cx="8781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Ingeniería Reversa  3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legir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nalizarlo (Funcionamiento, construcción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poner mej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8480" y="3716280"/>
            <a:ext cx="785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-DIO de un Proceso 10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3 grupos en cada etapa de en un proc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38200" y="5573880"/>
            <a:ext cx="66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mbos proyectos con el mismo gru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0440" y="126828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val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2680" y="2133720"/>
            <a:ext cx="34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20% Nota de c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9040" y="2781360"/>
            <a:ext cx="423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80% Nota de Proye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09400" y="3500280"/>
            <a:ext cx="66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25% Proyecto 1: Informe-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13000" y="3989520"/>
            <a:ext cx="731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75% Proyecto 2: Ingeniería - Constr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Operación - 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8680" y="5157720"/>
            <a:ext cx="33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uto-evalu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7-23T18:03:52Z</dcterms:modified>
  <cp:revision>20</cp:revision>
  <dc:subject/>
  <dc:title>EL63A-Taller de Proyecto en Control II</dc:title>
</cp:coreProperties>
</file>