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E6C-9D82-45E0-B75D-519F19AD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AFD-AA74-40A5-8B96-C973DADE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27E-7065-49EA-B897-1804BF08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B8B-3278-4722-81B2-F0A61F39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DA9-50A3-43D6-A9F1-0D7B057D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2E7-8A1F-4EB7-AA2A-F8879A6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73D-7201-4C1C-9430-88A9A0CA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672-FADB-40DB-BDA7-3EB7B83A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CC8-68A0-4DD9-8CCD-021FE4BC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ACD-DE50-4F26-B277-EB54CA1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4CC-772E-494D-8CEF-448F8FA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9DD-A7EC-4EA4-AB52-376DE4AE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756C-AD48-4966-A06D-C2CDD6B10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5600" y="290988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Pu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6480" y="83664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aso de estudio evaluado Semestre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1040" y="5877000"/>
            <a:ext cx="59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Bajas Notas : Falta de Co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0084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040" y="1268280"/>
            <a:ext cx="8781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geniería Reversa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legi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poner 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480" y="3716280"/>
            <a:ext cx="785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38200" y="55738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9400" y="350028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8680" y="515772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ut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3T18:03:52Z</dcterms:modified>
  <cp:revision>20</cp:revision>
  <dc:subject/>
  <dc:title>EL63A-Taller de Proyecto en Control II</dc:title>
</cp:coreProperties>
</file>