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7B5-44CA-42BC-B6D0-3CF25733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7C0-B93A-436C-B966-3C95AF28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A0A-5D04-447B-AB59-F65735D9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E2F-7E9C-4DFA-BC3B-5F310898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453A-8317-4D9E-87BB-5D24AB49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01AE-E4E0-482A-9C4D-D9D26464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C7EF-2B16-432B-88C5-B38DAA0B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E687-2A86-4BC4-95F7-97B7F32D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7A8B-8EE2-4C89-8F13-76B7DB59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3D1D-2848-4B00-9D62-BD5613A1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F83B-10B5-406E-B9D6-A02DB662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3E9-0A82-49B4-ABB6-8099E7DB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0619-9022-4FA2-BBC5-7B5FFCC5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5AE3-5AFF-49EA-B365-8A9F7779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D330-6BF3-4850-AB04-3C43E703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C621-5232-4A8B-B581-ADA363DA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426E-9D18-4C0F-989C-6FBA25DC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B1A-93F1-414F-A96A-648CEF6A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7AD-2CD5-4A06-BD28-3D9200AB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AFD-8F56-40EB-BD7A-1759EDFE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2F0-64B6-441C-9371-5A580A4E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DC8-EDF8-47A2-AADA-579020B4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226B-D0F9-4180-A46F-118300F7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704-7214-4DA8-8CB9-2CF334A3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9A3F-35D4-4A8B-88EF-C3B5F13B1C2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BF4F-6CD4-46A2-BC9A-A1F756CC25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66920" y="3070080"/>
            <a:ext cx="720720" cy="719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349360"/>
            <a:ext cx="720720" cy="2159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3322800"/>
            <a:ext cx="179640" cy="17928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6920" y="3213000"/>
            <a:ext cx="1441440" cy="43200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2565360"/>
            <a:ext cx="71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2349360"/>
            <a:ext cx="2159280" cy="2159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321300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286080"/>
            <a:ext cx="215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1640" y="2565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51640" y="4005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3070080"/>
            <a:ext cx="718920" cy="719280"/>
          </a:xfrm>
          <a:prstGeom prst="ellipse">
            <a:avLst/>
          </a:prstGeom>
          <a:noFill/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3322800"/>
            <a:ext cx="146160" cy="179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26080"/>
            <a:ext cx="7207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02120" y="471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1760" y="4587840"/>
            <a:ext cx="7207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16240" y="45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870440"/>
            <a:ext cx="2087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56240" y="4870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4960" y="32860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15" idx="0"/>
          </p:cNvCxnSpPr>
          <p:nvPr/>
        </p:nvCxnSpPr>
        <p:spPr>
          <a:xfrm rot="10800000">
            <a:off x="5795280" y="2565360"/>
            <a:ext cx="1670040" cy="950760"/>
          </a:xfrm>
          <a:prstGeom prst="curvedConnector4">
            <a:avLst>
              <a:gd name="adj1" fmla="val 56899"/>
              <a:gd name="adj2" fmla="val 100189"/>
            </a:avLst>
          </a:prstGeom>
          <a:ln w="3240">
            <a:solidFill>
              <a:srgbClr val="40458c"/>
            </a:solidFill>
            <a:miter/>
          </a:ln>
        </p:spPr>
      </p:cxnSp>
      <p:cxnSp>
        <p:nvCxnSpPr>
          <p:cNvPr id="227" name=""/>
          <p:cNvCxnSpPr>
            <a:stCxn id="225" idx="1"/>
            <a:endCxn id="216" idx="0"/>
          </p:cNvCxnSpPr>
          <p:nvPr/>
        </p:nvCxnSpPr>
        <p:spPr>
          <a:xfrm flipV="1" rot="10800000">
            <a:off x="5795280" y="3515760"/>
            <a:ext cx="1670040" cy="489960"/>
          </a:xfrm>
          <a:prstGeom prst="curvedConnector2">
            <a:avLst/>
          </a:prstGeom>
          <a:ln w="3240">
            <a:solidFill>
              <a:srgbClr val="40458c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296240" y="414972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1"/>
            <a:endCxn id="213" idx="4"/>
          </p:cNvCxnSpPr>
          <p:nvPr/>
        </p:nvCxnSpPr>
        <p:spPr>
          <a:xfrm flipH="1" flipV="1" rot="5400000">
            <a:off x="4678920" y="3262320"/>
            <a:ext cx="734760" cy="1500120"/>
          </a:xfrm>
          <a:prstGeom prst="curvedConnector4">
            <a:avLst>
              <a:gd name="adj1" fmla="val 32647"/>
              <a:gd name="adj2" fmla="val 0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1544760" y="191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3 c/hil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1"/>
            <a:endCxn id="209" idx="7"/>
          </p:cNvCxnSpPr>
          <p:nvPr/>
        </p:nvCxnSpPr>
        <p:spPr>
          <a:xfrm flipH="1" rot="16200000">
            <a:off x="1490400" y="2201760"/>
            <a:ext cx="1202040" cy="1093320"/>
          </a:xfrm>
          <a:prstGeom prst="curvedConnector4">
            <a:avLst>
              <a:gd name="adj1" fmla="val 29149"/>
              <a:gd name="adj2" fmla="val 25000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2987640" y="4005360"/>
            <a:ext cx="71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3286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96240" y="17733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4" idx="1"/>
            <a:endCxn id="233" idx="6"/>
          </p:cNvCxnSpPr>
          <p:nvPr/>
        </p:nvCxnSpPr>
        <p:spPr>
          <a:xfrm flipV="1" rot="10800000">
            <a:off x="3490560" y="2002680"/>
            <a:ext cx="805680" cy="1427040"/>
          </a:xfrm>
          <a:prstGeom prst="curvedConnector3">
            <a:avLst>
              <a:gd name="adj1" fmla="val 24497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81010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ieza para acoplar el motor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6680" y="5181480"/>
            <a:ext cx="820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lanos del Proyecto en cualquier formato digit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31T17:25:17Z</dcterms:modified>
  <cp:revision>327</cp:revision>
  <dc:subject/>
  <dc:title>Reactor Agitado</dc:title>
</cp:coreProperties>
</file>