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BB9-7038-4CDE-80AA-9196B110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B08-6593-42A3-A9D9-D06C90D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454-66C2-44D1-BDBB-D3875030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BAF-6785-49E1-BBCD-1588768D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A209-4746-483E-A674-D7A5A5DF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480A-75A8-4E40-AAE5-76A49E3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663F-472A-4E8A-AB42-07905D5D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F26-8914-4E1C-8C87-9C38481C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2C5-5E3A-49A4-9BC4-F4438366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A3CB-9192-4271-A11C-A10F4BC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9E59-FCBD-4412-B199-26DC6DB0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ABC-9BDC-4211-B396-7A9B9F5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8ECA-A66F-4F43-98E0-B84DE21C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CEC6-E353-4D05-A670-32BB245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FE6-95EA-49AB-996F-4D18FF48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1FAC-A3B1-4BC0-8101-C68C6D80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D75B-84DA-43C0-BA5B-837FBCF5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DA9-9302-430B-9B5C-431A00F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FB7-4714-48CA-943E-DF3CEE39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914-1ACE-4FC4-AA29-0B827DC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2CD-3FF5-4551-B46C-2D9E3DB5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418-73AD-4F54-888D-17CB5F2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16F-64F1-4A98-8A6B-EFF39A5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5B4-A6DB-40A0-95D4-9BB9DCC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2016-8D24-49BE-84A2-1E771C94CA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1F1-B43C-4BE7-83A2-349B4FE0AE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66920" y="3070080"/>
            <a:ext cx="720720" cy="71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349360"/>
            <a:ext cx="720720" cy="215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3322800"/>
            <a:ext cx="179640" cy="17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6920" y="3213000"/>
            <a:ext cx="1441440" cy="43200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256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349360"/>
            <a:ext cx="2159280" cy="215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213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286080"/>
            <a:ext cx="215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256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400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3070080"/>
            <a:ext cx="718920" cy="719280"/>
          </a:xfrm>
          <a:prstGeom prst="ellipse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3322800"/>
            <a:ext cx="146160" cy="179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608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02120" y="471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1760" y="458784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6240" y="45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870440"/>
            <a:ext cx="2087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6240" y="487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4960" y="32860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15" idx="0"/>
          </p:cNvCxnSpPr>
          <p:nvPr/>
        </p:nvCxnSpPr>
        <p:spPr>
          <a:xfrm rot="10800000">
            <a:off x="5795280" y="2565360"/>
            <a:ext cx="1670040" cy="950760"/>
          </a:xfrm>
          <a:prstGeom prst="curvedConnector4">
            <a:avLst>
              <a:gd name="adj1" fmla="val 56899"/>
              <a:gd name="adj2" fmla="val 100189"/>
            </a:avLst>
          </a:prstGeom>
          <a:ln w="3240">
            <a:solidFill>
              <a:srgbClr val="40458c"/>
            </a:solidFill>
            <a:miter/>
          </a:ln>
        </p:spPr>
      </p:cxnSp>
      <p:cxnSp>
        <p:nvCxnSpPr>
          <p:cNvPr id="227" name=""/>
          <p:cNvCxnSpPr>
            <a:stCxn id="225" idx="1"/>
            <a:endCxn id="216" idx="0"/>
          </p:cNvCxnSpPr>
          <p:nvPr/>
        </p:nvCxnSpPr>
        <p:spPr>
          <a:xfrm flipV="1" rot="10800000">
            <a:off x="5795280" y="3515760"/>
            <a:ext cx="1670040" cy="489960"/>
          </a:xfrm>
          <a:prstGeom prst="curvedConnector2">
            <a:avLst/>
          </a:prstGeom>
          <a:ln w="3240">
            <a:solidFill>
              <a:srgbClr val="40458c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96240" y="414972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1"/>
            <a:endCxn id="213" idx="4"/>
          </p:cNvCxnSpPr>
          <p:nvPr/>
        </p:nvCxnSpPr>
        <p:spPr>
          <a:xfrm flipH="1" flipV="1" rot="5400000">
            <a:off x="4678920" y="3262320"/>
            <a:ext cx="734760" cy="1500120"/>
          </a:xfrm>
          <a:prstGeom prst="curvedConnector4">
            <a:avLst>
              <a:gd name="adj1" fmla="val 32647"/>
              <a:gd name="adj2" fmla="val 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154476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3 c/hi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1"/>
            <a:endCxn id="209" idx="7"/>
          </p:cNvCxnSpPr>
          <p:nvPr/>
        </p:nvCxnSpPr>
        <p:spPr>
          <a:xfrm flipH="1" rot="16200000">
            <a:off x="1490400" y="2201760"/>
            <a:ext cx="1202040" cy="1093320"/>
          </a:xfrm>
          <a:prstGeom prst="curvedConnector4">
            <a:avLst>
              <a:gd name="adj1" fmla="val 29149"/>
              <a:gd name="adj2" fmla="val 2500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87640" y="400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286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96240" y="17733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1"/>
            <a:endCxn id="233" idx="6"/>
          </p:cNvCxnSpPr>
          <p:nvPr/>
        </p:nvCxnSpPr>
        <p:spPr>
          <a:xfrm flipV="1" rot="10800000">
            <a:off x="3490560" y="2002680"/>
            <a:ext cx="805680" cy="1427040"/>
          </a:xfrm>
          <a:prstGeom prst="curvedConnector3">
            <a:avLst>
              <a:gd name="adj1" fmla="val 24497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01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ieza para acoplar el moto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680" y="5181480"/>
            <a:ext cx="82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lanos del Proyecto en cualquier formato digi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31T17:25:17Z</dcterms:modified>
  <cp:revision>327</cp:revision>
  <dc:subject/>
  <dc:title>Reactor Agitado</dc:title>
</cp:coreProperties>
</file>