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AD98-55C6-462F-AA67-CA432B39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153-8D89-4EF3-8E09-30F5A88A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50DE-1EDF-4A98-BDB0-87A1DA2B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5EA3-B541-4A1F-96B5-E8F13582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796C-EE03-4A40-A39A-C95C1793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971D-EF7C-4101-951D-B9E8831D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05DF-784D-4401-B4F2-96353903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CA63-5369-4F95-9577-064E77BC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088D-D5ED-4D53-B2AA-C323F9AD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94AB-642E-4772-BFF3-31EF51DE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260F-D24A-4C3C-88B6-E88477E0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B97-C76F-4FA5-93C8-7F989290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02DE-C2A9-4A06-9F08-606D74B1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01A7-5A96-4429-B6A5-61860013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5512-661C-41A9-BCEB-CFF1EEEF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99EF-AFC0-49A7-B27A-1B98FE39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E488-3BE7-409E-9917-95AEED92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C72-554E-4B75-8A73-90174A99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1E7E-BCA3-436B-ABAD-255F9903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2E7E-60B4-4CEA-8E7A-B880F2BC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B3F7-2C8C-4B65-8032-4C6C4A46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22D3-8DE2-40D1-9116-568412C4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1BD4-D3E3-4BCF-86E1-1534C7F8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97C8-EC40-484C-A1A8-2B499FF1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C2C8-CFFF-41F5-ADF7-F855604E959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8D36-2ACA-4DF4-BA8B-FD7C50485AC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266920" y="3070080"/>
            <a:ext cx="720720" cy="719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87640" y="2349360"/>
            <a:ext cx="720720" cy="2159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84360" y="3322800"/>
            <a:ext cx="179640" cy="17928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6920" y="3213000"/>
            <a:ext cx="1441440" cy="43200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87640" y="2565360"/>
            <a:ext cx="719280" cy="2872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2349360"/>
            <a:ext cx="2159280" cy="2159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80000" y="3213000"/>
            <a:ext cx="43200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16360" y="3286080"/>
            <a:ext cx="2159280" cy="2872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1640" y="25653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51640" y="40053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35640" y="3070080"/>
            <a:ext cx="718920" cy="719280"/>
          </a:xfrm>
          <a:prstGeom prst="ellipse">
            <a:avLst/>
          </a:prstGeom>
          <a:noFill/>
          <a:ln w="936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35640" y="3322800"/>
            <a:ext cx="146160" cy="1792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4726080"/>
            <a:ext cx="72072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02120" y="4719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1760" y="4587840"/>
            <a:ext cx="72072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16240" y="458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4870440"/>
            <a:ext cx="208764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56240" y="4870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64960" y="328608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=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15" idx="0"/>
          </p:cNvCxnSpPr>
          <p:nvPr/>
        </p:nvCxnSpPr>
        <p:spPr>
          <a:xfrm rot="10800000">
            <a:off x="5795280" y="2565360"/>
            <a:ext cx="1670040" cy="950760"/>
          </a:xfrm>
          <a:prstGeom prst="curvedConnector4">
            <a:avLst>
              <a:gd name="adj1" fmla="val 56899"/>
              <a:gd name="adj2" fmla="val 100189"/>
            </a:avLst>
          </a:prstGeom>
          <a:ln w="3240">
            <a:solidFill>
              <a:srgbClr val="40458c"/>
            </a:solidFill>
            <a:miter/>
          </a:ln>
        </p:spPr>
      </p:cxnSp>
      <p:cxnSp>
        <p:nvCxnSpPr>
          <p:cNvPr id="227" name=""/>
          <p:cNvCxnSpPr>
            <a:stCxn id="225" idx="1"/>
            <a:endCxn id="216" idx="0"/>
          </p:cNvCxnSpPr>
          <p:nvPr/>
        </p:nvCxnSpPr>
        <p:spPr>
          <a:xfrm flipV="1" rot="10800000">
            <a:off x="5795280" y="3515760"/>
            <a:ext cx="1670040" cy="489960"/>
          </a:xfrm>
          <a:prstGeom prst="curvedConnector2">
            <a:avLst/>
          </a:prstGeom>
          <a:ln w="3240">
            <a:solidFill>
              <a:srgbClr val="40458c"/>
            </a:solidFill>
            <a:miter/>
          </a:ln>
        </p:spPr>
      </p:cxnSp>
      <p:sp>
        <p:nvSpPr>
          <p:cNvPr id="228" name=""/>
          <p:cNvSpPr/>
          <p:nvPr/>
        </p:nvSpPr>
        <p:spPr>
          <a:xfrm>
            <a:off x="4296240" y="414972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=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8" idx="1"/>
            <a:endCxn id="213" idx="4"/>
          </p:cNvCxnSpPr>
          <p:nvPr/>
        </p:nvCxnSpPr>
        <p:spPr>
          <a:xfrm flipH="1" flipV="1" rot="5400000">
            <a:off x="4678920" y="3262320"/>
            <a:ext cx="734760" cy="1500120"/>
          </a:xfrm>
          <a:prstGeom prst="curvedConnector4">
            <a:avLst>
              <a:gd name="adj1" fmla="val 32647"/>
              <a:gd name="adj2" fmla="val 0"/>
            </a:avLst>
          </a:prstGeom>
          <a:ln w="3240">
            <a:solidFill>
              <a:srgbClr val="40458c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1544760" y="1917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=3 c/hil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30" idx="1"/>
            <a:endCxn id="209" idx="7"/>
          </p:cNvCxnSpPr>
          <p:nvPr/>
        </p:nvCxnSpPr>
        <p:spPr>
          <a:xfrm flipH="1" rot="16200000">
            <a:off x="1490400" y="2201760"/>
            <a:ext cx="1202040" cy="1093320"/>
          </a:xfrm>
          <a:prstGeom prst="curvedConnector4">
            <a:avLst>
              <a:gd name="adj1" fmla="val 29149"/>
              <a:gd name="adj2" fmla="val 25000"/>
            </a:avLst>
          </a:prstGeom>
          <a:ln w="3240">
            <a:solidFill>
              <a:srgbClr val="40458c"/>
            </a:solidFill>
            <a:miter/>
          </a:ln>
        </p:spPr>
      </p:cxnSp>
      <p:sp>
        <p:nvSpPr>
          <p:cNvPr id="232" name=""/>
          <p:cNvSpPr/>
          <p:nvPr/>
        </p:nvSpPr>
        <p:spPr>
          <a:xfrm>
            <a:off x="2987640" y="4005360"/>
            <a:ext cx="719280" cy="2872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3640" y="3286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96240" y="177336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=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34" idx="1"/>
            <a:endCxn id="233" idx="6"/>
          </p:cNvCxnSpPr>
          <p:nvPr/>
        </p:nvCxnSpPr>
        <p:spPr>
          <a:xfrm flipV="1" rot="10800000">
            <a:off x="3490560" y="2002680"/>
            <a:ext cx="805680" cy="1427040"/>
          </a:xfrm>
          <a:prstGeom prst="curvedConnector3">
            <a:avLst>
              <a:gd name="adj1" fmla="val 24497"/>
            </a:avLst>
          </a:prstGeom>
          <a:ln w="3240">
            <a:solidFill>
              <a:srgbClr val="40458c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0"/>
            <a:ext cx="810108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Pieza para acoplar el motor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6680" y="5181480"/>
            <a:ext cx="820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OB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lanos del Proyecto en cualquier formato digita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8-31T17:25:17Z</dcterms:modified>
  <cp:revision>327</cp:revision>
  <dc:subject/>
  <dc:title>Reactor Agitado</dc:title>
</cp:coreProperties>
</file>