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B7D5-B338-44E1-B906-D5D5479D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8F01-09AE-42DE-95FA-AC10B562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F740-D0DB-4DC1-9EDE-04E55330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6553-47C0-4168-A4A1-AA44F0DD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3C1F-495A-4D6D-9A9E-49EB8B9D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BAF1-F9C6-4BAC-B22D-D0362142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8646-4157-4795-8DB1-DA711248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100D-5D8F-4CCC-9765-DE8481F1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4568-2DC1-4C6A-8037-AEE13C4B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6D98-C7E5-49B7-81C8-2F41A5A3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F3BD-2FEC-480D-A2BB-8E3D9A85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AC5A-68E7-456E-B54B-27BDD8DD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11B2-9A10-44AB-968B-E5A483D0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AB82-72BD-4695-A2BA-C7A62667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FE1D-3D76-4062-8958-3B3934CA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5740-D019-4B9A-A5DB-8E51C98E1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7E64-26D9-487F-B14A-47721F76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A859-6018-4BA5-AD42-08FD562A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DC15-2A17-4E67-8E63-41FD8D1A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9441-33D3-4CD9-995F-181269E6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D414-C9F8-4E34-B0B9-8096404D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6EA5-AE94-4019-86F4-4494297B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8F0A-D154-4699-B3F7-F78C5366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7918-38AD-41F8-A834-BBB839B5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8607-BD68-4E8A-9DEA-EA1474CE951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862B-012B-4AD6-A417-B203F070BD1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68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58c"/>
                </a:solidFill>
                <a:latin typeface="Times New Roman"/>
              </a:rPr>
              <a:t>EI1B2 Introducción a la Ingeniería I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imes New Roman"/>
              </a:rPr>
              <a:t>Jorge Castill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600" y="-2286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43000" y="838080"/>
            <a:ext cx="6121440" cy="2683440"/>
            <a:chOff x="1143000" y="838080"/>
            <a:chExt cx="6121440" cy="2683440"/>
          </a:xfrm>
        </p:grpSpPr>
        <p:sp>
          <p:nvSpPr>
            <p:cNvPr id="217" name=""/>
            <p:cNvSpPr/>
            <p:nvPr/>
          </p:nvSpPr>
          <p:spPr>
            <a:xfrm>
              <a:off x="4887720" y="838080"/>
              <a:ext cx="2376720" cy="1323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Producto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(Diseño)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43000" y="1758960"/>
              <a:ext cx="2376360" cy="6426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Análisis</a:t>
              </a:r>
              <a:endParaRPr b="0" lang="en-US" sz="3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87720" y="2198520"/>
              <a:ext cx="2374920" cy="13230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Mejora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</a:rPr>
                <a:t>(re-diseño)</a:t>
              </a:r>
              <a:endParaRPr b="0" lang="en-US" sz="3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399800">
              <a:off x="3808080" y="2350440"/>
              <a:ext cx="863280" cy="433440"/>
            </a:xfrm>
            <a:prstGeom prst="rightArrow">
              <a:avLst>
                <a:gd name="adj1" fmla="val 56046"/>
                <a:gd name="adj2" fmla="val 72429"/>
              </a:avLst>
            </a:prstGeom>
            <a:solidFill>
              <a:srgbClr val="0000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8614800">
              <a:off x="3734640" y="1271520"/>
              <a:ext cx="863640" cy="433440"/>
            </a:xfrm>
            <a:prstGeom prst="rightArrow">
              <a:avLst>
                <a:gd name="adj1" fmla="val 56046"/>
                <a:gd name="adj2" fmla="val 72459"/>
              </a:avLst>
            </a:prstGeom>
            <a:solidFill>
              <a:srgbClr val="0000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14200" y="4724280"/>
            <a:ext cx="892980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40458c"/>
                </a:solidFill>
                <a:latin typeface="Times New Roman"/>
              </a:rPr>
              <a:t>"La Reingeniería es el replanteamiento fundamental y el rediseño radical de los procesos del negocio para lograr mejoras dramáticas dentro de medidas críticas y contemporáneas de desempeño, tales como costo, calidad, servicio y rapidez". (Hammer 1994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657600"/>
            <a:ext cx="70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¿Es lo mismo que Re-ingeniería?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00800" y="3657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imes New Roman"/>
              </a:rPr>
              <a:t>NO!!!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4920" y="6391440"/>
            <a:ext cx="407880" cy="475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653400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260280"/>
            <a:ext cx="2016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álisi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920" y="9079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uncional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56000" y="90792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Para qué sirve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40360" y="907920"/>
            <a:ext cx="29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imulación de Funcionamien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1066680"/>
            <a:ext cx="576000" cy="289080"/>
          </a:xfrm>
          <a:prstGeom prst="rightArrow">
            <a:avLst>
              <a:gd name="adj1" fmla="val 56046"/>
              <a:gd name="adj2" fmla="val 72459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19810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nstructiva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84360" y="191628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De qué (o cómo) está hecho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651640" y="20588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isección (Destructiva o no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213372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429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suario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35772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Quiénes lo usan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508720" y="33764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ncuesta de opin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29200" y="3505320"/>
            <a:ext cx="576360" cy="288720"/>
          </a:xfrm>
          <a:prstGeom prst="rightArrow">
            <a:avLst>
              <a:gd name="adj1" fmla="val 56046"/>
              <a:gd name="adj2" fmla="val 72595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44956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Ético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40000" y="441792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¿Para qué fue diseñado?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80000" y="4427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nálisis de impacto (Ambiental - Social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05520" y="4648320"/>
            <a:ext cx="576000" cy="288720"/>
          </a:xfrm>
          <a:prstGeom prst="rightArrow">
            <a:avLst>
              <a:gd name="adj1" fmla="val 56046"/>
              <a:gd name="adj2" fmla="val 72550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1840" y="260280"/>
            <a:ext cx="144144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588000" y="260280"/>
            <a:ext cx="1511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s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54864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Económico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05080" y="54975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studio de Cos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543640" y="54864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nálisis de Merc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05520" y="5562720"/>
            <a:ext cx="576000" cy="288720"/>
          </a:xfrm>
          <a:prstGeom prst="rightArrow">
            <a:avLst>
              <a:gd name="adj1" fmla="val 56046"/>
              <a:gd name="adj2" fmla="val 72550"/>
            </a:avLst>
          </a:prstGeom>
          <a:solidFill>
            <a:srgbClr val="0000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3051000" cy="873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250920" y="1943280"/>
            <a:ext cx="819936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3804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307360" cy="38973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Ingeniería Reversa: Análisis Ejempl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Proyecto 1: Ingeniería Rever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496000" cy="4059000"/>
          </a:xfrm>
          <a:prstGeom prst="rect">
            <a:avLst/>
          </a:prstGeom>
          <a:ln w="9360">
            <a:solidFill>
              <a:srgbClr val="40458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139680"/>
            <a:ext cx="914400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imes New Roman"/>
              </a:rPr>
              <a:t>Elección del Product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7c1eb"/>
                </a:solidFill>
                <a:latin typeface="Tahoma"/>
              </a:rPr>
              <a:t>Escuela de  Ingeniería - fcfm - Universidad de Chile                                         EI1B2- Introducción a la Ingeniería II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-36360" y="1125360"/>
            <a:ext cx="96487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08-02T15:42:03Z</dcterms:modified>
  <cp:revision>293</cp:revision>
  <dc:subject/>
  <dc:title>Reactor Agitado</dc:title>
</cp:coreProperties>
</file>