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349-46EA-4433-9FBF-9B286D6D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D0B-92FB-4782-9C04-87B221EE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6A8-78CF-4805-B530-A7E11AB2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6CD-DF2E-4299-B460-C621F1E9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9FB8-A0DE-4C75-BBFC-59CB1E35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2344-32F4-49B3-9571-F40736A6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1E46-36AA-4519-A9E2-8A0ED9DF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A64A-7BDB-4696-B753-1E661719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776F-4EDF-4CD4-ADE6-BD9E1D19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CC14-E051-4CC2-9A02-F09353BD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7ECF-E5D7-433A-A23A-59005986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D1D-E9D3-4B6D-96DC-9C565950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3282-611E-4FB3-AE75-534C122E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7E42-F76C-455D-A082-4549EEDF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52C3-BD9C-4CBD-864B-C8239AD4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B708-60F4-4970-8656-61ECF30C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CA08-0594-4C4F-843F-60DB6031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985-39B6-422A-87DA-2E56B34A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8D2-457F-4820-A6EB-0241874F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784-7069-48EA-8285-D2B43D71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B20-6DB9-4155-999D-2555A879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B77-6291-4767-A3EC-171E5EC5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9DD-E995-4213-A289-541A1136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36F-B323-4D47-B627-77A149C6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E9EE-7365-4DD6-8BAE-907736FE2AD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D11D-A8DA-488D-A8D2-94DFD993DA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imes New Roman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Jorge Casti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2286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838080"/>
            <a:ext cx="6121440" cy="2683440"/>
            <a:chOff x="1143000" y="838080"/>
            <a:chExt cx="6121440" cy="2683440"/>
          </a:xfrm>
        </p:grpSpPr>
        <p:sp>
          <p:nvSpPr>
            <p:cNvPr id="217" name=""/>
            <p:cNvSpPr/>
            <p:nvPr/>
          </p:nvSpPr>
          <p:spPr>
            <a:xfrm>
              <a:off x="4887720" y="838080"/>
              <a:ext cx="23767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oduct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758960"/>
              <a:ext cx="237636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nálisis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7720" y="2198520"/>
              <a:ext cx="23749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jor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re-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399800">
              <a:off x="3808080" y="2350440"/>
              <a:ext cx="863280" cy="433440"/>
            </a:xfrm>
            <a:prstGeom prst="rightArrow">
              <a:avLst>
                <a:gd name="adj1" fmla="val 56046"/>
                <a:gd name="adj2" fmla="val 7242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8614800">
              <a:off x="3734640" y="1271520"/>
              <a:ext cx="863640" cy="433440"/>
            </a:xfrm>
            <a:prstGeom prst="rightArrow">
              <a:avLst>
                <a:gd name="adj1" fmla="val 56046"/>
                <a:gd name="adj2" fmla="val 7245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14200" y="4724280"/>
            <a:ext cx="8929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0458c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65760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¿Es lo mismo que Re-ingeniería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3657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NO!!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602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907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uncional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907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sirv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90792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ción de Funcionami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066680"/>
            <a:ext cx="576000" cy="28908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tructiv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1916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De qué (o cómo) está hech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2058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ción (Destructiva o 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1337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ri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357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Quiénes lo usa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376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cuesta de opin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5053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495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Ét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179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fue diseñad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427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impacto (Ambiental - Social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46483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1840" y="260280"/>
            <a:ext cx="1441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60280"/>
            <a:ext cx="151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conóm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5080" y="5497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tudio de Co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3640" y="54864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Mer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55627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2T15:42:03Z</dcterms:modified>
  <cp:revision>293</cp:revision>
  <dc:subject/>
  <dc:title>Reactor Agitado</dc:title>
</cp:coreProperties>
</file>