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80DD-8D01-48AA-80EC-95EA55DB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237-0ED5-40B3-A3BA-FD90EF2C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73D-E1C2-4709-94BB-20BA669A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BAE6-3241-416E-8DFC-58842FA8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178F-ABAA-4567-B1DA-E3010D03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6814-EDA8-4B80-A9B5-9E56F14C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7FC5-9961-4C52-9B0E-A4A5DAC7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6C86-BACE-4800-89FF-4273AD68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DC93-2C5E-4359-864A-423FB157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988E-2136-4805-B151-6682F242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0EFE-5B1D-4339-9E24-540F0A0C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691A-4D5A-4F43-8A44-599930F4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A982-1476-4182-B6E2-C29A961C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945E-BA70-433A-A1DD-AC3EA02D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CBA1-8B97-4117-81B5-A31985DD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31C6-6F25-47D3-8DB9-22471734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4624-882A-4170-814E-81179482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2598-8E67-4BA3-B5F7-606F8D40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FD82-458A-4E97-872B-151AC22C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D1A-A41F-41D8-A73F-20C20E94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C62-D34A-43C8-A0AC-6C1DF9D8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8AD-B8E3-4768-AAC7-35BE76AC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018-A3A6-4270-BF77-EFC59EC5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BC7B-3373-4646-8A8C-66083A23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955B-4868-4D29-9F46-BA3C2D92F39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7969-E16D-467A-B2B5-B0F96C31ED1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imes New Roman"/>
              </a:rPr>
              <a:t>EI1B2 Introducción a la Ingeniería 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imes New Roman"/>
              </a:rPr>
              <a:t>Jorge Castill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-2286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43000" y="838080"/>
            <a:ext cx="6121440" cy="2683440"/>
            <a:chOff x="1143000" y="838080"/>
            <a:chExt cx="6121440" cy="2683440"/>
          </a:xfrm>
        </p:grpSpPr>
        <p:sp>
          <p:nvSpPr>
            <p:cNvPr id="217" name=""/>
            <p:cNvSpPr/>
            <p:nvPr/>
          </p:nvSpPr>
          <p:spPr>
            <a:xfrm>
              <a:off x="4887720" y="838080"/>
              <a:ext cx="2376720" cy="132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roducto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(Diseño)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43000" y="1758960"/>
              <a:ext cx="2376360" cy="64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Análisis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87720" y="2198520"/>
              <a:ext cx="2374920" cy="132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Mejora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(re-diseño)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399800">
              <a:off x="3808080" y="2350440"/>
              <a:ext cx="863280" cy="433440"/>
            </a:xfrm>
            <a:prstGeom prst="rightArrow">
              <a:avLst>
                <a:gd name="adj1" fmla="val 56046"/>
                <a:gd name="adj2" fmla="val 72429"/>
              </a:avLst>
            </a:pr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8614800">
              <a:off x="3734640" y="1271520"/>
              <a:ext cx="863640" cy="433440"/>
            </a:xfrm>
            <a:prstGeom prst="rightArrow">
              <a:avLst>
                <a:gd name="adj1" fmla="val 56046"/>
                <a:gd name="adj2" fmla="val 72459"/>
              </a:avLst>
            </a:pr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14200" y="4724280"/>
            <a:ext cx="89298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40458c"/>
                </a:solidFill>
                <a:latin typeface="Times New Roman"/>
              </a:rPr>
              <a:t>"La Reingeniería es el replanteamiento fundamental y el rediseño radical de los procesos del negocio para lograr mejoras dramáticas dentro de medidas críticas y contemporáneas de desempeño, tales como costo, calidad, servicio y rapidez". (Hammer 1994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65760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¿Es lo mismo que Re-ingeniería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3657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NO!!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4920" y="6391440"/>
            <a:ext cx="407880" cy="475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653400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260280"/>
            <a:ext cx="2016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920" y="9079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uncional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56000" y="9079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Para qué sirve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90792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ción de Funcionami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1066680"/>
            <a:ext cx="576000" cy="289080"/>
          </a:xfrm>
          <a:prstGeom prst="rightArrow">
            <a:avLst>
              <a:gd name="adj1" fmla="val 56046"/>
              <a:gd name="adj2" fmla="val 72459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981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structiv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84360" y="191628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De qué (o cómo) está hech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51640" y="20588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ección (Destructiva o no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213372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uario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35772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Quiénes lo usan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08720" y="33764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cuesta de opin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350532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44956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Étic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40000" y="44179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Para qué fue diseñad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80000" y="4427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álisis de impacto (Ambiental - Social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4648320"/>
            <a:ext cx="576000" cy="288720"/>
          </a:xfrm>
          <a:prstGeom prst="rightArrow">
            <a:avLst>
              <a:gd name="adj1" fmla="val 56046"/>
              <a:gd name="adj2" fmla="val 72550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1840" y="260280"/>
            <a:ext cx="144144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88000" y="260280"/>
            <a:ext cx="1511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s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54864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Económic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05080" y="54975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studio de Cos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43640" y="54864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álisis de Merc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520" y="5562720"/>
            <a:ext cx="576000" cy="288720"/>
          </a:xfrm>
          <a:prstGeom prst="rightArrow">
            <a:avLst>
              <a:gd name="adj1" fmla="val 56046"/>
              <a:gd name="adj2" fmla="val 72550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051000" cy="873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50920" y="1943280"/>
            <a:ext cx="81993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380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307360" cy="3897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oyecto 1: Ingeniería Rever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05900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139680"/>
            <a:ext cx="91440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Elección del Produc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-36360" y="1125360"/>
            <a:ext cx="96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8-02T15:42:03Z</dcterms:modified>
  <cp:revision>293</cp:revision>
  <dc:subject/>
  <dc:title>Reactor Agitado</dc:title>
</cp:coreProperties>
</file>