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D8E-3C7E-4D59-882C-D45E1B17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087-B58A-4FA2-B0C6-5A196666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D99-54FE-4B1B-B8FB-83A54ACD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A7A-E5D0-4A9C-BA27-761D585D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17AA-3F13-4FBC-B405-65AB315D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29F3-B39E-4E73-80CC-EB0A38A3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CA1A-4A25-4115-ABFF-804BBCFF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F4AF-4B2F-4540-A7B4-D6A6DB7B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2434-3947-4A62-89FB-46E12C4C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FB27-9DC9-479D-9E47-7EEA5285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BC22-BCFD-4CE5-9145-2E600A96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CFA-74D3-4E5A-9C4C-6A227CA7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481C-DBBD-4BB3-A2A3-5E993D09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3248-AAF2-4C53-8C4D-3B05D1F2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135B-7895-4AD8-9A19-7B01A311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0B50-661B-4669-B250-EE7248B2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21F5-9316-48F1-9FB8-3E66141D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A3D-8295-43E0-8ED5-D1D4661A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2D6-5F5F-4057-A4D5-C96A3949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D76-967A-4FB9-92F0-A3ED8E1C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6E5-D2C9-471E-B310-694625F4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6A8-E1B4-4A67-9971-FB55BDB7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B6A-3114-4443-907B-B68EA597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2D1-D2B2-48E1-8958-E4A2C2D1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5ED1-F4DA-4512-9E37-B74C80F89BF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EE94-6E2E-47B0-A7DB-5141B87534A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Jorge Castillo Guzmá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659448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6066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680" y="1143000"/>
            <a:ext cx="79682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l curso, ¿Que es la Ingenierí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Definición Proyecto 1, Artefacto Misterios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 , El Rol social de la Ingeniería, H. Galleg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Trabajo en Equipo, Pla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 Proceso de Dise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I, La división del Trabajo, Lucro, Adam 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apas del Proyecto de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Introducción a la Ingeniería I,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91360" y="2743200"/>
            <a:ext cx="726264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Análisis Proyecto 1, Planteamiento Proyecto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Escri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tica III, la ética en la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O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Proyecto II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6840" y="914400"/>
            <a:ext cx="7466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 Datos  (Presentaciones Ora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oyecto 1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960560"/>
            <a:ext cx="3257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perar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imes New Roman"/>
              </a:rPr>
              <a:t>(Administrar las operacione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87680" y="2286000"/>
            <a:ext cx="84240" cy="2057400"/>
          </a:xfrm>
          <a:custGeom>
            <a:avLst/>
            <a:gdLst>
              <a:gd name="textAreaLeft" fmla="*/ 0 w 84240"/>
              <a:gd name="textAreaRight" fmla="*/ 30240 w 842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60120" y="289548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1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22096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89960" y="328464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2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30258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per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1120" y="1905120"/>
            <a:ext cx="28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Para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70400" y="2819520"/>
            <a:ext cx="22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óm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3505320"/>
            <a:ext cx="52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on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En qué condiciones?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9680" y="4648320"/>
            <a:ext cx="26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uánd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73392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7160" y="30492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Caso de estudio evaluado Semestre anteri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3080" y="5867280"/>
            <a:ext cx="81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Bajas Notas : Falta de Coherencia, no es un discur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848720" cy="506556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5000" y="1371600"/>
            <a:ext cx="796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1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Ingeniería Reversa (capítulo 4),  3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Elegir Product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poner mejor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1320" y="3962520"/>
            <a:ext cx="69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2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0920" y="571500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mbos proyectos con el mismo grup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0240" y="13716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Evaluació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9520" y="19051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20% Nota de clas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0240" y="2514600"/>
            <a:ext cx="48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80% Nota de Proyectos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4480" y="32004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4120" y="3733920"/>
            <a:ext cx="67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5680" y="4724280"/>
            <a:ext cx="37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uto-evaluacion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7-26T17:04:15Z</dcterms:modified>
  <cp:revision>316</cp:revision>
  <dc:subject/>
  <dc:title>Reactor Agitado</dc:title>
</cp:coreProperties>
</file>