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EAC-28E6-4EAD-8E74-252CEF9C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2D7-5A5D-4EA2-BEAD-127C5A9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03D-D99A-4A56-84A8-B7F3691E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CBB-6347-453E-A131-8972D20A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A035-43EC-4EB8-A694-F2E8DE47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7309-93A5-4DAA-B080-E2FAA79B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2632-128D-47D1-8D00-43D58D96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5BA6-0B82-40C8-81F8-47294848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1371-54AB-4259-8909-3CF3A441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BDEF-E417-4074-B4C0-F4C0A862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77EF-4F79-4B89-A1E8-F047BF3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59A-72EE-4882-BC84-707A2BE4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0E5C-7C69-4C95-B265-5D588EB5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3E14-3F04-4240-973D-2927A3CE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6A42-05B1-46F1-AC96-7F03A213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E8B7-7BD8-4C47-8EF2-EDE4D199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1605-36CF-452C-884A-EB66CFD2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7D0-05E9-49FE-9F03-1CD00573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535-3F6B-47E8-B7C7-F82C3D6F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3B1-958C-4282-B174-2BFBDC90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D5F-AE14-44E2-AB46-70C03E64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63B-49EB-4056-A2F6-1B401F4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6B5-541C-4700-99BB-884E9FE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248-B8FA-4C61-998F-B1A19B7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A155-B91F-4D1C-B49F-22A1333835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5162-927D-46DE-9265-6AE4357EF70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Jorge Castillo Guzm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066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680" y="1143000"/>
            <a:ext cx="7968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l curso, ¿Que es la Ingenier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finición Proyecto 1, Artefacto Misterios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 , El Rol social de la Ingeniería, H. Galleg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Trabajo en Equipo, Pla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Proceso de Dise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I, La división del Trabajo, Lucro, Adam 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apas del Proyecto de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Introducción a la Ingeniería I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91360" y="2743200"/>
            <a:ext cx="72626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Análisis Proyecto 1, Planteamiento Proyecto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Escri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tica III, la ética en la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O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Proyecto II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914400"/>
            <a:ext cx="7466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 Datos  (Presentaciones Ora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oyecto 1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60560"/>
            <a:ext cx="3257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perar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(Administrar las operacione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2286000"/>
            <a:ext cx="84240" cy="2057400"/>
          </a:xfrm>
          <a:custGeom>
            <a:avLst/>
            <a:gdLst>
              <a:gd name="textAreaLeft" fmla="*/ 0 w 84240"/>
              <a:gd name="textAreaRight" fmla="*/ 30240 w 84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0120" y="28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1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22096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9960" y="32846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2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3025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per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1120" y="1905120"/>
            <a:ext cx="28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Para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0400" y="2819520"/>
            <a:ext cx="22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óm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505320"/>
            <a:ext cx="52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on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En qué condiciones?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9680" y="4648320"/>
            <a:ext cx="26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uánd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73392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160" y="30492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Caso de estudio evaluado Semestre anteri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080" y="5867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Bajas Notas : Falta de Coherencia, no es un discur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848720" cy="5065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5000" y="1371600"/>
            <a:ext cx="796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1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Ingeniería Reversa (capítulo 4),  3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Elegir Produc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poner mejor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1320" y="3962520"/>
            <a:ext cx="69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2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0920" y="571500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mbos proyectos con el mismo grup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240" y="13716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Evaluació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520" y="19051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20% Nota de clas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0240" y="2514600"/>
            <a:ext cx="48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80% Nota de Proyecto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4480" y="32004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4120" y="373392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680" y="472428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uto-evaluacio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7-26T17:04:15Z</dcterms:modified>
  <cp:revision>316</cp:revision>
  <dc:subject/>
  <dc:title>Reactor Agitado</dc:title>
</cp:coreProperties>
</file>