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C472-D524-4A1B-9AA6-2566FE26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D9C7-3441-4EDC-AF7C-B53E7A1F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A31-7789-4721-BB00-F8F18DFCA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A21C-9023-4EF4-AF78-21E1423E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90B-F7EB-4E4F-BCC0-049C69245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841-AF09-4C72-A96C-0874F3D9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1C5C-AD7E-43CA-9712-41668CE1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8375-0361-4A2D-AEA1-615F930D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7D1-B4B4-4CD3-BD13-E4ACDE1D7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C06-3D57-48A7-8FD5-A39E29CA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A1E3-2E73-4939-B053-D53E488A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C842-1F72-4DE4-B1A9-6DA8AE01C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F5F0-4CE7-4D6E-A2E4-97101C860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80880"/>
            <a:ext cx="8153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quilibrio ácido-bas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295280" y="2268360"/>
            <a:ext cx="655344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68360" y="320760"/>
            <a:ext cx="818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H del agua de lluvia recolectada en una región metropolitana en un día normal es de 4.82.¿Cuál es la concentración del ion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l agua de lluv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432960" y="1413000"/>
            <a:ext cx="17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13200" y="1971720"/>
            <a:ext cx="14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13040" y="196992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.8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62880" y="1969920"/>
            <a:ext cx="17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1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04160" y="4121280"/>
            <a:ext cx="224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93440" y="465444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85040" y="4654440"/>
            <a:ext cx="21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-log (2.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12000" y="4654440"/>
            <a:ext cx="8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6.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16640" y="5264280"/>
            <a:ext cx="47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– 6.60 = 7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0360" y="2852640"/>
            <a:ext cx="85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centración del ion OH- de una muestra de sangre es de 2.5 x 10-7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¿Cuál es el pH de la sang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180520" y="40320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 fuerte – se disocia al 100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96200" y="973080"/>
            <a:ext cx="5159880" cy="579600"/>
            <a:chOff x="1996200" y="973080"/>
            <a:chExt cx="5159880" cy="579600"/>
          </a:xfrm>
        </p:grpSpPr>
        <p:sp>
          <p:nvSpPr>
            <p:cNvPr id="226" name=""/>
            <p:cNvSpPr/>
            <p:nvPr/>
          </p:nvSpPr>
          <p:spPr>
            <a:xfrm>
              <a:off x="1996200" y="1153800"/>
              <a:ext cx="515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78240" y="1347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52040" y="9730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1345680" y="2003400"/>
            <a:ext cx="649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ectrolitos débiles – no se disocian complet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499400" y="2766960"/>
            <a:ext cx="6451560" cy="440640"/>
            <a:chOff x="1499400" y="2766960"/>
            <a:chExt cx="6451560" cy="440640"/>
          </a:xfrm>
        </p:grpSpPr>
        <p:sp>
          <p:nvSpPr>
            <p:cNvPr id="231" name=""/>
            <p:cNvSpPr/>
            <p:nvPr/>
          </p:nvSpPr>
          <p:spPr>
            <a:xfrm>
              <a:off x="1499400" y="2766960"/>
              <a:ext cx="645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54480" y="289548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3309840" y="301464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1258560" y="3500280"/>
            <a:ext cx="53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77640" y="4110120"/>
            <a:ext cx="6212520" cy="440640"/>
            <a:chOff x="1277640" y="4110120"/>
            <a:chExt cx="6212520" cy="440640"/>
          </a:xfrm>
        </p:grpSpPr>
        <p:sp>
          <p:nvSpPr>
            <p:cNvPr id="236" name=""/>
            <p:cNvSpPr/>
            <p:nvPr/>
          </p:nvSpPr>
          <p:spPr>
            <a:xfrm>
              <a:off x="1277640" y="411012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776760" y="4302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285200" y="4654440"/>
            <a:ext cx="6381000" cy="440640"/>
            <a:chOff x="1285200" y="4654440"/>
            <a:chExt cx="6381000" cy="440640"/>
          </a:xfrm>
        </p:grpSpPr>
        <p:sp>
          <p:nvSpPr>
            <p:cNvPr id="239" name=""/>
            <p:cNvSpPr/>
            <p:nvPr/>
          </p:nvSpPr>
          <p:spPr>
            <a:xfrm>
              <a:off x="1285200" y="4654440"/>
              <a:ext cx="6381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052880" y="4846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1286280" y="5200560"/>
            <a:ext cx="6493320" cy="440640"/>
            <a:chOff x="1286280" y="5200560"/>
            <a:chExt cx="6493320" cy="440640"/>
          </a:xfrm>
        </p:grpSpPr>
        <p:sp>
          <p:nvSpPr>
            <p:cNvPr id="242" name=""/>
            <p:cNvSpPr/>
            <p:nvPr/>
          </p:nvSpPr>
          <p:spPr>
            <a:xfrm>
              <a:off x="1286280" y="5200560"/>
              <a:ext cx="6493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Cl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03640" y="5392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291320" y="5746680"/>
            <a:ext cx="6546600" cy="440640"/>
            <a:chOff x="1291320" y="5746680"/>
            <a:chExt cx="6546600" cy="440640"/>
          </a:xfrm>
        </p:grpSpPr>
        <p:sp>
          <p:nvSpPr>
            <p:cNvPr id="245" name=""/>
            <p:cNvSpPr/>
            <p:nvPr/>
          </p:nvSpPr>
          <p:spPr>
            <a:xfrm>
              <a:off x="1291320" y="5746680"/>
              <a:ext cx="6546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  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5160" y="59385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3684600" y="40734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1284120" y="1971720"/>
            <a:ext cx="5691240" cy="440640"/>
            <a:chOff x="1284120" y="1971720"/>
            <a:chExt cx="5691240" cy="440640"/>
          </a:xfrm>
        </p:grpSpPr>
        <p:sp>
          <p:nvSpPr>
            <p:cNvPr id="249" name=""/>
            <p:cNvSpPr/>
            <p:nvPr/>
          </p:nvSpPr>
          <p:spPr>
            <a:xfrm>
              <a:off x="1284120" y="1971720"/>
              <a:ext cx="5691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3665160" y="2089080"/>
              <a:ext cx="609840" cy="152280"/>
              <a:chOff x="3665160" y="2089080"/>
              <a:chExt cx="609840" cy="152280"/>
            </a:xfrm>
          </p:grpSpPr>
          <p:sp>
            <p:nvSpPr>
              <p:cNvPr id="251" name=""/>
              <p:cNvSpPr/>
              <p:nvPr/>
            </p:nvSpPr>
            <p:spPr>
              <a:xfrm>
                <a:off x="3665520" y="20890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3665160" y="2241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1239120" y="1125360"/>
            <a:ext cx="53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os ácido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589200" y="1936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292400" y="2516040"/>
            <a:ext cx="6170400" cy="440640"/>
            <a:chOff x="1292400" y="2516040"/>
            <a:chExt cx="6170400" cy="440640"/>
          </a:xfrm>
        </p:grpSpPr>
        <p:sp>
          <p:nvSpPr>
            <p:cNvPr id="256" name=""/>
            <p:cNvSpPr/>
            <p:nvPr/>
          </p:nvSpPr>
          <p:spPr>
            <a:xfrm>
              <a:off x="1292400" y="2516040"/>
              <a:ext cx="6170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4033440" y="2622600"/>
              <a:ext cx="609840" cy="152280"/>
              <a:chOff x="4033440" y="2622600"/>
              <a:chExt cx="609840" cy="152280"/>
            </a:xfrm>
          </p:grpSpPr>
          <p:sp>
            <p:nvSpPr>
              <p:cNvPr id="258" name=""/>
              <p:cNvSpPr/>
              <p:nvPr/>
            </p:nvSpPr>
            <p:spPr>
              <a:xfrm>
                <a:off x="4033800" y="2622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4033440" y="2774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1301400" y="3062160"/>
            <a:ext cx="6270840" cy="440640"/>
            <a:chOff x="1301400" y="3062160"/>
            <a:chExt cx="6270840" cy="440640"/>
          </a:xfrm>
        </p:grpSpPr>
        <p:sp>
          <p:nvSpPr>
            <p:cNvPr id="261" name=""/>
            <p:cNvSpPr/>
            <p:nvPr/>
          </p:nvSpPr>
          <p:spPr>
            <a:xfrm>
              <a:off x="1301400" y="3062160"/>
              <a:ext cx="62708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S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4096800" y="3181320"/>
              <a:ext cx="609840" cy="152280"/>
              <a:chOff x="4096800" y="3181320"/>
              <a:chExt cx="609840" cy="152280"/>
            </a:xfrm>
          </p:grpSpPr>
          <p:sp>
            <p:nvSpPr>
              <p:cNvPr id="263" name=""/>
              <p:cNvSpPr/>
              <p:nvPr/>
            </p:nvSpPr>
            <p:spPr>
              <a:xfrm>
                <a:off x="4097160" y="3181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4096800" y="33336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" name=""/>
          <p:cNvGrpSpPr/>
          <p:nvPr/>
        </p:nvGrpSpPr>
        <p:grpSpPr>
          <a:xfrm>
            <a:off x="1288440" y="3608280"/>
            <a:ext cx="5760360" cy="440640"/>
            <a:chOff x="1288440" y="3608280"/>
            <a:chExt cx="5760360" cy="440640"/>
          </a:xfrm>
        </p:grpSpPr>
        <p:sp>
          <p:nvSpPr>
            <p:cNvPr id="266" name=""/>
            <p:cNvSpPr/>
            <p:nvPr/>
          </p:nvSpPr>
          <p:spPr>
            <a:xfrm>
              <a:off x="1288440" y="3608280"/>
              <a:ext cx="5760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3601800" y="3727440"/>
              <a:ext cx="609840" cy="152280"/>
              <a:chOff x="3601800" y="3727440"/>
              <a:chExt cx="609840" cy="152280"/>
            </a:xfrm>
          </p:grpSpPr>
          <p:sp>
            <p:nvSpPr>
              <p:cNvPr id="268" name=""/>
              <p:cNvSpPr/>
              <p:nvPr/>
            </p:nvSpPr>
            <p:spPr>
              <a:xfrm>
                <a:off x="3602160" y="37274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3601800" y="3879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964440" y="476280"/>
            <a:ext cx="520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fuert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fuer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1149120" y="981000"/>
            <a:ext cx="4955040" cy="603720"/>
            <a:chOff x="1149120" y="981000"/>
            <a:chExt cx="4955040" cy="603720"/>
          </a:xfrm>
        </p:grpSpPr>
        <p:sp>
          <p:nvSpPr>
            <p:cNvPr id="272" name=""/>
            <p:cNvSpPr/>
            <p:nvPr/>
          </p:nvSpPr>
          <p:spPr>
            <a:xfrm>
              <a:off x="1149120" y="1185840"/>
              <a:ext cx="49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6120" y="98100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12960" y="137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1188720" y="1590840"/>
            <a:ext cx="4501080" cy="603360"/>
            <a:chOff x="1188720" y="1590840"/>
            <a:chExt cx="4501080" cy="603360"/>
          </a:xfrm>
        </p:grpSpPr>
        <p:sp>
          <p:nvSpPr>
            <p:cNvPr id="276" name=""/>
            <p:cNvSpPr/>
            <p:nvPr/>
          </p:nvSpPr>
          <p:spPr>
            <a:xfrm>
              <a:off x="1188720" y="1795320"/>
              <a:ext cx="450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K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K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43760" y="15908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50960" y="198432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1207440" y="2200320"/>
            <a:ext cx="5402160" cy="645480"/>
            <a:chOff x="1207440" y="2200320"/>
            <a:chExt cx="5402160" cy="645480"/>
          </a:xfrm>
        </p:grpSpPr>
        <p:sp>
          <p:nvSpPr>
            <p:cNvPr id="280" name=""/>
            <p:cNvSpPr/>
            <p:nvPr/>
          </p:nvSpPr>
          <p:spPr>
            <a:xfrm>
              <a:off x="1207440" y="2405160"/>
              <a:ext cx="540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88720" y="220032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95920" y="2593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624040" y="998640"/>
            <a:ext cx="7621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294920" y="4000680"/>
            <a:ext cx="5571360" cy="440640"/>
            <a:chOff x="1294920" y="4000680"/>
            <a:chExt cx="5571360" cy="440640"/>
          </a:xfrm>
        </p:grpSpPr>
        <p:sp>
          <p:nvSpPr>
            <p:cNvPr id="285" name=""/>
            <p:cNvSpPr/>
            <p:nvPr/>
          </p:nvSpPr>
          <p:spPr>
            <a:xfrm>
              <a:off x="1294920" y="4000680"/>
              <a:ext cx="557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F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3530160" y="4118040"/>
              <a:ext cx="609840" cy="152280"/>
              <a:chOff x="3530160" y="4118040"/>
              <a:chExt cx="609840" cy="152280"/>
            </a:xfrm>
          </p:grpSpPr>
          <p:sp>
            <p:nvSpPr>
              <p:cNvPr id="287" name=""/>
              <p:cNvSpPr/>
              <p:nvPr/>
            </p:nvSpPr>
            <p:spPr>
              <a:xfrm>
                <a:off x="3530520" y="41180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3530160" y="42703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/>
          <p:cNvSpPr/>
          <p:nvPr/>
        </p:nvSpPr>
        <p:spPr>
          <a:xfrm>
            <a:off x="976680" y="3284640"/>
            <a:ext cx="52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s bases débiles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 son electrolitos déb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54560" y="39654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1303200" y="4545000"/>
            <a:ext cx="6049800" cy="440640"/>
            <a:chOff x="1303200" y="4545000"/>
            <a:chExt cx="6049800" cy="440640"/>
          </a:xfrm>
        </p:grpSpPr>
        <p:sp>
          <p:nvSpPr>
            <p:cNvPr id="292" name=""/>
            <p:cNvSpPr/>
            <p:nvPr/>
          </p:nvSpPr>
          <p:spPr>
            <a:xfrm>
              <a:off x="1303200" y="4545000"/>
              <a:ext cx="60498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98440" y="4651200"/>
              <a:ext cx="609840" cy="151920"/>
              <a:chOff x="3898440" y="4651200"/>
              <a:chExt cx="609840" cy="151920"/>
            </a:xfrm>
          </p:grpSpPr>
          <p:sp>
            <p:nvSpPr>
              <p:cNvPr id="294" name=""/>
              <p:cNvSpPr/>
              <p:nvPr/>
            </p:nvSpPr>
            <p:spPr>
              <a:xfrm>
                <a:off x="3898800" y="46512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3898440" y="4803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50920" y="260280"/>
            <a:ext cx="868680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ares ácido-base conjuga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base conjugada de un ácido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ácido conjugado de una base fuerte no tiene medida de fuer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ácido más fuerte que existe en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ion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la base más fuerte que puede existir en una disolución acuo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1522080" y="3224160"/>
            <a:ext cx="6212520" cy="440640"/>
            <a:chOff x="1522080" y="3224160"/>
            <a:chExt cx="6212520" cy="440640"/>
          </a:xfrm>
        </p:grpSpPr>
        <p:sp>
          <p:nvSpPr>
            <p:cNvPr id="298" name=""/>
            <p:cNvSpPr/>
            <p:nvPr/>
          </p:nvSpPr>
          <p:spPr>
            <a:xfrm>
              <a:off x="1522080" y="3224160"/>
              <a:ext cx="6212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Cl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3416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929040" y="318780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007720" y="4314960"/>
            <a:ext cx="5936760" cy="603720"/>
            <a:chOff x="2007720" y="4314960"/>
            <a:chExt cx="5936760" cy="603720"/>
          </a:xfrm>
        </p:grpSpPr>
        <p:sp>
          <p:nvSpPr>
            <p:cNvPr id="302" name=""/>
            <p:cNvSpPr/>
            <p:nvPr/>
          </p:nvSpPr>
          <p:spPr>
            <a:xfrm>
              <a:off x="2007720" y="4519800"/>
              <a:ext cx="59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+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55400" y="431496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62240" y="4708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73680" y="4332240"/>
            <a:ext cx="76176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48720" y="37530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720" y="49766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300720" y="37530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32360" y="501336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19080" y="320760"/>
            <a:ext cx="6748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2 x 10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NO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2640" y="925560"/>
            <a:ext cx="5299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 ácido fuerte – Se disocia al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157040" y="1447920"/>
            <a:ext cx="6380640" cy="440640"/>
            <a:chOff x="1157040" y="1447920"/>
            <a:chExt cx="6380640" cy="440640"/>
          </a:xfrm>
        </p:grpSpPr>
        <p:sp>
          <p:nvSpPr>
            <p:cNvPr id="313" name=""/>
            <p:cNvSpPr/>
            <p:nvPr/>
          </p:nvSpPr>
          <p:spPr>
            <a:xfrm>
              <a:off x="1157040" y="1447920"/>
              <a:ext cx="6380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924360" y="163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148400" y="2852640"/>
            <a:ext cx="534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 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-log(0.002) = 2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0400" y="187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0760" y="23335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038240" y="1879560"/>
            <a:ext cx="116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2948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24920" y="23320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2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08880" y="23320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9976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95200" y="187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41200" y="4238640"/>
            <a:ext cx="5752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a(OH)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una base fuerte – Se disocia al 10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150560" y="4687920"/>
            <a:ext cx="5261760" cy="440640"/>
            <a:chOff x="1150560" y="4687920"/>
            <a:chExt cx="5261760" cy="440640"/>
          </a:xfrm>
        </p:grpSpPr>
        <p:sp>
          <p:nvSpPr>
            <p:cNvPr id="326" name=""/>
            <p:cNvSpPr/>
            <p:nvPr/>
          </p:nvSpPr>
          <p:spPr>
            <a:xfrm>
              <a:off x="1150560" y="4687920"/>
              <a:ext cx="5261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a(OH)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B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2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921040" y="4879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230400" y="51195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30760" y="553392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062000" y="5119560"/>
            <a:ext cx="123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9592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343840" y="5532480"/>
            <a:ext cx="10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3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08880" y="553248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7440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21960" y="5118120"/>
            <a:ext cx="8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35080" y="6067440"/>
            <a:ext cx="538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.00 – pOH = 14.00 + log(0.036) = 1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26920" y="3645000"/>
            <a:ext cx="734544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1.8 x 10</a:t>
            </a:r>
            <a:r>
              <a:rPr b="1" lang="es-MX" sz="2000" spc="-1" strike="noStrike" baseline="50000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Ba(OH)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"/>
          <p:cNvGrpSpPr/>
          <p:nvPr/>
        </p:nvGrpSpPr>
        <p:grpSpPr>
          <a:xfrm>
            <a:off x="1803240" y="1095480"/>
            <a:ext cx="5948280" cy="510120"/>
            <a:chOff x="1803240" y="1095480"/>
            <a:chExt cx="5948280" cy="510120"/>
          </a:xfrm>
        </p:grpSpPr>
        <p:sp>
          <p:nvSpPr>
            <p:cNvPr id="339" name=""/>
            <p:cNvSpPr/>
            <p:nvPr/>
          </p:nvSpPr>
          <p:spPr>
            <a:xfrm>
              <a:off x="1803240" y="1095480"/>
              <a:ext cx="5948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+    A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0" name=""/>
            <p:cNvGrpSpPr/>
            <p:nvPr/>
          </p:nvGrpSpPr>
          <p:grpSpPr>
            <a:xfrm>
              <a:off x="4182480" y="1260720"/>
              <a:ext cx="609840" cy="152280"/>
              <a:chOff x="4182480" y="1260720"/>
              <a:chExt cx="609840" cy="152280"/>
            </a:xfrm>
          </p:grpSpPr>
          <p:sp>
            <p:nvSpPr>
              <p:cNvPr id="341" name=""/>
              <p:cNvSpPr/>
              <p:nvPr/>
            </p:nvSpPr>
            <p:spPr>
              <a:xfrm>
                <a:off x="4182840" y="1260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4182480" y="1413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3" name=""/>
          <p:cNvSpPr/>
          <p:nvPr/>
        </p:nvSpPr>
        <p:spPr>
          <a:xfrm>
            <a:off x="272520" y="115920"/>
            <a:ext cx="86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Ácidos débiles (HA) y las constantes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2557440" y="1844640"/>
            <a:ext cx="4815000" cy="520560"/>
            <a:chOff x="2557440" y="1844640"/>
            <a:chExt cx="4815000" cy="520560"/>
          </a:xfrm>
        </p:grpSpPr>
        <p:sp>
          <p:nvSpPr>
            <p:cNvPr id="345" name=""/>
            <p:cNvSpPr/>
            <p:nvPr/>
          </p:nvSpPr>
          <p:spPr>
            <a:xfrm>
              <a:off x="2557440" y="1844640"/>
              <a:ext cx="481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  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+    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33920" y="2008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733560" y="2160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513240" y="2543040"/>
            <a:ext cx="1984680" cy="864360"/>
            <a:chOff x="3513240" y="2543040"/>
            <a:chExt cx="1984680" cy="864360"/>
          </a:xfrm>
        </p:grpSpPr>
        <p:sp>
          <p:nvSpPr>
            <p:cNvPr id="349" name=""/>
            <p:cNvSpPr/>
            <p:nvPr/>
          </p:nvSpPr>
          <p:spPr>
            <a:xfrm>
              <a:off x="3513240" y="27604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81200" y="2543040"/>
              <a:ext cx="11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49320" y="29476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419720" y="30002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733760" y="3686040"/>
            <a:ext cx="613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es la constante de ionización de un ác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904120" y="5087880"/>
            <a:ext cx="693000" cy="511560"/>
            <a:chOff x="2904120" y="5087880"/>
            <a:chExt cx="693000" cy="511560"/>
          </a:xfrm>
        </p:grpSpPr>
        <p:sp>
          <p:nvSpPr>
            <p:cNvPr id="355" name=""/>
            <p:cNvSpPr/>
            <p:nvPr/>
          </p:nvSpPr>
          <p:spPr>
            <a:xfrm>
              <a:off x="2904120" y="508932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35971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286600" y="4905360"/>
            <a:ext cx="1726920" cy="1191240"/>
            <a:chOff x="5286600" y="4905360"/>
            <a:chExt cx="1726920" cy="1191240"/>
          </a:xfrm>
        </p:grpSpPr>
        <p:sp>
          <p:nvSpPr>
            <p:cNvPr id="358" name=""/>
            <p:cNvSpPr/>
            <p:nvPr/>
          </p:nvSpPr>
          <p:spPr>
            <a:xfrm>
              <a:off x="5286600" y="4905360"/>
              <a:ext cx="163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Fuerz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un ácid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débi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013520" y="508788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19080" y="3207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915120" y="1038240"/>
            <a:ext cx="4008600" cy="398880"/>
            <a:chOff x="915120" y="1038240"/>
            <a:chExt cx="4008600" cy="398880"/>
          </a:xfrm>
        </p:grpSpPr>
        <p:sp>
          <p:nvSpPr>
            <p:cNvPr id="362" name=""/>
            <p:cNvSpPr/>
            <p:nvPr/>
          </p:nvSpPr>
          <p:spPr>
            <a:xfrm>
              <a:off x="915120" y="1038240"/>
              <a:ext cx="40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087640" y="11541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87280" y="1306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382720" y="809640"/>
            <a:ext cx="3358800" cy="803520"/>
            <a:chOff x="5382720" y="809640"/>
            <a:chExt cx="3358800" cy="803520"/>
          </a:xfrm>
        </p:grpSpPr>
        <p:grpSp>
          <p:nvGrpSpPr>
            <p:cNvPr id="366" name=""/>
            <p:cNvGrpSpPr/>
            <p:nvPr/>
          </p:nvGrpSpPr>
          <p:grpSpPr>
            <a:xfrm>
              <a:off x="5382720" y="809640"/>
              <a:ext cx="1899000" cy="803520"/>
              <a:chOff x="5382720" y="809640"/>
              <a:chExt cx="1899000" cy="803520"/>
            </a:xfrm>
          </p:grpSpPr>
          <p:sp>
            <p:nvSpPr>
              <p:cNvPr id="367" name=""/>
              <p:cNvSpPr/>
              <p:nvPr/>
            </p:nvSpPr>
            <p:spPr>
              <a:xfrm>
                <a:off x="5382720" y="102708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42120" y="809640"/>
                <a:ext cx="936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F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476400" y="1214280"/>
                <a:ext cx="660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F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291360" y="121932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7305120" y="102528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883600" y="1800360"/>
            <a:ext cx="3938400" cy="398880"/>
            <a:chOff x="2883600" y="1800360"/>
            <a:chExt cx="3938400" cy="398880"/>
          </a:xfrm>
        </p:grpSpPr>
        <p:sp>
          <p:nvSpPr>
            <p:cNvPr id="373" name=""/>
            <p:cNvSpPr/>
            <p:nvPr/>
          </p:nvSpPr>
          <p:spPr>
            <a:xfrm>
              <a:off x="2883600" y="1800360"/>
              <a:ext cx="393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F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F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"/>
            <p:cNvGrpSpPr/>
            <p:nvPr/>
          </p:nvGrpSpPr>
          <p:grpSpPr>
            <a:xfrm>
              <a:off x="3965040" y="1916280"/>
              <a:ext cx="609840" cy="152280"/>
              <a:chOff x="3965040" y="1916280"/>
              <a:chExt cx="609840" cy="152280"/>
            </a:xfrm>
          </p:grpSpPr>
          <p:sp>
            <p:nvSpPr>
              <p:cNvPr id="375" name=""/>
              <p:cNvSpPr/>
              <p:nvPr/>
            </p:nvSpPr>
            <p:spPr>
              <a:xfrm>
                <a:off x="3965400" y="1916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965040" y="2068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/>
          <p:cNvSpPr/>
          <p:nvPr/>
        </p:nvSpPr>
        <p:spPr>
          <a:xfrm>
            <a:off x="279720" y="2333520"/>
            <a:ext cx="128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icial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8240" y="2867040"/>
            <a:ext cx="151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mb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960" y="3400560"/>
            <a:ext cx="168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quilibrio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1536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1392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32360" y="28670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9600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666520" y="3400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50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90400" y="2333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77160" y="28670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3028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30520" y="34005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475560" y="3933720"/>
            <a:ext cx="3358800" cy="803520"/>
            <a:chOff x="475560" y="3933720"/>
            <a:chExt cx="3358800" cy="803520"/>
          </a:xfrm>
        </p:grpSpPr>
        <p:grpSp>
          <p:nvGrpSpPr>
            <p:cNvPr id="390" name=""/>
            <p:cNvGrpSpPr/>
            <p:nvPr/>
          </p:nvGrpSpPr>
          <p:grpSpPr>
            <a:xfrm>
              <a:off x="475560" y="3933720"/>
              <a:ext cx="1942560" cy="803520"/>
              <a:chOff x="475560" y="3933720"/>
              <a:chExt cx="1942560" cy="803520"/>
            </a:xfrm>
          </p:grpSpPr>
          <p:sp>
            <p:nvSpPr>
              <p:cNvPr id="391" name=""/>
              <p:cNvSpPr/>
              <p:nvPr/>
            </p:nvSpPr>
            <p:spPr>
              <a:xfrm>
                <a:off x="475560" y="4151160"/>
                <a:ext cx="6519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707480" y="39337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88520" y="4338360"/>
                <a:ext cx="1029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-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384200" y="43434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2397960" y="41493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356040" y="4824360"/>
            <a:ext cx="3389400" cy="803520"/>
            <a:chOff x="356040" y="4824360"/>
            <a:chExt cx="3389400" cy="803520"/>
          </a:xfrm>
        </p:grpSpPr>
        <p:grpSp>
          <p:nvGrpSpPr>
            <p:cNvPr id="397" name=""/>
            <p:cNvGrpSpPr/>
            <p:nvPr/>
          </p:nvGrpSpPr>
          <p:grpSpPr>
            <a:xfrm>
              <a:off x="356040" y="4824360"/>
              <a:ext cx="1929600" cy="803520"/>
              <a:chOff x="356040" y="4824360"/>
              <a:chExt cx="1929600" cy="803520"/>
            </a:xfrm>
          </p:grpSpPr>
          <p:sp>
            <p:nvSpPr>
              <p:cNvPr id="398" name=""/>
              <p:cNvSpPr/>
              <p:nvPr/>
            </p:nvSpPr>
            <p:spPr>
              <a:xfrm>
                <a:off x="356040" y="503856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618560" y="482436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473840" y="522900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95280" y="523404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2309040" y="504000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911200" y="415116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46800" y="414972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30520" y="5038560"/>
            <a:ext cx="185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3.5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00840" y="503856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7120" y="5764320"/>
            <a:ext cx="24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F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0.019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887720" y="612792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] = 1.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0640" y="6219720"/>
            <a:ext cx="29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F] = 0.50 –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48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219320" y="37296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ndo se puede utilizar la aproximación siguien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171320" y="80028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0.50 –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0.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806920" y="798480"/>
            <a:ext cx="1069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&lt;&l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52280" y="134136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uando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s menor que 5% del valor del cual es substraí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2440" y="2151000"/>
            <a:ext cx="123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2300760" y="1973160"/>
            <a:ext cx="3144240" cy="765720"/>
            <a:chOff x="2300760" y="1973160"/>
            <a:chExt cx="3144240" cy="765720"/>
          </a:xfrm>
        </p:grpSpPr>
        <p:grpSp>
          <p:nvGrpSpPr>
            <p:cNvPr id="416" name=""/>
            <p:cNvGrpSpPr/>
            <p:nvPr/>
          </p:nvGrpSpPr>
          <p:grpSpPr>
            <a:xfrm>
              <a:off x="2300760" y="1973160"/>
              <a:ext cx="1252080" cy="765720"/>
              <a:chOff x="2300760" y="1973160"/>
              <a:chExt cx="1252080" cy="765720"/>
            </a:xfrm>
          </p:grpSpPr>
          <p:sp>
            <p:nvSpPr>
              <p:cNvPr id="417" name=""/>
              <p:cNvSpPr/>
              <p:nvPr/>
            </p:nvSpPr>
            <p:spPr>
              <a:xfrm>
                <a:off x="2300760" y="197316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19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385000" y="234000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50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2333880" y="233820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3546720" y="2149560"/>
              <a:ext cx="189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3.8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6019920" y="1887480"/>
            <a:ext cx="2743200" cy="9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n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3440" y="3170160"/>
            <a:ext cx="8180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¿Cuál es el pH de una solución 0.0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de HF</a:t>
            </a:r>
            <a:r>
              <a:rPr b="1" lang="es-MX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a 25</a:t>
            </a:r>
            <a:r>
              <a:rPr b="1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651680" y="3598920"/>
            <a:ext cx="3389400" cy="803520"/>
            <a:chOff x="1651680" y="3598920"/>
            <a:chExt cx="3389400" cy="803520"/>
          </a:xfrm>
        </p:grpSpPr>
        <p:grpSp>
          <p:nvGrpSpPr>
            <p:cNvPr id="424" name=""/>
            <p:cNvGrpSpPr/>
            <p:nvPr/>
          </p:nvGrpSpPr>
          <p:grpSpPr>
            <a:xfrm>
              <a:off x="1651680" y="3598920"/>
              <a:ext cx="1929600" cy="803520"/>
              <a:chOff x="1651680" y="3598920"/>
              <a:chExt cx="1929600" cy="803520"/>
            </a:xfrm>
          </p:grpSpPr>
          <p:sp>
            <p:nvSpPr>
              <p:cNvPr id="425" name=""/>
              <p:cNvSpPr/>
              <p:nvPr/>
            </p:nvSpPr>
            <p:spPr>
              <a:xfrm>
                <a:off x="1651680" y="3813120"/>
                <a:ext cx="7754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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914200" y="3598920"/>
                <a:ext cx="391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0" i="1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769480" y="400356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920" y="400860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3604680" y="3814560"/>
              <a:ext cx="1436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7.1 x 10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5453280" y="3814920"/>
            <a:ext cx="15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0.006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66640" y="4521240"/>
            <a:ext cx="3041280" cy="765720"/>
            <a:chOff x="566640" y="4521240"/>
            <a:chExt cx="3041280" cy="765720"/>
          </a:xfrm>
        </p:grpSpPr>
        <p:grpSp>
          <p:nvGrpSpPr>
            <p:cNvPr id="432" name=""/>
            <p:cNvGrpSpPr/>
            <p:nvPr/>
          </p:nvGrpSpPr>
          <p:grpSpPr>
            <a:xfrm>
              <a:off x="566640" y="4521240"/>
              <a:ext cx="1218960" cy="765720"/>
              <a:chOff x="566640" y="4521240"/>
              <a:chExt cx="1218960" cy="765720"/>
            </a:xfrm>
          </p:grpSpPr>
          <p:sp>
            <p:nvSpPr>
              <p:cNvPr id="433" name=""/>
              <p:cNvSpPr/>
              <p:nvPr/>
            </p:nvSpPr>
            <p:spPr>
              <a:xfrm>
                <a:off x="625680" y="4521240"/>
                <a:ext cx="1099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06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17760" y="4888080"/>
                <a:ext cx="957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0.05 </a:t>
                </a: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66640" y="4886280"/>
                <a:ext cx="1218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1779840" y="4697640"/>
              <a:ext cx="182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 = 12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140360" y="4782960"/>
            <a:ext cx="467964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yor que 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aproximación no estaría correc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3280" y="587700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resolver para “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x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exactamente usando la ecuación cuadrá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9" name=""/>
          <p:cNvGraphicFramePr/>
          <p:nvPr/>
        </p:nvGraphicFramePr>
        <p:xfrm>
          <a:off x="2700360" y="3357720"/>
          <a:ext cx="4105080" cy="34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7720"/>
                    <a:ext cx="4105080" cy="34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"/>
          <p:cNvSpPr/>
          <p:nvPr/>
        </p:nvSpPr>
        <p:spPr>
          <a:xfrm>
            <a:off x="443520" y="51912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rcentaje de 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on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074040" y="404640"/>
            <a:ext cx="5816880" cy="743400"/>
            <a:chOff x="3074040" y="404640"/>
            <a:chExt cx="5816880" cy="743400"/>
          </a:xfrm>
        </p:grpSpPr>
        <p:grpSp>
          <p:nvGrpSpPr>
            <p:cNvPr id="443" name=""/>
            <p:cNvGrpSpPr/>
            <p:nvPr/>
          </p:nvGrpSpPr>
          <p:grpSpPr>
            <a:xfrm>
              <a:off x="3074040" y="404640"/>
              <a:ext cx="4827240" cy="743400"/>
              <a:chOff x="3074040" y="404640"/>
              <a:chExt cx="4827240" cy="743400"/>
            </a:xfrm>
          </p:grpSpPr>
          <p:sp>
            <p:nvSpPr>
              <p:cNvPr id="444" name=""/>
              <p:cNvSpPr/>
              <p:nvPr/>
            </p:nvSpPr>
            <p:spPr>
              <a:xfrm>
                <a:off x="3074040" y="404640"/>
                <a:ext cx="4827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1800" spc="-1" strike="noStrike">
                    <a:solidFill>
                      <a:srgbClr val="000000"/>
                    </a:solidFill>
                    <a:latin typeface="Arial"/>
                  </a:rPr>
                  <a:t>Concentración del ácido ionizado en equilibri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826800" y="749160"/>
                <a:ext cx="3621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Concentración inicial del ácid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136680" y="749160"/>
                <a:ext cx="457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>
              <a:off x="7693560" y="52056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423880" y="1700280"/>
            <a:ext cx="43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ra un ácido monoprótico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06200" y="2333520"/>
            <a:ext cx="4679640" cy="946440"/>
            <a:chOff x="106200" y="2333520"/>
            <a:chExt cx="4679640" cy="946440"/>
          </a:xfrm>
        </p:grpSpPr>
        <p:sp>
          <p:nvSpPr>
            <p:cNvPr id="450" name=""/>
            <p:cNvSpPr/>
            <p:nvPr/>
          </p:nvSpPr>
          <p:spPr>
            <a:xfrm>
              <a:off x="106200" y="2576160"/>
              <a:ext cx="2111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rcentaje de  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oniz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2974680" y="2333520"/>
              <a:ext cx="781200" cy="899280"/>
              <a:chOff x="2974680" y="2333520"/>
              <a:chExt cx="781200" cy="899280"/>
            </a:xfrm>
          </p:grpSpPr>
          <p:sp>
            <p:nvSpPr>
              <p:cNvPr id="452" name=""/>
              <p:cNvSpPr/>
              <p:nvPr/>
            </p:nvSpPr>
            <p:spPr>
              <a:xfrm>
                <a:off x="3072960" y="23335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2974680" y="2792160"/>
                <a:ext cx="7570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70080" y="2768400"/>
                <a:ext cx="6858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56240" y="257472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x 100%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5221800" y="2575080"/>
            <a:ext cx="3341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A]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concentra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ÁC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6640" y="1663560"/>
            <a:ext cx="690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grio. El vinagre le debe su sabor al ác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cético. Las frutas cítricas contienen ácido cítr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4840" y="2608200"/>
            <a:ext cx="678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algunos metales para producir hidróge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2680" y="3324240"/>
            <a:ext cx="671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ccionan con carbonatos y bicarbonatos para produci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óxido de carbono gase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5151600"/>
            <a:ext cx="30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n un sabor amar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5200" y="5761080"/>
            <a:ext cx="668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sienten resbalosos. Muchos jabones contienen b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1911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1444680" cy="1243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238880" y="3962520"/>
            <a:ext cx="1441440" cy="17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23200" y="19224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stantes de ionización de pares conjugados ácido-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1982520" y="907920"/>
            <a:ext cx="3965760" cy="398880"/>
            <a:chOff x="1982520" y="907920"/>
            <a:chExt cx="3965760" cy="398880"/>
          </a:xfrm>
        </p:grpSpPr>
        <p:sp>
          <p:nvSpPr>
            <p:cNvPr id="459" name=""/>
            <p:cNvSpPr/>
            <p:nvPr/>
          </p:nvSpPr>
          <p:spPr>
            <a:xfrm>
              <a:off x="1982520" y="907920"/>
              <a:ext cx="396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3063240" y="1023840"/>
              <a:ext cx="609840" cy="152280"/>
              <a:chOff x="3063240" y="1023840"/>
              <a:chExt cx="609840" cy="152280"/>
            </a:xfrm>
          </p:grpSpPr>
          <p:sp>
            <p:nvSpPr>
              <p:cNvPr id="461" name=""/>
              <p:cNvSpPr/>
              <p:nvPr/>
            </p:nvSpPr>
            <p:spPr>
              <a:xfrm>
                <a:off x="3063600" y="10238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3063240" y="11761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1144080" y="1800360"/>
            <a:ext cx="5177880" cy="440640"/>
            <a:chOff x="1144080" y="1800360"/>
            <a:chExt cx="5177880" cy="440640"/>
          </a:xfrm>
        </p:grpSpPr>
        <p:sp>
          <p:nvSpPr>
            <p:cNvPr id="464" name=""/>
            <p:cNvSpPr/>
            <p:nvPr/>
          </p:nvSpPr>
          <p:spPr>
            <a:xfrm>
              <a:off x="1144080" y="1800360"/>
              <a:ext cx="5177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A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3352320" y="1917720"/>
              <a:ext cx="609840" cy="152280"/>
              <a:chOff x="3352320" y="1917720"/>
              <a:chExt cx="609840" cy="152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352680" y="19177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352320" y="20700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8" name=""/>
          <p:cNvSpPr/>
          <p:nvPr/>
        </p:nvSpPr>
        <p:spPr>
          <a:xfrm>
            <a:off x="7201440" y="9079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193520" y="180036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614200" y="2781360"/>
            <a:ext cx="1434960" cy="62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266920" y="4076640"/>
            <a:ext cx="454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Ácidos débiles y su 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3847320" y="4951440"/>
            <a:ext cx="1229400" cy="857880"/>
            <a:chOff x="3847320" y="4951440"/>
            <a:chExt cx="1229400" cy="857880"/>
          </a:xfrm>
        </p:grpSpPr>
        <p:sp>
          <p:nvSpPr>
            <p:cNvPr id="473" name=""/>
            <p:cNvSpPr/>
            <p:nvPr/>
          </p:nvSpPr>
          <p:spPr>
            <a:xfrm>
              <a:off x="3847320" y="5168880"/>
              <a:ext cx="72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4543560" y="4951440"/>
              <a:ext cx="533160" cy="857880"/>
              <a:chOff x="4543560" y="4951440"/>
              <a:chExt cx="533160" cy="857880"/>
            </a:xfrm>
          </p:grpSpPr>
          <p:sp>
            <p:nvSpPr>
              <p:cNvPr id="475" name=""/>
              <p:cNvSpPr/>
              <p:nvPr/>
            </p:nvSpPr>
            <p:spPr>
              <a:xfrm>
                <a:off x="4568760" y="495144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550040" y="5368680"/>
                <a:ext cx="432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543560" y="5371920"/>
                <a:ext cx="53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8" name=""/>
          <p:cNvGrpSpPr/>
          <p:nvPr/>
        </p:nvGrpSpPr>
        <p:grpSpPr>
          <a:xfrm>
            <a:off x="1339920" y="2638440"/>
            <a:ext cx="2162160" cy="888480"/>
            <a:chOff x="1339920" y="2638440"/>
            <a:chExt cx="2162160" cy="888480"/>
          </a:xfrm>
        </p:grpSpPr>
        <p:sp>
          <p:nvSpPr>
            <p:cNvPr id="479" name=""/>
            <p:cNvSpPr/>
            <p:nvPr/>
          </p:nvSpPr>
          <p:spPr>
            <a:xfrm>
              <a:off x="1339920" y="2855880"/>
              <a:ext cx="745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4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31840" y="2638440"/>
              <a:ext cx="147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A][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454480" y="3043080"/>
              <a:ext cx="6134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24640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2700360" y="2638440"/>
            <a:ext cx="1904760" cy="888480"/>
            <a:chOff x="2700360" y="2638440"/>
            <a:chExt cx="1904760" cy="888480"/>
          </a:xfrm>
        </p:grpSpPr>
        <p:sp>
          <p:nvSpPr>
            <p:cNvPr id="484" name=""/>
            <p:cNvSpPr/>
            <p:nvPr/>
          </p:nvSpPr>
          <p:spPr>
            <a:xfrm>
              <a:off x="2700360" y="28558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796200" y="263844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93320" y="3043080"/>
              <a:ext cx="67464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400" spc="-1" strike="noStrike" baseline="5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614760" y="30956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1865520" y="115920"/>
            <a:ext cx="54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piedades ácido-base de las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52280" y="60948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neutr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85800" y="1212840"/>
            <a:ext cx="669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s sales formadas por un ácido fuerte y una base fue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2421000" y="1627200"/>
            <a:ext cx="4818240" cy="579960"/>
            <a:chOff x="2421000" y="1627200"/>
            <a:chExt cx="4818240" cy="579960"/>
          </a:xfrm>
        </p:grpSpPr>
        <p:sp>
          <p:nvSpPr>
            <p:cNvPr id="492" name=""/>
            <p:cNvSpPr/>
            <p:nvPr/>
          </p:nvSpPr>
          <p:spPr>
            <a:xfrm>
              <a:off x="2421000" y="1808280"/>
              <a:ext cx="481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  ) +  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759480" y="20016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735000" y="162720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152280" y="2430360"/>
            <a:ext cx="26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bás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46520" y="2465280"/>
            <a:ext cx="62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a base fuerte y un ácid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ébi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1068840" y="2933640"/>
            <a:ext cx="6496200" cy="621720"/>
            <a:chOff x="1068840" y="2933640"/>
            <a:chExt cx="6496200" cy="621720"/>
          </a:xfrm>
        </p:grpSpPr>
        <p:sp>
          <p:nvSpPr>
            <p:cNvPr id="498" name=""/>
            <p:cNvSpPr/>
            <p:nvPr/>
          </p:nvSpPr>
          <p:spPr>
            <a:xfrm>
              <a:off x="1068840" y="3114720"/>
              <a:ext cx="649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56080" y="330840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31600" y="2933640"/>
              <a:ext cx="71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831240" y="3753000"/>
            <a:ext cx="7393680" cy="440640"/>
            <a:chOff x="831240" y="3753000"/>
            <a:chExt cx="7393680" cy="440640"/>
          </a:xfrm>
        </p:grpSpPr>
        <p:sp>
          <p:nvSpPr>
            <p:cNvPr id="502" name=""/>
            <p:cNvSpPr/>
            <p:nvPr/>
          </p:nvSpPr>
          <p:spPr>
            <a:xfrm>
              <a:off x="831240" y="3753000"/>
              <a:ext cx="7393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  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133520" y="3870360"/>
              <a:ext cx="609840" cy="151920"/>
              <a:chOff x="4133520" y="3870360"/>
              <a:chExt cx="609840" cy="151920"/>
            </a:xfrm>
          </p:grpSpPr>
          <p:sp>
            <p:nvSpPr>
              <p:cNvPr id="504" name=""/>
              <p:cNvSpPr/>
              <p:nvPr/>
            </p:nvSpPr>
            <p:spPr>
              <a:xfrm>
                <a:off x="4133880" y="38703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133520" y="4022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6" name=""/>
          <p:cNvSpPr/>
          <p:nvPr/>
        </p:nvSpPr>
        <p:spPr>
          <a:xfrm>
            <a:off x="7086600" y="3573360"/>
            <a:ext cx="68580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52280" y="446580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Soluciones ácid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700360" y="447192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les derivadas de un ácido fuerte y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1986840" y="5084640"/>
            <a:ext cx="4851360" cy="621360"/>
            <a:chOff x="1986840" y="5084640"/>
            <a:chExt cx="4851360" cy="621360"/>
          </a:xfrm>
        </p:grpSpPr>
        <p:sp>
          <p:nvSpPr>
            <p:cNvPr id="510" name=""/>
            <p:cNvSpPr/>
            <p:nvPr/>
          </p:nvSpPr>
          <p:spPr>
            <a:xfrm>
              <a:off x="1986840" y="5265360"/>
              <a:ext cx="48513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0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Cl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453120" y="5459040"/>
              <a:ext cx="77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463560" y="508464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2189160" y="6046920"/>
            <a:ext cx="4524120" cy="440640"/>
            <a:chOff x="2189160" y="6046920"/>
            <a:chExt cx="4524120" cy="440640"/>
          </a:xfrm>
        </p:grpSpPr>
        <p:sp>
          <p:nvSpPr>
            <p:cNvPr id="514" name=""/>
            <p:cNvSpPr/>
            <p:nvPr/>
          </p:nvSpPr>
          <p:spPr>
            <a:xfrm>
              <a:off x="2189160" y="6046920"/>
              <a:ext cx="45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              N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5" name=""/>
            <p:cNvGrpSpPr/>
            <p:nvPr/>
          </p:nvGrpSpPr>
          <p:grpSpPr>
            <a:xfrm>
              <a:off x="3638160" y="6164280"/>
              <a:ext cx="609840" cy="152280"/>
              <a:chOff x="3638160" y="6164280"/>
              <a:chExt cx="609840" cy="152280"/>
            </a:xfrm>
          </p:grpSpPr>
          <p:sp>
            <p:nvSpPr>
              <p:cNvPr id="516" name=""/>
              <p:cNvSpPr/>
              <p:nvPr/>
            </p:nvSpPr>
            <p:spPr>
              <a:xfrm>
                <a:off x="3638520" y="61642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638160" y="63165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"/>
          <p:cNvSpPr/>
          <p:nvPr/>
        </p:nvSpPr>
        <p:spPr>
          <a:xfrm>
            <a:off x="5708520" y="5923080"/>
            <a:ext cx="5335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38088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efecto del io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ú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s el cambio en el equilibrio causado por la suma de un compuesto teniendo un ion en común con la sustancia disuel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34800" y="2565360"/>
            <a:ext cx="8474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sidere la mezcla de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Na (sal, electrolito fuerte) y C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OH (ácido débi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072440" y="3578400"/>
            <a:ext cx="6324120" cy="440640"/>
            <a:chOff x="1072440" y="3578400"/>
            <a:chExt cx="6324120" cy="440640"/>
          </a:xfrm>
        </p:grpSpPr>
        <p:sp>
          <p:nvSpPr>
            <p:cNvPr id="522" name=""/>
            <p:cNvSpPr/>
            <p:nvPr/>
          </p:nvSpPr>
          <p:spPr>
            <a:xfrm>
              <a:off x="1072440" y="3578400"/>
              <a:ext cx="632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N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301920" y="3759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1073160" y="4289400"/>
            <a:ext cx="6111720" cy="440640"/>
            <a:chOff x="1073160" y="4289400"/>
            <a:chExt cx="6111720" cy="440640"/>
          </a:xfrm>
        </p:grpSpPr>
        <p:grpSp>
          <p:nvGrpSpPr>
            <p:cNvPr id="525" name=""/>
            <p:cNvGrpSpPr/>
            <p:nvPr/>
          </p:nvGrpSpPr>
          <p:grpSpPr>
            <a:xfrm>
              <a:off x="3288960" y="4394160"/>
              <a:ext cx="609840" cy="152640"/>
              <a:chOff x="3288960" y="4394160"/>
              <a:chExt cx="609840" cy="152640"/>
            </a:xfrm>
          </p:grpSpPr>
          <p:sp>
            <p:nvSpPr>
              <p:cNvPr id="526" name=""/>
              <p:cNvSpPr/>
              <p:nvPr/>
            </p:nvSpPr>
            <p:spPr>
              <a:xfrm>
                <a:off x="3289320" y="4394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288960" y="454680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073160" y="4289400"/>
              <a:ext cx="6111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H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 + C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" name=""/>
          <p:cNvSpPr/>
          <p:nvPr/>
        </p:nvSpPr>
        <p:spPr>
          <a:xfrm flipH="1">
            <a:off x="2844360" y="485136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079960" y="3505320"/>
            <a:ext cx="3530520" cy="1231920"/>
            <a:chOff x="5079960" y="3505320"/>
            <a:chExt cx="3530520" cy="1231920"/>
          </a:xfrm>
        </p:grpSpPr>
        <p:sp>
          <p:nvSpPr>
            <p:cNvPr id="531" name=""/>
            <p:cNvSpPr/>
            <p:nvPr/>
          </p:nvSpPr>
          <p:spPr>
            <a:xfrm>
              <a:off x="5283360" y="3505320"/>
              <a:ext cx="2133360" cy="520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79960" y="4216320"/>
              <a:ext cx="2133720" cy="5209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315200" y="3861000"/>
              <a:ext cx="12952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0000"/>
                  </a:solidFill>
                  <a:latin typeface="Arial"/>
                </a:rPr>
                <a:t>comú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179280" y="1341360"/>
            <a:ext cx="871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esencia de un ion comú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“suprime”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a ionización de un ácido débil o de una base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NaA y un ácido débil H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305280" y="1495440"/>
            <a:ext cx="4456440" cy="398880"/>
            <a:chOff x="305280" y="1495440"/>
            <a:chExt cx="4456440" cy="398880"/>
          </a:xfrm>
        </p:grpSpPr>
        <p:sp>
          <p:nvSpPr>
            <p:cNvPr id="537" name=""/>
            <p:cNvSpPr/>
            <p:nvPr/>
          </p:nvSpPr>
          <p:spPr>
            <a:xfrm>
              <a:off x="305280" y="1495440"/>
              <a:ext cx="445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A (ac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478160" y="161136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1477800" y="17636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11040" y="885960"/>
            <a:ext cx="4598640" cy="398880"/>
            <a:chOff x="311040" y="885960"/>
            <a:chExt cx="4598640" cy="398880"/>
          </a:xfrm>
        </p:grpSpPr>
        <p:sp>
          <p:nvSpPr>
            <p:cNvPr id="541" name=""/>
            <p:cNvSpPr/>
            <p:nvPr/>
          </p:nvSpPr>
          <p:spPr>
            <a:xfrm>
              <a:off x="311040" y="885960"/>
              <a:ext cx="459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Na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N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84280" y="1077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390680" y="83808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390680" y="1460520"/>
            <a:ext cx="76212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6187320" y="1038240"/>
            <a:ext cx="1903320" cy="803520"/>
            <a:chOff x="6187320" y="1038240"/>
            <a:chExt cx="1903320" cy="803520"/>
          </a:xfrm>
        </p:grpSpPr>
        <p:sp>
          <p:nvSpPr>
            <p:cNvPr id="546" name=""/>
            <p:cNvSpPr/>
            <p:nvPr/>
          </p:nvSpPr>
          <p:spPr>
            <a:xfrm>
              <a:off x="6187320" y="125568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140600" y="1038240"/>
              <a:ext cx="95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275240" y="1442880"/>
              <a:ext cx="674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95960" y="14479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"/>
          <p:cNvGrpSpPr/>
          <p:nvPr/>
        </p:nvGrpSpPr>
        <p:grpSpPr>
          <a:xfrm>
            <a:off x="202320" y="2060640"/>
            <a:ext cx="1912320" cy="803520"/>
            <a:chOff x="202320" y="2060640"/>
            <a:chExt cx="1912320" cy="803520"/>
          </a:xfrm>
        </p:grpSpPr>
        <p:sp>
          <p:nvSpPr>
            <p:cNvPr id="551" name=""/>
            <p:cNvSpPr/>
            <p:nvPr/>
          </p:nvSpPr>
          <p:spPr>
            <a:xfrm>
              <a:off x="202320" y="2278080"/>
              <a:ext cx="81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47320" y="2060640"/>
              <a:ext cx="967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A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357560" y="2465280"/>
              <a:ext cx="5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11320" y="247032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90720" y="2852640"/>
            <a:ext cx="3792240" cy="816480"/>
            <a:chOff x="90720" y="2852640"/>
            <a:chExt cx="3792240" cy="816480"/>
          </a:xfrm>
        </p:grpSpPr>
        <p:sp>
          <p:nvSpPr>
            <p:cNvPr id="556" name=""/>
            <p:cNvSpPr/>
            <p:nvPr/>
          </p:nvSpPr>
          <p:spPr>
            <a:xfrm>
              <a:off x="90720" y="3031920"/>
              <a:ext cx="3093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-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3190680" y="2852640"/>
              <a:ext cx="692280" cy="816480"/>
              <a:chOff x="3190680" y="2852640"/>
              <a:chExt cx="692280" cy="816480"/>
            </a:xfrm>
          </p:grpSpPr>
          <p:sp>
            <p:nvSpPr>
              <p:cNvPr id="558" name=""/>
              <p:cNvSpPr/>
              <p:nvPr/>
            </p:nvSpPr>
            <p:spPr>
              <a:xfrm>
                <a:off x="3190680" y="285264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305520" y="327024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27348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1" name=""/>
          <p:cNvGrpSpPr/>
          <p:nvPr/>
        </p:nvGrpSpPr>
        <p:grpSpPr>
          <a:xfrm>
            <a:off x="4507200" y="2830680"/>
            <a:ext cx="3918960" cy="816480"/>
            <a:chOff x="4507200" y="2830680"/>
            <a:chExt cx="3918960" cy="816480"/>
          </a:xfrm>
        </p:grpSpPr>
        <p:sp>
          <p:nvSpPr>
            <p:cNvPr id="562" name=""/>
            <p:cNvSpPr/>
            <p:nvPr/>
          </p:nvSpPr>
          <p:spPr>
            <a:xfrm>
              <a:off x="4507200" y="3009960"/>
              <a:ext cx="3174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751520" y="2830680"/>
              <a:ext cx="674640" cy="816480"/>
              <a:chOff x="7751520" y="2830680"/>
              <a:chExt cx="674640" cy="816480"/>
            </a:xfrm>
          </p:grpSpPr>
          <p:sp>
            <p:nvSpPr>
              <p:cNvPr id="564" name=""/>
              <p:cNvSpPr/>
              <p:nvPr/>
            </p:nvSpPr>
            <p:spPr>
              <a:xfrm>
                <a:off x="7816680" y="2830680"/>
                <a:ext cx="538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A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751520" y="32482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254880" y="5494320"/>
            <a:ext cx="2936160" cy="816480"/>
            <a:chOff x="254880" y="5494320"/>
            <a:chExt cx="2936160" cy="816480"/>
          </a:xfrm>
        </p:grpSpPr>
        <p:sp>
          <p:nvSpPr>
            <p:cNvPr id="568" name=""/>
            <p:cNvSpPr/>
            <p:nvPr/>
          </p:nvSpPr>
          <p:spPr>
            <a:xfrm>
              <a:off x="254880" y="5695920"/>
              <a:ext cx="204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1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s-MX" sz="2000" spc="-1" strike="noStrike">
                  <a:solidFill>
                    <a:srgbClr val="000000"/>
                  </a:solidFill>
                  <a:latin typeface="Arial"/>
                </a:rPr>
                <a:t> 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2175120" y="5494320"/>
              <a:ext cx="1015920" cy="816480"/>
              <a:chOff x="2175120" y="5494320"/>
              <a:chExt cx="1015920" cy="816480"/>
            </a:xfrm>
          </p:grpSpPr>
          <p:sp>
            <p:nvSpPr>
              <p:cNvPr id="570" name=""/>
              <p:cNvSpPr/>
              <p:nvPr/>
            </p:nvSpPr>
            <p:spPr>
              <a:xfrm>
                <a:off x="2327400" y="54943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sal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75120" y="5911920"/>
                <a:ext cx="1015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76720" y="588492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>
            <a:off x="4930920" y="4005360"/>
            <a:ext cx="3733560" cy="862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uac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nderson-Hasselbal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261720" y="4127400"/>
            <a:ext cx="4415040" cy="816120"/>
            <a:chOff x="261720" y="4127400"/>
            <a:chExt cx="4415040" cy="816120"/>
          </a:xfrm>
        </p:grpSpPr>
        <p:sp>
          <p:nvSpPr>
            <p:cNvPr id="575" name=""/>
            <p:cNvSpPr/>
            <p:nvPr/>
          </p:nvSpPr>
          <p:spPr>
            <a:xfrm>
              <a:off x="261720" y="4317840"/>
              <a:ext cx="2082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a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2422440" y="4127400"/>
              <a:ext cx="2254320" cy="816120"/>
              <a:chOff x="2422440" y="4127400"/>
              <a:chExt cx="2254320" cy="816120"/>
            </a:xfrm>
          </p:grpSpPr>
          <p:sp>
            <p:nvSpPr>
              <p:cNvPr id="577" name=""/>
              <p:cNvSpPr/>
              <p:nvPr/>
            </p:nvSpPr>
            <p:spPr>
              <a:xfrm>
                <a:off x="2494080" y="412740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 conjugada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76920" y="4544640"/>
                <a:ext cx="930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2244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063880" y="2286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zcla de sal BHA y una base débil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311040" y="885960"/>
            <a:ext cx="4981320" cy="398880"/>
            <a:chOff x="311040" y="885960"/>
            <a:chExt cx="4981320" cy="398880"/>
          </a:xfrm>
        </p:grpSpPr>
        <p:sp>
          <p:nvSpPr>
            <p:cNvPr id="582" name=""/>
            <p:cNvSpPr/>
            <p:nvPr/>
          </p:nvSpPr>
          <p:spPr>
            <a:xfrm>
              <a:off x="311040" y="885960"/>
              <a:ext cx="498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BHA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  +   A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566000" y="1077840"/>
              <a:ext cx="65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506600" y="83808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700360" y="1413000"/>
            <a:ext cx="936720" cy="576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329760" y="1989000"/>
            <a:ext cx="2091600" cy="803520"/>
            <a:chOff x="329760" y="1989000"/>
            <a:chExt cx="2091600" cy="803520"/>
          </a:xfrm>
        </p:grpSpPr>
        <p:sp>
          <p:nvSpPr>
            <p:cNvPr id="587" name=""/>
            <p:cNvSpPr/>
            <p:nvPr/>
          </p:nvSpPr>
          <p:spPr>
            <a:xfrm>
              <a:off x="329760" y="220644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088640" y="1989000"/>
              <a:ext cx="13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09840" y="2393640"/>
              <a:ext cx="48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23840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3638520" y="1989000"/>
            <a:ext cx="1901520" cy="803520"/>
            <a:chOff x="3638520" y="1989000"/>
            <a:chExt cx="1901520" cy="803520"/>
          </a:xfrm>
        </p:grpSpPr>
        <p:sp>
          <p:nvSpPr>
            <p:cNvPr id="592" name=""/>
            <p:cNvSpPr/>
            <p:nvPr/>
          </p:nvSpPr>
          <p:spPr>
            <a:xfrm>
              <a:off x="3638520" y="220644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677840" y="1989000"/>
              <a:ext cx="782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684680" y="2393640"/>
              <a:ext cx="76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B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549680" y="2398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225360" y="2852640"/>
            <a:ext cx="3979440" cy="816480"/>
            <a:chOff x="225360" y="2852640"/>
            <a:chExt cx="3979440" cy="816480"/>
          </a:xfrm>
        </p:grpSpPr>
        <p:sp>
          <p:nvSpPr>
            <p:cNvPr id="597" name=""/>
            <p:cNvSpPr/>
            <p:nvPr/>
          </p:nvSpPr>
          <p:spPr>
            <a:xfrm>
              <a:off x="225360" y="3031920"/>
              <a:ext cx="3182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 = 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3327120" y="2852640"/>
              <a:ext cx="877680" cy="816480"/>
              <a:chOff x="3327120" y="2852640"/>
              <a:chExt cx="877680" cy="816480"/>
            </a:xfrm>
          </p:grpSpPr>
          <p:sp>
            <p:nvSpPr>
              <p:cNvPr id="599" name=""/>
              <p:cNvSpPr/>
              <p:nvPr/>
            </p:nvSpPr>
            <p:spPr>
              <a:xfrm>
                <a:off x="3327120" y="2852640"/>
                <a:ext cx="7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43400" y="327024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3409920" y="324324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2" name=""/>
          <p:cNvGrpSpPr/>
          <p:nvPr/>
        </p:nvGrpSpPr>
        <p:grpSpPr>
          <a:xfrm>
            <a:off x="4505400" y="2830680"/>
            <a:ext cx="3961800" cy="816480"/>
            <a:chOff x="4505400" y="2830680"/>
            <a:chExt cx="3961800" cy="816480"/>
          </a:xfrm>
        </p:grpSpPr>
        <p:sp>
          <p:nvSpPr>
            <p:cNvPr id="603" name=""/>
            <p:cNvSpPr/>
            <p:nvPr/>
          </p:nvSpPr>
          <p:spPr>
            <a:xfrm>
              <a:off x="4505400" y="3009960"/>
              <a:ext cx="3193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-log 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 -log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  + 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7705800" y="2830680"/>
              <a:ext cx="761400" cy="816480"/>
              <a:chOff x="7705800" y="2830680"/>
              <a:chExt cx="761400" cy="816480"/>
            </a:xfrm>
          </p:grpSpPr>
          <p:sp>
            <p:nvSpPr>
              <p:cNvPr id="605" name=""/>
              <p:cNvSpPr/>
              <p:nvPr/>
            </p:nvSpPr>
            <p:spPr>
              <a:xfrm>
                <a:off x="7705800" y="2830680"/>
                <a:ext cx="76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843320" y="3248280"/>
                <a:ext cx="489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783200" y="32212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8" name=""/>
          <p:cNvGrpSpPr/>
          <p:nvPr/>
        </p:nvGrpSpPr>
        <p:grpSpPr>
          <a:xfrm>
            <a:off x="877320" y="4127400"/>
            <a:ext cx="4415400" cy="816120"/>
            <a:chOff x="877320" y="4127400"/>
            <a:chExt cx="4415400" cy="816120"/>
          </a:xfrm>
        </p:grpSpPr>
        <p:sp>
          <p:nvSpPr>
            <p:cNvPr id="609" name=""/>
            <p:cNvSpPr/>
            <p:nvPr/>
          </p:nvSpPr>
          <p:spPr>
            <a:xfrm>
              <a:off x="877320" y="4317840"/>
              <a:ext cx="22107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OH = p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  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 lo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3038400" y="4127400"/>
              <a:ext cx="2254320" cy="816120"/>
              <a:chOff x="3038400" y="4127400"/>
              <a:chExt cx="2254320" cy="816120"/>
            </a:xfrm>
          </p:grpSpPr>
          <p:sp>
            <p:nvSpPr>
              <p:cNvPr id="611" name=""/>
              <p:cNvSpPr/>
              <p:nvPr/>
            </p:nvSpPr>
            <p:spPr>
              <a:xfrm>
                <a:off x="3083400" y="4127400"/>
                <a:ext cx="2177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ácido conjugad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3722760" y="4544640"/>
                <a:ext cx="874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base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038400" y="4518000"/>
                <a:ext cx="2254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4" name=""/>
          <p:cNvSpPr/>
          <p:nvPr/>
        </p:nvSpPr>
        <p:spPr>
          <a:xfrm>
            <a:off x="324000" y="1484280"/>
            <a:ext cx="640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ac)    +   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(l)                    B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ac)   +  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843280" y="16304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2843280" y="1773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81680" y="5695920"/>
            <a:ext cx="2846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H = 14  - 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-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85664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7240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81200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81520" y="5695920"/>
            <a:ext cx="2529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H =  p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+   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865600" y="551484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s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81360" y="59119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bas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820960" y="591192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2987640" y="189000"/>
            <a:ext cx="31669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90440" y="77472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itulación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una solución con una concentración conocida es agregada gradualmente a otra solución con concentración desconocida, hasta que la reacción química entre las dos soluciones se complet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1000" y="1989000"/>
            <a:ext cx="814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Punto de equivalenci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l punto en el que una reacción es compl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50920" y="263700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32080" indent="-1432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Indica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sustancia que cambia de color en (cerca de) el punto de equival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1"/>
          <a:srcRect l="0" t="42858" r="0" b="0"/>
          <a:stretch/>
        </p:blipFill>
        <p:spPr>
          <a:xfrm>
            <a:off x="603360" y="3941640"/>
            <a:ext cx="2381040" cy="243864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209400" y="4294080"/>
            <a:ext cx="353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gregar lentamente un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un ácido descono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ASTA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2"/>
          <a:stretch/>
        </p:blipFill>
        <p:spPr>
          <a:xfrm>
            <a:off x="6730920" y="3789360"/>
            <a:ext cx="1873440" cy="274320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539160" y="5284800"/>
            <a:ext cx="26863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que cambie de col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2400" spc="-1" strike="noStrike">
                <a:solidFill>
                  <a:srgbClr val="ff00ff"/>
                </a:solidFill>
                <a:latin typeface="Arial"/>
              </a:rPr>
              <a:t>ros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652320" y="235080"/>
            <a:ext cx="773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ones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1479960" y="922320"/>
            <a:ext cx="6204600" cy="510120"/>
            <a:chOff x="1479960" y="922320"/>
            <a:chExt cx="6204600" cy="510120"/>
          </a:xfrm>
        </p:grpSpPr>
        <p:sp>
          <p:nvSpPr>
            <p:cNvPr id="635" name=""/>
            <p:cNvSpPr/>
            <p:nvPr/>
          </p:nvSpPr>
          <p:spPr>
            <a:xfrm>
              <a:off x="1479960" y="922320"/>
              <a:ext cx="620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3120" y="116352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007720" y="1531800"/>
            <a:ext cx="4151880" cy="560880"/>
            <a:chOff x="2007720" y="1531800"/>
            <a:chExt cx="4151880" cy="560880"/>
          </a:xfrm>
        </p:grpSpPr>
        <p:sp>
          <p:nvSpPr>
            <p:cNvPr id="638" name=""/>
            <p:cNvSpPr/>
            <p:nvPr/>
          </p:nvSpPr>
          <p:spPr>
            <a:xfrm>
              <a:off x="2007720" y="1531800"/>
              <a:ext cx="415188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62200" y="17730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40" name="" descr=""/>
          <p:cNvPicPr/>
          <p:nvPr/>
        </p:nvPicPr>
        <p:blipFill>
          <a:blip r:embed="rId1"/>
          <a:srcRect l="0" t="4347" r="0" b="0"/>
          <a:stretch/>
        </p:blipFill>
        <p:spPr>
          <a:xfrm>
            <a:off x="380880" y="2451240"/>
            <a:ext cx="838224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939960" y="76320"/>
            <a:ext cx="72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 ácido débil con una bas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11920" y="731880"/>
            <a:ext cx="8011800" cy="510120"/>
            <a:chOff x="511920" y="731880"/>
            <a:chExt cx="8011800" cy="510120"/>
          </a:xfrm>
        </p:grpSpPr>
        <p:sp>
          <p:nvSpPr>
            <p:cNvPr id="643" name=""/>
            <p:cNvSpPr/>
            <p:nvPr/>
          </p:nvSpPr>
          <p:spPr>
            <a:xfrm>
              <a:off x="511920" y="731880"/>
              <a:ext cx="801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a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Na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402080" y="973440"/>
              <a:ext cx="60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852840" y="1214280"/>
            <a:ext cx="7371720" cy="560880"/>
            <a:chOff x="852840" y="1214280"/>
            <a:chExt cx="7371720" cy="560880"/>
          </a:xfrm>
        </p:grpSpPr>
        <p:sp>
          <p:nvSpPr>
            <p:cNvPr id="646" name=""/>
            <p:cNvSpPr/>
            <p:nvPr/>
          </p:nvSpPr>
          <p:spPr>
            <a:xfrm>
              <a:off x="852840" y="1214280"/>
              <a:ext cx="737172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427640" y="14554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845280" y="2251080"/>
            <a:ext cx="7457400" cy="560880"/>
            <a:chOff x="845280" y="2251080"/>
            <a:chExt cx="7457400" cy="560880"/>
          </a:xfrm>
        </p:grpSpPr>
        <p:sp>
          <p:nvSpPr>
            <p:cNvPr id="649" name=""/>
            <p:cNvSpPr/>
            <p:nvPr/>
          </p:nvSpPr>
          <p:spPr>
            <a:xfrm>
              <a:off x="845280" y="2251080"/>
              <a:ext cx="745740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C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OOH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41440" y="24033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4141440" y="2556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98960" y="174456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g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rcRect l="0" t="2801" r="0" b="0"/>
          <a:stretch/>
        </p:blipFill>
        <p:spPr>
          <a:xfrm>
            <a:off x="755640" y="2852640"/>
            <a:ext cx="762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1012680" y="163440"/>
            <a:ext cx="73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itulación de una base débil con un ácido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1898640" y="714240"/>
            <a:ext cx="4743360" cy="510120"/>
            <a:chOff x="1898640" y="714240"/>
            <a:chExt cx="4743360" cy="510120"/>
          </a:xfrm>
        </p:grpSpPr>
        <p:sp>
          <p:nvSpPr>
            <p:cNvPr id="656" name=""/>
            <p:cNvSpPr/>
            <p:nvPr/>
          </p:nvSpPr>
          <p:spPr>
            <a:xfrm>
              <a:off x="1898640" y="714240"/>
              <a:ext cx="4743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33840" y="9558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1677240" y="2179800"/>
            <a:ext cx="5680080" cy="510120"/>
            <a:chOff x="1677240" y="2179800"/>
            <a:chExt cx="5680080" cy="510120"/>
          </a:xfrm>
        </p:grpSpPr>
        <p:sp>
          <p:nvSpPr>
            <p:cNvPr id="659" name=""/>
            <p:cNvSpPr/>
            <p:nvPr/>
          </p:nvSpPr>
          <p:spPr>
            <a:xfrm>
              <a:off x="1677240" y="2179800"/>
              <a:ext cx="5680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295880" y="23320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4295520" y="2484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35320" y="1622520"/>
            <a:ext cx="43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 (pH &lt; 7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2086200" y="1171440"/>
            <a:ext cx="4560480" cy="510120"/>
            <a:chOff x="2086200" y="1171440"/>
            <a:chExt cx="4560480" cy="510120"/>
          </a:xfrm>
        </p:grpSpPr>
        <p:sp>
          <p:nvSpPr>
            <p:cNvPr id="664" name=""/>
            <p:cNvSpPr/>
            <p:nvPr/>
          </p:nvSpPr>
          <p:spPr>
            <a:xfrm>
              <a:off x="2086200" y="1171440"/>
              <a:ext cx="4560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Cl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62280" y="141300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66" name="" descr=""/>
          <p:cNvPicPr/>
          <p:nvPr/>
        </p:nvPicPr>
        <p:blipFill>
          <a:blip r:embed="rId1"/>
          <a:srcRect l="0" t="2925" r="0" b="0"/>
          <a:stretch/>
        </p:blipFill>
        <p:spPr>
          <a:xfrm>
            <a:off x="685800" y="2743200"/>
            <a:ext cx="777240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468360" y="260280"/>
            <a:ext cx="8180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muestra de 100 mL de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HNO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son titulados con una solución 0.10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aOH. ¿Qué pH hay en el punto de equivalenc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2168640" y="1523880"/>
            <a:ext cx="6018840" cy="560880"/>
            <a:chOff x="2168640" y="1523880"/>
            <a:chExt cx="6018840" cy="560880"/>
          </a:xfrm>
        </p:grpSpPr>
        <p:sp>
          <p:nvSpPr>
            <p:cNvPr id="669" name=""/>
            <p:cNvSpPr/>
            <p:nvPr/>
          </p:nvSpPr>
          <p:spPr>
            <a:xfrm>
              <a:off x="2168640" y="1523880"/>
              <a:ext cx="601884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46480" y="1765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74520" y="1190520"/>
            <a:ext cx="20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ie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5600" y="1952640"/>
            <a:ext cx="189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inaliza (mo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34072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52000" y="11905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4123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91960" y="1952640"/>
            <a:ext cx="5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652360" y="195264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38200" y="3332160"/>
            <a:ext cx="6104160" cy="560880"/>
            <a:chOff x="2338200" y="3332160"/>
            <a:chExt cx="6104160" cy="560880"/>
          </a:xfrm>
        </p:grpSpPr>
        <p:sp>
          <p:nvSpPr>
            <p:cNvPr id="679" name=""/>
            <p:cNvSpPr/>
            <p:nvPr/>
          </p:nvSpPr>
          <p:spPr>
            <a:xfrm>
              <a:off x="2338200" y="3332160"/>
              <a:ext cx="6104160" cy="56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         OH</a:t>
              </a:r>
              <a:r>
                <a:rPr b="0" lang="es-MX" sz="2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+ HNO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34844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943160" y="3636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2" name=""/>
          <p:cNvGrpSpPr/>
          <p:nvPr/>
        </p:nvGrpSpPr>
        <p:grpSpPr>
          <a:xfrm>
            <a:off x="131400" y="3645000"/>
            <a:ext cx="1680840" cy="1465200"/>
            <a:chOff x="131400" y="3645000"/>
            <a:chExt cx="1680840" cy="1465200"/>
          </a:xfrm>
        </p:grpSpPr>
        <p:sp>
          <p:nvSpPr>
            <p:cNvPr id="683" name=""/>
            <p:cNvSpPr/>
            <p:nvPr/>
          </p:nvSpPr>
          <p:spPr>
            <a:xfrm>
              <a:off x="182880" y="3645000"/>
              <a:ext cx="128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Inicial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1400" y="4178160"/>
              <a:ext cx="151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Camb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32120" y="4711320"/>
              <a:ext cx="168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Equilibri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34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58072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411640" y="42210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63112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174400" y="465300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5 -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093800" y="371628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209000" y="4184640"/>
            <a:ext cx="45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755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357680" y="46530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3859200" y="2403360"/>
            <a:ext cx="3177000" cy="740160"/>
            <a:chOff x="3859200" y="2403360"/>
            <a:chExt cx="3177000" cy="740160"/>
          </a:xfrm>
        </p:grpSpPr>
        <p:grpSp>
          <p:nvGrpSpPr>
            <p:cNvPr id="696" name=""/>
            <p:cNvGrpSpPr/>
            <p:nvPr/>
          </p:nvGrpSpPr>
          <p:grpSpPr>
            <a:xfrm>
              <a:off x="3859200" y="2403360"/>
              <a:ext cx="2009520" cy="740160"/>
              <a:chOff x="3859200" y="2403360"/>
              <a:chExt cx="2009520" cy="740160"/>
            </a:xfrm>
          </p:grpSpPr>
          <p:sp>
            <p:nvSpPr>
              <p:cNvPr id="697" name=""/>
              <p:cNvSpPr/>
              <p:nvPr/>
            </p:nvSpPr>
            <p:spPr>
              <a:xfrm>
                <a:off x="3859200" y="2579760"/>
                <a:ext cx="105372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NO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 =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8" name=""/>
              <p:cNvGrpSpPr/>
              <p:nvPr/>
            </p:nvGrpSpPr>
            <p:grpSpPr>
              <a:xfrm>
                <a:off x="5015160" y="2403360"/>
                <a:ext cx="853560" cy="740160"/>
                <a:chOff x="5015160" y="2403360"/>
                <a:chExt cx="853560" cy="74016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5099760" y="2403360"/>
                  <a:ext cx="6760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0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015160" y="2744640"/>
                  <a:ext cx="81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0.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06960" y="2760480"/>
                  <a:ext cx="761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2" name=""/>
            <p:cNvSpPr/>
            <p:nvPr/>
          </p:nvSpPr>
          <p:spPr>
            <a:xfrm>
              <a:off x="5859000" y="2579760"/>
              <a:ext cx="117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 0.05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608760" y="2581200"/>
            <a:ext cx="294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Volumen Final = 200 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639000" y="5148360"/>
            <a:ext cx="2508840" cy="845280"/>
            <a:chOff x="639000" y="5148360"/>
            <a:chExt cx="2508840" cy="845280"/>
          </a:xfrm>
        </p:grpSpPr>
        <p:sp>
          <p:nvSpPr>
            <p:cNvPr id="705" name=""/>
            <p:cNvSpPr/>
            <p:nvPr/>
          </p:nvSpPr>
          <p:spPr>
            <a:xfrm>
              <a:off x="639000" y="5365800"/>
              <a:ext cx="6519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549080" y="5148360"/>
              <a:ext cx="1541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[H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897920" y="5553000"/>
              <a:ext cx="83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NO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436400" y="5557680"/>
              <a:ext cx="1711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3123360" y="5148360"/>
            <a:ext cx="1364040" cy="803880"/>
            <a:chOff x="3123360" y="5148360"/>
            <a:chExt cx="1364040" cy="803880"/>
          </a:xfrm>
        </p:grpSpPr>
        <p:sp>
          <p:nvSpPr>
            <p:cNvPr id="710" name=""/>
            <p:cNvSpPr/>
            <p:nvPr/>
          </p:nvSpPr>
          <p:spPr>
            <a:xfrm>
              <a:off x="3123360" y="5365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820320" y="5148360"/>
              <a:ext cx="391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571200" y="5553360"/>
              <a:ext cx="889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0.05-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497040" y="555804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4480920" y="5364000"/>
            <a:ext cx="151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2.2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425640" y="5373720"/>
            <a:ext cx="19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0.05 – </a:t>
            </a:r>
            <a:r>
              <a:rPr b="1" i="1" lang="es-MX" sz="20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3300"/>
                </a:solidFill>
                <a:latin typeface="Symbol"/>
                <a:ea typeface="Symbol"/>
              </a:rPr>
              <a:t></a:t>
            </a:r>
            <a:r>
              <a:rPr b="1" lang="es-MX" sz="2000" spc="-1" strike="noStrike">
                <a:solidFill>
                  <a:srgbClr val="ff3300"/>
                </a:solidFill>
                <a:latin typeface="Arial"/>
              </a:rPr>
              <a:t>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6800" y="623736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1.05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14520" y="621972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066200" y="6237360"/>
            <a:ext cx="148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H = 5.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81480" y="616572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14 – pOH = 8.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26028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rrhenius Arrhenius (18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21304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se: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 que, en disolución acuosa se disocia formand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H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765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Ác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ustancia que, en disolución acuosa, se disocia form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339264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cción de neutralizació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908600"/>
            <a:ext cx="8569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imi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stancias con propiedades básica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 acid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que no contiene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tones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o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idroxilo (Ej. NH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limita a disoluciones acuos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27280" y="1305000"/>
            <a:ext cx="4176720" cy="6285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563920" y="2630520"/>
            <a:ext cx="4313160" cy="654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258920" y="3814920"/>
            <a:ext cx="746748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798640" y="152280"/>
            <a:ext cx="35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dicadores ácido-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2608200" y="728640"/>
            <a:ext cx="4051440" cy="398880"/>
            <a:chOff x="2608200" y="728640"/>
            <a:chExt cx="4051440" cy="398880"/>
          </a:xfrm>
        </p:grpSpPr>
        <p:sp>
          <p:nvSpPr>
            <p:cNvPr id="722" name=""/>
            <p:cNvSpPr/>
            <p:nvPr/>
          </p:nvSpPr>
          <p:spPr>
            <a:xfrm>
              <a:off x="2608200" y="728640"/>
              <a:ext cx="405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In (ac)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11680" y="8330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3811320" y="98568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278000" y="1305000"/>
            <a:ext cx="1487520" cy="803520"/>
            <a:chOff x="1278000" y="1305000"/>
            <a:chExt cx="1487520" cy="803520"/>
          </a:xfrm>
        </p:grpSpPr>
        <p:sp>
          <p:nvSpPr>
            <p:cNvPr id="726" name=""/>
            <p:cNvSpPr/>
            <p:nvPr/>
          </p:nvSpPr>
          <p:spPr>
            <a:xfrm>
              <a:off x="2028600" y="151920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283760" y="130500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348920" y="170964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278000" y="171468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901240" y="1508040"/>
            <a:ext cx="37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l ácido (HIn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1278000" y="2195640"/>
            <a:ext cx="1487520" cy="803520"/>
            <a:chOff x="1278000" y="2195640"/>
            <a:chExt cx="1487520" cy="803520"/>
          </a:xfrm>
        </p:grpSpPr>
        <p:sp>
          <p:nvSpPr>
            <p:cNvPr id="732" name=""/>
            <p:cNvSpPr/>
            <p:nvPr/>
          </p:nvSpPr>
          <p:spPr>
            <a:xfrm>
              <a:off x="2028600" y="2409840"/>
              <a:ext cx="73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283760" y="2195640"/>
              <a:ext cx="71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In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348920" y="2600280"/>
              <a:ext cx="58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In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278000" y="2605320"/>
              <a:ext cx="67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2902320" y="2398680"/>
            <a:ext cx="50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lor de la base conjugada (In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predo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rcRect l="0" t="3333" r="0" b="0"/>
          <a:stretch/>
        </p:blipFill>
        <p:spPr>
          <a:xfrm>
            <a:off x="900000" y="3068640"/>
            <a:ext cx="731520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" descr=""/>
          <p:cNvPicPr/>
          <p:nvPr/>
        </p:nvPicPr>
        <p:blipFill>
          <a:blip r:embed="rId1"/>
          <a:srcRect l="0" t="3388" r="0" b="0"/>
          <a:stretch/>
        </p:blipFill>
        <p:spPr>
          <a:xfrm>
            <a:off x="1411200" y="3068640"/>
            <a:ext cx="6400800" cy="3303720"/>
          </a:xfrm>
          <a:prstGeom prst="rect">
            <a:avLst/>
          </a:prstGeom>
          <a:ln w="0">
            <a:noFill/>
          </a:ln>
        </p:spPr>
      </p:pic>
      <p:sp>
        <p:nvSpPr>
          <p:cNvPr id="739" name=""/>
          <p:cNvSpPr/>
          <p:nvPr/>
        </p:nvSpPr>
        <p:spPr>
          <a:xfrm>
            <a:off x="324000" y="198360"/>
            <a:ext cx="85690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¿Qué indicador se usaría para una titulación de HNO</a:t>
            </a:r>
            <a:r>
              <a:rPr b="0" lang="es-MX" sz="2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0" lang="es-MX" sz="2200" spc="-1" strike="noStrike">
                <a:solidFill>
                  <a:srgbClr val="3333cc"/>
                </a:solidFill>
                <a:latin typeface="Arial"/>
              </a:rPr>
              <a:t> con KOH 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2280" y="981000"/>
            <a:ext cx="851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Ácido débil titulado con una base fue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52280" y="136224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tendrá una base conjugada del ácido déb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52280" y="198900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el punto de equivalencia, 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52280" y="237024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usaría  rojo cresol o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enoftale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516720" y="5479920"/>
            <a:ext cx="1219320" cy="685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5" dur="indefinite" restart="never" nodeType="tmRoot">
          <p:childTnLst>
            <p:seq>
              <p:cTn id="1306" dur="indefinite" nodeType="mainSeq">
                <p:childTnLst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/>
          <p:nvPr/>
        </p:nvSpPr>
        <p:spPr>
          <a:xfrm>
            <a:off x="558000" y="152280"/>
            <a:ext cx="80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va de titulación de un ácido fuerte con una base fu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" descr=""/>
          <p:cNvPicPr/>
          <p:nvPr/>
        </p:nvPicPr>
        <p:blipFill>
          <a:blip r:embed="rId1"/>
          <a:srcRect l="0" t="2599" r="0" b="0"/>
          <a:stretch/>
        </p:blipFill>
        <p:spPr>
          <a:xfrm>
            <a:off x="609480" y="835200"/>
            <a:ext cx="792504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16000" y="892080"/>
            <a:ext cx="8748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don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ø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sted es una sustancia que puede aceptar un prot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2820960"/>
            <a:ext cx="9144000" cy="2228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6648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20640" y="5146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680" y="51465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61440" y="58197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9480" y="55944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880" y="581976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560700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10040" y="254160"/>
            <a:ext cx="29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wry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Brønsted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(192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1187280" y="2325600"/>
            <a:ext cx="7150680" cy="1202400"/>
            <a:chOff x="1187280" y="2325600"/>
            <a:chExt cx="7150680" cy="1202400"/>
          </a:xfrm>
        </p:grpSpPr>
        <p:grpSp>
          <p:nvGrpSpPr>
            <p:cNvPr id="72" name=""/>
            <p:cNvGrpSpPr/>
            <p:nvPr/>
          </p:nvGrpSpPr>
          <p:grpSpPr>
            <a:xfrm>
              <a:off x="1187280" y="2497320"/>
              <a:ext cx="959040" cy="1030680"/>
              <a:chOff x="1187280" y="2497320"/>
              <a:chExt cx="959040" cy="1030680"/>
            </a:xfrm>
          </p:grpSpPr>
          <p:sp>
            <p:nvSpPr>
              <p:cNvPr id="73" name=""/>
              <p:cNvSpPr/>
              <p:nvPr/>
            </p:nvSpPr>
            <p:spPr>
              <a:xfrm>
                <a:off x="172836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" name=""/>
              <p:cNvGrpSpPr/>
              <p:nvPr/>
            </p:nvGrpSpPr>
            <p:grpSpPr>
              <a:xfrm>
                <a:off x="1790640" y="2497320"/>
                <a:ext cx="228600" cy="76320"/>
                <a:chOff x="1790640" y="2497320"/>
                <a:chExt cx="228600" cy="76320"/>
              </a:xfrm>
            </p:grpSpPr>
            <p:sp>
              <p:nvSpPr>
                <p:cNvPr id="75" name=""/>
                <p:cNvSpPr/>
                <p:nvPr/>
              </p:nvSpPr>
              <p:spPr>
                <a:xfrm rot="5400000">
                  <a:off x="194292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5400000">
                  <a:off x="179028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70360" y="2624400"/>
                <a:ext cx="75960" cy="228600"/>
                <a:chOff x="2070360" y="2624400"/>
                <a:chExt cx="75960" cy="2286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07036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7036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191772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7348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74636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18728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22550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584440" y="2497320"/>
              <a:ext cx="959040" cy="1030680"/>
              <a:chOff x="2584440" y="2497320"/>
              <a:chExt cx="959040" cy="1030680"/>
            </a:xfrm>
          </p:grpSpPr>
          <p:sp>
            <p:nvSpPr>
              <p:cNvPr id="86" name=""/>
              <p:cNvSpPr/>
              <p:nvPr/>
            </p:nvSpPr>
            <p:spPr>
              <a:xfrm>
                <a:off x="312552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" name=""/>
              <p:cNvGrpSpPr/>
              <p:nvPr/>
            </p:nvGrpSpPr>
            <p:grpSpPr>
              <a:xfrm>
                <a:off x="3187800" y="2497320"/>
                <a:ext cx="228600" cy="76320"/>
                <a:chOff x="3187800" y="2497320"/>
                <a:chExt cx="228600" cy="76320"/>
              </a:xfrm>
            </p:grpSpPr>
            <p:sp>
              <p:nvSpPr>
                <p:cNvPr id="88" name=""/>
                <p:cNvSpPr/>
                <p:nvPr/>
              </p:nvSpPr>
              <p:spPr>
                <a:xfrm rot="5400000">
                  <a:off x="3340080" y="249732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5400000">
                  <a:off x="3187440" y="24973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3467520" y="2624400"/>
                <a:ext cx="75960" cy="228600"/>
                <a:chOff x="3467520" y="2624400"/>
                <a:chExt cx="75960" cy="2286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3467520" y="262440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3467520" y="277704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3314880" y="286560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7064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143520" y="312912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584440" y="255780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4794120" y="2497320"/>
              <a:ext cx="1477800" cy="1030320"/>
              <a:chOff x="4794120" y="2497320"/>
              <a:chExt cx="1477800" cy="1030320"/>
            </a:xfrm>
          </p:grpSpPr>
          <p:sp>
            <p:nvSpPr>
              <p:cNvPr id="98" name=""/>
              <p:cNvSpPr/>
              <p:nvPr/>
            </p:nvSpPr>
            <p:spPr>
              <a:xfrm>
                <a:off x="5335200" y="255888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5397120" y="2497320"/>
                <a:ext cx="228600" cy="75960"/>
                <a:chOff x="5397120" y="2497320"/>
                <a:chExt cx="228600" cy="75960"/>
              </a:xfrm>
            </p:grpSpPr>
            <p:sp>
              <p:nvSpPr>
                <p:cNvPr id="100" name=""/>
                <p:cNvSpPr/>
                <p:nvPr/>
              </p:nvSpPr>
              <p:spPr>
                <a:xfrm rot="5400000">
                  <a:off x="5549400" y="249696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rot="5400000">
                  <a:off x="5397120" y="2497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524560" y="2865240"/>
                <a:ext cx="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079960" y="2738520"/>
                <a:ext cx="304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52840" y="3128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794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887800" y="2557440"/>
                <a:ext cx="384120" cy="398880"/>
                <a:chOff x="5887800" y="2557440"/>
                <a:chExt cx="384120" cy="398880"/>
              </a:xfrm>
            </p:grpSpPr>
            <p:sp>
              <p:nvSpPr>
                <p:cNvPr id="107" name=""/>
                <p:cNvSpPr/>
                <p:nvPr/>
              </p:nvSpPr>
              <p:spPr>
                <a:xfrm flipH="1">
                  <a:off x="5887800" y="2737800"/>
                  <a:ext cx="304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>
                  <a:off x="5906880" y="2557440"/>
                  <a:ext cx="365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MX" sz="20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9" name=""/>
            <p:cNvGrpSpPr/>
            <p:nvPr/>
          </p:nvGrpSpPr>
          <p:grpSpPr>
            <a:xfrm>
              <a:off x="7188120" y="2325600"/>
              <a:ext cx="1149840" cy="641520"/>
              <a:chOff x="7188120" y="2325600"/>
              <a:chExt cx="1149840" cy="64152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8070840" y="2611440"/>
                <a:ext cx="75960" cy="228600"/>
                <a:chOff x="8070840" y="2611440"/>
                <a:chExt cx="75960" cy="2286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8070840" y="261144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070840" y="276408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78160" y="2484360"/>
                <a:ext cx="228600" cy="76320"/>
                <a:chOff x="7778160" y="2484360"/>
                <a:chExt cx="228600" cy="76320"/>
              </a:xfrm>
            </p:grpSpPr>
            <p:sp>
              <p:nvSpPr>
                <p:cNvPr id="114" name=""/>
                <p:cNvSpPr/>
                <p:nvPr/>
              </p:nvSpPr>
              <p:spPr>
                <a:xfrm rot="5400000">
                  <a:off x="7930440" y="248436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rot="5400000">
                  <a:off x="7777800" y="248436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728840" y="2559240"/>
                <a:ext cx="37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473960" y="273852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188120" y="2557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7791120" y="2890800"/>
                <a:ext cx="228600" cy="76320"/>
                <a:chOff x="7791120" y="2890800"/>
                <a:chExt cx="228600" cy="76320"/>
              </a:xfrm>
            </p:grpSpPr>
            <p:sp>
              <p:nvSpPr>
                <p:cNvPr id="120" name=""/>
                <p:cNvSpPr/>
                <p:nvPr/>
              </p:nvSpPr>
              <p:spPr>
                <a:xfrm rot="5400000">
                  <a:off x="7943400" y="289080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rot="5400000">
                  <a:off x="7790760" y="289080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8071920" y="2325600"/>
                <a:ext cx="266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6274440" y="2379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784680" y="26622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784320" y="281484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9900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[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86520" y="26910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731640" y="2557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698920" y="333360"/>
            <a:ext cx="42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iedades ácido-base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692440" y="1131840"/>
            <a:ext cx="4287600" cy="440640"/>
            <a:chOff x="2692440" y="1131840"/>
            <a:chExt cx="4287600" cy="440640"/>
          </a:xfrm>
        </p:grpSpPr>
        <p:sp>
          <p:nvSpPr>
            <p:cNvPr id="131" name=""/>
            <p:cNvSpPr/>
            <p:nvPr/>
          </p:nvSpPr>
          <p:spPr>
            <a:xfrm>
              <a:off x="3795840" y="12477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795840" y="14000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692440" y="1131840"/>
              <a:ext cx="42876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761560" y="5265720"/>
            <a:ext cx="4074480" cy="440640"/>
            <a:chOff x="2761560" y="5265720"/>
            <a:chExt cx="4074480" cy="440640"/>
          </a:xfrm>
        </p:grpSpPr>
        <p:sp>
          <p:nvSpPr>
            <p:cNvPr id="135" name=""/>
            <p:cNvSpPr/>
            <p:nvPr/>
          </p:nvSpPr>
          <p:spPr>
            <a:xfrm>
              <a:off x="2761560" y="5265720"/>
              <a:ext cx="4074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+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                   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4423680" y="5393880"/>
              <a:ext cx="609840" cy="152280"/>
              <a:chOff x="4423680" y="5393880"/>
              <a:chExt cx="609840" cy="152280"/>
            </a:xfrm>
          </p:grpSpPr>
          <p:sp>
            <p:nvSpPr>
              <p:cNvPr id="137" name=""/>
              <p:cNvSpPr/>
              <p:nvPr/>
            </p:nvSpPr>
            <p:spPr>
              <a:xfrm>
                <a:off x="4424040" y="539388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4423680" y="5546160"/>
                <a:ext cx="609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"/>
          <p:cNvSpPr/>
          <p:nvPr/>
        </p:nvSpPr>
        <p:spPr>
          <a:xfrm>
            <a:off x="2731320" y="5784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26080" y="58165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 conjug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45360" y="4575240"/>
            <a:ext cx="73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95840" y="436572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o conju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45760" y="1773360"/>
            <a:ext cx="31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utoionizació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97080" y="2382840"/>
            <a:ext cx="380880" cy="317520"/>
          </a:xfrm>
          <a:custGeom>
            <a:avLst/>
            <a:gdLst/>
            <a:ahLst/>
            <a:rect l="l" t="t" r="r" b="b"/>
            <a:pathLst>
              <a:path w="240" h="200">
                <a:moveTo>
                  <a:pt x="0" y="200"/>
                </a:moveTo>
                <a:cubicBezTo>
                  <a:pt x="52" y="108"/>
                  <a:pt x="104" y="16"/>
                  <a:pt x="144" y="8"/>
                </a:cubicBezTo>
                <a:cubicBezTo>
                  <a:pt x="184" y="0"/>
                  <a:pt x="212" y="76"/>
                  <a:pt x="240" y="15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59200" y="2205000"/>
            <a:ext cx="304560" cy="419040"/>
          </a:xfrm>
          <a:custGeom>
            <a:avLst/>
            <a:gdLst/>
            <a:ahLst/>
            <a:rect l="l" t="t" r="r" b="b"/>
            <a:pathLst>
              <a:path w="192" h="264">
                <a:moveTo>
                  <a:pt x="0" y="264"/>
                </a:moveTo>
                <a:cubicBezTo>
                  <a:pt x="32" y="156"/>
                  <a:pt x="64" y="48"/>
                  <a:pt x="96" y="24"/>
                </a:cubicBezTo>
                <a:cubicBezTo>
                  <a:pt x="128" y="0"/>
                  <a:pt x="160" y="60"/>
                  <a:pt x="192" y="1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0" t="12183" r="0" b="0"/>
          <a:stretch/>
        </p:blipFill>
        <p:spPr>
          <a:xfrm>
            <a:off x="1663560" y="3645000"/>
            <a:ext cx="60962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3640" y="1427040"/>
            <a:ext cx="4147560" cy="440640"/>
            <a:chOff x="233640" y="1427040"/>
            <a:chExt cx="4147560" cy="440640"/>
          </a:xfrm>
        </p:grpSpPr>
        <p:sp>
          <p:nvSpPr>
            <p:cNvPr id="148" name=""/>
            <p:cNvSpPr/>
            <p:nvPr/>
          </p:nvSpPr>
          <p:spPr>
            <a:xfrm>
              <a:off x="1336680" y="154296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1336680" y="1695240"/>
              <a:ext cx="60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3640" y="1427040"/>
              <a:ext cx="414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s-MX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O (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)                 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 + 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(ac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000240" y="189000"/>
            <a:ext cx="35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ducto iónico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6680" y="1198440"/>
            <a:ext cx="2063520" cy="845280"/>
            <a:chOff x="4576680" y="1198440"/>
            <a:chExt cx="2063520" cy="845280"/>
          </a:xfrm>
        </p:grpSpPr>
        <p:sp>
          <p:nvSpPr>
            <p:cNvPr id="153" name=""/>
            <p:cNvSpPr/>
            <p:nvPr/>
          </p:nvSpPr>
          <p:spPr>
            <a:xfrm>
              <a:off x="4576680" y="1415880"/>
              <a:ext cx="64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i="1" lang="es-MX" sz="20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5344920" y="1198440"/>
              <a:ext cx="1295280" cy="845280"/>
              <a:chOff x="5344920" y="1198440"/>
              <a:chExt cx="1295280" cy="845280"/>
            </a:xfrm>
          </p:grpSpPr>
          <p:sp>
            <p:nvSpPr>
              <p:cNvPr id="155" name=""/>
              <p:cNvSpPr/>
              <p:nvPr/>
            </p:nvSpPr>
            <p:spPr>
              <a:xfrm>
                <a:off x="5423400" y="1198440"/>
                <a:ext cx="1163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[O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609160" y="1603080"/>
                <a:ext cx="785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O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344920" y="1582560"/>
                <a:ext cx="1295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" name=""/>
          <p:cNvSpPr/>
          <p:nvPr/>
        </p:nvSpPr>
        <p:spPr>
          <a:xfrm>
            <a:off x="6877440" y="1414440"/>
            <a:ext cx="2180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con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05640" y="2265480"/>
            <a:ext cx="286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] =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997360"/>
            <a:ext cx="88390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onstante del producto-ion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es el producto de la concentración molar de  los iones 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una temperatura en partic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2040" y="4797360"/>
            <a:ext cx="3322800" cy="92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 25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758840" y="453384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758840" y="50101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58840" y="54864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520" y="40766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224840" y="453384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281000" y="50101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218720" y="54864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95280" y="504720"/>
            <a:ext cx="818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¿Cuál es la concentración de los iones de 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n una solución de HCl cuya concentración del ion hidrógeno es de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80400" y="1719360"/>
            <a:ext cx="3137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0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= 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0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96880" y="2709720"/>
            <a:ext cx="151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.3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536840" y="3813120"/>
            <a:ext cx="1724040" cy="841680"/>
            <a:chOff x="1536840" y="3813120"/>
            <a:chExt cx="1724040" cy="841680"/>
          </a:xfrm>
        </p:grpSpPr>
        <p:sp>
          <p:nvSpPr>
            <p:cNvPr id="173" name=""/>
            <p:cNvSpPr/>
            <p:nvPr/>
          </p:nvSpPr>
          <p:spPr>
            <a:xfrm>
              <a:off x="1536840" y="4043160"/>
              <a:ext cx="97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O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 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654280" y="3813120"/>
              <a:ext cx="606600" cy="841680"/>
              <a:chOff x="2654280" y="3813120"/>
              <a:chExt cx="606600" cy="841680"/>
            </a:xfrm>
          </p:grpSpPr>
          <p:sp>
            <p:nvSpPr>
              <p:cNvPr id="175" name=""/>
              <p:cNvSpPr/>
              <p:nvPr/>
            </p:nvSpPr>
            <p:spPr>
              <a:xfrm>
                <a:off x="2735640" y="3813120"/>
                <a:ext cx="4564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MX" sz="20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r>
                  <a:rPr b="0" i="1" lang="es-MX" sz="2000" spc="-1" strike="noStrike" baseline="-25000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654280" y="4255920"/>
                <a:ext cx="592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[H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+</a:t>
                </a: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27360" y="4233600"/>
                <a:ext cx="533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3270960" y="3813120"/>
            <a:ext cx="1509120" cy="841680"/>
            <a:chOff x="3270960" y="3813120"/>
            <a:chExt cx="1509120" cy="841680"/>
          </a:xfrm>
        </p:grpSpPr>
        <p:grpSp>
          <p:nvGrpSpPr>
            <p:cNvPr id="179" name=""/>
            <p:cNvGrpSpPr/>
            <p:nvPr/>
          </p:nvGrpSpPr>
          <p:grpSpPr>
            <a:xfrm>
              <a:off x="3637080" y="3813120"/>
              <a:ext cx="1143000" cy="841680"/>
              <a:chOff x="3637080" y="3813120"/>
              <a:chExt cx="1143000" cy="841680"/>
            </a:xfrm>
          </p:grpSpPr>
          <p:sp>
            <p:nvSpPr>
              <p:cNvPr id="180" name=""/>
              <p:cNvSpPr/>
              <p:nvPr/>
            </p:nvSpPr>
            <p:spPr>
              <a:xfrm>
                <a:off x="3666240" y="3813120"/>
                <a:ext cx="1087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 x 10</a:t>
                </a:r>
                <a:r>
                  <a:rPr b="0" lang="es-MX" sz="2000" spc="-1" strike="noStrike" baseline="30000">
                    <a:solidFill>
                      <a:srgbClr val="000000"/>
                    </a:solidFill>
                    <a:latin typeface="Arial"/>
                  </a:rPr>
                  <a:t>-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938040" y="425592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MX" sz="20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637080" y="423360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3270960" y="404172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4796280" y="4041720"/>
            <a:ext cx="18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= 7.7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15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696760" y="262080"/>
            <a:ext cx="37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– Medida de la acid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70040" y="1268280"/>
            <a:ext cx="2292840" cy="640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2880" rIns="182880" tIns="137160" bIns="13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H = -log [H</a:t>
            </a:r>
            <a:r>
              <a:rPr b="1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30000" y="312732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0000" y="360360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0000" y="4079880"/>
            <a:ext cx="145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[O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6040" y="267012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La solución 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3000" y="312732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ut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29520" y="36036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ác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7240" y="407988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9200" y="31273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=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9200" y="359712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g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84240" y="4079880"/>
            <a:ext cx="170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] &lt; 1 x 10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39160" y="31273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H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9160" y="359712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pH &l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139160" y="4079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33cc"/>
                </a:solidFill>
                <a:latin typeface="Arial"/>
              </a:rPr>
              <a:t>pH &gt;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93760" y="267012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 25</a:t>
            </a:r>
            <a:r>
              <a:rPr b="1" lang="es-MX" sz="2000" spc="-1" strike="noStrike" u="sng" baseline="30000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457080" y="5157360"/>
            <a:ext cx="624240" cy="762120"/>
            <a:chOff x="3457080" y="5157360"/>
            <a:chExt cx="624240" cy="762120"/>
          </a:xfrm>
        </p:grpSpPr>
        <p:sp>
          <p:nvSpPr>
            <p:cNvPr id="202" name=""/>
            <p:cNvSpPr/>
            <p:nvPr/>
          </p:nvSpPr>
          <p:spPr>
            <a:xfrm>
              <a:off x="3457080" y="5357880"/>
              <a:ext cx="57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pH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4081320" y="515736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943160" y="5157720"/>
            <a:ext cx="848160" cy="762120"/>
            <a:chOff x="4943160" y="5157720"/>
            <a:chExt cx="848160" cy="762120"/>
          </a:xfrm>
        </p:grpSpPr>
        <p:sp>
          <p:nvSpPr>
            <p:cNvPr id="205" name=""/>
            <p:cNvSpPr/>
            <p:nvPr/>
          </p:nvSpPr>
          <p:spPr>
            <a:xfrm>
              <a:off x="4943160" y="5357880"/>
              <a:ext cx="59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[H</a:t>
              </a:r>
              <a:r>
                <a:rPr b="0" lang="es-MX" sz="20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91320" y="515772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9eaf5"/>
            </a:gs>
            <a:gs pos="100000">
              <a:srgbClr val="a7f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152160" y="163044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OH = -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04160" y="2341440"/>
            <a:ext cx="37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s-MX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MX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= 1.0 x 10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23160" y="3052800"/>
            <a:ext cx="38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log [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– log [OH</a:t>
            </a:r>
            <a:r>
              <a:rPr b="0" lang="es-MX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]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77440" y="434016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 + pOH = 14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422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 toda solución acuosa a 25 </a:t>
            </a:r>
            <a:r>
              <a:rPr b="1" lang="es-ES_tradnl" sz="1600" spc="-1" strike="noStrike" baseline="52000">
                <a:solidFill>
                  <a:srgbClr val="000000"/>
                </a:solidFill>
                <a:latin typeface="Arial"/>
              </a:rPr>
              <a:t>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003640" y="4221000"/>
            <a:ext cx="2881440" cy="72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2:14:45Z</dcterms:created>
  <dc:creator>Stephanie Manzur Andreu</dc:creator>
  <dc:description/>
  <dc:language>en-US</dc:language>
  <cp:lastModifiedBy>Dpto. Cs. de los Materiales</cp:lastModifiedBy>
  <dcterms:modified xsi:type="dcterms:W3CDTF">2007-10-08T22:05:26Z</dcterms:modified>
  <cp:revision>191</cp:revision>
  <dc:subject/>
  <dc:title>Presentación de PowerPoint</dc:title>
</cp:coreProperties>
</file>