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5D9-41FD-476F-99E7-E7D8B350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1D0-628F-4D20-B25F-934657C3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2FF-2F8B-4205-BFC6-D777479D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DC8-57FE-4379-AA00-1D280608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687-AEA8-49FB-8F7A-6A23C432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003-BA21-4E0D-98CB-9BFD2CB6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811-DECF-440A-9024-A8A51B48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934-0420-4120-9242-A1BC7B37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89E-561A-4C5A-885D-6A099B78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699-D58D-44D1-AB23-E73383E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C15-0598-4C72-BF07-56684D1A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072-DC17-466E-B3CE-258EF3F3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D56-D874-4A9D-A760-A5EB88752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ácido-ba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268360"/>
            <a:ext cx="65534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32076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H del agua de lluvia recolectada en una región metropolitana en un día normal es de 4.82.¿Cuál es la concentración del ion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l agua de lluv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2960" y="14130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3200" y="1971720"/>
            <a:ext cx="14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13040" y="196992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62880" y="1969920"/>
            <a:ext cx="17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04160" y="412128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3440" y="46544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5040" y="465444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-log (2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465444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6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16640" y="526428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– 6.60 = 7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285264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l ion OH- de una muestra de sangre es de 2.5 x 10-7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¿Cuál es el pH de la sang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80520" y="40320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 fuerte – se disocia al 1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96200" y="973080"/>
            <a:ext cx="5159880" cy="579600"/>
            <a:chOff x="1996200" y="973080"/>
            <a:chExt cx="5159880" cy="579600"/>
          </a:xfrm>
        </p:grpSpPr>
        <p:sp>
          <p:nvSpPr>
            <p:cNvPr id="226" name=""/>
            <p:cNvSpPr/>
            <p:nvPr/>
          </p:nvSpPr>
          <p:spPr>
            <a:xfrm>
              <a:off x="1996200" y="1153800"/>
              <a:ext cx="51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78240" y="1347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2040" y="9730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345680" y="200340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s débiles – no se disocian comple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99400" y="2766960"/>
            <a:ext cx="6451560" cy="440640"/>
            <a:chOff x="1499400" y="2766960"/>
            <a:chExt cx="6451560" cy="440640"/>
          </a:xfrm>
        </p:grpSpPr>
        <p:sp>
          <p:nvSpPr>
            <p:cNvPr id="231" name=""/>
            <p:cNvSpPr/>
            <p:nvPr/>
          </p:nvSpPr>
          <p:spPr>
            <a:xfrm>
              <a:off x="1499400" y="2766960"/>
              <a:ext cx="645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448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309840" y="3014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560" y="3500280"/>
            <a:ext cx="53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77640" y="4110120"/>
            <a:ext cx="6212520" cy="440640"/>
            <a:chOff x="1277640" y="4110120"/>
            <a:chExt cx="6212520" cy="440640"/>
          </a:xfrm>
        </p:grpSpPr>
        <p:sp>
          <p:nvSpPr>
            <p:cNvPr id="236" name=""/>
            <p:cNvSpPr/>
            <p:nvPr/>
          </p:nvSpPr>
          <p:spPr>
            <a:xfrm>
              <a:off x="1277640" y="411012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6760" y="4302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85200" y="4654440"/>
            <a:ext cx="6381000" cy="440640"/>
            <a:chOff x="1285200" y="4654440"/>
            <a:chExt cx="6381000" cy="440640"/>
          </a:xfrm>
        </p:grpSpPr>
        <p:sp>
          <p:nvSpPr>
            <p:cNvPr id="239" name=""/>
            <p:cNvSpPr/>
            <p:nvPr/>
          </p:nvSpPr>
          <p:spPr>
            <a:xfrm>
              <a:off x="1285200" y="4654440"/>
              <a:ext cx="63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52880" y="4846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86280" y="5200560"/>
            <a:ext cx="6493320" cy="440640"/>
            <a:chOff x="1286280" y="5200560"/>
            <a:chExt cx="6493320" cy="440640"/>
          </a:xfrm>
        </p:grpSpPr>
        <p:sp>
          <p:nvSpPr>
            <p:cNvPr id="242" name=""/>
            <p:cNvSpPr/>
            <p:nvPr/>
          </p:nvSpPr>
          <p:spPr>
            <a:xfrm>
              <a:off x="1286280" y="5200560"/>
              <a:ext cx="649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03640" y="5392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1320" y="5746680"/>
            <a:ext cx="6546600" cy="440640"/>
            <a:chOff x="1291320" y="5746680"/>
            <a:chExt cx="6546600" cy="440640"/>
          </a:xfrm>
        </p:grpSpPr>
        <p:sp>
          <p:nvSpPr>
            <p:cNvPr id="245" name=""/>
            <p:cNvSpPr/>
            <p:nvPr/>
          </p:nvSpPr>
          <p:spPr>
            <a:xfrm>
              <a:off x="1291320" y="5746680"/>
              <a:ext cx="6546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5160" y="5938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684600" y="40734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84120" y="1971720"/>
            <a:ext cx="5691240" cy="440640"/>
            <a:chOff x="1284120" y="1971720"/>
            <a:chExt cx="5691240" cy="440640"/>
          </a:xfrm>
        </p:grpSpPr>
        <p:sp>
          <p:nvSpPr>
            <p:cNvPr id="249" name=""/>
            <p:cNvSpPr/>
            <p:nvPr/>
          </p:nvSpPr>
          <p:spPr>
            <a:xfrm>
              <a:off x="1284120" y="1971720"/>
              <a:ext cx="569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665160" y="2089080"/>
              <a:ext cx="609840" cy="152280"/>
              <a:chOff x="3665160" y="2089080"/>
              <a:chExt cx="609840" cy="152280"/>
            </a:xfrm>
          </p:grpSpPr>
          <p:sp>
            <p:nvSpPr>
              <p:cNvPr id="251" name=""/>
              <p:cNvSpPr/>
              <p:nvPr/>
            </p:nvSpPr>
            <p:spPr>
              <a:xfrm>
                <a:off x="3665520" y="2089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665160" y="2241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239120" y="1125360"/>
            <a:ext cx="53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9200" y="1936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2400" y="2516040"/>
            <a:ext cx="6170400" cy="440640"/>
            <a:chOff x="1292400" y="2516040"/>
            <a:chExt cx="6170400" cy="440640"/>
          </a:xfrm>
        </p:grpSpPr>
        <p:sp>
          <p:nvSpPr>
            <p:cNvPr id="256" name=""/>
            <p:cNvSpPr/>
            <p:nvPr/>
          </p:nvSpPr>
          <p:spPr>
            <a:xfrm>
              <a:off x="1292400" y="2516040"/>
              <a:ext cx="617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033440" y="2622600"/>
              <a:ext cx="609840" cy="152280"/>
              <a:chOff x="4033440" y="2622600"/>
              <a:chExt cx="609840" cy="152280"/>
            </a:xfrm>
          </p:grpSpPr>
          <p:sp>
            <p:nvSpPr>
              <p:cNvPr id="258" name=""/>
              <p:cNvSpPr/>
              <p:nvPr/>
            </p:nvSpPr>
            <p:spPr>
              <a:xfrm>
                <a:off x="4033800" y="2622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4033440" y="2774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301400" y="3062160"/>
            <a:ext cx="6270840" cy="440640"/>
            <a:chOff x="1301400" y="3062160"/>
            <a:chExt cx="6270840" cy="440640"/>
          </a:xfrm>
        </p:grpSpPr>
        <p:sp>
          <p:nvSpPr>
            <p:cNvPr id="261" name=""/>
            <p:cNvSpPr/>
            <p:nvPr/>
          </p:nvSpPr>
          <p:spPr>
            <a:xfrm>
              <a:off x="1301400" y="3062160"/>
              <a:ext cx="627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096800" y="3181320"/>
              <a:ext cx="609840" cy="152280"/>
              <a:chOff x="4096800" y="3181320"/>
              <a:chExt cx="609840" cy="152280"/>
            </a:xfrm>
          </p:grpSpPr>
          <p:sp>
            <p:nvSpPr>
              <p:cNvPr id="263" name=""/>
              <p:cNvSpPr/>
              <p:nvPr/>
            </p:nvSpPr>
            <p:spPr>
              <a:xfrm>
                <a:off x="4097160" y="3181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096800" y="3333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288440" y="3608280"/>
            <a:ext cx="5760360" cy="440640"/>
            <a:chOff x="1288440" y="3608280"/>
            <a:chExt cx="5760360" cy="440640"/>
          </a:xfrm>
        </p:grpSpPr>
        <p:sp>
          <p:nvSpPr>
            <p:cNvPr id="266" name=""/>
            <p:cNvSpPr/>
            <p:nvPr/>
          </p:nvSpPr>
          <p:spPr>
            <a:xfrm>
              <a:off x="1288440" y="3608280"/>
              <a:ext cx="576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601800" y="3727440"/>
              <a:ext cx="609840" cy="152280"/>
              <a:chOff x="3601800" y="3727440"/>
              <a:chExt cx="609840" cy="152280"/>
            </a:xfrm>
          </p:grpSpPr>
          <p:sp>
            <p:nvSpPr>
              <p:cNvPr id="268" name=""/>
              <p:cNvSpPr/>
              <p:nvPr/>
            </p:nvSpPr>
            <p:spPr>
              <a:xfrm>
                <a:off x="3602160" y="3727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601800" y="3879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64440" y="47628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149120" y="981000"/>
            <a:ext cx="4955040" cy="603720"/>
            <a:chOff x="1149120" y="981000"/>
            <a:chExt cx="4955040" cy="603720"/>
          </a:xfrm>
        </p:grpSpPr>
        <p:sp>
          <p:nvSpPr>
            <p:cNvPr id="272" name=""/>
            <p:cNvSpPr/>
            <p:nvPr/>
          </p:nvSpPr>
          <p:spPr>
            <a:xfrm>
              <a:off x="1149120" y="1185840"/>
              <a:ext cx="49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06120" y="98100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12960" y="137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88720" y="1590840"/>
            <a:ext cx="4501080" cy="603360"/>
            <a:chOff x="1188720" y="1590840"/>
            <a:chExt cx="4501080" cy="603360"/>
          </a:xfrm>
        </p:grpSpPr>
        <p:sp>
          <p:nvSpPr>
            <p:cNvPr id="276" name=""/>
            <p:cNvSpPr/>
            <p:nvPr/>
          </p:nvSpPr>
          <p:spPr>
            <a:xfrm>
              <a:off x="1188720" y="1795320"/>
              <a:ext cx="45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K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K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43760" y="15908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0960" y="198432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07440" y="2200320"/>
            <a:ext cx="5402160" cy="645480"/>
            <a:chOff x="1207440" y="2200320"/>
            <a:chExt cx="5402160" cy="645480"/>
          </a:xfrm>
        </p:grpSpPr>
        <p:sp>
          <p:nvSpPr>
            <p:cNvPr id="280" name=""/>
            <p:cNvSpPr/>
            <p:nvPr/>
          </p:nvSpPr>
          <p:spPr>
            <a:xfrm>
              <a:off x="1207440" y="2405160"/>
              <a:ext cx="540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88720" y="22003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95920" y="259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624040" y="998640"/>
            <a:ext cx="762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94920" y="4000680"/>
            <a:ext cx="5571360" cy="440640"/>
            <a:chOff x="1294920" y="4000680"/>
            <a:chExt cx="5571360" cy="440640"/>
          </a:xfrm>
        </p:grpSpPr>
        <p:sp>
          <p:nvSpPr>
            <p:cNvPr id="285" name=""/>
            <p:cNvSpPr/>
            <p:nvPr/>
          </p:nvSpPr>
          <p:spPr>
            <a:xfrm>
              <a:off x="1294920" y="4000680"/>
              <a:ext cx="557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F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530160" y="4118040"/>
              <a:ext cx="609840" cy="152280"/>
              <a:chOff x="3530160" y="4118040"/>
              <a:chExt cx="609840" cy="152280"/>
            </a:xfrm>
          </p:grpSpPr>
          <p:sp>
            <p:nvSpPr>
              <p:cNvPr id="287" name=""/>
              <p:cNvSpPr/>
              <p:nvPr/>
            </p:nvSpPr>
            <p:spPr>
              <a:xfrm>
                <a:off x="3530520" y="41180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3530160" y="4270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976680" y="328464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54560" y="39654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03200" y="4545000"/>
            <a:ext cx="6049800" cy="440640"/>
            <a:chOff x="1303200" y="4545000"/>
            <a:chExt cx="6049800" cy="440640"/>
          </a:xfrm>
        </p:grpSpPr>
        <p:sp>
          <p:nvSpPr>
            <p:cNvPr id="292" name=""/>
            <p:cNvSpPr/>
            <p:nvPr/>
          </p:nvSpPr>
          <p:spPr>
            <a:xfrm>
              <a:off x="1303200" y="4545000"/>
              <a:ext cx="604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898440" y="4651200"/>
              <a:ext cx="609840" cy="151920"/>
              <a:chOff x="3898440" y="4651200"/>
              <a:chExt cx="609840" cy="151920"/>
            </a:xfrm>
          </p:grpSpPr>
          <p:sp>
            <p:nvSpPr>
              <p:cNvPr id="294" name=""/>
              <p:cNvSpPr/>
              <p:nvPr/>
            </p:nvSpPr>
            <p:spPr>
              <a:xfrm>
                <a:off x="3898800" y="4651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898440" y="4803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50920" y="260280"/>
            <a:ext cx="8686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Pares ácido-base conjug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base conjugada de un ácido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ácido conjugado de una base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ácido más fuerte que existe en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ion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la base más fuerte que puede existir en una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2080" y="3224160"/>
            <a:ext cx="6212520" cy="440640"/>
            <a:chOff x="1522080" y="3224160"/>
            <a:chExt cx="6212520" cy="440640"/>
          </a:xfrm>
        </p:grpSpPr>
        <p:sp>
          <p:nvSpPr>
            <p:cNvPr id="298" name=""/>
            <p:cNvSpPr/>
            <p:nvPr/>
          </p:nvSpPr>
          <p:spPr>
            <a:xfrm>
              <a:off x="1522080" y="322416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21200" y="3416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929040" y="3187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007720" y="4314960"/>
            <a:ext cx="5936760" cy="603720"/>
            <a:chOff x="2007720" y="4314960"/>
            <a:chExt cx="5936760" cy="603720"/>
          </a:xfrm>
        </p:grpSpPr>
        <p:sp>
          <p:nvSpPr>
            <p:cNvPr id="302" name=""/>
            <p:cNvSpPr/>
            <p:nvPr/>
          </p:nvSpPr>
          <p:spPr>
            <a:xfrm>
              <a:off x="2007720" y="4519800"/>
              <a:ext cx="593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+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55400" y="431496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62240" y="4708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3680" y="4332240"/>
            <a:ext cx="7617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48720" y="375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720" y="4976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375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501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19080" y="320760"/>
            <a:ext cx="674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2 x 10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N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2640" y="925560"/>
            <a:ext cx="529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 ácido fuerte – Se disocia al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7040" y="1447920"/>
            <a:ext cx="6380640" cy="440640"/>
            <a:chOff x="1157040" y="1447920"/>
            <a:chExt cx="6380640" cy="440640"/>
          </a:xfrm>
        </p:grpSpPr>
        <p:sp>
          <p:nvSpPr>
            <p:cNvPr id="313" name=""/>
            <p:cNvSpPr/>
            <p:nvPr/>
          </p:nvSpPr>
          <p:spPr>
            <a:xfrm>
              <a:off x="1157040" y="1447920"/>
              <a:ext cx="6380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24360" y="163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148400" y="2852640"/>
            <a:ext cx="534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 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(0.002) = 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0400" y="187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0760" y="2333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38240" y="18795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2948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2492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08880" y="23320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9976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9520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1200" y="4238640"/>
            <a:ext cx="57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a base fuerte – Se disocia al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50560" y="4687920"/>
            <a:ext cx="5261760" cy="440640"/>
            <a:chOff x="1150560" y="4687920"/>
            <a:chExt cx="5261760" cy="440640"/>
          </a:xfrm>
        </p:grpSpPr>
        <p:sp>
          <p:nvSpPr>
            <p:cNvPr id="326" name=""/>
            <p:cNvSpPr/>
            <p:nvPr/>
          </p:nvSpPr>
          <p:spPr>
            <a:xfrm>
              <a:off x="1150560" y="4687920"/>
              <a:ext cx="52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21040" y="487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30400" y="511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0760" y="5533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2000" y="5119560"/>
            <a:ext cx="12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9592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384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3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8880" y="55324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7440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2196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35080" y="606744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+ log(0.036) = 1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3645000"/>
            <a:ext cx="73454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1.8 x 10</a:t>
            </a:r>
            <a:r>
              <a:rPr b="1" lang="es-MX" sz="20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Ba(OH)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03240" y="1095480"/>
            <a:ext cx="5948280" cy="510120"/>
            <a:chOff x="1803240" y="1095480"/>
            <a:chExt cx="5948280" cy="510120"/>
          </a:xfrm>
        </p:grpSpPr>
        <p:sp>
          <p:nvSpPr>
            <p:cNvPr id="339" name=""/>
            <p:cNvSpPr/>
            <p:nvPr/>
          </p:nvSpPr>
          <p:spPr>
            <a:xfrm>
              <a:off x="1803240" y="1095480"/>
              <a:ext cx="594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+    A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182480" y="1260720"/>
              <a:ext cx="609840" cy="152280"/>
              <a:chOff x="4182480" y="1260720"/>
              <a:chExt cx="609840" cy="152280"/>
            </a:xfrm>
          </p:grpSpPr>
          <p:sp>
            <p:nvSpPr>
              <p:cNvPr id="341" name=""/>
              <p:cNvSpPr/>
              <p:nvPr/>
            </p:nvSpPr>
            <p:spPr>
              <a:xfrm>
                <a:off x="4182840" y="1260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182480" y="1413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272520" y="115920"/>
            <a:ext cx="86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Ácidos débiles (HA) y las constantes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57440" y="1844640"/>
            <a:ext cx="4815000" cy="520560"/>
            <a:chOff x="2557440" y="1844640"/>
            <a:chExt cx="4815000" cy="520560"/>
          </a:xfrm>
        </p:grpSpPr>
        <p:sp>
          <p:nvSpPr>
            <p:cNvPr id="345" name=""/>
            <p:cNvSpPr/>
            <p:nvPr/>
          </p:nvSpPr>
          <p:spPr>
            <a:xfrm>
              <a:off x="2557440" y="1844640"/>
              <a:ext cx="48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  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+    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2008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733560" y="2160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513240" y="2543040"/>
            <a:ext cx="1984680" cy="864360"/>
            <a:chOff x="3513240" y="2543040"/>
            <a:chExt cx="1984680" cy="864360"/>
          </a:xfrm>
        </p:grpSpPr>
        <p:sp>
          <p:nvSpPr>
            <p:cNvPr id="349" name=""/>
            <p:cNvSpPr/>
            <p:nvPr/>
          </p:nvSpPr>
          <p:spPr>
            <a:xfrm>
              <a:off x="3513240" y="27604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81200" y="2543040"/>
              <a:ext cx="11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49320" y="294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30002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733760" y="3686040"/>
            <a:ext cx="61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constante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904120" y="5087880"/>
            <a:ext cx="693000" cy="511560"/>
            <a:chOff x="2904120" y="5087880"/>
            <a:chExt cx="693000" cy="511560"/>
          </a:xfrm>
        </p:grpSpPr>
        <p:sp>
          <p:nvSpPr>
            <p:cNvPr id="355" name=""/>
            <p:cNvSpPr/>
            <p:nvPr/>
          </p:nvSpPr>
          <p:spPr>
            <a:xfrm>
              <a:off x="2904120" y="508932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5971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86600" y="4905360"/>
            <a:ext cx="1726920" cy="1191240"/>
            <a:chOff x="5286600" y="4905360"/>
            <a:chExt cx="1726920" cy="1191240"/>
          </a:xfrm>
        </p:grpSpPr>
        <p:sp>
          <p:nvSpPr>
            <p:cNvPr id="358" name=""/>
            <p:cNvSpPr/>
            <p:nvPr/>
          </p:nvSpPr>
          <p:spPr>
            <a:xfrm>
              <a:off x="5286600" y="4905360"/>
              <a:ext cx="163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Fuerza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un ácid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éb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0135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19080" y="3207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15120" y="1038240"/>
            <a:ext cx="4008600" cy="398880"/>
            <a:chOff x="915120" y="1038240"/>
            <a:chExt cx="4008600" cy="398880"/>
          </a:xfrm>
        </p:grpSpPr>
        <p:sp>
          <p:nvSpPr>
            <p:cNvPr id="362" name=""/>
            <p:cNvSpPr/>
            <p:nvPr/>
          </p:nvSpPr>
          <p:spPr>
            <a:xfrm>
              <a:off x="915120" y="1038240"/>
              <a:ext cx="400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7640" y="11541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872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82720" y="809640"/>
            <a:ext cx="3358800" cy="803520"/>
            <a:chOff x="5382720" y="809640"/>
            <a:chExt cx="3358800" cy="803520"/>
          </a:xfrm>
        </p:grpSpPr>
        <p:grpSp>
          <p:nvGrpSpPr>
            <p:cNvPr id="366" name=""/>
            <p:cNvGrpSpPr/>
            <p:nvPr/>
          </p:nvGrpSpPr>
          <p:grpSpPr>
            <a:xfrm>
              <a:off x="5382720" y="809640"/>
              <a:ext cx="1899000" cy="803520"/>
              <a:chOff x="5382720" y="809640"/>
              <a:chExt cx="1899000" cy="803520"/>
            </a:xfrm>
          </p:grpSpPr>
          <p:sp>
            <p:nvSpPr>
              <p:cNvPr id="367" name=""/>
              <p:cNvSpPr/>
              <p:nvPr/>
            </p:nvSpPr>
            <p:spPr>
              <a:xfrm>
                <a:off x="5382720" y="102708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42120" y="80964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F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76400" y="1214280"/>
                <a:ext cx="66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F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91360" y="121932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305120" y="102528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883600" y="1800360"/>
            <a:ext cx="3938400" cy="398880"/>
            <a:chOff x="2883600" y="1800360"/>
            <a:chExt cx="3938400" cy="398880"/>
          </a:xfrm>
        </p:grpSpPr>
        <p:sp>
          <p:nvSpPr>
            <p:cNvPr id="373" name=""/>
            <p:cNvSpPr/>
            <p:nvPr/>
          </p:nvSpPr>
          <p:spPr>
            <a:xfrm>
              <a:off x="2883600" y="1800360"/>
              <a:ext cx="39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965040" y="1916280"/>
              <a:ext cx="609840" cy="152280"/>
              <a:chOff x="3965040" y="1916280"/>
              <a:chExt cx="609840" cy="152280"/>
            </a:xfrm>
          </p:grpSpPr>
          <p:sp>
            <p:nvSpPr>
              <p:cNvPr id="375" name=""/>
              <p:cNvSpPr/>
              <p:nvPr/>
            </p:nvSpPr>
            <p:spPr>
              <a:xfrm>
                <a:off x="3965400" y="1916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965040" y="2068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279720" y="233352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240" y="286704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960" y="340056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536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1392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2360" y="28670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600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6520" y="3400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9040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7716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3028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052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75560" y="3933720"/>
            <a:ext cx="3358800" cy="803520"/>
            <a:chOff x="475560" y="3933720"/>
            <a:chExt cx="3358800" cy="803520"/>
          </a:xfrm>
        </p:grpSpPr>
        <p:grpSp>
          <p:nvGrpSpPr>
            <p:cNvPr id="390" name=""/>
            <p:cNvGrpSpPr/>
            <p:nvPr/>
          </p:nvGrpSpPr>
          <p:grpSpPr>
            <a:xfrm>
              <a:off x="475560" y="3933720"/>
              <a:ext cx="1942560" cy="803520"/>
              <a:chOff x="475560" y="3933720"/>
              <a:chExt cx="1942560" cy="803520"/>
            </a:xfrm>
          </p:grpSpPr>
          <p:sp>
            <p:nvSpPr>
              <p:cNvPr id="391" name=""/>
              <p:cNvSpPr/>
              <p:nvPr/>
            </p:nvSpPr>
            <p:spPr>
              <a:xfrm>
                <a:off x="475560" y="415116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07480" y="39337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8520" y="4338360"/>
                <a:ext cx="102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4200" y="43434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397960" y="41493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6040" y="4824360"/>
            <a:ext cx="3389400" cy="803520"/>
            <a:chOff x="356040" y="4824360"/>
            <a:chExt cx="3389400" cy="803520"/>
          </a:xfrm>
        </p:grpSpPr>
        <p:grpSp>
          <p:nvGrpSpPr>
            <p:cNvPr id="397" name=""/>
            <p:cNvGrpSpPr/>
            <p:nvPr/>
          </p:nvGrpSpPr>
          <p:grpSpPr>
            <a:xfrm>
              <a:off x="356040" y="4824360"/>
              <a:ext cx="1929600" cy="803520"/>
              <a:chOff x="356040" y="4824360"/>
              <a:chExt cx="1929600" cy="803520"/>
            </a:xfrm>
          </p:grpSpPr>
          <p:sp>
            <p:nvSpPr>
              <p:cNvPr id="398" name=""/>
              <p:cNvSpPr/>
              <p:nvPr/>
            </p:nvSpPr>
            <p:spPr>
              <a:xfrm>
                <a:off x="356040" y="503856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8560" y="482436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73840" y="522900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95280" y="523404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309040" y="50400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911200" y="41511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46800" y="414972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0520" y="50385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3.5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00840" y="503856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120" y="5764320"/>
            <a:ext cx="24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F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7720" y="6127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] = 1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0640" y="6219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F] = 0.50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219320" y="37296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ndo se puede utilizar la aproximación sigui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71320" y="80028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06920" y="79848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134136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s menor que 5% del valor del cual es substraí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2440" y="2151000"/>
            <a:ext cx="12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300760" y="1973160"/>
            <a:ext cx="3144240" cy="765720"/>
            <a:chOff x="2300760" y="1973160"/>
            <a:chExt cx="3144240" cy="765720"/>
          </a:xfrm>
        </p:grpSpPr>
        <p:grpSp>
          <p:nvGrpSpPr>
            <p:cNvPr id="416" name=""/>
            <p:cNvGrpSpPr/>
            <p:nvPr/>
          </p:nvGrpSpPr>
          <p:grpSpPr>
            <a:xfrm>
              <a:off x="2300760" y="1973160"/>
              <a:ext cx="1252080" cy="765720"/>
              <a:chOff x="2300760" y="1973160"/>
              <a:chExt cx="1252080" cy="76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2300760" y="197316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19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85000" y="234000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3880" y="233820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546720" y="2149560"/>
              <a:ext cx="189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3.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019920" y="1887480"/>
            <a:ext cx="2743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n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3440" y="31701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0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51680" y="3598920"/>
            <a:ext cx="3389400" cy="803520"/>
            <a:chOff x="1651680" y="3598920"/>
            <a:chExt cx="3389400" cy="803520"/>
          </a:xfrm>
        </p:grpSpPr>
        <p:grpSp>
          <p:nvGrpSpPr>
            <p:cNvPr id="424" name=""/>
            <p:cNvGrpSpPr/>
            <p:nvPr/>
          </p:nvGrpSpPr>
          <p:grpSpPr>
            <a:xfrm>
              <a:off x="1651680" y="3598920"/>
              <a:ext cx="1929600" cy="803520"/>
              <a:chOff x="1651680" y="3598920"/>
              <a:chExt cx="1929600" cy="80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1651680" y="381312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14200" y="35989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69480" y="400356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90920" y="40086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604680" y="38145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453280" y="381492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0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66640" y="4521240"/>
            <a:ext cx="3041280" cy="765720"/>
            <a:chOff x="566640" y="4521240"/>
            <a:chExt cx="3041280" cy="765720"/>
          </a:xfrm>
        </p:grpSpPr>
        <p:grpSp>
          <p:nvGrpSpPr>
            <p:cNvPr id="432" name=""/>
            <p:cNvGrpSpPr/>
            <p:nvPr/>
          </p:nvGrpSpPr>
          <p:grpSpPr>
            <a:xfrm>
              <a:off x="566640" y="4521240"/>
              <a:ext cx="1218960" cy="765720"/>
              <a:chOff x="566640" y="4521240"/>
              <a:chExt cx="1218960" cy="765720"/>
            </a:xfrm>
          </p:grpSpPr>
          <p:sp>
            <p:nvSpPr>
              <p:cNvPr id="433" name=""/>
              <p:cNvSpPr/>
              <p:nvPr/>
            </p:nvSpPr>
            <p:spPr>
              <a:xfrm>
                <a:off x="625680" y="452124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06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760" y="488808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6640" y="488628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779840" y="4697640"/>
              <a:ext cx="182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1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140360" y="4782960"/>
            <a:ext cx="46796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y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no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3280" y="58770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debe resolver para “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xactamente usando la ecuación cuadr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2700360" y="3357720"/>
          <a:ext cx="4105080" cy="34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57720"/>
                    <a:ext cx="410508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443520" y="519120"/>
            <a:ext cx="24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centaje de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074040" y="404640"/>
            <a:ext cx="5816880" cy="743400"/>
            <a:chOff x="3074040" y="404640"/>
            <a:chExt cx="5816880" cy="743400"/>
          </a:xfrm>
        </p:grpSpPr>
        <p:grpSp>
          <p:nvGrpSpPr>
            <p:cNvPr id="443" name=""/>
            <p:cNvGrpSpPr/>
            <p:nvPr/>
          </p:nvGrpSpPr>
          <p:grpSpPr>
            <a:xfrm>
              <a:off x="3074040" y="404640"/>
              <a:ext cx="4827240" cy="743400"/>
              <a:chOff x="3074040" y="404640"/>
              <a:chExt cx="4827240" cy="743400"/>
            </a:xfrm>
          </p:grpSpPr>
          <p:sp>
            <p:nvSpPr>
              <p:cNvPr id="444" name=""/>
              <p:cNvSpPr/>
              <p:nvPr/>
            </p:nvSpPr>
            <p:spPr>
              <a:xfrm>
                <a:off x="3074040" y="404640"/>
                <a:ext cx="482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Concentración del ácido ionizado en equilib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26800" y="749160"/>
                <a:ext cx="362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Concentración inicial del áci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36680" y="749160"/>
                <a:ext cx="457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693560" y="52056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423880" y="17002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un ácido monoprótico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6200" y="2333520"/>
            <a:ext cx="4679640" cy="946440"/>
            <a:chOff x="106200" y="2333520"/>
            <a:chExt cx="4679640" cy="946440"/>
          </a:xfrm>
        </p:grpSpPr>
        <p:sp>
          <p:nvSpPr>
            <p:cNvPr id="450" name=""/>
            <p:cNvSpPr/>
            <p:nvPr/>
          </p:nvSpPr>
          <p:spPr>
            <a:xfrm>
              <a:off x="106200" y="2576160"/>
              <a:ext cx="21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rcentaje de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2974680" y="2333520"/>
              <a:ext cx="781200" cy="899280"/>
              <a:chOff x="2974680" y="2333520"/>
              <a:chExt cx="781200" cy="899280"/>
            </a:xfrm>
          </p:grpSpPr>
          <p:sp>
            <p:nvSpPr>
              <p:cNvPr id="452" name=""/>
              <p:cNvSpPr/>
              <p:nvPr/>
            </p:nvSpPr>
            <p:spPr>
              <a:xfrm>
                <a:off x="3072960" y="2333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74680" y="2792160"/>
                <a:ext cx="75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70080" y="27684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56240" y="25747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221800" y="2575080"/>
            <a:ext cx="334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A]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concentr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6640" y="1663560"/>
            <a:ext cx="69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grio. El vinagre le debe su sabor al áci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ético. Las frutas cítricas contienen ácido cí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840" y="2608200"/>
            <a:ext cx="67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algunos metales para producir hidróge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2680" y="3324240"/>
            <a:ext cx="671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carbonatos y bicarbonatos para produc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óxido de carbono 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515160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mar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5200" y="576108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sienten resbalosos. Muchos jabones contienen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4414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23200" y="1922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stantes de ionización de pares conjugados ácido-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982520" y="907920"/>
            <a:ext cx="3965760" cy="398880"/>
            <a:chOff x="1982520" y="907920"/>
            <a:chExt cx="3965760" cy="398880"/>
          </a:xfrm>
        </p:grpSpPr>
        <p:sp>
          <p:nvSpPr>
            <p:cNvPr id="459" name=""/>
            <p:cNvSpPr/>
            <p:nvPr/>
          </p:nvSpPr>
          <p:spPr>
            <a:xfrm>
              <a:off x="1982520" y="907920"/>
              <a:ext cx="396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3063240" y="1023840"/>
              <a:ext cx="609840" cy="152280"/>
              <a:chOff x="3063240" y="1023840"/>
              <a:chExt cx="609840" cy="152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063600" y="10238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063240" y="1176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1144080" y="1800360"/>
            <a:ext cx="5177880" cy="440640"/>
            <a:chOff x="1144080" y="1800360"/>
            <a:chExt cx="5177880" cy="440640"/>
          </a:xfrm>
        </p:grpSpPr>
        <p:sp>
          <p:nvSpPr>
            <p:cNvPr id="464" name=""/>
            <p:cNvSpPr/>
            <p:nvPr/>
          </p:nvSpPr>
          <p:spPr>
            <a:xfrm>
              <a:off x="1144080" y="1800360"/>
              <a:ext cx="51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A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352320" y="1917720"/>
              <a:ext cx="609840" cy="152280"/>
              <a:chOff x="3352320" y="1917720"/>
              <a:chExt cx="609840" cy="152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352680" y="191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352320" y="207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7201440" y="9079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93520" y="18003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4200" y="2781360"/>
            <a:ext cx="1434960" cy="62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66920" y="40766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s débiles y su 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847320" y="4951440"/>
            <a:ext cx="1229400" cy="857880"/>
            <a:chOff x="3847320" y="4951440"/>
            <a:chExt cx="1229400" cy="857880"/>
          </a:xfrm>
        </p:grpSpPr>
        <p:sp>
          <p:nvSpPr>
            <p:cNvPr id="473" name=""/>
            <p:cNvSpPr/>
            <p:nvPr/>
          </p:nvSpPr>
          <p:spPr>
            <a:xfrm>
              <a:off x="3847320" y="5168880"/>
              <a:ext cx="72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543560" y="4951440"/>
              <a:ext cx="533160" cy="857880"/>
              <a:chOff x="4543560" y="4951440"/>
              <a:chExt cx="533160" cy="857880"/>
            </a:xfrm>
          </p:grpSpPr>
          <p:sp>
            <p:nvSpPr>
              <p:cNvPr id="475" name=""/>
              <p:cNvSpPr/>
              <p:nvPr/>
            </p:nvSpPr>
            <p:spPr>
              <a:xfrm>
                <a:off x="4568760" y="495144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50040" y="5368680"/>
                <a:ext cx="43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43560" y="53719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339920" y="2638440"/>
            <a:ext cx="2162160" cy="888480"/>
            <a:chOff x="1339920" y="2638440"/>
            <a:chExt cx="2162160" cy="888480"/>
          </a:xfrm>
        </p:grpSpPr>
        <p:sp>
          <p:nvSpPr>
            <p:cNvPr id="479" name=""/>
            <p:cNvSpPr/>
            <p:nvPr/>
          </p:nvSpPr>
          <p:spPr>
            <a:xfrm>
              <a:off x="1339920" y="28558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31840" y="2638440"/>
              <a:ext cx="14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[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54480" y="3043080"/>
              <a:ext cx="6134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4640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700360" y="2638440"/>
            <a:ext cx="1904760" cy="888480"/>
            <a:chOff x="2700360" y="2638440"/>
            <a:chExt cx="1904760" cy="888480"/>
          </a:xfrm>
        </p:grpSpPr>
        <p:sp>
          <p:nvSpPr>
            <p:cNvPr id="484" name=""/>
            <p:cNvSpPr/>
            <p:nvPr/>
          </p:nvSpPr>
          <p:spPr>
            <a:xfrm>
              <a:off x="2700360" y="2855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6200" y="263844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3320" y="304308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1476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865520" y="115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piedades ácido-base de las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60948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neut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212840"/>
            <a:ext cx="66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sales formadas por un ácido fuerte y una base fu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421000" y="1627200"/>
            <a:ext cx="4818240" cy="579960"/>
            <a:chOff x="2421000" y="1627200"/>
            <a:chExt cx="4818240" cy="579960"/>
          </a:xfrm>
        </p:grpSpPr>
        <p:sp>
          <p:nvSpPr>
            <p:cNvPr id="492" name=""/>
            <p:cNvSpPr/>
            <p:nvPr/>
          </p:nvSpPr>
          <p:spPr>
            <a:xfrm>
              <a:off x="2421000" y="1808280"/>
              <a:ext cx="481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59480" y="20016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35000" y="162720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52280" y="243036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bás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46520" y="246528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a base fuerte y un ácid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ébi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068840" y="2933640"/>
            <a:ext cx="6496200" cy="621720"/>
            <a:chOff x="1068840" y="2933640"/>
            <a:chExt cx="6496200" cy="621720"/>
          </a:xfrm>
        </p:grpSpPr>
        <p:sp>
          <p:nvSpPr>
            <p:cNvPr id="498" name=""/>
            <p:cNvSpPr/>
            <p:nvPr/>
          </p:nvSpPr>
          <p:spPr>
            <a:xfrm>
              <a:off x="1068840" y="3114720"/>
              <a:ext cx="649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56080" y="33084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31600" y="293364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831240" y="3753000"/>
            <a:ext cx="7393680" cy="440640"/>
            <a:chOff x="831240" y="3753000"/>
            <a:chExt cx="7393680" cy="440640"/>
          </a:xfrm>
        </p:grpSpPr>
        <p:sp>
          <p:nvSpPr>
            <p:cNvPr id="502" name=""/>
            <p:cNvSpPr/>
            <p:nvPr/>
          </p:nvSpPr>
          <p:spPr>
            <a:xfrm>
              <a:off x="831240" y="3753000"/>
              <a:ext cx="739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133520" y="3870360"/>
              <a:ext cx="609840" cy="151920"/>
              <a:chOff x="4133520" y="3870360"/>
              <a:chExt cx="609840" cy="151920"/>
            </a:xfrm>
          </p:grpSpPr>
          <p:sp>
            <p:nvSpPr>
              <p:cNvPr id="504" name=""/>
              <p:cNvSpPr/>
              <p:nvPr/>
            </p:nvSpPr>
            <p:spPr>
              <a:xfrm>
                <a:off x="4133880" y="387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133520" y="4022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7086600" y="357336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44658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áci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00360" y="44719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 ácido fuerte y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86840" y="5084640"/>
            <a:ext cx="4851360" cy="621360"/>
            <a:chOff x="1986840" y="5084640"/>
            <a:chExt cx="4851360" cy="621360"/>
          </a:xfrm>
        </p:grpSpPr>
        <p:sp>
          <p:nvSpPr>
            <p:cNvPr id="510" name=""/>
            <p:cNvSpPr/>
            <p:nvPr/>
          </p:nvSpPr>
          <p:spPr>
            <a:xfrm>
              <a:off x="1986840" y="5265360"/>
              <a:ext cx="485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3120" y="545904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3560" y="50846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189160" y="6046920"/>
            <a:ext cx="4524120" cy="440640"/>
            <a:chOff x="2189160" y="6046920"/>
            <a:chExt cx="4524120" cy="440640"/>
          </a:xfrm>
        </p:grpSpPr>
        <p:sp>
          <p:nvSpPr>
            <p:cNvPr id="514" name=""/>
            <p:cNvSpPr/>
            <p:nvPr/>
          </p:nvSpPr>
          <p:spPr>
            <a:xfrm>
              <a:off x="2189160" y="6046920"/>
              <a:ext cx="45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            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638160" y="6164280"/>
              <a:ext cx="609840" cy="152280"/>
              <a:chOff x="3638160" y="6164280"/>
              <a:chExt cx="609840" cy="152280"/>
            </a:xfrm>
          </p:grpSpPr>
          <p:sp>
            <p:nvSpPr>
              <p:cNvPr id="516" name=""/>
              <p:cNvSpPr/>
              <p:nvPr/>
            </p:nvSpPr>
            <p:spPr>
              <a:xfrm>
                <a:off x="3638520" y="6164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638160" y="6316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5708520" y="592308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3808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efecto del io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ú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cambio en el equilibrio causado por la suma de un compuesto teniendo un ion en común con la sustancia disue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4800" y="2565360"/>
            <a:ext cx="8474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idere la mezcla de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Na (sal, electrolito fuerte) y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H (ácido déb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072440" y="3578400"/>
            <a:ext cx="6324120" cy="440640"/>
            <a:chOff x="1072440" y="3578400"/>
            <a:chExt cx="6324120" cy="440640"/>
          </a:xfrm>
        </p:grpSpPr>
        <p:sp>
          <p:nvSpPr>
            <p:cNvPr id="522" name=""/>
            <p:cNvSpPr/>
            <p:nvPr/>
          </p:nvSpPr>
          <p:spPr>
            <a:xfrm>
              <a:off x="1072440" y="3578400"/>
              <a:ext cx="63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N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01920" y="3759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073160" y="4289400"/>
            <a:ext cx="6111720" cy="440640"/>
            <a:chOff x="1073160" y="4289400"/>
            <a:chExt cx="6111720" cy="440640"/>
          </a:xfrm>
        </p:grpSpPr>
        <p:grpSp>
          <p:nvGrpSpPr>
            <p:cNvPr id="525" name=""/>
            <p:cNvGrpSpPr/>
            <p:nvPr/>
          </p:nvGrpSpPr>
          <p:grpSpPr>
            <a:xfrm>
              <a:off x="3288960" y="4394160"/>
              <a:ext cx="609840" cy="152640"/>
              <a:chOff x="3288960" y="4394160"/>
              <a:chExt cx="609840" cy="152640"/>
            </a:xfrm>
          </p:grpSpPr>
          <p:sp>
            <p:nvSpPr>
              <p:cNvPr id="526" name=""/>
              <p:cNvSpPr/>
              <p:nvPr/>
            </p:nvSpPr>
            <p:spPr>
              <a:xfrm>
                <a:off x="3289320" y="4394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288960" y="4546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073160" y="4289400"/>
              <a:ext cx="611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2844360" y="485136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079960" y="3505320"/>
            <a:ext cx="3530520" cy="1231920"/>
            <a:chOff x="5079960" y="3505320"/>
            <a:chExt cx="3530520" cy="1231920"/>
          </a:xfrm>
        </p:grpSpPr>
        <p:sp>
          <p:nvSpPr>
            <p:cNvPr id="531" name=""/>
            <p:cNvSpPr/>
            <p:nvPr/>
          </p:nvSpPr>
          <p:spPr>
            <a:xfrm>
              <a:off x="5283360" y="3505320"/>
              <a:ext cx="2133360" cy="520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79960" y="4216320"/>
              <a:ext cx="2133720" cy="520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15200" y="3861000"/>
              <a:ext cx="1295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comú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79280" y="1341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sencia de un ion comú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“suprime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a ionización de un ácido débil o de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NaA y un ácido débil 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05280" y="1495440"/>
            <a:ext cx="4456440" cy="398880"/>
            <a:chOff x="305280" y="1495440"/>
            <a:chExt cx="4456440" cy="398880"/>
          </a:xfrm>
        </p:grpSpPr>
        <p:sp>
          <p:nvSpPr>
            <p:cNvPr id="537" name=""/>
            <p:cNvSpPr/>
            <p:nvPr/>
          </p:nvSpPr>
          <p:spPr>
            <a:xfrm>
              <a:off x="305280" y="1495440"/>
              <a:ext cx="445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78160" y="1611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477800" y="17636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11040" y="885960"/>
            <a:ext cx="4598640" cy="398880"/>
            <a:chOff x="311040" y="885960"/>
            <a:chExt cx="4598640" cy="398880"/>
          </a:xfrm>
        </p:grpSpPr>
        <p:sp>
          <p:nvSpPr>
            <p:cNvPr id="541" name=""/>
            <p:cNvSpPr/>
            <p:nvPr/>
          </p:nvSpPr>
          <p:spPr>
            <a:xfrm>
              <a:off x="311040" y="885960"/>
              <a:ext cx="459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84280" y="1077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1390680" y="83808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0680" y="146052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187320" y="1038240"/>
            <a:ext cx="1903320" cy="803520"/>
            <a:chOff x="6187320" y="1038240"/>
            <a:chExt cx="1903320" cy="803520"/>
          </a:xfrm>
        </p:grpSpPr>
        <p:sp>
          <p:nvSpPr>
            <p:cNvPr id="546" name=""/>
            <p:cNvSpPr/>
            <p:nvPr/>
          </p:nvSpPr>
          <p:spPr>
            <a:xfrm>
              <a:off x="6187320" y="125568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40600" y="1038240"/>
              <a:ext cx="95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5240" y="14428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14479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02320" y="2060640"/>
            <a:ext cx="1912320" cy="803520"/>
            <a:chOff x="202320" y="2060640"/>
            <a:chExt cx="1912320" cy="803520"/>
          </a:xfrm>
        </p:grpSpPr>
        <p:sp>
          <p:nvSpPr>
            <p:cNvPr id="551" name=""/>
            <p:cNvSpPr/>
            <p:nvPr/>
          </p:nvSpPr>
          <p:spPr>
            <a:xfrm>
              <a:off x="202320" y="2278080"/>
              <a:ext cx="81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7320" y="2060640"/>
              <a:ext cx="967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57560" y="24652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11320" y="24703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90720" y="2852640"/>
            <a:ext cx="3792240" cy="816480"/>
            <a:chOff x="90720" y="2852640"/>
            <a:chExt cx="3792240" cy="816480"/>
          </a:xfrm>
        </p:grpSpPr>
        <p:sp>
          <p:nvSpPr>
            <p:cNvPr id="556" name=""/>
            <p:cNvSpPr/>
            <p:nvPr/>
          </p:nvSpPr>
          <p:spPr>
            <a:xfrm>
              <a:off x="90720" y="3031920"/>
              <a:ext cx="30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-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190680" y="2852640"/>
              <a:ext cx="692280" cy="816480"/>
              <a:chOff x="3190680" y="2852640"/>
              <a:chExt cx="692280" cy="816480"/>
            </a:xfrm>
          </p:grpSpPr>
          <p:sp>
            <p:nvSpPr>
              <p:cNvPr id="558" name=""/>
              <p:cNvSpPr/>
              <p:nvPr/>
            </p:nvSpPr>
            <p:spPr>
              <a:xfrm>
                <a:off x="3190680" y="285264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05520" y="327024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7348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4507200" y="2830680"/>
            <a:ext cx="3918960" cy="816480"/>
            <a:chOff x="4507200" y="2830680"/>
            <a:chExt cx="3918960" cy="816480"/>
          </a:xfrm>
        </p:grpSpPr>
        <p:sp>
          <p:nvSpPr>
            <p:cNvPr id="562" name=""/>
            <p:cNvSpPr/>
            <p:nvPr/>
          </p:nvSpPr>
          <p:spPr>
            <a:xfrm>
              <a:off x="4507200" y="3009960"/>
              <a:ext cx="31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751520" y="2830680"/>
              <a:ext cx="674640" cy="816480"/>
              <a:chOff x="7751520" y="2830680"/>
              <a:chExt cx="674640" cy="816480"/>
            </a:xfrm>
          </p:grpSpPr>
          <p:sp>
            <p:nvSpPr>
              <p:cNvPr id="564" name=""/>
              <p:cNvSpPr/>
              <p:nvPr/>
            </p:nvSpPr>
            <p:spPr>
              <a:xfrm>
                <a:off x="7816680" y="283068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51520" y="32482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4880" y="5494320"/>
            <a:ext cx="2936160" cy="816480"/>
            <a:chOff x="254880" y="5494320"/>
            <a:chExt cx="2936160" cy="816480"/>
          </a:xfrm>
        </p:grpSpPr>
        <p:sp>
          <p:nvSpPr>
            <p:cNvPr id="568" name=""/>
            <p:cNvSpPr/>
            <p:nvPr/>
          </p:nvSpPr>
          <p:spPr>
            <a:xfrm>
              <a:off x="254880" y="5695920"/>
              <a:ext cx="20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175120" y="5494320"/>
              <a:ext cx="1015920" cy="816480"/>
              <a:chOff x="2175120" y="5494320"/>
              <a:chExt cx="1015920" cy="816480"/>
            </a:xfrm>
          </p:grpSpPr>
          <p:sp>
            <p:nvSpPr>
              <p:cNvPr id="570" name=""/>
              <p:cNvSpPr/>
              <p:nvPr/>
            </p:nvSpPr>
            <p:spPr>
              <a:xfrm>
                <a:off x="2327400" y="54943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sal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75120" y="5911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76720" y="5884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4930920" y="4005360"/>
            <a:ext cx="3733560" cy="862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nderson-Hasselbal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1720" y="4127400"/>
            <a:ext cx="4415040" cy="816120"/>
            <a:chOff x="261720" y="4127400"/>
            <a:chExt cx="4415040" cy="816120"/>
          </a:xfrm>
        </p:grpSpPr>
        <p:sp>
          <p:nvSpPr>
            <p:cNvPr id="575" name=""/>
            <p:cNvSpPr/>
            <p:nvPr/>
          </p:nvSpPr>
          <p:spPr>
            <a:xfrm>
              <a:off x="261720" y="4317840"/>
              <a:ext cx="208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2422440" y="4127400"/>
              <a:ext cx="2254320" cy="816120"/>
              <a:chOff x="2422440" y="4127400"/>
              <a:chExt cx="2254320" cy="816120"/>
            </a:xfrm>
          </p:grpSpPr>
          <p:sp>
            <p:nvSpPr>
              <p:cNvPr id="577" name=""/>
              <p:cNvSpPr/>
              <p:nvPr/>
            </p:nvSpPr>
            <p:spPr>
              <a:xfrm>
                <a:off x="2494080" y="412740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 conjugad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76920" y="45446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2244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BHA y una base débil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11040" y="885960"/>
            <a:ext cx="4981320" cy="398880"/>
            <a:chOff x="311040" y="885960"/>
            <a:chExt cx="4981320" cy="398880"/>
          </a:xfrm>
        </p:grpSpPr>
        <p:sp>
          <p:nvSpPr>
            <p:cNvPr id="582" name=""/>
            <p:cNvSpPr/>
            <p:nvPr/>
          </p:nvSpPr>
          <p:spPr>
            <a:xfrm>
              <a:off x="311040" y="885960"/>
              <a:ext cx="498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H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6000" y="107784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506600" y="83808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00360" y="1413000"/>
            <a:ext cx="93672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9760" y="1989000"/>
            <a:ext cx="2091600" cy="803520"/>
            <a:chOff x="329760" y="1989000"/>
            <a:chExt cx="2091600" cy="803520"/>
          </a:xfrm>
        </p:grpSpPr>
        <p:sp>
          <p:nvSpPr>
            <p:cNvPr id="587" name=""/>
            <p:cNvSpPr/>
            <p:nvPr/>
          </p:nvSpPr>
          <p:spPr>
            <a:xfrm>
              <a:off x="329760" y="220644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88640" y="1989000"/>
              <a:ext cx="13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09840" y="239364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3840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638520" y="1989000"/>
            <a:ext cx="1901520" cy="803520"/>
            <a:chOff x="3638520" y="1989000"/>
            <a:chExt cx="1901520" cy="803520"/>
          </a:xfrm>
        </p:grpSpPr>
        <p:sp>
          <p:nvSpPr>
            <p:cNvPr id="592" name=""/>
            <p:cNvSpPr/>
            <p:nvPr/>
          </p:nvSpPr>
          <p:spPr>
            <a:xfrm>
              <a:off x="3638520" y="220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77840" y="1989000"/>
              <a:ext cx="78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84680" y="23936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4968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25360" y="2852640"/>
            <a:ext cx="3979440" cy="816480"/>
            <a:chOff x="225360" y="2852640"/>
            <a:chExt cx="3979440" cy="816480"/>
          </a:xfrm>
        </p:grpSpPr>
        <p:sp>
          <p:nvSpPr>
            <p:cNvPr id="597" name=""/>
            <p:cNvSpPr/>
            <p:nvPr/>
          </p:nvSpPr>
          <p:spPr>
            <a:xfrm>
              <a:off x="225360" y="3031920"/>
              <a:ext cx="318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 = 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327120" y="2852640"/>
              <a:ext cx="877680" cy="816480"/>
              <a:chOff x="3327120" y="2852640"/>
              <a:chExt cx="877680" cy="816480"/>
            </a:xfrm>
          </p:grpSpPr>
          <p:sp>
            <p:nvSpPr>
              <p:cNvPr id="599" name=""/>
              <p:cNvSpPr/>
              <p:nvPr/>
            </p:nvSpPr>
            <p:spPr>
              <a:xfrm>
                <a:off x="3327120" y="2852640"/>
                <a:ext cx="7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43400" y="327024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992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4505400" y="2830680"/>
            <a:ext cx="3961800" cy="816480"/>
            <a:chOff x="4505400" y="2830680"/>
            <a:chExt cx="3961800" cy="816480"/>
          </a:xfrm>
        </p:grpSpPr>
        <p:sp>
          <p:nvSpPr>
            <p:cNvPr id="603" name=""/>
            <p:cNvSpPr/>
            <p:nvPr/>
          </p:nvSpPr>
          <p:spPr>
            <a:xfrm>
              <a:off x="4505400" y="3009960"/>
              <a:ext cx="319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705800" y="2830680"/>
              <a:ext cx="761400" cy="816480"/>
              <a:chOff x="7705800" y="2830680"/>
              <a:chExt cx="761400" cy="816480"/>
            </a:xfrm>
          </p:grpSpPr>
          <p:sp>
            <p:nvSpPr>
              <p:cNvPr id="605" name=""/>
              <p:cNvSpPr/>
              <p:nvPr/>
            </p:nvSpPr>
            <p:spPr>
              <a:xfrm>
                <a:off x="7705800" y="283068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43320" y="3248280"/>
                <a:ext cx="48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877320" y="4127400"/>
            <a:ext cx="4415400" cy="816120"/>
            <a:chOff x="877320" y="4127400"/>
            <a:chExt cx="4415400" cy="816120"/>
          </a:xfrm>
        </p:grpSpPr>
        <p:sp>
          <p:nvSpPr>
            <p:cNvPr id="609" name=""/>
            <p:cNvSpPr/>
            <p:nvPr/>
          </p:nvSpPr>
          <p:spPr>
            <a:xfrm>
              <a:off x="877320" y="431784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3038400" y="4127400"/>
              <a:ext cx="2254320" cy="816120"/>
              <a:chOff x="3038400" y="4127400"/>
              <a:chExt cx="2254320" cy="816120"/>
            </a:xfrm>
          </p:grpSpPr>
          <p:sp>
            <p:nvSpPr>
              <p:cNvPr id="611" name=""/>
              <p:cNvSpPr/>
              <p:nvPr/>
            </p:nvSpPr>
            <p:spPr>
              <a:xfrm>
                <a:off x="3083400" y="4127400"/>
                <a:ext cx="21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 conjuga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22760" y="454464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840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324000" y="1484280"/>
            <a:ext cx="64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ac)    +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(l)                    B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ac)   +  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1630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84328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81680" y="5695920"/>
            <a:ext cx="284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14  - 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-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5664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7240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520" y="5695920"/>
            <a:ext cx="25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H =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+ 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6560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8136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2096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987640" y="189000"/>
            <a:ext cx="31669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440" y="774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titul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una solución con una concentración conocida es agregada gradualmente a otra solución con concentración desconocida, hasta que la reacción química entre las dos soluciones se compl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1000" y="198900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unto de equivalenci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l punto en el que una reacción es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263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Indicado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sustancia que cambia de color en (cerca de) el punto de equi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0" t="42858" r="0" b="0"/>
          <a:stretch/>
        </p:blipFill>
        <p:spPr>
          <a:xfrm>
            <a:off x="603360" y="3941640"/>
            <a:ext cx="2381040" cy="24386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209400" y="429408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gregar lentamente un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un ácido descono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AS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6730920" y="3789360"/>
            <a:ext cx="1873440" cy="2743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539160" y="5284800"/>
            <a:ext cx="268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cambie de col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2400" spc="-1" strike="noStrike">
                <a:solidFill>
                  <a:srgbClr val="ff00ff"/>
                </a:solidFill>
                <a:latin typeface="Arial"/>
              </a:rPr>
              <a:t>ros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52320" y="235080"/>
            <a:ext cx="77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479960" y="922320"/>
            <a:ext cx="6204600" cy="510120"/>
            <a:chOff x="1479960" y="922320"/>
            <a:chExt cx="6204600" cy="510120"/>
          </a:xfrm>
        </p:grpSpPr>
        <p:sp>
          <p:nvSpPr>
            <p:cNvPr id="635" name=""/>
            <p:cNvSpPr/>
            <p:nvPr/>
          </p:nvSpPr>
          <p:spPr>
            <a:xfrm>
              <a:off x="1479960" y="922320"/>
              <a:ext cx="620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3120" y="116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007720" y="1531800"/>
            <a:ext cx="4151880" cy="560880"/>
            <a:chOff x="2007720" y="1531800"/>
            <a:chExt cx="4151880" cy="560880"/>
          </a:xfrm>
        </p:grpSpPr>
        <p:sp>
          <p:nvSpPr>
            <p:cNvPr id="638" name=""/>
            <p:cNvSpPr/>
            <p:nvPr/>
          </p:nvSpPr>
          <p:spPr>
            <a:xfrm>
              <a:off x="2007720" y="1531800"/>
              <a:ext cx="4151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62200" y="1773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0" name="" descr=""/>
          <p:cNvPicPr/>
          <p:nvPr/>
        </p:nvPicPr>
        <p:blipFill>
          <a:blip r:embed="rId1"/>
          <a:srcRect l="0" t="4347" r="0" b="0"/>
          <a:stretch/>
        </p:blipFill>
        <p:spPr>
          <a:xfrm>
            <a:off x="380880" y="2451240"/>
            <a:ext cx="83822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939960" y="76320"/>
            <a:ext cx="72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 ácido débil con una bas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11920" y="731880"/>
            <a:ext cx="8011800" cy="510120"/>
            <a:chOff x="511920" y="731880"/>
            <a:chExt cx="8011800" cy="510120"/>
          </a:xfrm>
        </p:grpSpPr>
        <p:sp>
          <p:nvSpPr>
            <p:cNvPr id="643" name=""/>
            <p:cNvSpPr/>
            <p:nvPr/>
          </p:nvSpPr>
          <p:spPr>
            <a:xfrm>
              <a:off x="511920" y="731880"/>
              <a:ext cx="801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N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02080" y="97344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52840" y="1214280"/>
            <a:ext cx="7371720" cy="560880"/>
            <a:chOff x="852840" y="1214280"/>
            <a:chExt cx="7371720" cy="560880"/>
          </a:xfrm>
        </p:grpSpPr>
        <p:sp>
          <p:nvSpPr>
            <p:cNvPr id="646" name=""/>
            <p:cNvSpPr/>
            <p:nvPr/>
          </p:nvSpPr>
          <p:spPr>
            <a:xfrm>
              <a:off x="852840" y="1214280"/>
              <a:ext cx="7371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1455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845280" y="2251080"/>
            <a:ext cx="7457400" cy="560880"/>
            <a:chOff x="845280" y="2251080"/>
            <a:chExt cx="7457400" cy="560880"/>
          </a:xfrm>
        </p:grpSpPr>
        <p:sp>
          <p:nvSpPr>
            <p:cNvPr id="649" name=""/>
            <p:cNvSpPr/>
            <p:nvPr/>
          </p:nvSpPr>
          <p:spPr>
            <a:xfrm>
              <a:off x="845280" y="2251080"/>
              <a:ext cx="74574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41440" y="2403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141440" y="255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498960" y="174456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g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2801" r="0" b="0"/>
          <a:stretch/>
        </p:blipFill>
        <p:spPr>
          <a:xfrm>
            <a:off x="755640" y="285264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012680" y="16344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a base débil con un ácido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98640" y="714240"/>
            <a:ext cx="4743360" cy="510120"/>
            <a:chOff x="1898640" y="714240"/>
            <a:chExt cx="4743360" cy="510120"/>
          </a:xfrm>
        </p:grpSpPr>
        <p:sp>
          <p:nvSpPr>
            <p:cNvPr id="656" name=""/>
            <p:cNvSpPr/>
            <p:nvPr/>
          </p:nvSpPr>
          <p:spPr>
            <a:xfrm>
              <a:off x="1898640" y="714240"/>
              <a:ext cx="474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33840" y="955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677240" y="2179800"/>
            <a:ext cx="5680080" cy="510120"/>
            <a:chOff x="1677240" y="2179800"/>
            <a:chExt cx="5680080" cy="510120"/>
          </a:xfrm>
        </p:grpSpPr>
        <p:sp>
          <p:nvSpPr>
            <p:cNvPr id="659" name=""/>
            <p:cNvSpPr/>
            <p:nvPr/>
          </p:nvSpPr>
          <p:spPr>
            <a:xfrm>
              <a:off x="1677240" y="2179800"/>
              <a:ext cx="5680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95880" y="2332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295520" y="2484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35320" y="162252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l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86200" y="1171440"/>
            <a:ext cx="4560480" cy="510120"/>
            <a:chOff x="2086200" y="1171440"/>
            <a:chExt cx="4560480" cy="510120"/>
          </a:xfrm>
        </p:grpSpPr>
        <p:sp>
          <p:nvSpPr>
            <p:cNvPr id="664" name=""/>
            <p:cNvSpPr/>
            <p:nvPr/>
          </p:nvSpPr>
          <p:spPr>
            <a:xfrm>
              <a:off x="2086200" y="1171440"/>
              <a:ext cx="456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2280" y="1413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1"/>
          <a:srcRect l="0" t="2925" r="0" b="0"/>
          <a:stretch/>
        </p:blipFill>
        <p:spPr>
          <a:xfrm>
            <a:off x="685800" y="2743200"/>
            <a:ext cx="77724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68360" y="260280"/>
            <a:ext cx="8180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muestra de 100 mL de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son titulados con una solución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NaOH. ¿Qué pH hay en el punto de equival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168640" y="1523880"/>
            <a:ext cx="6018840" cy="560880"/>
            <a:chOff x="2168640" y="1523880"/>
            <a:chExt cx="6018840" cy="560880"/>
          </a:xfrm>
        </p:grpSpPr>
        <p:sp>
          <p:nvSpPr>
            <p:cNvPr id="669" name=""/>
            <p:cNvSpPr/>
            <p:nvPr/>
          </p:nvSpPr>
          <p:spPr>
            <a:xfrm>
              <a:off x="2168640" y="1523880"/>
              <a:ext cx="60188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46480" y="1765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74520" y="11905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600" y="1952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i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4072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200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123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919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652360" y="1952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38200" y="3332160"/>
            <a:ext cx="6104160" cy="560880"/>
            <a:chOff x="2338200" y="3332160"/>
            <a:chExt cx="6104160" cy="560880"/>
          </a:xfrm>
        </p:grpSpPr>
        <p:sp>
          <p:nvSpPr>
            <p:cNvPr id="679" name=""/>
            <p:cNvSpPr/>
            <p:nvPr/>
          </p:nvSpPr>
          <p:spPr>
            <a:xfrm>
              <a:off x="2338200" y="3332160"/>
              <a:ext cx="6104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3484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943160" y="3636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31400" y="3645000"/>
            <a:ext cx="1680840" cy="1465200"/>
            <a:chOff x="131400" y="3645000"/>
            <a:chExt cx="1680840" cy="1465200"/>
          </a:xfrm>
        </p:grpSpPr>
        <p:sp>
          <p:nvSpPr>
            <p:cNvPr id="683" name=""/>
            <p:cNvSpPr/>
            <p:nvPr/>
          </p:nvSpPr>
          <p:spPr>
            <a:xfrm>
              <a:off x="182880" y="3645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1400" y="417816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2120" y="471132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34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8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11640" y="422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3112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174400" y="4653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9380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0900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55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57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59200" y="2403360"/>
            <a:ext cx="3177000" cy="740160"/>
            <a:chOff x="3859200" y="2403360"/>
            <a:chExt cx="3177000" cy="740160"/>
          </a:xfrm>
        </p:grpSpPr>
        <p:grpSp>
          <p:nvGrpSpPr>
            <p:cNvPr id="696" name=""/>
            <p:cNvGrpSpPr/>
            <p:nvPr/>
          </p:nvGrpSpPr>
          <p:grpSpPr>
            <a:xfrm>
              <a:off x="3859200" y="2403360"/>
              <a:ext cx="2009520" cy="740160"/>
              <a:chOff x="3859200" y="2403360"/>
              <a:chExt cx="2009520" cy="740160"/>
            </a:xfrm>
          </p:grpSpPr>
          <p:sp>
            <p:nvSpPr>
              <p:cNvPr id="697" name=""/>
              <p:cNvSpPr/>
              <p:nvPr/>
            </p:nvSpPr>
            <p:spPr>
              <a:xfrm>
                <a:off x="3859200" y="2579760"/>
                <a:ext cx="1053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5015160" y="2403360"/>
                <a:ext cx="853560" cy="740160"/>
                <a:chOff x="5015160" y="2403360"/>
                <a:chExt cx="853560" cy="7401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5099760" y="24033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15160" y="2744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06960" y="2760480"/>
                  <a:ext cx="761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2" name=""/>
            <p:cNvSpPr/>
            <p:nvPr/>
          </p:nvSpPr>
          <p:spPr>
            <a:xfrm>
              <a:off x="5859000" y="2579760"/>
              <a:ext cx="11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0.05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608760" y="258120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 Final = 200 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639000" y="5148360"/>
            <a:ext cx="2508840" cy="845280"/>
            <a:chOff x="639000" y="5148360"/>
            <a:chExt cx="2508840" cy="845280"/>
          </a:xfrm>
        </p:grpSpPr>
        <p:sp>
          <p:nvSpPr>
            <p:cNvPr id="705" name=""/>
            <p:cNvSpPr/>
            <p:nvPr/>
          </p:nvSpPr>
          <p:spPr>
            <a:xfrm>
              <a:off x="639000" y="536580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49080" y="5148360"/>
              <a:ext cx="1541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97920" y="5553000"/>
              <a:ext cx="83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36400" y="5557680"/>
              <a:ext cx="171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123360" y="5148360"/>
            <a:ext cx="1364040" cy="803880"/>
            <a:chOff x="3123360" y="5148360"/>
            <a:chExt cx="1364040" cy="803880"/>
          </a:xfrm>
        </p:grpSpPr>
        <p:sp>
          <p:nvSpPr>
            <p:cNvPr id="710" name=""/>
            <p:cNvSpPr/>
            <p:nvPr/>
          </p:nvSpPr>
          <p:spPr>
            <a:xfrm>
              <a:off x="3123360" y="5365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20320" y="5148360"/>
              <a:ext cx="39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71200" y="5553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5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97040" y="55580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480920" y="53640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2.2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25640" y="53737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0.05 – </a:t>
            </a:r>
            <a:r>
              <a:rPr b="1" i="1" lang="es-MX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6800" y="623736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1.0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4520" y="62197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066200" y="623736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5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81480" y="616572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 – pOH = 8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71640" y="26028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rhenius Arrhenius (18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30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se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 que, en disolución acuosa se disocia forman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H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765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ustancia que, en disolución acuosa, se disocia form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392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ción de neutraliz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908600"/>
            <a:ext cx="8569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s con propiedades básica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acid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no contien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es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droxilo (Ej.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limita a disoluciones acuos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305000"/>
            <a:ext cx="4176720" cy="628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63920" y="2630520"/>
            <a:ext cx="4313160" cy="65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258920" y="3814920"/>
            <a:ext cx="74674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798640" y="1522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ácido-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08200" y="728640"/>
            <a:ext cx="4051440" cy="398880"/>
            <a:chOff x="2608200" y="728640"/>
            <a:chExt cx="4051440" cy="398880"/>
          </a:xfrm>
        </p:grpSpPr>
        <p:sp>
          <p:nvSpPr>
            <p:cNvPr id="722" name=""/>
            <p:cNvSpPr/>
            <p:nvPr/>
          </p:nvSpPr>
          <p:spPr>
            <a:xfrm>
              <a:off x="2608200" y="728640"/>
              <a:ext cx="405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In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1680" y="833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811320" y="985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78000" y="1305000"/>
            <a:ext cx="1487520" cy="803520"/>
            <a:chOff x="1278000" y="1305000"/>
            <a:chExt cx="1487520" cy="803520"/>
          </a:xfrm>
        </p:grpSpPr>
        <p:sp>
          <p:nvSpPr>
            <p:cNvPr id="726" name=""/>
            <p:cNvSpPr/>
            <p:nvPr/>
          </p:nvSpPr>
          <p:spPr>
            <a:xfrm>
              <a:off x="2028600" y="151920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83760" y="13050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48920" y="17096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8000" y="171468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901240" y="15080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l ácido (HIn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278000" y="2195640"/>
            <a:ext cx="1487520" cy="803520"/>
            <a:chOff x="1278000" y="2195640"/>
            <a:chExt cx="1487520" cy="803520"/>
          </a:xfrm>
        </p:grpSpPr>
        <p:sp>
          <p:nvSpPr>
            <p:cNvPr id="732" name=""/>
            <p:cNvSpPr/>
            <p:nvPr/>
          </p:nvSpPr>
          <p:spPr>
            <a:xfrm>
              <a:off x="2028600" y="240984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83760" y="21956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48920" y="2600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78000" y="260532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2902320" y="2398680"/>
            <a:ext cx="50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 la base conjugada (In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rcRect l="0" t="3333" r="0" b="0"/>
          <a:stretch/>
        </p:blipFill>
        <p:spPr>
          <a:xfrm>
            <a:off x="900000" y="3068640"/>
            <a:ext cx="73152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rcRect l="0" t="3388" r="0" b="0"/>
          <a:stretch/>
        </p:blipFill>
        <p:spPr>
          <a:xfrm>
            <a:off x="1411200" y="3068640"/>
            <a:ext cx="6400800" cy="33037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324000" y="198360"/>
            <a:ext cx="85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¿Qué indicador se usaría para una titulación de HNO</a:t>
            </a:r>
            <a:r>
              <a:rPr b="0" lang="es-MX" sz="2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 con KOH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2280" y="981000"/>
            <a:ext cx="85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cido débil titulado con una base fue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2280" y="13622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tendrá una base conjugada del ácido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2280" y="1989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2370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usaría  rojo cresol 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noftale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16720" y="5479920"/>
            <a:ext cx="12193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58000" y="15228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va de titulación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609480" y="835200"/>
            <a:ext cx="792504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6000" y="892080"/>
            <a:ext cx="87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don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acept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820960"/>
            <a:ext cx="9144000" cy="222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648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2064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6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1440" y="5819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9480" y="55944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880" y="58197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6070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10040" y="25416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Brønsted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19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187280" y="2325600"/>
            <a:ext cx="7150680" cy="1202400"/>
            <a:chOff x="1187280" y="2325600"/>
            <a:chExt cx="7150680" cy="1202400"/>
          </a:xfrm>
        </p:grpSpPr>
        <p:grpSp>
          <p:nvGrpSpPr>
            <p:cNvPr id="72" name=""/>
            <p:cNvGrpSpPr/>
            <p:nvPr/>
          </p:nvGrpSpPr>
          <p:grpSpPr>
            <a:xfrm>
              <a:off x="1187280" y="2497320"/>
              <a:ext cx="959040" cy="1030680"/>
              <a:chOff x="1187280" y="2497320"/>
              <a:chExt cx="959040" cy="1030680"/>
            </a:xfrm>
          </p:grpSpPr>
          <p:sp>
            <p:nvSpPr>
              <p:cNvPr id="73" name=""/>
              <p:cNvSpPr/>
              <p:nvPr/>
            </p:nvSpPr>
            <p:spPr>
              <a:xfrm>
                <a:off x="172836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1790640" y="2497320"/>
                <a:ext cx="228600" cy="76320"/>
                <a:chOff x="1790640" y="2497320"/>
                <a:chExt cx="228600" cy="76320"/>
              </a:xfrm>
            </p:grpSpPr>
            <p:sp>
              <p:nvSpPr>
                <p:cNvPr id="75" name=""/>
                <p:cNvSpPr/>
                <p:nvPr/>
              </p:nvSpPr>
              <p:spPr>
                <a:xfrm rot="5400000">
                  <a:off x="194292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5400000">
                  <a:off x="179028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70360" y="2624400"/>
                <a:ext cx="75960" cy="228600"/>
                <a:chOff x="2070360" y="2624400"/>
                <a:chExt cx="75960" cy="2286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07036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7036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91772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7348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4636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8728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2550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584440" y="2497320"/>
              <a:ext cx="959040" cy="1030680"/>
              <a:chOff x="2584440" y="2497320"/>
              <a:chExt cx="959040" cy="1030680"/>
            </a:xfrm>
          </p:grpSpPr>
          <p:sp>
            <p:nvSpPr>
              <p:cNvPr id="86" name=""/>
              <p:cNvSpPr/>
              <p:nvPr/>
            </p:nvSpPr>
            <p:spPr>
              <a:xfrm>
                <a:off x="312552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3187800" y="2497320"/>
                <a:ext cx="228600" cy="76320"/>
                <a:chOff x="3187800" y="2497320"/>
                <a:chExt cx="228600" cy="76320"/>
              </a:xfrm>
            </p:grpSpPr>
            <p:sp>
              <p:nvSpPr>
                <p:cNvPr id="88" name=""/>
                <p:cNvSpPr/>
                <p:nvPr/>
              </p:nvSpPr>
              <p:spPr>
                <a:xfrm rot="5400000">
                  <a:off x="334008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18744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467520" y="2624400"/>
                <a:ext cx="75960" cy="228600"/>
                <a:chOff x="3467520" y="2624400"/>
                <a:chExt cx="75960" cy="2286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46752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46752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331488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7064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4352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8444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794120" y="2497320"/>
              <a:ext cx="1477800" cy="1030320"/>
              <a:chOff x="4794120" y="2497320"/>
              <a:chExt cx="1477800" cy="1030320"/>
            </a:xfrm>
          </p:grpSpPr>
          <p:sp>
            <p:nvSpPr>
              <p:cNvPr id="98" name=""/>
              <p:cNvSpPr/>
              <p:nvPr/>
            </p:nvSpPr>
            <p:spPr>
              <a:xfrm>
                <a:off x="5335200" y="25588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5397120" y="2497320"/>
                <a:ext cx="228600" cy="75960"/>
                <a:chOff x="5397120" y="2497320"/>
                <a:chExt cx="228600" cy="7596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5549400" y="2496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5397120" y="2497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524560" y="2865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79960" y="27385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52840" y="3128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94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887800" y="2557440"/>
                <a:ext cx="384120" cy="398880"/>
                <a:chOff x="5887800" y="2557440"/>
                <a:chExt cx="384120" cy="3988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5887800" y="2737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906880" y="25574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7188120" y="2325600"/>
              <a:ext cx="1149840" cy="641520"/>
              <a:chOff x="7188120" y="2325600"/>
              <a:chExt cx="1149840" cy="6415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070840" y="2611440"/>
                <a:ext cx="75960" cy="228600"/>
                <a:chOff x="8070840" y="2611440"/>
                <a:chExt cx="75960" cy="228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070840" y="2611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70840" y="2764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778160" y="2484360"/>
                <a:ext cx="228600" cy="76320"/>
                <a:chOff x="7778160" y="2484360"/>
                <a:chExt cx="228600" cy="76320"/>
              </a:xfrm>
            </p:grpSpPr>
            <p:sp>
              <p:nvSpPr>
                <p:cNvPr id="114" name=""/>
                <p:cNvSpPr/>
                <p:nvPr/>
              </p:nvSpPr>
              <p:spPr>
                <a:xfrm rot="5400000">
                  <a:off x="7930440" y="2484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5400000">
                  <a:off x="7777800" y="2484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72884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7396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8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791120" y="2890800"/>
                <a:ext cx="228600" cy="76320"/>
                <a:chOff x="7791120" y="2890800"/>
                <a:chExt cx="228600" cy="76320"/>
              </a:xfrm>
            </p:grpSpPr>
            <p:sp>
              <p:nvSpPr>
                <p:cNvPr id="120" name=""/>
                <p:cNvSpPr/>
                <p:nvPr/>
              </p:nvSpPr>
              <p:spPr>
                <a:xfrm rot="5400000">
                  <a:off x="7943400" y="2890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5400000">
                  <a:off x="7790760" y="2890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8071920" y="2325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74440" y="2379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4680" y="26622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784320" y="281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900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8652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316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698920" y="33336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iedades ácido-base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92440" y="1131840"/>
            <a:ext cx="4287600" cy="440640"/>
            <a:chOff x="2692440" y="1131840"/>
            <a:chExt cx="4287600" cy="440640"/>
          </a:xfrm>
        </p:grpSpPr>
        <p:sp>
          <p:nvSpPr>
            <p:cNvPr id="131" name=""/>
            <p:cNvSpPr/>
            <p:nvPr/>
          </p:nvSpPr>
          <p:spPr>
            <a:xfrm>
              <a:off x="3795840" y="1247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795840" y="1400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1131840"/>
              <a:ext cx="4287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61560" y="5265720"/>
            <a:ext cx="4074480" cy="440640"/>
            <a:chOff x="2761560" y="5265720"/>
            <a:chExt cx="4074480" cy="440640"/>
          </a:xfrm>
        </p:grpSpPr>
        <p:sp>
          <p:nvSpPr>
            <p:cNvPr id="135" name=""/>
            <p:cNvSpPr/>
            <p:nvPr/>
          </p:nvSpPr>
          <p:spPr>
            <a:xfrm>
              <a:off x="2761560" y="5265720"/>
              <a:ext cx="407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3680" y="5393880"/>
              <a:ext cx="609840" cy="152280"/>
              <a:chOff x="4423680" y="5393880"/>
              <a:chExt cx="609840" cy="152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424040" y="5393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423680" y="554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2731320" y="578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26080" y="58165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5360" y="4575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95840" y="43657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5760" y="1773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Autoionizació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7080" y="2382840"/>
            <a:ext cx="380880" cy="31752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0" y="200"/>
                </a:moveTo>
                <a:cubicBezTo>
                  <a:pt x="52" y="108"/>
                  <a:pt x="104" y="16"/>
                  <a:pt x="144" y="8"/>
                </a:cubicBezTo>
                <a:cubicBezTo>
                  <a:pt x="184" y="0"/>
                  <a:pt x="212" y="76"/>
                  <a:pt x="240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9200" y="220500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32" y="156"/>
                  <a:pt x="64" y="48"/>
                  <a:pt x="96" y="24"/>
                </a:cubicBezTo>
                <a:cubicBezTo>
                  <a:pt x="128" y="0"/>
                  <a:pt x="160" y="60"/>
                  <a:pt x="192" y="1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12183" r="0" b="0"/>
          <a:stretch/>
        </p:blipFill>
        <p:spPr>
          <a:xfrm>
            <a:off x="1663560" y="3645000"/>
            <a:ext cx="60962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33640" y="1427040"/>
            <a:ext cx="4147560" cy="440640"/>
            <a:chOff x="233640" y="1427040"/>
            <a:chExt cx="4147560" cy="440640"/>
          </a:xfrm>
        </p:grpSpPr>
        <p:sp>
          <p:nvSpPr>
            <p:cNvPr id="148" name=""/>
            <p:cNvSpPr/>
            <p:nvPr/>
          </p:nvSpPr>
          <p:spPr>
            <a:xfrm>
              <a:off x="1336680" y="1542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36680" y="1695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3640" y="1427040"/>
              <a:ext cx="414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00240" y="189000"/>
            <a:ext cx="35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 producto iónico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6680" y="1198440"/>
            <a:ext cx="2063520" cy="845280"/>
            <a:chOff x="4576680" y="1198440"/>
            <a:chExt cx="2063520" cy="845280"/>
          </a:xfrm>
        </p:grpSpPr>
        <p:sp>
          <p:nvSpPr>
            <p:cNvPr id="153" name=""/>
            <p:cNvSpPr/>
            <p:nvPr/>
          </p:nvSpPr>
          <p:spPr>
            <a:xfrm>
              <a:off x="4576680" y="1415880"/>
              <a:ext cx="64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344920" y="1198440"/>
              <a:ext cx="1295280" cy="845280"/>
              <a:chOff x="5344920" y="1198440"/>
              <a:chExt cx="1295280" cy="845280"/>
            </a:xfrm>
          </p:grpSpPr>
          <p:sp>
            <p:nvSpPr>
              <p:cNvPr id="155" name=""/>
              <p:cNvSpPr/>
              <p:nvPr/>
            </p:nvSpPr>
            <p:spPr>
              <a:xfrm>
                <a:off x="5423400" y="1198440"/>
                <a:ext cx="116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O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9160" y="1603080"/>
                <a:ext cx="785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44920" y="15825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6877440" y="1414440"/>
            <a:ext cx="218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05640" y="2265480"/>
            <a:ext cx="28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997360"/>
            <a:ext cx="883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tante del producto-ion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es el producto de la concentración molar de  los iones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una temperatura en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040" y="4797360"/>
            <a:ext cx="3322800" cy="92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25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8840" y="453384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58840" y="50101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8840" y="54864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7520" y="40766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24840" y="45338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1000" y="5010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18720" y="54864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504720"/>
            <a:ext cx="818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uál es la concentración de los iones de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n una solución de HCl cuya concentración del ion hidrógeno es de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0400" y="1719360"/>
            <a:ext cx="313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6880" y="2709720"/>
            <a:ext cx="15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36840" y="3813120"/>
            <a:ext cx="1724040" cy="841680"/>
            <a:chOff x="1536840" y="3813120"/>
            <a:chExt cx="1724040" cy="841680"/>
          </a:xfrm>
        </p:grpSpPr>
        <p:sp>
          <p:nvSpPr>
            <p:cNvPr id="173" name=""/>
            <p:cNvSpPr/>
            <p:nvPr/>
          </p:nvSpPr>
          <p:spPr>
            <a:xfrm>
              <a:off x="1536840" y="404316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654280" y="3813120"/>
              <a:ext cx="606600" cy="841680"/>
              <a:chOff x="2654280" y="3813120"/>
              <a:chExt cx="606600" cy="841680"/>
            </a:xfrm>
          </p:grpSpPr>
          <p:sp>
            <p:nvSpPr>
              <p:cNvPr id="175" name=""/>
              <p:cNvSpPr/>
              <p:nvPr/>
            </p:nvSpPr>
            <p:spPr>
              <a:xfrm>
                <a:off x="2735640" y="38131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54280" y="42559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27360" y="4233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270960" y="3813120"/>
            <a:ext cx="1509120" cy="841680"/>
            <a:chOff x="3270960" y="3813120"/>
            <a:chExt cx="1509120" cy="841680"/>
          </a:xfrm>
        </p:grpSpPr>
        <p:grpSp>
          <p:nvGrpSpPr>
            <p:cNvPr id="179" name=""/>
            <p:cNvGrpSpPr/>
            <p:nvPr/>
          </p:nvGrpSpPr>
          <p:grpSpPr>
            <a:xfrm>
              <a:off x="3637080" y="3813120"/>
              <a:ext cx="1143000" cy="841680"/>
              <a:chOff x="3637080" y="3813120"/>
              <a:chExt cx="1143000" cy="841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666240" y="381312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x 10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38040" y="425592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37080" y="423360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270960" y="40417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796280" y="4041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96760" y="26208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– Medida de la ac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70040" y="1268280"/>
            <a:ext cx="2292840" cy="640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0000" y="31273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0000" y="36036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0000" y="407988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040" y="26701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3000" y="3127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9520" y="3603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7240" y="4079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9200" y="31273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9200" y="35971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4240" y="407988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9160" y="31273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9160" y="3597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H &l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9160" y="4079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93760" y="26701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A 25</a:t>
            </a:r>
            <a:r>
              <a:rPr b="1" lang="es-MX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57080" y="5157360"/>
            <a:ext cx="624240" cy="762120"/>
            <a:chOff x="3457080" y="5157360"/>
            <a:chExt cx="624240" cy="762120"/>
          </a:xfrm>
        </p:grpSpPr>
        <p:sp>
          <p:nvSpPr>
            <p:cNvPr id="202" name=""/>
            <p:cNvSpPr/>
            <p:nvPr/>
          </p:nvSpPr>
          <p:spPr>
            <a:xfrm>
              <a:off x="3457080" y="53578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081320" y="515736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43160" y="5157720"/>
            <a:ext cx="848160" cy="762120"/>
            <a:chOff x="4943160" y="5157720"/>
            <a:chExt cx="848160" cy="762120"/>
          </a:xfrm>
        </p:grpSpPr>
        <p:sp>
          <p:nvSpPr>
            <p:cNvPr id="205" name=""/>
            <p:cNvSpPr/>
            <p:nvPr/>
          </p:nvSpPr>
          <p:spPr>
            <a:xfrm>
              <a:off x="4943160" y="53578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51577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52160" y="16304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4160" y="234144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23160" y="3052800"/>
            <a:ext cx="38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log 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– 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7440" y="43401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422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 toda solución acuosa a 25 </a:t>
            </a:r>
            <a:r>
              <a:rPr b="1" lang="es-ES_tradnl" sz="1600" spc="-1" strike="noStrike" baseline="52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4221000"/>
            <a:ext cx="2881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8T22:05:26Z</dcterms:modified>
  <cp:revision>191</cp:revision>
  <dc:subject/>
  <dc:title>Presentación de PowerPoint</dc:title>
</cp:coreProperties>
</file>