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920-D417-4592-9EEE-D22A11D7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766-E159-4BDF-9174-743A9484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D68-DABA-49DD-995D-23A75EC6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BF5-8D61-44BB-9B2B-625F66B7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46D-4FD3-43C0-8DBA-CDA6EC87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394-7972-499E-84A6-0B6698E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B1B-25DC-4D46-BA6B-FC03BB8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162-6976-44AE-84A0-A17288B7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C17-7D7A-4D0B-A3F6-04A7AA69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C94-23D9-4358-8EFF-9C8C58D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F03-229D-46FC-8545-EA7F49F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728-6E62-4B69-9186-C5DECF9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A1D4-7FF7-485A-8CE7-B68D69FE1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2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6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79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5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89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1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907920"/>
            <a:ext cx="1152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3640" y="2852640"/>
            <a:ext cx="1152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2637000"/>
            <a:ext cx="288144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9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5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9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2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7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7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2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50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7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2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3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2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3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6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80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4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43280" y="2205000"/>
            <a:ext cx="3600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90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4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9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5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10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21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3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6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8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6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8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41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42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5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9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7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8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3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6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71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3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7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82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6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8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3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4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8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5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7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40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42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5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60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61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6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4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6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4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91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92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6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6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31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42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50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4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6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82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8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90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4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602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4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8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9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3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5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8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31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6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50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5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60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5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6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71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3" dur="1" fill="hold"/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9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10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4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6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0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2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7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99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3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6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07280" y="440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16T18:54:31Z</dcterms:modified>
  <cp:revision>177</cp:revision>
  <dc:subject/>
  <dc:title>Presentación de PowerPoint</dc:title>
</cp:coreProperties>
</file>