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4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34BA-BC39-4645-BC74-4E76AC11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F59-0952-42C0-BF0D-C0B35076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7B4C-842E-486B-8AFF-6AEA8490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E05-6A6E-4C98-9D20-097C01E2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F8C-FC6C-44F5-8941-1FE24B22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69E-16BE-49FD-BBC3-6EBFFBAD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0F3-1AAF-4F56-8DB6-6DD0B7A2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BA3-DBA9-4647-836B-517AAC96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166-265A-4813-A862-B951ACFD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4AD-751C-4D86-AAF9-9D6483D1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6E4-0FE8-4A49-B21E-0D9DBF88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4E1-77F9-49DA-B54F-78EDE81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201C-582E-4668-AA06-1DC4FFB91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9625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6429" r="0" b="0"/>
          <a:stretch/>
        </p:blipFill>
        <p:spPr>
          <a:xfrm>
            <a:off x="6461280" y="0"/>
            <a:ext cx="2682720" cy="399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3512" t="19659" r="7054" b="3932"/>
          <a:stretch/>
        </p:blipFill>
        <p:spPr>
          <a:xfrm>
            <a:off x="0" y="0"/>
            <a:ext cx="27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77960" y="907920"/>
            <a:ext cx="7544880" cy="510120"/>
            <a:chOff x="777960" y="907920"/>
            <a:chExt cx="7544880" cy="510120"/>
          </a:xfrm>
        </p:grpSpPr>
        <p:sp>
          <p:nvSpPr>
            <p:cNvPr id="172" name=""/>
            <p:cNvSpPr/>
            <p:nvPr/>
          </p:nvSpPr>
          <p:spPr>
            <a:xfrm>
              <a:off x="777960" y="907920"/>
              <a:ext cx="754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l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3720" y="1085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203360" y="1238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98280" y="2649600"/>
            <a:ext cx="735480" cy="582840"/>
            <a:chOff x="998280" y="2649600"/>
            <a:chExt cx="735480" cy="582840"/>
          </a:xfrm>
        </p:grpSpPr>
        <p:sp>
          <p:nvSpPr>
            <p:cNvPr id="176" name=""/>
            <p:cNvSpPr/>
            <p:nvPr/>
          </p:nvSpPr>
          <p:spPr>
            <a:xfrm>
              <a:off x="998280" y="27223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8800" y="26496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80840" y="2505240"/>
            <a:ext cx="2530440" cy="914760"/>
            <a:chOff x="1680840" y="2505240"/>
            <a:chExt cx="2530440" cy="914760"/>
          </a:xfrm>
        </p:grpSpPr>
        <p:sp>
          <p:nvSpPr>
            <p:cNvPr id="179" name=""/>
            <p:cNvSpPr/>
            <p:nvPr/>
          </p:nvSpPr>
          <p:spPr>
            <a:xfrm>
              <a:off x="1708560" y="250524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80840" y="2909880"/>
              <a:ext cx="253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26920" y="293688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064120" y="2685960"/>
            <a:ext cx="25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3200" y="40402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96000" y="3824280"/>
            <a:ext cx="2473920" cy="914760"/>
            <a:chOff x="3096000" y="3824280"/>
            <a:chExt cx="2473920" cy="914760"/>
          </a:xfrm>
        </p:grpSpPr>
        <p:sp>
          <p:nvSpPr>
            <p:cNvPr id="185" name=""/>
            <p:cNvSpPr/>
            <p:nvPr/>
          </p:nvSpPr>
          <p:spPr>
            <a:xfrm>
              <a:off x="3096000" y="382428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920" y="4228920"/>
              <a:ext cx="18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14360" y="42559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37960" y="3962520"/>
            <a:ext cx="1552320" cy="582840"/>
            <a:chOff x="5637960" y="3962520"/>
            <a:chExt cx="1552320" cy="582840"/>
          </a:xfrm>
        </p:grpSpPr>
        <p:sp>
          <p:nvSpPr>
            <p:cNvPr id="189" name=""/>
            <p:cNvSpPr/>
            <p:nvPr/>
          </p:nvSpPr>
          <p:spPr>
            <a:xfrm>
              <a:off x="5637960" y="4035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906160" y="3962520"/>
              <a:ext cx="1284120" cy="582840"/>
              <a:chOff x="5906160" y="3962520"/>
              <a:chExt cx="1284120" cy="582840"/>
            </a:xfrm>
          </p:grpSpPr>
          <p:sp>
            <p:nvSpPr>
              <p:cNvPr id="191" name=""/>
              <p:cNvSpPr/>
              <p:nvPr/>
            </p:nvSpPr>
            <p:spPr>
              <a:xfrm>
                <a:off x="5906160" y="4035240"/>
                <a:ext cx="128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[H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00920" y="396252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1882800" y="53370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nstante de equilibrio es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907920"/>
            <a:ext cx="115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2852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2637000"/>
            <a:ext cx="288144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246240"/>
            <a:ext cx="818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concentraciones de equilibrio de la reacción entre monóxido de carbono y cloro molecular para formar 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a la temperatura de 74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 son: [CO] = 0.012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[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05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y [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1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Calcular las constantes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2240" y="2335320"/>
            <a:ext cx="4262040" cy="510120"/>
            <a:chOff x="2442240" y="2335320"/>
            <a:chExt cx="4262040" cy="510120"/>
          </a:xfrm>
        </p:grpSpPr>
        <p:sp>
          <p:nvSpPr>
            <p:cNvPr id="199" name=""/>
            <p:cNvSpPr/>
            <p:nvPr/>
          </p:nvSpPr>
          <p:spPr>
            <a:xfrm>
              <a:off x="2442240" y="2335320"/>
              <a:ext cx="426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638240" y="2486160"/>
              <a:ext cx="609840" cy="152280"/>
              <a:chOff x="4638240" y="2486160"/>
              <a:chExt cx="60984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4638600" y="248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38240" y="2638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1836000" y="32734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37640" y="3056040"/>
            <a:ext cx="1364760" cy="930600"/>
            <a:chOff x="2537640" y="3056040"/>
            <a:chExt cx="1364760" cy="930600"/>
          </a:xfrm>
        </p:grpSpPr>
        <p:sp>
          <p:nvSpPr>
            <p:cNvPr id="205" name=""/>
            <p:cNvSpPr/>
            <p:nvPr/>
          </p:nvSpPr>
          <p:spPr>
            <a:xfrm>
              <a:off x="2623320" y="305604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7640" y="3476520"/>
              <a:ext cx="136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][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0000" y="3495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22560" y="3056040"/>
            <a:ext cx="2415600" cy="880200"/>
            <a:chOff x="3922560" y="3056040"/>
            <a:chExt cx="2415600" cy="880200"/>
          </a:xfrm>
        </p:grpSpPr>
        <p:sp>
          <p:nvSpPr>
            <p:cNvPr id="209" name=""/>
            <p:cNvSpPr/>
            <p:nvPr/>
          </p:nvSpPr>
          <p:spPr>
            <a:xfrm>
              <a:off x="3922560" y="3271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310280" y="3056040"/>
              <a:ext cx="2027880" cy="880200"/>
              <a:chOff x="4310280" y="3056040"/>
              <a:chExt cx="2027880" cy="880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929480" y="3056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10280" y="3476520"/>
                <a:ext cx="202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12 x 0.0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05320" y="3495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6377040" y="3271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21160" y="4365720"/>
            <a:ext cx="19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1400" y="520380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73560" y="5203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040" y="52038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3 + 74 = 34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2480" y="5924520"/>
            <a:ext cx="45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 x (0.0821 x 34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353880"/>
            <a:ext cx="8775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ante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la re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158 a una temperatura de 1000K. ¿Cuál es la presión de equilibrio del 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i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= 0.400 atm y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270 at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6320" y="1125360"/>
            <a:ext cx="4448160" cy="510120"/>
            <a:chOff x="2596320" y="1125360"/>
            <a:chExt cx="4448160" cy="510120"/>
          </a:xfrm>
        </p:grpSpPr>
        <p:sp>
          <p:nvSpPr>
            <p:cNvPr id="222" name=""/>
            <p:cNvSpPr/>
            <p:nvPr/>
          </p:nvSpPr>
          <p:spPr>
            <a:xfrm>
              <a:off x="2596320" y="1125360"/>
              <a:ext cx="44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         2NO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+ 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90600" y="1288800"/>
              <a:ext cx="609840" cy="152280"/>
              <a:chOff x="3990600" y="1288800"/>
              <a:chExt cx="609840" cy="152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90960" y="12888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990600" y="144108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596760" y="3078000"/>
            <a:ext cx="1929240" cy="1092960"/>
            <a:chOff x="3596760" y="3078000"/>
            <a:chExt cx="1929240" cy="1092960"/>
          </a:xfrm>
        </p:grpSpPr>
        <p:sp>
          <p:nvSpPr>
            <p:cNvPr id="227" name=""/>
            <p:cNvSpPr/>
            <p:nvPr/>
          </p:nvSpPr>
          <p:spPr>
            <a:xfrm>
              <a:off x="3596760" y="339732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2600" y="333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3480" y="3109680"/>
              <a:ext cx="103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NO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0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6400" y="3630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47520" y="3592440"/>
              <a:ext cx="767160" cy="578520"/>
              <a:chOff x="4547520" y="3592440"/>
              <a:chExt cx="767160" cy="578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547520" y="360684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3592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1280" y="3833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3441600" y="4417920"/>
            <a:ext cx="2176200" cy="1075320"/>
            <a:chOff x="3441600" y="4417920"/>
            <a:chExt cx="2176200" cy="1075320"/>
          </a:xfrm>
        </p:grpSpPr>
        <p:grpSp>
          <p:nvGrpSpPr>
            <p:cNvPr id="237" name=""/>
            <p:cNvGrpSpPr/>
            <p:nvPr/>
          </p:nvGrpSpPr>
          <p:grpSpPr>
            <a:xfrm>
              <a:off x="3441600" y="4646520"/>
              <a:ext cx="641160" cy="564120"/>
              <a:chOff x="3441600" y="4646520"/>
              <a:chExt cx="641160" cy="56412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1600" y="464652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89360" y="4873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097160" y="46990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850640" y="4417920"/>
              <a:ext cx="767160" cy="578520"/>
              <a:chOff x="4850640" y="4417920"/>
              <a:chExt cx="767160" cy="578520"/>
            </a:xfrm>
          </p:grpSpPr>
          <p:sp>
            <p:nvSpPr>
              <p:cNvPr id="242" name=""/>
              <p:cNvSpPr/>
              <p:nvPr/>
            </p:nvSpPr>
            <p:spPr>
              <a:xfrm>
                <a:off x="4850640" y="44323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75280" y="441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24400" y="4659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99960" y="4925880"/>
              <a:ext cx="648720" cy="567360"/>
              <a:chOff x="4899960" y="4925880"/>
              <a:chExt cx="648720" cy="567360"/>
            </a:xfrm>
          </p:grpSpPr>
          <p:sp>
            <p:nvSpPr>
              <p:cNvPr id="246" name=""/>
              <p:cNvSpPr/>
              <p:nvPr/>
            </p:nvSpPr>
            <p:spPr>
              <a:xfrm>
                <a:off x="4899960" y="49831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40080" y="4925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4919760" y="496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17720" y="5745240"/>
            <a:ext cx="4025880" cy="564120"/>
            <a:chOff x="1917720" y="5745240"/>
            <a:chExt cx="4025880" cy="564120"/>
          </a:xfrm>
        </p:grpSpPr>
        <p:grpSp>
          <p:nvGrpSpPr>
            <p:cNvPr id="250" name=""/>
            <p:cNvGrpSpPr/>
            <p:nvPr/>
          </p:nvGrpSpPr>
          <p:grpSpPr>
            <a:xfrm>
              <a:off x="1917720" y="5745240"/>
              <a:ext cx="641160" cy="564120"/>
              <a:chOff x="1917720" y="5745240"/>
              <a:chExt cx="641160" cy="564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917720" y="574524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65480" y="597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453040" y="5775120"/>
              <a:ext cx="34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158 x (0.40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/(0.27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69800" y="5770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347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43120" y="40464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37400" y="1284120"/>
            <a:ext cx="4676760" cy="510120"/>
            <a:chOff x="2237400" y="1284120"/>
            <a:chExt cx="4676760" cy="510120"/>
          </a:xfrm>
        </p:grpSpPr>
        <p:sp>
          <p:nvSpPr>
            <p:cNvPr id="257" name=""/>
            <p:cNvSpPr/>
            <p:nvPr/>
          </p:nvSpPr>
          <p:spPr>
            <a:xfrm>
              <a:off x="2237400" y="128412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787560" y="1460160"/>
              <a:ext cx="609840" cy="152280"/>
              <a:chOff x="3787560" y="1460160"/>
              <a:chExt cx="609840" cy="152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787920" y="1460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787560" y="1612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347480" y="2422440"/>
            <a:ext cx="2455560" cy="914760"/>
            <a:chOff x="1347480" y="2422440"/>
            <a:chExt cx="2455560" cy="914760"/>
          </a:xfrm>
        </p:grpSpPr>
        <p:grpSp>
          <p:nvGrpSpPr>
            <p:cNvPr id="262" name=""/>
            <p:cNvGrpSpPr/>
            <p:nvPr/>
          </p:nvGrpSpPr>
          <p:grpSpPr>
            <a:xfrm>
              <a:off x="1347480" y="2566800"/>
              <a:ext cx="735480" cy="583200"/>
              <a:chOff x="1347480" y="2566800"/>
              <a:chExt cx="735480" cy="583200"/>
            </a:xfrm>
          </p:grpSpPr>
          <p:sp>
            <p:nvSpPr>
              <p:cNvPr id="263" name=""/>
              <p:cNvSpPr/>
              <p:nvPr/>
            </p:nvSpPr>
            <p:spPr>
              <a:xfrm>
                <a:off x="1347480" y="26398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48000" y="25668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098440" y="2422440"/>
              <a:ext cx="1704600" cy="914760"/>
              <a:chOff x="2098440" y="2422440"/>
              <a:chExt cx="1704600" cy="914760"/>
            </a:xfrm>
          </p:grpSpPr>
          <p:sp>
            <p:nvSpPr>
              <p:cNvPr id="266" name=""/>
              <p:cNvSpPr/>
              <p:nvPr/>
            </p:nvSpPr>
            <p:spPr>
              <a:xfrm>
                <a:off x="2098440" y="2422440"/>
                <a:ext cx="170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[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02920" y="282708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74400" y="2854080"/>
                <a:ext cx="153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5036400" y="2422440"/>
            <a:ext cx="296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38240" y="400860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[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32120" y="3790800"/>
            <a:ext cx="2249640" cy="864360"/>
            <a:chOff x="2832120" y="3790800"/>
            <a:chExt cx="2249640" cy="864360"/>
          </a:xfrm>
        </p:grpSpPr>
        <p:grpSp>
          <p:nvGrpSpPr>
            <p:cNvPr id="272" name=""/>
            <p:cNvGrpSpPr/>
            <p:nvPr/>
          </p:nvGrpSpPr>
          <p:grpSpPr>
            <a:xfrm>
              <a:off x="2832120" y="3935160"/>
              <a:ext cx="709560" cy="582840"/>
              <a:chOff x="2832120" y="3935160"/>
              <a:chExt cx="709560" cy="582840"/>
            </a:xfrm>
          </p:grpSpPr>
          <p:sp>
            <p:nvSpPr>
              <p:cNvPr id="273" name=""/>
              <p:cNvSpPr/>
              <p:nvPr/>
            </p:nvSpPr>
            <p:spPr>
              <a:xfrm>
                <a:off x="2832120" y="4007880"/>
                <a:ext cx="70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32280" y="393516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41680" y="3790800"/>
              <a:ext cx="1540080" cy="864360"/>
              <a:chOff x="3541680" y="3790800"/>
              <a:chExt cx="1540080" cy="864360"/>
            </a:xfrm>
          </p:grpSpPr>
          <p:sp>
            <p:nvSpPr>
              <p:cNvPr id="276" name=""/>
              <p:cNvSpPr/>
              <p:nvPr/>
            </p:nvSpPr>
            <p:spPr>
              <a:xfrm>
                <a:off x="3669120" y="379080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28240" y="4195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41680" y="4222440"/>
                <a:ext cx="1540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6469560" y="4014720"/>
            <a:ext cx="1413720" cy="564480"/>
            <a:chOff x="6469560" y="4014720"/>
            <a:chExt cx="1413720" cy="564480"/>
          </a:xfrm>
        </p:grpSpPr>
        <p:sp>
          <p:nvSpPr>
            <p:cNvPr id="280" name=""/>
            <p:cNvSpPr/>
            <p:nvPr/>
          </p:nvSpPr>
          <p:spPr>
            <a:xfrm>
              <a:off x="6469560" y="4014720"/>
              <a:ext cx="129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9880" y="424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17680" y="5429160"/>
            <a:ext cx="81691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centración de sólidos y líquidos puros no se considera en la expresión para la constante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289320" y="1320840"/>
            <a:ext cx="3619440" cy="457200"/>
            <a:chOff x="3289320" y="1320840"/>
            <a:chExt cx="3619440" cy="457200"/>
          </a:xfrm>
        </p:grpSpPr>
        <p:sp>
          <p:nvSpPr>
            <p:cNvPr id="284" name=""/>
            <p:cNvSpPr/>
            <p:nvPr/>
          </p:nvSpPr>
          <p:spPr>
            <a:xfrm>
              <a:off x="328932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4368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156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43280" y="2205000"/>
            <a:ext cx="3600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7335"/>
          <a:stretch/>
        </p:blipFill>
        <p:spPr>
          <a:xfrm>
            <a:off x="609480" y="1082520"/>
            <a:ext cx="7925040" cy="33372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44440" y="4808520"/>
            <a:ext cx="804960" cy="564480"/>
            <a:chOff x="3844440" y="4808520"/>
            <a:chExt cx="804960" cy="564480"/>
          </a:xfrm>
        </p:grpSpPr>
        <p:sp>
          <p:nvSpPr>
            <p:cNvPr id="290" name=""/>
            <p:cNvSpPr/>
            <p:nvPr/>
          </p:nvSpPr>
          <p:spPr>
            <a:xfrm>
              <a:off x="3844440" y="4808520"/>
              <a:ext cx="6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6000" y="503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52920" y="48085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32720" y="152280"/>
            <a:ext cx="4676760" cy="510120"/>
            <a:chOff x="2232720" y="152280"/>
            <a:chExt cx="4676760" cy="510120"/>
          </a:xfrm>
        </p:grpSpPr>
        <p:sp>
          <p:nvSpPr>
            <p:cNvPr id="294" name=""/>
            <p:cNvSpPr/>
            <p:nvPr/>
          </p:nvSpPr>
          <p:spPr>
            <a:xfrm>
              <a:off x="2232720" y="15228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782880" y="328320"/>
              <a:ext cx="609840" cy="152280"/>
              <a:chOff x="3782880" y="328320"/>
              <a:chExt cx="609840" cy="152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783240" y="328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782880" y="480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1012320" y="5456160"/>
            <a:ext cx="6963840" cy="564120"/>
            <a:chOff x="1012320" y="5456160"/>
            <a:chExt cx="6963840" cy="564120"/>
          </a:xfrm>
        </p:grpSpPr>
        <p:grpSp>
          <p:nvGrpSpPr>
            <p:cNvPr id="299" name=""/>
            <p:cNvGrpSpPr/>
            <p:nvPr/>
          </p:nvGrpSpPr>
          <p:grpSpPr>
            <a:xfrm>
              <a:off x="1012320" y="5456160"/>
              <a:ext cx="804960" cy="564120"/>
              <a:chOff x="1012320" y="5456160"/>
              <a:chExt cx="804960" cy="564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012320" y="545616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23880" y="5682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701000" y="5473440"/>
              <a:ext cx="62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 depende de la cantidad de: 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o 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87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 siguiente equilibrio a 295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esión parcial de cada gas es de 0.265 atm. Calcular Kp y Kc par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52240" y="1052640"/>
            <a:ext cx="4582080" cy="510120"/>
            <a:chOff x="2352240" y="1052640"/>
            <a:chExt cx="4582080" cy="510120"/>
          </a:xfrm>
        </p:grpSpPr>
        <p:sp>
          <p:nvSpPr>
            <p:cNvPr id="305" name=""/>
            <p:cNvSpPr/>
            <p:nvPr/>
          </p:nvSpPr>
          <p:spPr>
            <a:xfrm>
              <a:off x="2352240" y="1052640"/>
              <a:ext cx="458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17520" y="1229040"/>
              <a:ext cx="609840" cy="152280"/>
              <a:chOff x="3917520" y="1229040"/>
              <a:chExt cx="609840" cy="152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917880" y="122904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917520" y="138132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1760040" y="3019320"/>
            <a:ext cx="1918080" cy="596160"/>
            <a:chOff x="1760040" y="3019320"/>
            <a:chExt cx="1918080" cy="596160"/>
          </a:xfrm>
        </p:grpSpPr>
        <p:sp>
          <p:nvSpPr>
            <p:cNvPr id="310" name=""/>
            <p:cNvSpPr/>
            <p:nvPr/>
          </p:nvSpPr>
          <p:spPr>
            <a:xfrm>
              <a:off x="1760040" y="3020760"/>
              <a:ext cx="103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50960" y="32097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959200" y="3019320"/>
              <a:ext cx="718920" cy="581760"/>
              <a:chOff x="2959200" y="3019320"/>
              <a:chExt cx="718920" cy="58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3107520" y="3195360"/>
                <a:ext cx="57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59200" y="3019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3598200" y="30193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0.265 x 0.265 = 0.0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2080" y="4076640"/>
            <a:ext cx="19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4040" y="4762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 – 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65120" y="476244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9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0320" y="5448240"/>
            <a:ext cx="59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0702 x (0.0821 x 295)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2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528120" y="380880"/>
            <a:ext cx="2576520" cy="459720"/>
            <a:chOff x="528120" y="380880"/>
            <a:chExt cx="2576520" cy="459720"/>
          </a:xfrm>
        </p:grpSpPr>
        <p:sp>
          <p:nvSpPr>
            <p:cNvPr id="321" name=""/>
            <p:cNvSpPr/>
            <p:nvPr/>
          </p:nvSpPr>
          <p:spPr>
            <a:xfrm>
              <a:off x="528120" y="38088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C +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485720" y="533520"/>
              <a:ext cx="609840" cy="152280"/>
              <a:chOff x="1485720" y="533520"/>
              <a:chExt cx="609840" cy="152280"/>
            </a:xfrm>
          </p:grpSpPr>
          <p:sp>
            <p:nvSpPr>
              <p:cNvPr id="323" name=""/>
              <p:cNvSpPr/>
              <p:nvPr/>
            </p:nvSpPr>
            <p:spPr>
              <a:xfrm>
                <a:off x="1486080" y="5335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485720" y="685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527760" y="1214280"/>
            <a:ext cx="2559600" cy="459720"/>
            <a:chOff x="527760" y="1214280"/>
            <a:chExt cx="2559600" cy="459720"/>
          </a:xfrm>
        </p:grpSpPr>
        <p:sp>
          <p:nvSpPr>
            <p:cNvPr id="326" name=""/>
            <p:cNvSpPr/>
            <p:nvPr/>
          </p:nvSpPr>
          <p:spPr>
            <a:xfrm>
              <a:off x="527760" y="1214280"/>
              <a:ext cx="25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D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485720" y="1366920"/>
              <a:ext cx="609840" cy="152280"/>
              <a:chOff x="1485720" y="1366920"/>
              <a:chExt cx="609840" cy="152280"/>
            </a:xfrm>
          </p:grpSpPr>
          <p:sp>
            <p:nvSpPr>
              <p:cNvPr id="328" name=""/>
              <p:cNvSpPr/>
              <p:nvPr/>
            </p:nvSpPr>
            <p:spPr>
              <a:xfrm>
                <a:off x="1486080" y="1366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485720" y="151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133720" y="4572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33520" y="12906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666520" y="4572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66320" y="12906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59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27040" y="2035080"/>
            <a:ext cx="2526120" cy="459720"/>
            <a:chOff x="527040" y="2035080"/>
            <a:chExt cx="2526120" cy="459720"/>
          </a:xfrm>
        </p:grpSpPr>
        <p:sp>
          <p:nvSpPr>
            <p:cNvPr id="336" name=""/>
            <p:cNvSpPr/>
            <p:nvPr/>
          </p:nvSpPr>
          <p:spPr>
            <a:xfrm>
              <a:off x="527040" y="203508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85720" y="2187720"/>
              <a:ext cx="609840" cy="152280"/>
              <a:chOff x="1485720" y="2187720"/>
              <a:chExt cx="609840" cy="152280"/>
            </a:xfrm>
          </p:grpSpPr>
          <p:sp>
            <p:nvSpPr>
              <p:cNvPr id="338" name=""/>
              <p:cNvSpPr/>
              <p:nvPr/>
            </p:nvSpPr>
            <p:spPr>
              <a:xfrm>
                <a:off x="1486080" y="218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485720" y="234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4960440" y="152280"/>
            <a:ext cx="1623600" cy="864360"/>
            <a:chOff x="4960440" y="152280"/>
            <a:chExt cx="1623600" cy="864360"/>
          </a:xfrm>
        </p:grpSpPr>
        <p:grpSp>
          <p:nvGrpSpPr>
            <p:cNvPr id="341" name=""/>
            <p:cNvGrpSpPr/>
            <p:nvPr/>
          </p:nvGrpSpPr>
          <p:grpSpPr>
            <a:xfrm>
              <a:off x="4960440" y="296640"/>
              <a:ext cx="735480" cy="583200"/>
              <a:chOff x="4960440" y="296640"/>
              <a:chExt cx="735480" cy="583200"/>
            </a:xfrm>
          </p:grpSpPr>
          <p:sp>
            <p:nvSpPr>
              <p:cNvPr id="342" name=""/>
              <p:cNvSpPr/>
              <p:nvPr/>
            </p:nvSpPr>
            <p:spPr>
              <a:xfrm>
                <a:off x="4960440" y="3697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0960" y="29664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23200" y="152280"/>
              <a:ext cx="960840" cy="864360"/>
              <a:chOff x="5623200" y="152280"/>
              <a:chExt cx="960840" cy="864360"/>
            </a:xfrm>
          </p:grpSpPr>
          <p:sp>
            <p:nvSpPr>
              <p:cNvPr id="345" name=""/>
              <p:cNvSpPr/>
              <p:nvPr/>
            </p:nvSpPr>
            <p:spPr>
              <a:xfrm>
                <a:off x="5623200" y="1522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41560" y="5569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0480" y="583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982760" y="1054080"/>
            <a:ext cx="1604520" cy="864360"/>
            <a:chOff x="4982760" y="1054080"/>
            <a:chExt cx="1604520" cy="864360"/>
          </a:xfrm>
        </p:grpSpPr>
        <p:sp>
          <p:nvSpPr>
            <p:cNvPr id="349" name=""/>
            <p:cNvSpPr/>
            <p:nvPr/>
          </p:nvSpPr>
          <p:spPr>
            <a:xfrm>
              <a:off x="4982760" y="12697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3280" y="119664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43760" y="119196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626440" y="1054080"/>
              <a:ext cx="960840" cy="864360"/>
              <a:chOff x="5626440" y="1054080"/>
              <a:chExt cx="960840" cy="864360"/>
            </a:xfrm>
          </p:grpSpPr>
          <p:sp>
            <p:nvSpPr>
              <p:cNvPr id="353" name=""/>
              <p:cNvSpPr/>
              <p:nvPr/>
            </p:nvSpPr>
            <p:spPr>
              <a:xfrm>
                <a:off x="5647320" y="105408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26440" y="145872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30480" y="1485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203920" y="3068640"/>
            <a:ext cx="1612440" cy="864360"/>
            <a:chOff x="2203920" y="3068640"/>
            <a:chExt cx="1612440" cy="864360"/>
          </a:xfrm>
        </p:grpSpPr>
        <p:grpSp>
          <p:nvGrpSpPr>
            <p:cNvPr id="357" name=""/>
            <p:cNvGrpSpPr/>
            <p:nvPr/>
          </p:nvGrpSpPr>
          <p:grpSpPr>
            <a:xfrm>
              <a:off x="2889000" y="3068640"/>
              <a:ext cx="927360" cy="864360"/>
              <a:chOff x="2889000" y="3068640"/>
              <a:chExt cx="927360" cy="864360"/>
            </a:xfrm>
          </p:grpSpPr>
          <p:sp>
            <p:nvSpPr>
              <p:cNvPr id="358" name=""/>
              <p:cNvSpPr/>
              <p:nvPr/>
            </p:nvSpPr>
            <p:spPr>
              <a:xfrm>
                <a:off x="2895120" y="30686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89000" y="34732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77920" y="3500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203920" y="327024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96960" y="304920"/>
            <a:ext cx="557280" cy="582840"/>
            <a:chOff x="3396960" y="304920"/>
            <a:chExt cx="557280" cy="582840"/>
          </a:xfrm>
        </p:grpSpPr>
        <p:sp>
          <p:nvSpPr>
            <p:cNvPr id="363" name=""/>
            <p:cNvSpPr/>
            <p:nvPr/>
          </p:nvSpPr>
          <p:spPr>
            <a:xfrm>
              <a:off x="3396960" y="377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7480" y="30492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96960" y="1130400"/>
            <a:ext cx="557280" cy="587880"/>
            <a:chOff x="3396960" y="1130400"/>
            <a:chExt cx="557280" cy="587880"/>
          </a:xfrm>
        </p:grpSpPr>
        <p:sp>
          <p:nvSpPr>
            <p:cNvPr id="366" name=""/>
            <p:cNvSpPr/>
            <p:nvPr/>
          </p:nvSpPr>
          <p:spPr>
            <a:xfrm>
              <a:off x="3396960" y="12081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60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424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99120" y="2009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5760" y="3213000"/>
            <a:ext cx="1894320" cy="587880"/>
            <a:chOff x="5045760" y="3213000"/>
            <a:chExt cx="1894320" cy="587880"/>
          </a:xfrm>
        </p:grpSpPr>
        <p:sp>
          <p:nvSpPr>
            <p:cNvPr id="371" name=""/>
            <p:cNvSpPr/>
            <p:nvPr/>
          </p:nvSpPr>
          <p:spPr>
            <a:xfrm>
              <a:off x="5045760" y="329076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82800" y="3213000"/>
              <a:ext cx="557280" cy="587880"/>
              <a:chOff x="6382800" y="3213000"/>
              <a:chExt cx="557280" cy="587880"/>
            </a:xfrm>
          </p:grpSpPr>
          <p:sp>
            <p:nvSpPr>
              <p:cNvPr id="373" name=""/>
              <p:cNvSpPr/>
              <p:nvPr/>
            </p:nvSpPr>
            <p:spPr>
              <a:xfrm>
                <a:off x="6382800" y="329076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4344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8008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784480" y="3213000"/>
              <a:ext cx="557280" cy="582840"/>
              <a:chOff x="5784480" y="3213000"/>
              <a:chExt cx="557280" cy="582840"/>
            </a:xfrm>
          </p:grpSpPr>
          <p:sp>
            <p:nvSpPr>
              <p:cNvPr id="377" name=""/>
              <p:cNvSpPr/>
              <p:nvPr/>
            </p:nvSpPr>
            <p:spPr>
              <a:xfrm>
                <a:off x="5784480" y="32857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8500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148440" y="328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24000" y="43243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as reacciones, la constante de equilibrio de toda la reacción está dada por el producto de las constantes de equilibrio de cad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604440" y="988920"/>
            <a:ext cx="3210480" cy="510120"/>
            <a:chOff x="604440" y="988920"/>
            <a:chExt cx="3210480" cy="510120"/>
          </a:xfrm>
        </p:grpSpPr>
        <p:sp>
          <p:nvSpPr>
            <p:cNvPr id="382" name=""/>
            <p:cNvSpPr/>
            <p:nvPr/>
          </p:nvSpPr>
          <p:spPr>
            <a:xfrm>
              <a:off x="604440" y="988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476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0440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560" y="1973160"/>
            <a:ext cx="3407040" cy="1003680"/>
            <a:chOff x="457560" y="1973160"/>
            <a:chExt cx="3407040" cy="1003680"/>
          </a:xfrm>
        </p:grpSpPr>
        <p:sp>
          <p:nvSpPr>
            <p:cNvPr id="386" name=""/>
            <p:cNvSpPr/>
            <p:nvPr/>
          </p:nvSpPr>
          <p:spPr>
            <a:xfrm>
              <a:off x="2007720" y="2226960"/>
              <a:ext cx="185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4.63 x 10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57560" y="1973160"/>
              <a:ext cx="1582200" cy="1003680"/>
              <a:chOff x="457560" y="1973160"/>
              <a:chExt cx="1582200" cy="1003680"/>
            </a:xfrm>
          </p:grpSpPr>
          <p:sp>
            <p:nvSpPr>
              <p:cNvPr id="388" name=""/>
              <p:cNvSpPr/>
              <p:nvPr/>
            </p:nvSpPr>
            <p:spPr>
              <a:xfrm>
                <a:off x="457560" y="2228400"/>
                <a:ext cx="73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1033200" y="1973160"/>
                <a:ext cx="1006560" cy="1003680"/>
                <a:chOff x="1033200" y="1973160"/>
                <a:chExt cx="1006560" cy="100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033200" y="197316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s-MX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33200" y="246672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117440" y="2447640"/>
                  <a:ext cx="83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3" name=""/>
          <p:cNvGrpSpPr/>
          <p:nvPr/>
        </p:nvGrpSpPr>
        <p:grpSpPr>
          <a:xfrm>
            <a:off x="5194080" y="988920"/>
            <a:ext cx="3210120" cy="510120"/>
            <a:chOff x="5194080" y="988920"/>
            <a:chExt cx="3210120" cy="510120"/>
          </a:xfrm>
        </p:grpSpPr>
        <p:sp>
          <p:nvSpPr>
            <p:cNvPr id="394" name=""/>
            <p:cNvSpPr/>
            <p:nvPr/>
          </p:nvSpPr>
          <p:spPr>
            <a:xfrm>
              <a:off x="5194080" y="988920"/>
              <a:ext cx="321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404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936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029200" y="1973160"/>
            <a:ext cx="1662120" cy="1004040"/>
            <a:chOff x="5029200" y="1973160"/>
            <a:chExt cx="1662120" cy="1004040"/>
          </a:xfrm>
        </p:grpSpPr>
        <p:sp>
          <p:nvSpPr>
            <p:cNvPr id="398" name=""/>
            <p:cNvSpPr/>
            <p:nvPr/>
          </p:nvSpPr>
          <p:spPr>
            <a:xfrm>
              <a:off x="5029200" y="2228760"/>
              <a:ext cx="8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684760" y="1973160"/>
              <a:ext cx="1006560" cy="1004040"/>
              <a:chOff x="5684760" y="1973160"/>
              <a:chExt cx="1006560" cy="100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5684760" y="197316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84760" y="246708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69000" y="24480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47000" y="21258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627600" y="2011320"/>
            <a:ext cx="763920" cy="866160"/>
            <a:chOff x="6627600" y="2011320"/>
            <a:chExt cx="763920" cy="866160"/>
          </a:xfrm>
        </p:grpSpPr>
        <p:sp>
          <p:nvSpPr>
            <p:cNvPr id="405" name=""/>
            <p:cNvSpPr/>
            <p:nvPr/>
          </p:nvSpPr>
          <p:spPr>
            <a:xfrm>
              <a:off x="6627600" y="2229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934320" y="2011320"/>
              <a:ext cx="457200" cy="866160"/>
              <a:chOff x="6934320" y="2011320"/>
              <a:chExt cx="457200" cy="866160"/>
            </a:xfrm>
          </p:grpSpPr>
          <p:sp>
            <p:nvSpPr>
              <p:cNvPr id="407" name=""/>
              <p:cNvSpPr/>
              <p:nvPr/>
            </p:nvSpPr>
            <p:spPr>
              <a:xfrm>
                <a:off x="6988680" y="2011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244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71040" y="241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415280" y="22273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407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la ecuación de una reacción reversible está escrita en dirección opuesta, la constante de equilibrio se convierte en el recíproco de la constante de equilibrio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16600" y="2286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iones de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838080"/>
            <a:ext cx="86868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as especies en reacción en la fase condensada se expresan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la fase gaseosa, las concentraciones pueden ser expresadas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o en a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os sólidos puros, líquidos puros y solventes no aparecen en las expresiones de constante de equilib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constante de equilibrio es una cantidad sin dimen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calcular el valor de la constante de equilibrio, se debe especificar la ecuación balanceada y la temper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ás reacciones, la constante de equilibrio para toda la reacción está determinada por el producto de las constantes de equilibrio de cada una de las re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187280" y="3819600"/>
          <a:ext cx="71298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19600"/>
                    <a:ext cx="7129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380880" y="76680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ciente de una reac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lcula sustituyendo las concentraciones iniciales de los reactantes y productos en la expresión de la constante de equilibri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1946160"/>
            <a:ext cx="829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izquierda a derech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sistema se encuentr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derecha a izquierd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235080"/>
            <a:ext cx="86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ificado del valor numérico de una constante de equilib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000" y="380880"/>
            <a:ext cx="85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estado en el cual no se observan cambios a medida que transcurr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341360"/>
            <a:ext cx="8588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alcanza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reactivos se transforman en productos con la misma velocidad que los productos vuelven a transformarse en rea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 los reactivos y productos permanecen const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5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ná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se establece debido a la igualdad de la velocidad con que ocurren dos procesos 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99960" y="243000"/>
            <a:ext cx="65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lculo de concentracion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1371600"/>
            <a:ext cx="8686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resar las concentraciones, presiones parciales, o número de moles de equilibrio de todas las especies en términos de las cantidades iniciales y como una incógnita x, que represent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cribir la expresión de la constante de equilibrio en términos de las concentrac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o de las pres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de equilibrio. Sabiendo el valor de la constante de equilibrio, despejar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iendo el valor de x, calcular las concentraciones de equilibrio de todas las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152280"/>
          <a:ext cx="670572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705720" cy="3872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781360" y="5486400"/>
          <a:ext cx="3200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5486400"/>
                    <a:ext cx="320040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52280" y="4219560"/>
          <a:ext cx="323856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19560"/>
                    <a:ext cx="3238560" cy="1104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086600" y="152280"/>
          <a:ext cx="175248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52280"/>
                    <a:ext cx="1752480" cy="960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086600" y="1295280"/>
          <a:ext cx="175248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752480" cy="9446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619440" y="4219560"/>
          <a:ext cx="472464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9440" y="4219560"/>
                    <a:ext cx="4724640" cy="1114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172200" y="5486400"/>
          <a:ext cx="281952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486400"/>
                    <a:ext cx="281952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52280" y="5486400"/>
          <a:ext cx="244656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5486400"/>
                    <a:ext cx="2446560" cy="11509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89120" y="244440"/>
            <a:ext cx="81802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128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 la constante de 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ara la re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1.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 Si las concentraciones iniciales son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[Br] = 0.01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alcular las concentraciones de estas especies en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025800" y="812880"/>
            <a:ext cx="3151440" cy="440640"/>
            <a:chOff x="3025800" y="812880"/>
            <a:chExt cx="3151440" cy="440640"/>
          </a:xfrm>
        </p:grpSpPr>
        <p:sp>
          <p:nvSpPr>
            <p:cNvPr id="440" name=""/>
            <p:cNvSpPr/>
            <p:nvPr/>
          </p:nvSpPr>
          <p:spPr>
            <a:xfrm>
              <a:off x="3025800" y="812880"/>
              <a:ext cx="315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108320" y="928440"/>
              <a:ext cx="609120" cy="152280"/>
              <a:chOff x="4108320" y="928440"/>
              <a:chExt cx="609120" cy="152280"/>
            </a:xfrm>
          </p:grpSpPr>
          <p:sp>
            <p:nvSpPr>
              <p:cNvPr id="442" name=""/>
              <p:cNvSpPr/>
              <p:nvPr/>
            </p:nvSpPr>
            <p:spPr>
              <a:xfrm>
                <a:off x="4108320" y="92844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108320" y="108072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881440" y="3062160"/>
            <a:ext cx="3852720" cy="440640"/>
            <a:chOff x="2881440" y="3062160"/>
            <a:chExt cx="3852720" cy="440640"/>
          </a:xfrm>
        </p:grpSpPr>
        <p:sp>
          <p:nvSpPr>
            <p:cNvPr id="445" name=""/>
            <p:cNvSpPr/>
            <p:nvPr/>
          </p:nvSpPr>
          <p:spPr>
            <a:xfrm>
              <a:off x="2881440" y="3062160"/>
              <a:ext cx="385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69800" y="3178080"/>
              <a:ext cx="609840" cy="152280"/>
              <a:chOff x="4069800" y="3178080"/>
              <a:chExt cx="609840" cy="152280"/>
            </a:xfrm>
          </p:grpSpPr>
          <p:sp>
            <p:nvSpPr>
              <p:cNvPr id="447" name=""/>
              <p:cNvSpPr/>
              <p:nvPr/>
            </p:nvSpPr>
            <p:spPr>
              <a:xfrm>
                <a:off x="4070160" y="3178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4069800" y="333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79400" y="2492280"/>
            <a:ext cx="66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jamos 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el cambio en la concentración de 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05120" y="357336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53640" y="410688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360" y="464040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120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0288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65840" y="4106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33920" y="4106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99640" y="464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67720" y="464040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5600" y="5372280"/>
            <a:ext cx="1538280" cy="845280"/>
            <a:chOff x="255600" y="5372280"/>
            <a:chExt cx="1538280" cy="845280"/>
          </a:xfrm>
        </p:grpSpPr>
        <p:grpSp>
          <p:nvGrpSpPr>
            <p:cNvPr id="460" name=""/>
            <p:cNvGrpSpPr/>
            <p:nvPr/>
          </p:nvGrpSpPr>
          <p:grpSpPr>
            <a:xfrm>
              <a:off x="1031760" y="5372280"/>
              <a:ext cx="762120" cy="845280"/>
              <a:chOff x="1031760" y="5372280"/>
              <a:chExt cx="762120" cy="845280"/>
            </a:xfrm>
          </p:grpSpPr>
          <p:sp>
            <p:nvSpPr>
              <p:cNvPr id="461" name=""/>
              <p:cNvSpPr/>
              <p:nvPr/>
            </p:nvSpPr>
            <p:spPr>
              <a:xfrm>
                <a:off x="1074600" y="537228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]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77480" y="5776920"/>
                <a:ext cx="65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31760" y="5756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55600" y="557352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237040" y="5348160"/>
            <a:ext cx="3972240" cy="828720"/>
            <a:chOff x="2237040" y="5348160"/>
            <a:chExt cx="3972240" cy="828720"/>
          </a:xfrm>
        </p:grpSpPr>
        <p:sp>
          <p:nvSpPr>
            <p:cNvPr id="466" name=""/>
            <p:cNvSpPr/>
            <p:nvPr/>
          </p:nvSpPr>
          <p:spPr>
            <a:xfrm>
              <a:off x="2237040" y="557676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2922840" y="5348160"/>
              <a:ext cx="1839600" cy="828720"/>
              <a:chOff x="2922840" y="5348160"/>
              <a:chExt cx="1839600" cy="828720"/>
            </a:xfrm>
          </p:grpSpPr>
          <p:sp>
            <p:nvSpPr>
              <p:cNvPr id="468" name=""/>
              <p:cNvSpPr/>
              <p:nvPr/>
            </p:nvSpPr>
            <p:spPr>
              <a:xfrm>
                <a:off x="2922840" y="5348160"/>
                <a:ext cx="16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01120" y="577800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09600" y="57448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72880" y="557532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80320" y="5452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59000" y="352440"/>
            <a:ext cx="3972240" cy="828720"/>
            <a:chOff x="459000" y="352440"/>
            <a:chExt cx="3972240" cy="828720"/>
          </a:xfrm>
        </p:grpSpPr>
        <p:sp>
          <p:nvSpPr>
            <p:cNvPr id="474" name=""/>
            <p:cNvSpPr/>
            <p:nvPr/>
          </p:nvSpPr>
          <p:spPr>
            <a:xfrm>
              <a:off x="459000" y="58104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144800" y="352440"/>
              <a:ext cx="1839600" cy="828720"/>
              <a:chOff x="1144800" y="352440"/>
              <a:chExt cx="1839600" cy="828720"/>
            </a:xfrm>
          </p:grpSpPr>
          <p:sp>
            <p:nvSpPr>
              <p:cNvPr id="476" name=""/>
              <p:cNvSpPr/>
              <p:nvPr/>
            </p:nvSpPr>
            <p:spPr>
              <a:xfrm>
                <a:off x="1144800" y="352440"/>
                <a:ext cx="177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23080" y="782280"/>
                <a:ext cx="124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1560" y="74916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2994840" y="5796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39560" y="1177920"/>
            <a:ext cx="56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8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144 = 0.0000693 – 0.001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2800" y="1635120"/>
            <a:ext cx="36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9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0747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57080" y="2244600"/>
            <a:ext cx="18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34320" y="1925640"/>
            <a:ext cx="2709000" cy="929520"/>
            <a:chOff x="6034320" y="1925640"/>
            <a:chExt cx="2709000" cy="929520"/>
          </a:xfrm>
        </p:grpSpPr>
        <p:sp>
          <p:nvSpPr>
            <p:cNvPr id="484" name=""/>
            <p:cNvSpPr/>
            <p:nvPr/>
          </p:nvSpPr>
          <p:spPr>
            <a:xfrm>
              <a:off x="6598080" y="20415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  b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4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7440" y="1925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85120" y="2001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80160" y="24462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10960" y="2395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4320" y="22176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-38880" y="3429000"/>
            <a:ext cx="6795720" cy="1999080"/>
            <a:chOff x="-38880" y="3429000"/>
            <a:chExt cx="6795720" cy="1999080"/>
          </a:xfrm>
        </p:grpSpPr>
        <p:grpSp>
          <p:nvGrpSpPr>
            <p:cNvPr id="491" name=""/>
            <p:cNvGrpSpPr/>
            <p:nvPr/>
          </p:nvGrpSpPr>
          <p:grpSpPr>
            <a:xfrm>
              <a:off x="2614320" y="3429000"/>
              <a:ext cx="3852360" cy="440640"/>
              <a:chOff x="2614320" y="3429000"/>
              <a:chExt cx="3852360" cy="440640"/>
            </a:xfrm>
          </p:grpSpPr>
          <p:sp>
            <p:nvSpPr>
              <p:cNvPr id="492" name=""/>
              <p:cNvSpPr/>
              <p:nvPr/>
            </p:nvSpPr>
            <p:spPr>
              <a:xfrm>
                <a:off x="2614320" y="3429000"/>
                <a:ext cx="385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                            2Br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056840" y="3544920"/>
                <a:ext cx="667440" cy="152280"/>
                <a:chOff x="4056840" y="3544920"/>
                <a:chExt cx="667440" cy="152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056840" y="354492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4056840" y="369720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7280" y="3962160"/>
              <a:ext cx="24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38880" y="4495680"/>
              <a:ext cx="270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38520" y="5029200"/>
              <a:ext cx="287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65960" y="39621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5160" y="396216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4424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78800" y="44956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31960" y="50292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-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67960" y="5029200"/>
              <a:ext cx="22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 + 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525480" y="27608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01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96680" y="27608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0400" y="5749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] = 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-0.00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41200" y="57499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  0.00844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488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356000" y="566100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600" y="6207120"/>
            <a:ext cx="50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2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 0.06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250920" y="228600"/>
          <a:ext cx="87138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7138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124000" y="5467320"/>
          <a:ext cx="50007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467320"/>
                    <a:ext cx="5000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468360" y="404640"/>
          <a:ext cx="815652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5652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533520" y="4761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ver que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x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que el grado de descomposición era muy pequeño, debido al valor pequeño de la constante de equilibrio, era correc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90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ólido-Solu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116000" y="1704960"/>
            <a:ext cx="6912000" cy="4460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895480" y="304920"/>
            <a:ext cx="41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ILIBRIO HETEROGEN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279440" y="43956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la solubilidad del cloruro de plata en g/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765440" y="1197000"/>
            <a:ext cx="4220280" cy="398880"/>
            <a:chOff x="1765440" y="1197000"/>
            <a:chExt cx="4220280" cy="398880"/>
          </a:xfrm>
        </p:grpSpPr>
        <p:sp>
          <p:nvSpPr>
            <p:cNvPr id="526" name=""/>
            <p:cNvSpPr/>
            <p:nvPr/>
          </p:nvSpPr>
          <p:spPr>
            <a:xfrm>
              <a:off x="1765440" y="1197000"/>
              <a:ext cx="42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14280" y="1301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013920" y="145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634800" y="211932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31400" y="2043000"/>
            <a:ext cx="1680840" cy="1465560"/>
            <a:chOff x="131400" y="2043000"/>
            <a:chExt cx="1680840" cy="1465560"/>
          </a:xfrm>
        </p:grpSpPr>
        <p:sp>
          <p:nvSpPr>
            <p:cNvPr id="531" name=""/>
            <p:cNvSpPr/>
            <p:nvPr/>
          </p:nvSpPr>
          <p:spPr>
            <a:xfrm>
              <a:off x="182880" y="2043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1400" y="25765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2120" y="310968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08852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060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3456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2132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0488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7972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30480" y="2536920"/>
            <a:ext cx="10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74560" y="2997360"/>
            <a:ext cx="1108440" cy="459360"/>
            <a:chOff x="6874560" y="2997360"/>
            <a:chExt cx="1108440" cy="459360"/>
          </a:xfrm>
        </p:grpSpPr>
        <p:sp>
          <p:nvSpPr>
            <p:cNvPr id="542" name=""/>
            <p:cNvSpPr/>
            <p:nvPr/>
          </p:nvSpPr>
          <p:spPr>
            <a:xfrm>
              <a:off x="6874560" y="3008520"/>
              <a:ext cx="106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48520" y="305784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49840" y="2997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891480" y="34909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00" y="4113360"/>
            <a:ext cx="23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62680" y="411156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0840" y="4888080"/>
            <a:ext cx="22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bilidad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Ag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414160" y="4722840"/>
            <a:ext cx="2657880" cy="765720"/>
            <a:chOff x="2414160" y="4722840"/>
            <a:chExt cx="2657880" cy="765720"/>
          </a:xfrm>
        </p:grpSpPr>
        <p:sp>
          <p:nvSpPr>
            <p:cNvPr id="550" name=""/>
            <p:cNvSpPr/>
            <p:nvPr/>
          </p:nvSpPr>
          <p:spPr>
            <a:xfrm>
              <a:off x="2414160" y="472284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.3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5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l Ag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50000" y="5089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 L so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81120" y="5087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71680" y="4722840"/>
            <a:ext cx="2184840" cy="765360"/>
            <a:chOff x="5071680" y="4722840"/>
            <a:chExt cx="2184840" cy="765360"/>
          </a:xfrm>
        </p:grpSpPr>
        <p:grpSp>
          <p:nvGrpSpPr>
            <p:cNvPr id="554" name=""/>
            <p:cNvGrpSpPr/>
            <p:nvPr/>
          </p:nvGrpSpPr>
          <p:grpSpPr>
            <a:xfrm>
              <a:off x="5427720" y="4722840"/>
              <a:ext cx="1828800" cy="765360"/>
              <a:chOff x="5427720" y="4722840"/>
              <a:chExt cx="1828800" cy="765360"/>
            </a:xfrm>
          </p:grpSpPr>
          <p:sp>
            <p:nvSpPr>
              <p:cNvPr id="555" name=""/>
              <p:cNvSpPr/>
              <p:nvPr/>
            </p:nvSpPr>
            <p:spPr>
              <a:xfrm>
                <a:off x="5462640" y="4722840"/>
                <a:ext cx="17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43.35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g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32560" y="508932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mol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7720" y="508788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071680" y="490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242480" y="491184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45080" y="480024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878440" y="5181120"/>
            <a:ext cx="1295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37680" y="11606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436920" y="47304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151776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precipita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éllas que dan como resultado la formación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roducto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pita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ido insoluble que se forma por una reacción en so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" y="331776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aber si se formará precipitado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zclamos dos disoluciones que contienen dos iones q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formar una sal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=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quilibrio : disolución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g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splaza hacia la izquierda : precipi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l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 precipita : disolución no sat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848360" cy="33721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324000" y="333360"/>
            <a:ext cx="8381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mezclamos disoluciones de Ag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KI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tener una disolución de mezcla que contiene [A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01M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15M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gI es una sal poco soluble.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r si la disolución es saturada, no saturada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to: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gI)=8.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7365960" cy="55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760" y="2602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31000" cy="33591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87280" y="40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e cantidad de ion plata permanece en 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5373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resultado aproximado dice que la cantidad de ion plata que permanece en solución es practicamente 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0880" y="333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nera para resolver el problema es suponer que la reacción ocurre en un 100% hacia la derecha (que sería el significado del resultado anterior) y luego plantear el problema del equilibrio a partir de los productos de la reacc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55180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rocedimiento es muy conveniente en muchos casos en que la reacción planteada originalmente ocurre en casi un 100% y el resultado numérico no puede distinguir el valor real del correspondiente al 10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68360" y="80028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centración de 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requerida para precipitar únicamente AgBr en una solución que contiene tanto 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una concentración de 0.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32760" y="4246560"/>
            <a:ext cx="4711320" cy="398880"/>
            <a:chOff x="932760" y="4246560"/>
            <a:chExt cx="4711320" cy="398880"/>
          </a:xfrm>
        </p:grpSpPr>
        <p:sp>
          <p:nvSpPr>
            <p:cNvPr id="576" name=""/>
            <p:cNvSpPr/>
            <p:nvPr/>
          </p:nvSpPr>
          <p:spPr>
            <a:xfrm>
              <a:off x="932760" y="4246560"/>
              <a:ext cx="471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82680" y="4351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182320" y="4503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449040" y="471168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51920" y="425448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32040" y="2112840"/>
            <a:ext cx="4738680" cy="398880"/>
            <a:chOff x="932040" y="2112840"/>
            <a:chExt cx="4738680" cy="398880"/>
          </a:xfrm>
        </p:grpSpPr>
        <p:sp>
          <p:nvSpPr>
            <p:cNvPr id="582" name=""/>
            <p:cNvSpPr/>
            <p:nvPr/>
          </p:nvSpPr>
          <p:spPr>
            <a:xfrm>
              <a:off x="932040" y="2112840"/>
              <a:ext cx="47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Br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3040" y="22176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183040" y="23698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380640" y="21128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77040" y="2494080"/>
            <a:ext cx="17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416600" y="3051000"/>
            <a:ext cx="1781640" cy="832320"/>
            <a:chOff x="1416600" y="3051000"/>
            <a:chExt cx="1781640" cy="832320"/>
          </a:xfrm>
        </p:grpSpPr>
        <p:sp>
          <p:nvSpPr>
            <p:cNvPr id="588" name=""/>
            <p:cNvSpPr/>
            <p:nvPr/>
          </p:nvSpPr>
          <p:spPr>
            <a:xfrm>
              <a:off x="1416600" y="328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534400" y="3051000"/>
              <a:ext cx="663840" cy="832320"/>
              <a:chOff x="2534400" y="3051000"/>
              <a:chExt cx="663840" cy="832320"/>
            </a:xfrm>
          </p:grpSpPr>
          <p:sp>
            <p:nvSpPr>
              <p:cNvPr id="590" name=""/>
              <p:cNvSpPr/>
              <p:nvPr/>
            </p:nvSpPr>
            <p:spPr>
              <a:xfrm>
                <a:off x="2602800" y="30510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34400" y="3484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88760" y="3473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3180600" y="3089160"/>
            <a:ext cx="3573360" cy="765360"/>
            <a:chOff x="3180600" y="3089160"/>
            <a:chExt cx="3573360" cy="765360"/>
          </a:xfrm>
        </p:grpSpPr>
        <p:grpSp>
          <p:nvGrpSpPr>
            <p:cNvPr id="594" name=""/>
            <p:cNvGrpSpPr/>
            <p:nvPr/>
          </p:nvGrpSpPr>
          <p:grpSpPr>
            <a:xfrm>
              <a:off x="3180600" y="3089160"/>
              <a:ext cx="1789200" cy="765360"/>
              <a:chOff x="3180600" y="3089160"/>
              <a:chExt cx="1789200" cy="76536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3522240" y="3089160"/>
                <a:ext cx="1447560" cy="765360"/>
                <a:chOff x="3522240" y="3089160"/>
                <a:chExt cx="1447560" cy="7653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594960" y="30891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7.7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773160" y="3455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22240" y="34588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3180600" y="3277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953240" y="3279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3.9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19840" y="5108400"/>
            <a:ext cx="1781640" cy="832320"/>
            <a:chOff x="1419840" y="5108400"/>
            <a:chExt cx="1781640" cy="832320"/>
          </a:xfrm>
        </p:grpSpPr>
        <p:sp>
          <p:nvSpPr>
            <p:cNvPr id="602" name=""/>
            <p:cNvSpPr/>
            <p:nvPr/>
          </p:nvSpPr>
          <p:spPr>
            <a:xfrm>
              <a:off x="1419840" y="5338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538360" y="5108400"/>
              <a:ext cx="663120" cy="832320"/>
              <a:chOff x="2538360" y="5108400"/>
              <a:chExt cx="663120" cy="832320"/>
            </a:xfrm>
          </p:grpSpPr>
          <p:sp>
            <p:nvSpPr>
              <p:cNvPr id="604" name=""/>
              <p:cNvSpPr/>
              <p:nvPr/>
            </p:nvSpPr>
            <p:spPr>
              <a:xfrm>
                <a:off x="2606040" y="51084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38360" y="5541840"/>
                <a:ext cx="61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Cl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92000" y="55306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83480" y="5146560"/>
            <a:ext cx="3486600" cy="765360"/>
            <a:chOff x="3183480" y="5146560"/>
            <a:chExt cx="3486600" cy="765360"/>
          </a:xfrm>
        </p:grpSpPr>
        <p:grpSp>
          <p:nvGrpSpPr>
            <p:cNvPr id="608" name=""/>
            <p:cNvGrpSpPr/>
            <p:nvPr/>
          </p:nvGrpSpPr>
          <p:grpSpPr>
            <a:xfrm>
              <a:off x="3183480" y="5146560"/>
              <a:ext cx="1789920" cy="765360"/>
              <a:chOff x="3183480" y="5146560"/>
              <a:chExt cx="1789920" cy="76536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3525480" y="5146560"/>
                <a:ext cx="1447920" cy="765360"/>
                <a:chOff x="3525480" y="5146560"/>
                <a:chExt cx="1447920" cy="7653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600360" y="51465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1.6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777120" y="55130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525480" y="5516280"/>
                  <a:ext cx="144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183480" y="5335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951800" y="533700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8.0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57920" y="620064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&lt;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8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13080" y="260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24000" y="817560"/>
            <a:ext cx="8532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8360" y="900000"/>
            <a:ext cx="8280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609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una perturbación externa se aplica a un sistema en equilibrio, el sistema se ajusta en cierta forma para que la perturbación se contrarreste parcialmente y el sistema pueda alcanzar una nueva posición de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03840" y="18900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220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22680" y="3247920"/>
            <a:ext cx="4218480" cy="440640"/>
            <a:chOff x="922680" y="3247920"/>
            <a:chExt cx="4218480" cy="440640"/>
          </a:xfrm>
        </p:grpSpPr>
        <p:sp>
          <p:nvSpPr>
            <p:cNvPr id="623" name=""/>
            <p:cNvSpPr/>
            <p:nvPr/>
          </p:nvSpPr>
          <p:spPr>
            <a:xfrm>
              <a:off x="922680" y="3247920"/>
              <a:ext cx="421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3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2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3125160" y="3376440"/>
              <a:ext cx="609840" cy="152280"/>
              <a:chOff x="3125160" y="3376440"/>
              <a:chExt cx="609840" cy="152280"/>
            </a:xfrm>
          </p:grpSpPr>
          <p:sp>
            <p:nvSpPr>
              <p:cNvPr id="625" name=""/>
              <p:cNvSpPr/>
              <p:nvPr/>
            </p:nvSpPr>
            <p:spPr>
              <a:xfrm>
                <a:off x="3125520" y="3376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125160" y="3528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726360" y="3657600"/>
            <a:ext cx="1270440" cy="1250280"/>
            <a:chOff x="3726360" y="3657600"/>
            <a:chExt cx="1270440" cy="1250280"/>
          </a:xfrm>
        </p:grpSpPr>
        <p:sp>
          <p:nvSpPr>
            <p:cNvPr id="628" name=""/>
            <p:cNvSpPr/>
            <p:nvPr/>
          </p:nvSpPr>
          <p:spPr>
            <a:xfrm>
              <a:off x="3726360" y="4162320"/>
              <a:ext cx="1270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e añ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29408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63560" y="3886200"/>
            <a:ext cx="2832120" cy="1618560"/>
            <a:chOff x="763560" y="3886200"/>
            <a:chExt cx="2832120" cy="1618560"/>
          </a:xfrm>
        </p:grpSpPr>
        <p:sp>
          <p:nvSpPr>
            <p:cNvPr id="631" name=""/>
            <p:cNvSpPr/>
            <p:nvPr/>
          </p:nvSpPr>
          <p:spPr>
            <a:xfrm flipH="1">
              <a:off x="2757600" y="44701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3560" y="3886200"/>
              <a:ext cx="190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l equilibrio se desplaza hacia la izquierda para disminuir el camb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81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500560" y="5032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58600" y="387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93440" y="35733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8880" y="441180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24960" y="44118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7440" y="484344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08480" y="4843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7440" y="570708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8880" y="527544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00560" y="5275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24960" y="5707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869200" y="2486160"/>
            <a:ext cx="3493080" cy="398880"/>
            <a:chOff x="2869200" y="2486160"/>
            <a:chExt cx="3493080" cy="398880"/>
          </a:xfrm>
        </p:grpSpPr>
        <p:sp>
          <p:nvSpPr>
            <p:cNvPr id="646" name=""/>
            <p:cNvSpPr/>
            <p:nvPr/>
          </p:nvSpPr>
          <p:spPr>
            <a:xfrm>
              <a:off x="2869200" y="2486160"/>
              <a:ext cx="34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                 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260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233960" y="2756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08440" y="1419120"/>
            <a:ext cx="1864080" cy="1629000"/>
            <a:chOff x="4708440" y="1419120"/>
            <a:chExt cx="1864080" cy="1629000"/>
          </a:xfrm>
        </p:grpSpPr>
        <p:grpSp>
          <p:nvGrpSpPr>
            <p:cNvPr id="650" name=""/>
            <p:cNvGrpSpPr/>
            <p:nvPr/>
          </p:nvGrpSpPr>
          <p:grpSpPr>
            <a:xfrm>
              <a:off x="5655600" y="1419120"/>
              <a:ext cx="916920" cy="903240"/>
              <a:chOff x="5655600" y="1419120"/>
              <a:chExt cx="916920" cy="903240"/>
            </a:xfrm>
          </p:grpSpPr>
          <p:sp>
            <p:nvSpPr>
              <p:cNvPr id="651" name=""/>
              <p:cNvSpPr/>
              <p:nvPr/>
            </p:nvSpPr>
            <p:spPr>
              <a:xfrm>
                <a:off x="61113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5560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470844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614040" y="1419120"/>
            <a:ext cx="2024280" cy="1629000"/>
            <a:chOff x="3614040" y="1419120"/>
            <a:chExt cx="2024280" cy="1629000"/>
          </a:xfrm>
        </p:grpSpPr>
        <p:sp>
          <p:nvSpPr>
            <p:cNvPr id="655" name=""/>
            <p:cNvSpPr/>
            <p:nvPr/>
          </p:nvSpPr>
          <p:spPr>
            <a:xfrm>
              <a:off x="472428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614040" y="1419120"/>
              <a:ext cx="916920" cy="903240"/>
              <a:chOff x="3614040" y="1419120"/>
              <a:chExt cx="916920" cy="90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40701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1404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2738520" y="1406520"/>
            <a:ext cx="1985040" cy="1641600"/>
            <a:chOff x="2738520" y="1406520"/>
            <a:chExt cx="1985040" cy="1641600"/>
          </a:xfrm>
        </p:grpSpPr>
        <p:sp>
          <p:nvSpPr>
            <p:cNvPr id="660" name=""/>
            <p:cNvSpPr/>
            <p:nvPr/>
          </p:nvSpPr>
          <p:spPr>
            <a:xfrm flipH="1">
              <a:off x="380952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2738520" y="1406520"/>
              <a:ext cx="874080" cy="902880"/>
              <a:chOff x="2738520" y="1406520"/>
              <a:chExt cx="874080" cy="902880"/>
            </a:xfrm>
          </p:grpSpPr>
          <p:sp>
            <p:nvSpPr>
              <p:cNvPr id="662" name=""/>
              <p:cNvSpPr/>
              <p:nvPr/>
            </p:nvSpPr>
            <p:spPr>
              <a:xfrm flipV="1">
                <a:off x="3173400" y="177624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38520" y="140652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3733920" y="1380960"/>
            <a:ext cx="1821960" cy="1667160"/>
            <a:chOff x="3733920" y="1380960"/>
            <a:chExt cx="1821960" cy="1667160"/>
          </a:xfrm>
        </p:grpSpPr>
        <p:grpSp>
          <p:nvGrpSpPr>
            <p:cNvPr id="665" name=""/>
            <p:cNvGrpSpPr/>
            <p:nvPr/>
          </p:nvGrpSpPr>
          <p:grpSpPr>
            <a:xfrm>
              <a:off x="4681800" y="1380960"/>
              <a:ext cx="874080" cy="902880"/>
              <a:chOff x="4681800" y="1380960"/>
              <a:chExt cx="874080" cy="90288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5116680" y="1750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81800" y="13809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73392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626560" y="47628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volumen y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994120" y="1197000"/>
            <a:ext cx="3472920" cy="398880"/>
            <a:chOff x="2994120" y="1197000"/>
            <a:chExt cx="3472920" cy="398880"/>
          </a:xfrm>
        </p:grpSpPr>
        <p:sp>
          <p:nvSpPr>
            <p:cNvPr id="671" name=""/>
            <p:cNvSpPr/>
            <p:nvPr/>
          </p:nvSpPr>
          <p:spPr>
            <a:xfrm>
              <a:off x="2994120" y="1197000"/>
              <a:ext cx="34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B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2840" y="1314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722480" y="1467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667880" y="2568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24920" y="226368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9920" y="31021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pre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60760" y="310212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79920" y="35337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67600" y="35337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79920" y="4397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80280" y="39654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67600" y="39654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60760" y="43974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3" dur="1" fill="hold"/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698200" y="4762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1080" y="20653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13200" y="2065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680" y="25988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temper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1080" y="259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320" y="30304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72200" y="30304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56400" y="2065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18720" y="2598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7600" y="3030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611280" y="1844640"/>
            <a:ext cx="7924680" cy="3070440"/>
            <a:chOff x="611280" y="1844640"/>
            <a:chExt cx="7924680" cy="3070440"/>
          </a:xfrm>
        </p:grpSpPr>
        <p:pic>
          <p:nvPicPr>
            <p:cNvPr id="699" name="" descr=""/>
            <p:cNvPicPr/>
            <p:nvPr/>
          </p:nvPicPr>
          <p:blipFill>
            <a:blip r:embed="rId1"/>
            <a:srcRect l="0" t="0" r="0" b="10022"/>
            <a:stretch/>
          </p:blipFill>
          <p:spPr>
            <a:xfrm>
              <a:off x="611280" y="1844640"/>
              <a:ext cx="792468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950040" y="4346640"/>
              <a:ext cx="185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i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35560" y="43466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059200" y="5300640"/>
            <a:ext cx="551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catalizador baj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mb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e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0920" y="5896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catalizador no cambia la constante de equilibrio o mueve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58920" y="69228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el valor de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la posición de un sistem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lcanzará más rápido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64160" y="26028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ón de  u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5" r="0" b="5676"/>
          <a:stretch/>
        </p:blipFill>
        <p:spPr>
          <a:xfrm>
            <a:off x="152280" y="1143000"/>
            <a:ext cx="86868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966400" y="304920"/>
            <a:ext cx="3210480" cy="510120"/>
            <a:chOff x="2966400" y="304920"/>
            <a:chExt cx="3210480" cy="510120"/>
          </a:xfrm>
        </p:grpSpPr>
        <p:sp>
          <p:nvSpPr>
            <p:cNvPr id="52" name=""/>
            <p:cNvSpPr/>
            <p:nvPr/>
          </p:nvSpPr>
          <p:spPr>
            <a:xfrm>
              <a:off x="2966400" y="304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6720" y="470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266720" y="622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0800" y="4495680"/>
            <a:ext cx="21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5360" y="4495680"/>
            <a:ext cx="22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9160" y="4495680"/>
            <a:ext cx="300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800" y="1800360"/>
            <a:ext cx="1396800" cy="1003320"/>
            <a:chOff x="838800" y="1800360"/>
            <a:chExt cx="1396800" cy="1003320"/>
          </a:xfrm>
        </p:grpSpPr>
        <p:sp>
          <p:nvSpPr>
            <p:cNvPr id="59" name=""/>
            <p:cNvSpPr/>
            <p:nvPr/>
          </p:nvSpPr>
          <p:spPr>
            <a:xfrm>
              <a:off x="1684440" y="21942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800" y="180036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2520" y="1197000"/>
            <a:ext cx="1396800" cy="1003320"/>
            <a:chOff x="3872520" y="1197000"/>
            <a:chExt cx="1396800" cy="1003320"/>
          </a:xfrm>
        </p:grpSpPr>
        <p:sp>
          <p:nvSpPr>
            <p:cNvPr id="62" name=""/>
            <p:cNvSpPr/>
            <p:nvPr/>
          </p:nvSpPr>
          <p:spPr>
            <a:xfrm>
              <a:off x="4718160" y="15908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2520" y="1197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01560" y="2181240"/>
            <a:ext cx="1396800" cy="1003320"/>
            <a:chOff x="6901560" y="2181240"/>
            <a:chExt cx="1396800" cy="1003320"/>
          </a:xfrm>
        </p:grpSpPr>
        <p:sp>
          <p:nvSpPr>
            <p:cNvPr id="65" name=""/>
            <p:cNvSpPr/>
            <p:nvPr/>
          </p:nvSpPr>
          <p:spPr>
            <a:xfrm>
              <a:off x="7747200" y="25750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1560" y="2181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0" t="4620" r="0" b="0"/>
          <a:stretch/>
        </p:blipFill>
        <p:spPr>
          <a:xfrm>
            <a:off x="2286000" y="5105520"/>
            <a:ext cx="4876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671200" y="189000"/>
            <a:ext cx="38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3960" y="14590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53040" y="11145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716800" y="1063800"/>
            <a:ext cx="3036600" cy="714240"/>
            <a:chOff x="5716800" y="1063800"/>
            <a:chExt cx="3036600" cy="714240"/>
          </a:xfrm>
        </p:grpSpPr>
        <p:sp>
          <p:nvSpPr>
            <p:cNvPr id="710" name=""/>
            <p:cNvSpPr/>
            <p:nvPr/>
          </p:nvSpPr>
          <p:spPr>
            <a:xfrm>
              <a:off x="5716800" y="1063800"/>
              <a:ext cx="30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ambio en la c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e equili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84840" y="177804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60720" y="20289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79040" y="2028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721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840" y="2600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79040" y="2600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7212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6880" y="31719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79040" y="3171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72120" y="317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120" y="3743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04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0480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7520" y="4314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4600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7212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33360"/>
          <a:ext cx="91440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588000" y="602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67640" y="4797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26560" y="14508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6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882160" y="1197000"/>
            <a:ext cx="1497240" cy="934200"/>
            <a:chOff x="2882160" y="1197000"/>
            <a:chExt cx="1497240" cy="934200"/>
          </a:xfrm>
        </p:grpSpPr>
        <p:sp>
          <p:nvSpPr>
            <p:cNvPr id="74" name=""/>
            <p:cNvSpPr/>
            <p:nvPr/>
          </p:nvSpPr>
          <p:spPr>
            <a:xfrm>
              <a:off x="2882160" y="145260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453480" y="1197000"/>
              <a:ext cx="925920" cy="934200"/>
              <a:chOff x="3453480" y="1197000"/>
              <a:chExt cx="925920" cy="934200"/>
            </a:xfrm>
          </p:grpSpPr>
          <p:sp>
            <p:nvSpPr>
              <p:cNvPr id="76" name=""/>
              <p:cNvSpPr/>
              <p:nvPr/>
            </p:nvSpPr>
            <p:spPr>
              <a:xfrm>
                <a:off x="3453480" y="119700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53480" y="169056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41320" y="16239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481920" y="4206960"/>
            <a:ext cx="1724040" cy="953280"/>
            <a:chOff x="3481920" y="4206960"/>
            <a:chExt cx="1724040" cy="953280"/>
          </a:xfrm>
        </p:grpSpPr>
        <p:sp>
          <p:nvSpPr>
            <p:cNvPr id="80" name=""/>
            <p:cNvSpPr/>
            <p:nvPr/>
          </p:nvSpPr>
          <p:spPr>
            <a:xfrm>
              <a:off x="3481920" y="446256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57200" y="4206960"/>
              <a:ext cx="1148760" cy="953280"/>
              <a:chOff x="4057200" y="4206960"/>
              <a:chExt cx="1148760" cy="953280"/>
            </a:xfrm>
          </p:grpSpPr>
          <p:sp>
            <p:nvSpPr>
              <p:cNvPr id="82" name=""/>
              <p:cNvSpPr/>
              <p:nvPr/>
            </p:nvSpPr>
            <p:spPr>
              <a:xfrm>
                <a:off x="4057200" y="420696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7640" y="470052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97160" y="46814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2672280" y="5578560"/>
            <a:ext cx="36691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y de acción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2280" y="549360"/>
            <a:ext cx="331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74280" y="325764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3080" y="3402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12720" y="3546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6960" y="69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0660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272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una reacción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666880"/>
            <a:ext cx="64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&gt; 1   se favorece la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200400"/>
            <a:ext cx="63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   se favorece la formación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800" y="1916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uede conclui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52000" y="692280"/>
            <a:ext cx="1724040" cy="953280"/>
            <a:chOff x="5652000" y="692280"/>
            <a:chExt cx="1724040" cy="953280"/>
          </a:xfrm>
        </p:grpSpPr>
        <p:sp>
          <p:nvSpPr>
            <p:cNvPr id="97" name=""/>
            <p:cNvSpPr/>
            <p:nvPr/>
          </p:nvSpPr>
          <p:spPr>
            <a:xfrm>
              <a:off x="5652000" y="94788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227280" y="692280"/>
              <a:ext cx="1148760" cy="953280"/>
              <a:chOff x="6227280" y="692280"/>
              <a:chExt cx="1148760" cy="953280"/>
            </a:xfrm>
          </p:grpSpPr>
          <p:sp>
            <p:nvSpPr>
              <p:cNvPr id="99" name=""/>
              <p:cNvSpPr/>
              <p:nvPr/>
            </p:nvSpPr>
            <p:spPr>
              <a:xfrm>
                <a:off x="6227280" y="69228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720" y="118584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67240" y="11667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627560" y="880920"/>
            <a:ext cx="3236400" cy="459720"/>
            <a:chOff x="1627560" y="880920"/>
            <a:chExt cx="3236400" cy="459720"/>
          </a:xfrm>
        </p:grpSpPr>
        <p:sp>
          <p:nvSpPr>
            <p:cNvPr id="103" name=""/>
            <p:cNvSpPr/>
            <p:nvPr/>
          </p:nvSpPr>
          <p:spPr>
            <a:xfrm>
              <a:off x="1627560" y="8809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1560" y="10458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941560" y="1198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324000" y="4005360"/>
          <a:ext cx="417672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417672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8000" y="4005360"/>
          <a:ext cx="4248000" cy="22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005360"/>
                    <a:ext cx="4248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63700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34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407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981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se Gase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584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5840" y="357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5840" y="411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qu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68792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907920"/>
            <a:ext cx="73080" cy="136872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35772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6920" y="1413000"/>
            <a:ext cx="144360" cy="302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00360" y="11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8920" y="692280"/>
            <a:ext cx="37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 2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836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140360" y="9795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791440" y="1241280"/>
            <a:ext cx="1492560" cy="934200"/>
            <a:chOff x="2791440" y="1241280"/>
            <a:chExt cx="1492560" cy="934200"/>
          </a:xfrm>
        </p:grpSpPr>
        <p:sp>
          <p:nvSpPr>
            <p:cNvPr id="126" name=""/>
            <p:cNvSpPr/>
            <p:nvPr/>
          </p:nvSpPr>
          <p:spPr>
            <a:xfrm>
              <a:off x="2791440" y="1496880"/>
              <a:ext cx="73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358080" y="1241280"/>
              <a:ext cx="925920" cy="934200"/>
              <a:chOff x="3358080" y="1241280"/>
              <a:chExt cx="925920" cy="93420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8080" y="124128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8080" y="173484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45920" y="16682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79280" y="25304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349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746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7464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308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gas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0560" y="2492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139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5280" y="310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5800" y="29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3355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328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0600" y="44308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64500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114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4618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618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6720" y="515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50878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2720" y="40766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1440" y="465300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720" y="461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1440" y="46180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5040" y="44006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7280" y="440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200" y="60944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09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5734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63104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6275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560880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número de moles de gas de productos –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 de gas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86600" y="64166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 (c + d) – (a +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16T18:54:31Z</dcterms:modified>
  <cp:revision>177</cp:revision>
  <dc:subject/>
  <dc:title>Presentación de PowerPoint</dc:title>
</cp:coreProperties>
</file>