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14.png" ContentType="image/png"/>
  <Override PartName="/ppt/media/image29.jpeg" ContentType="image/jpe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F535-81ED-496E-BDF3-FADE7CDDA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A57E-8AF1-4633-8058-B738E55A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350C-3027-4880-9AC4-B3F919DC7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C2C5-F0CA-4CEE-8D49-67F7ECDBA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5240-22C9-4389-A17A-371B68E9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8B91-DCA7-46AC-9D65-AFED00F7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4CA4-DD28-41D2-B963-7AC811AE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D1BC-5AF3-413F-A9A0-30C4DA8B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1FA7-8E0F-49E0-8EA8-88C60E89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D3DC-619C-4327-BFAF-EB6BEEBB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7ABF-FE16-45D9-AD3C-4716DFBD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E8C0-3F05-4A6C-947B-747A014C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479D-CAF0-4C15-BDEA-CDE8E6C3F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3962520"/>
            <a:ext cx="88394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quilibrio quí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6429" r="0" b="0"/>
          <a:stretch/>
        </p:blipFill>
        <p:spPr>
          <a:xfrm>
            <a:off x="6461280" y="0"/>
            <a:ext cx="2682720" cy="3992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23512" t="19659" r="7054" b="3932"/>
          <a:stretch/>
        </p:blipFill>
        <p:spPr>
          <a:xfrm>
            <a:off x="0" y="0"/>
            <a:ext cx="270036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777960" y="907920"/>
            <a:ext cx="7544880" cy="510120"/>
            <a:chOff x="777960" y="907920"/>
            <a:chExt cx="7544880" cy="510120"/>
          </a:xfrm>
        </p:grpSpPr>
        <p:sp>
          <p:nvSpPr>
            <p:cNvPr id="172" name=""/>
            <p:cNvSpPr/>
            <p:nvPr/>
          </p:nvSpPr>
          <p:spPr>
            <a:xfrm>
              <a:off x="777960" y="907920"/>
              <a:ext cx="7544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H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l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03720" y="10857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203360" y="12380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998280" y="2649600"/>
            <a:ext cx="735480" cy="582840"/>
            <a:chOff x="998280" y="2649600"/>
            <a:chExt cx="735480" cy="582840"/>
          </a:xfrm>
        </p:grpSpPr>
        <p:sp>
          <p:nvSpPr>
            <p:cNvPr id="176" name=""/>
            <p:cNvSpPr/>
            <p:nvPr/>
          </p:nvSpPr>
          <p:spPr>
            <a:xfrm>
              <a:off x="998280" y="2722320"/>
              <a:ext cx="73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8800" y="264960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680840" y="2505240"/>
            <a:ext cx="2530440" cy="914760"/>
            <a:chOff x="1680840" y="2505240"/>
            <a:chExt cx="2530440" cy="914760"/>
          </a:xfrm>
        </p:grpSpPr>
        <p:sp>
          <p:nvSpPr>
            <p:cNvPr id="179" name=""/>
            <p:cNvSpPr/>
            <p:nvPr/>
          </p:nvSpPr>
          <p:spPr>
            <a:xfrm>
              <a:off x="1708560" y="2505240"/>
              <a:ext cx="2473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[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680840" y="2909880"/>
              <a:ext cx="2530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H][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726920" y="2936880"/>
              <a:ext cx="2438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5064120" y="2685960"/>
            <a:ext cx="2577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O] =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93200" y="4040280"/>
            <a:ext cx="82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096000" y="3824280"/>
            <a:ext cx="2473920" cy="914760"/>
            <a:chOff x="3096000" y="3824280"/>
            <a:chExt cx="2473920" cy="914760"/>
          </a:xfrm>
        </p:grpSpPr>
        <p:sp>
          <p:nvSpPr>
            <p:cNvPr id="185" name=""/>
            <p:cNvSpPr/>
            <p:nvPr/>
          </p:nvSpPr>
          <p:spPr>
            <a:xfrm>
              <a:off x="3096000" y="3824280"/>
              <a:ext cx="2473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[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427920" y="4228920"/>
              <a:ext cx="1803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H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114360" y="4255920"/>
              <a:ext cx="2438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637960" y="3962520"/>
            <a:ext cx="1552320" cy="582840"/>
            <a:chOff x="5637960" y="3962520"/>
            <a:chExt cx="1552320" cy="582840"/>
          </a:xfrm>
        </p:grpSpPr>
        <p:sp>
          <p:nvSpPr>
            <p:cNvPr id="189" name=""/>
            <p:cNvSpPr/>
            <p:nvPr/>
          </p:nvSpPr>
          <p:spPr>
            <a:xfrm>
              <a:off x="5637960" y="4035240"/>
              <a:ext cx="44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5906160" y="3962520"/>
              <a:ext cx="1284120" cy="582840"/>
              <a:chOff x="5906160" y="3962520"/>
              <a:chExt cx="1284120" cy="582840"/>
            </a:xfrm>
          </p:grpSpPr>
          <p:sp>
            <p:nvSpPr>
              <p:cNvPr id="191" name=""/>
              <p:cNvSpPr/>
              <p:nvPr/>
            </p:nvSpPr>
            <p:spPr>
              <a:xfrm>
                <a:off x="5906160" y="4035240"/>
                <a:ext cx="12841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[H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O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100920" y="396252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" name=""/>
          <p:cNvSpPr/>
          <p:nvPr/>
        </p:nvSpPr>
        <p:spPr>
          <a:xfrm>
            <a:off x="1882800" y="5337000"/>
            <a:ext cx="538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a constante de equilibrio es adimen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87640" y="907920"/>
            <a:ext cx="115272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03640" y="2852640"/>
            <a:ext cx="115236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59280" y="2637000"/>
            <a:ext cx="2881440" cy="57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11280" y="246240"/>
            <a:ext cx="81802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s concentraciones de equilibrio de la reacción entre monóxido de carbono y cloro molecular para formar COCl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) a la temperatura de 74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 son: [CO] = 0.012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, [Cl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 = 0.054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, y [COCl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 = 0.14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. Calcular las constantes de equilibrio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c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p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442240" y="2335320"/>
            <a:ext cx="4262040" cy="510120"/>
            <a:chOff x="2442240" y="2335320"/>
            <a:chExt cx="4262040" cy="510120"/>
          </a:xfrm>
        </p:grpSpPr>
        <p:sp>
          <p:nvSpPr>
            <p:cNvPr id="199" name=""/>
            <p:cNvSpPr/>
            <p:nvPr/>
          </p:nvSpPr>
          <p:spPr>
            <a:xfrm>
              <a:off x="2442240" y="2335320"/>
              <a:ext cx="4262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C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COC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4638240" y="2486160"/>
              <a:ext cx="609840" cy="152280"/>
              <a:chOff x="4638240" y="2486160"/>
              <a:chExt cx="609840" cy="152280"/>
            </a:xfrm>
          </p:grpSpPr>
          <p:sp>
            <p:nvSpPr>
              <p:cNvPr id="201" name=""/>
              <p:cNvSpPr/>
              <p:nvPr/>
            </p:nvSpPr>
            <p:spPr>
              <a:xfrm>
                <a:off x="4638600" y="24861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4638240" y="263844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3" name=""/>
          <p:cNvSpPr/>
          <p:nvPr/>
        </p:nvSpPr>
        <p:spPr>
          <a:xfrm>
            <a:off x="1836000" y="3273480"/>
            <a:ext cx="82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537640" y="3056040"/>
            <a:ext cx="1364760" cy="930600"/>
            <a:chOff x="2537640" y="3056040"/>
            <a:chExt cx="1364760" cy="930600"/>
          </a:xfrm>
        </p:grpSpPr>
        <p:sp>
          <p:nvSpPr>
            <p:cNvPr id="205" name=""/>
            <p:cNvSpPr/>
            <p:nvPr/>
          </p:nvSpPr>
          <p:spPr>
            <a:xfrm>
              <a:off x="2623320" y="3056040"/>
              <a:ext cx="1194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[COC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37640" y="3476520"/>
              <a:ext cx="1364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[CO][C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10000" y="349560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922560" y="3056040"/>
            <a:ext cx="2415600" cy="880200"/>
            <a:chOff x="3922560" y="3056040"/>
            <a:chExt cx="2415600" cy="880200"/>
          </a:xfrm>
        </p:grpSpPr>
        <p:sp>
          <p:nvSpPr>
            <p:cNvPr id="209" name=""/>
            <p:cNvSpPr/>
            <p:nvPr/>
          </p:nvSpPr>
          <p:spPr>
            <a:xfrm>
              <a:off x="3922560" y="32716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4310280" y="3056040"/>
              <a:ext cx="2027880" cy="880200"/>
              <a:chOff x="4310280" y="3056040"/>
              <a:chExt cx="2027880" cy="880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929480" y="30560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.1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10280" y="3476520"/>
                <a:ext cx="2027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.012 x 0.05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405320" y="349560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4" name=""/>
          <p:cNvSpPr/>
          <p:nvPr/>
        </p:nvSpPr>
        <p:spPr>
          <a:xfrm>
            <a:off x="6377040" y="327168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21160" y="4365720"/>
            <a:ext cx="193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RT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1400" y="5203800"/>
            <a:ext cx="218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 – 2 =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73560" y="520380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08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486040" y="5203800"/>
            <a:ext cx="30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73 + 74 = 347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92480" y="5924520"/>
            <a:ext cx="4559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20 x (0.0821 x 347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7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24000" y="353880"/>
            <a:ext cx="877572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constante de equilibrio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p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ara la reac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 158 a una temperatura de 1000K. ¿Cuál es la presión de equilibrio del 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si la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NO</a:t>
            </a:r>
            <a:r>
              <a:rPr b="0" lang="es-MX" sz="24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 = 0.400 atm y la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NO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0.270 at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596320" y="1125360"/>
            <a:ext cx="4448160" cy="510120"/>
            <a:chOff x="2596320" y="1125360"/>
            <a:chExt cx="4448160" cy="510120"/>
          </a:xfrm>
        </p:grpSpPr>
        <p:sp>
          <p:nvSpPr>
            <p:cNvPr id="222" name=""/>
            <p:cNvSpPr/>
            <p:nvPr/>
          </p:nvSpPr>
          <p:spPr>
            <a:xfrm>
              <a:off x="2596320" y="1125360"/>
              <a:ext cx="4448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2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)          2NO (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) + 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3990600" y="1288800"/>
              <a:ext cx="609840" cy="152280"/>
              <a:chOff x="3990600" y="1288800"/>
              <a:chExt cx="609840" cy="152280"/>
            </a:xfrm>
          </p:grpSpPr>
          <p:sp>
            <p:nvSpPr>
              <p:cNvPr id="224" name=""/>
              <p:cNvSpPr/>
              <p:nvPr/>
            </p:nvSpPr>
            <p:spPr>
              <a:xfrm>
                <a:off x="3990960" y="1288800"/>
                <a:ext cx="6094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3990600" y="1441080"/>
                <a:ext cx="6094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6" name=""/>
          <p:cNvGrpSpPr/>
          <p:nvPr/>
        </p:nvGrpSpPr>
        <p:grpSpPr>
          <a:xfrm>
            <a:off x="3596760" y="3078000"/>
            <a:ext cx="1929240" cy="1092960"/>
            <a:chOff x="3596760" y="3078000"/>
            <a:chExt cx="1929240" cy="1092960"/>
          </a:xfrm>
        </p:grpSpPr>
        <p:sp>
          <p:nvSpPr>
            <p:cNvPr id="227" name=""/>
            <p:cNvSpPr/>
            <p:nvPr/>
          </p:nvSpPr>
          <p:spPr>
            <a:xfrm>
              <a:off x="3596760" y="3397320"/>
              <a:ext cx="831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32600" y="3338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53480" y="3109680"/>
              <a:ext cx="1037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NO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72000" y="3078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16400" y="363060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4547520" y="3592440"/>
              <a:ext cx="767160" cy="578520"/>
              <a:chOff x="4547520" y="3592440"/>
              <a:chExt cx="767160" cy="578520"/>
            </a:xfrm>
          </p:grpSpPr>
          <p:sp>
            <p:nvSpPr>
              <p:cNvPr id="233" name=""/>
              <p:cNvSpPr/>
              <p:nvPr/>
            </p:nvSpPr>
            <p:spPr>
              <a:xfrm>
                <a:off x="4547520" y="3606840"/>
                <a:ext cx="648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772160" y="35924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021280" y="38336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6" name=""/>
          <p:cNvGrpSpPr/>
          <p:nvPr/>
        </p:nvGrpSpPr>
        <p:grpSpPr>
          <a:xfrm>
            <a:off x="3441600" y="4417920"/>
            <a:ext cx="2176200" cy="1075320"/>
            <a:chOff x="3441600" y="4417920"/>
            <a:chExt cx="2176200" cy="1075320"/>
          </a:xfrm>
        </p:grpSpPr>
        <p:grpSp>
          <p:nvGrpSpPr>
            <p:cNvPr id="237" name=""/>
            <p:cNvGrpSpPr/>
            <p:nvPr/>
          </p:nvGrpSpPr>
          <p:grpSpPr>
            <a:xfrm>
              <a:off x="3441600" y="4646520"/>
              <a:ext cx="641160" cy="564120"/>
              <a:chOff x="3441600" y="4646520"/>
              <a:chExt cx="641160" cy="564120"/>
            </a:xfrm>
          </p:grpSpPr>
          <p:sp>
            <p:nvSpPr>
              <p:cNvPr id="238" name=""/>
              <p:cNvSpPr/>
              <p:nvPr/>
            </p:nvSpPr>
            <p:spPr>
              <a:xfrm>
                <a:off x="3441600" y="4646520"/>
                <a:ext cx="520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789360" y="48733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4097160" y="4699080"/>
              <a:ext cx="74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4850640" y="4417920"/>
              <a:ext cx="767160" cy="578520"/>
              <a:chOff x="4850640" y="4417920"/>
              <a:chExt cx="767160" cy="578520"/>
            </a:xfrm>
          </p:grpSpPr>
          <p:sp>
            <p:nvSpPr>
              <p:cNvPr id="242" name=""/>
              <p:cNvSpPr/>
              <p:nvPr/>
            </p:nvSpPr>
            <p:spPr>
              <a:xfrm>
                <a:off x="4850640" y="4432320"/>
                <a:ext cx="648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075280" y="44179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324400" y="4659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4899960" y="4925880"/>
              <a:ext cx="648720" cy="567360"/>
              <a:chOff x="4899960" y="4925880"/>
              <a:chExt cx="648720" cy="567360"/>
            </a:xfrm>
          </p:grpSpPr>
          <p:sp>
            <p:nvSpPr>
              <p:cNvPr id="246" name=""/>
              <p:cNvSpPr/>
              <p:nvPr/>
            </p:nvSpPr>
            <p:spPr>
              <a:xfrm>
                <a:off x="4899960" y="4983120"/>
                <a:ext cx="648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140080" y="49258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4919760" y="49640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1917720" y="5745240"/>
            <a:ext cx="4025880" cy="564120"/>
            <a:chOff x="1917720" y="5745240"/>
            <a:chExt cx="4025880" cy="564120"/>
          </a:xfrm>
        </p:grpSpPr>
        <p:grpSp>
          <p:nvGrpSpPr>
            <p:cNvPr id="250" name=""/>
            <p:cNvGrpSpPr/>
            <p:nvPr/>
          </p:nvGrpSpPr>
          <p:grpSpPr>
            <a:xfrm>
              <a:off x="1917720" y="5745240"/>
              <a:ext cx="641160" cy="564120"/>
              <a:chOff x="1917720" y="5745240"/>
              <a:chExt cx="641160" cy="564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917720" y="5745240"/>
                <a:ext cx="520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65480" y="5972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2453040" y="5775120"/>
              <a:ext cx="34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= 158 x (0.400)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/(0.270)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5869800" y="577044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347 a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643120" y="404640"/>
            <a:ext cx="394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QUILIBRIO HETEROGÉN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237400" y="1284120"/>
            <a:ext cx="4676760" cy="510120"/>
            <a:chOff x="2237400" y="1284120"/>
            <a:chExt cx="4676760" cy="510120"/>
          </a:xfrm>
        </p:grpSpPr>
        <p:sp>
          <p:nvSpPr>
            <p:cNvPr id="257" name=""/>
            <p:cNvSpPr/>
            <p:nvPr/>
          </p:nvSpPr>
          <p:spPr>
            <a:xfrm>
              <a:off x="2237400" y="1284120"/>
              <a:ext cx="4676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aC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Ca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C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3787560" y="1460160"/>
              <a:ext cx="609840" cy="152280"/>
              <a:chOff x="3787560" y="1460160"/>
              <a:chExt cx="609840" cy="152280"/>
            </a:xfrm>
          </p:grpSpPr>
          <p:sp>
            <p:nvSpPr>
              <p:cNvPr id="259" name=""/>
              <p:cNvSpPr/>
              <p:nvPr/>
            </p:nvSpPr>
            <p:spPr>
              <a:xfrm>
                <a:off x="3787920" y="14601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3787560" y="161244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1" name=""/>
          <p:cNvGrpSpPr/>
          <p:nvPr/>
        </p:nvGrpSpPr>
        <p:grpSpPr>
          <a:xfrm>
            <a:off x="1347480" y="2422440"/>
            <a:ext cx="2455560" cy="914760"/>
            <a:chOff x="1347480" y="2422440"/>
            <a:chExt cx="2455560" cy="914760"/>
          </a:xfrm>
        </p:grpSpPr>
        <p:grpSp>
          <p:nvGrpSpPr>
            <p:cNvPr id="262" name=""/>
            <p:cNvGrpSpPr/>
            <p:nvPr/>
          </p:nvGrpSpPr>
          <p:grpSpPr>
            <a:xfrm>
              <a:off x="1347480" y="2566800"/>
              <a:ext cx="735480" cy="583200"/>
              <a:chOff x="1347480" y="2566800"/>
              <a:chExt cx="735480" cy="583200"/>
            </a:xfrm>
          </p:grpSpPr>
          <p:sp>
            <p:nvSpPr>
              <p:cNvPr id="263" name=""/>
              <p:cNvSpPr/>
              <p:nvPr/>
            </p:nvSpPr>
            <p:spPr>
              <a:xfrm>
                <a:off x="1347480" y="2639880"/>
                <a:ext cx="735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548000" y="256680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2098440" y="2422440"/>
              <a:ext cx="1704600" cy="914760"/>
              <a:chOff x="2098440" y="2422440"/>
              <a:chExt cx="1704600" cy="914760"/>
            </a:xfrm>
          </p:grpSpPr>
          <p:sp>
            <p:nvSpPr>
              <p:cNvPr id="266" name=""/>
              <p:cNvSpPr/>
              <p:nvPr/>
            </p:nvSpPr>
            <p:spPr>
              <a:xfrm>
                <a:off x="2098440" y="2422440"/>
                <a:ext cx="170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aO][CO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302920" y="2827080"/>
                <a:ext cx="1296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aCO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174400" y="2854080"/>
                <a:ext cx="153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9" name=""/>
          <p:cNvSpPr/>
          <p:nvPr/>
        </p:nvSpPr>
        <p:spPr>
          <a:xfrm>
            <a:off x="5036400" y="2422440"/>
            <a:ext cx="2966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[CaC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 =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[CaO] =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38240" y="4008600"/>
            <a:ext cx="1896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[C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832120" y="3790800"/>
            <a:ext cx="2249640" cy="864360"/>
            <a:chOff x="2832120" y="3790800"/>
            <a:chExt cx="2249640" cy="864360"/>
          </a:xfrm>
        </p:grpSpPr>
        <p:grpSp>
          <p:nvGrpSpPr>
            <p:cNvPr id="272" name=""/>
            <p:cNvGrpSpPr/>
            <p:nvPr/>
          </p:nvGrpSpPr>
          <p:grpSpPr>
            <a:xfrm>
              <a:off x="2832120" y="3935160"/>
              <a:ext cx="709560" cy="582840"/>
              <a:chOff x="2832120" y="3935160"/>
              <a:chExt cx="709560" cy="582840"/>
            </a:xfrm>
          </p:grpSpPr>
          <p:sp>
            <p:nvSpPr>
              <p:cNvPr id="273" name=""/>
              <p:cNvSpPr/>
              <p:nvPr/>
            </p:nvSpPr>
            <p:spPr>
              <a:xfrm>
                <a:off x="2832120" y="4007880"/>
                <a:ext cx="709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032280" y="393516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3541680" y="3790800"/>
              <a:ext cx="1540080" cy="864360"/>
              <a:chOff x="3541680" y="3790800"/>
              <a:chExt cx="1540080" cy="864360"/>
            </a:xfrm>
          </p:grpSpPr>
          <p:sp>
            <p:nvSpPr>
              <p:cNvPr id="276" name=""/>
              <p:cNvSpPr/>
              <p:nvPr/>
            </p:nvSpPr>
            <p:spPr>
              <a:xfrm>
                <a:off x="3669120" y="3790800"/>
                <a:ext cx="1296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aCO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828240" y="4195440"/>
                <a:ext cx="977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aO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541680" y="4222440"/>
                <a:ext cx="1540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9" name=""/>
          <p:cNvGrpSpPr/>
          <p:nvPr/>
        </p:nvGrpSpPr>
        <p:grpSpPr>
          <a:xfrm>
            <a:off x="6469560" y="4014720"/>
            <a:ext cx="1413720" cy="564480"/>
            <a:chOff x="6469560" y="4014720"/>
            <a:chExt cx="1413720" cy="564480"/>
          </a:xfrm>
        </p:grpSpPr>
        <p:sp>
          <p:nvSpPr>
            <p:cNvPr id="280" name=""/>
            <p:cNvSpPr/>
            <p:nvPr/>
          </p:nvSpPr>
          <p:spPr>
            <a:xfrm>
              <a:off x="6469560" y="4014720"/>
              <a:ext cx="1299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89880" y="42418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517680" y="5429160"/>
            <a:ext cx="8169120" cy="825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concentración de sólidos y líquidos puros no se considera en la expresión para la constante de equilib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289320" y="1320840"/>
            <a:ext cx="3619440" cy="457200"/>
            <a:chOff x="3289320" y="1320840"/>
            <a:chExt cx="3619440" cy="457200"/>
          </a:xfrm>
        </p:grpSpPr>
        <p:sp>
          <p:nvSpPr>
            <p:cNvPr id="284" name=""/>
            <p:cNvSpPr/>
            <p:nvPr/>
          </p:nvSpPr>
          <p:spPr>
            <a:xfrm>
              <a:off x="3289320" y="1320840"/>
              <a:ext cx="457200" cy="457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143680" y="1320840"/>
              <a:ext cx="457200" cy="457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51560" y="1320840"/>
              <a:ext cx="457200" cy="457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4643280" y="2205000"/>
            <a:ext cx="3600720" cy="1224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rcRect l="0" t="0" r="0" b="7335"/>
          <a:stretch/>
        </p:blipFill>
        <p:spPr>
          <a:xfrm>
            <a:off x="609480" y="1082520"/>
            <a:ext cx="7925040" cy="3337200"/>
          </a:xfrm>
          <a:prstGeom prst="rect">
            <a:avLst/>
          </a:prstGeom>
          <a:ln w="0">
            <a:noFill/>
          </a:ln>
        </p:spPr>
      </p:pic>
      <p:grpSp>
        <p:nvGrpSpPr>
          <p:cNvPr id="289" name=""/>
          <p:cNvGrpSpPr/>
          <p:nvPr/>
        </p:nvGrpSpPr>
        <p:grpSpPr>
          <a:xfrm>
            <a:off x="3844440" y="4808520"/>
            <a:ext cx="804960" cy="564480"/>
            <a:chOff x="3844440" y="4808520"/>
            <a:chExt cx="804960" cy="564480"/>
          </a:xfrm>
        </p:grpSpPr>
        <p:sp>
          <p:nvSpPr>
            <p:cNvPr id="290" name=""/>
            <p:cNvSpPr/>
            <p:nvPr/>
          </p:nvSpPr>
          <p:spPr>
            <a:xfrm>
              <a:off x="3844440" y="4808520"/>
              <a:ext cx="648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356000" y="50356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4552920" y="4808520"/>
            <a:ext cx="74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2232720" y="152280"/>
            <a:ext cx="4676760" cy="510120"/>
            <a:chOff x="2232720" y="152280"/>
            <a:chExt cx="4676760" cy="510120"/>
          </a:xfrm>
        </p:grpSpPr>
        <p:sp>
          <p:nvSpPr>
            <p:cNvPr id="294" name=""/>
            <p:cNvSpPr/>
            <p:nvPr/>
          </p:nvSpPr>
          <p:spPr>
            <a:xfrm>
              <a:off x="2232720" y="152280"/>
              <a:ext cx="4676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aC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Ca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C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3782880" y="328320"/>
              <a:ext cx="609840" cy="152280"/>
              <a:chOff x="3782880" y="328320"/>
              <a:chExt cx="609840" cy="152280"/>
            </a:xfrm>
          </p:grpSpPr>
          <p:sp>
            <p:nvSpPr>
              <p:cNvPr id="296" name=""/>
              <p:cNvSpPr/>
              <p:nvPr/>
            </p:nvSpPr>
            <p:spPr>
              <a:xfrm>
                <a:off x="3783240" y="3283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782880" y="4806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1012320" y="5456160"/>
            <a:ext cx="6963840" cy="564120"/>
            <a:chOff x="1012320" y="5456160"/>
            <a:chExt cx="6963840" cy="564120"/>
          </a:xfrm>
        </p:grpSpPr>
        <p:grpSp>
          <p:nvGrpSpPr>
            <p:cNvPr id="299" name=""/>
            <p:cNvGrpSpPr/>
            <p:nvPr/>
          </p:nvGrpSpPr>
          <p:grpSpPr>
            <a:xfrm>
              <a:off x="1012320" y="5456160"/>
              <a:ext cx="804960" cy="564120"/>
              <a:chOff x="1012320" y="5456160"/>
              <a:chExt cx="804960" cy="564120"/>
            </a:xfrm>
          </p:grpSpPr>
          <p:sp>
            <p:nvSpPr>
              <p:cNvPr id="300" name=""/>
              <p:cNvSpPr/>
              <p:nvPr/>
            </p:nvSpPr>
            <p:spPr>
              <a:xfrm>
                <a:off x="1012320" y="5456160"/>
                <a:ext cx="648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523880" y="5682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1701000" y="5473440"/>
              <a:ext cx="6275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no depende de la cantidad de: CaC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o Ca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468360" y="28728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ara el siguiente equilibrio a 295 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presión parcial de cada gas es de 0.265 atm. Calcular Kp y Kc para la rea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352240" y="1052640"/>
            <a:ext cx="4582080" cy="510120"/>
            <a:chOff x="2352240" y="1052640"/>
            <a:chExt cx="4582080" cy="510120"/>
          </a:xfrm>
        </p:grpSpPr>
        <p:sp>
          <p:nvSpPr>
            <p:cNvPr id="305" name=""/>
            <p:cNvSpPr/>
            <p:nvPr/>
          </p:nvSpPr>
          <p:spPr>
            <a:xfrm>
              <a:off x="2352240" y="1052640"/>
              <a:ext cx="4582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HS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N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S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3917520" y="1229040"/>
              <a:ext cx="609840" cy="152280"/>
              <a:chOff x="3917520" y="1229040"/>
              <a:chExt cx="609840" cy="152280"/>
            </a:xfrm>
          </p:grpSpPr>
          <p:sp>
            <p:nvSpPr>
              <p:cNvPr id="307" name=""/>
              <p:cNvSpPr/>
              <p:nvPr/>
            </p:nvSpPr>
            <p:spPr>
              <a:xfrm>
                <a:off x="3917880" y="1229040"/>
                <a:ext cx="6094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3917520" y="1381320"/>
                <a:ext cx="6094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9" name=""/>
          <p:cNvGrpSpPr/>
          <p:nvPr/>
        </p:nvGrpSpPr>
        <p:grpSpPr>
          <a:xfrm>
            <a:off x="1760040" y="3019320"/>
            <a:ext cx="1918080" cy="596160"/>
            <a:chOff x="1760040" y="3019320"/>
            <a:chExt cx="1918080" cy="596160"/>
          </a:xfrm>
        </p:grpSpPr>
        <p:sp>
          <p:nvSpPr>
            <p:cNvPr id="310" name=""/>
            <p:cNvSpPr/>
            <p:nvPr/>
          </p:nvSpPr>
          <p:spPr>
            <a:xfrm>
              <a:off x="1760040" y="3020760"/>
              <a:ext cx="1033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 = 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50960" y="3209760"/>
              <a:ext cx="582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2959200" y="3019320"/>
              <a:ext cx="718920" cy="581760"/>
              <a:chOff x="2959200" y="3019320"/>
              <a:chExt cx="718920" cy="581760"/>
            </a:xfrm>
          </p:grpSpPr>
          <p:sp>
            <p:nvSpPr>
              <p:cNvPr id="313" name=""/>
              <p:cNvSpPr/>
              <p:nvPr/>
            </p:nvSpPr>
            <p:spPr>
              <a:xfrm>
                <a:off x="3107520" y="3195360"/>
                <a:ext cx="5706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959200" y="30193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5" name=""/>
          <p:cNvSpPr/>
          <p:nvPr/>
        </p:nvSpPr>
        <p:spPr>
          <a:xfrm>
            <a:off x="3598200" y="3019320"/>
            <a:ext cx="35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0.265 x 0.265 = 0.07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92080" y="4076640"/>
            <a:ext cx="1980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(RT)</a:t>
            </a:r>
            <a:r>
              <a:rPr b="0" i="1" lang="es-MX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es-MX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MX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444040" y="476244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2 – 0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965120" y="4762440"/>
            <a:ext cx="15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295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60320" y="5448240"/>
            <a:ext cx="5960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0.0702 x (0.0821 x 295)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1.20 x 10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528120" y="380880"/>
            <a:ext cx="2576520" cy="459720"/>
            <a:chOff x="528120" y="380880"/>
            <a:chExt cx="2576520" cy="459720"/>
          </a:xfrm>
        </p:grpSpPr>
        <p:sp>
          <p:nvSpPr>
            <p:cNvPr id="321" name=""/>
            <p:cNvSpPr/>
            <p:nvPr/>
          </p:nvSpPr>
          <p:spPr>
            <a:xfrm>
              <a:off x="528120" y="380880"/>
              <a:ext cx="25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A + B          C + 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1485720" y="533520"/>
              <a:ext cx="609840" cy="152280"/>
              <a:chOff x="1485720" y="533520"/>
              <a:chExt cx="609840" cy="152280"/>
            </a:xfrm>
          </p:grpSpPr>
          <p:sp>
            <p:nvSpPr>
              <p:cNvPr id="323" name=""/>
              <p:cNvSpPr/>
              <p:nvPr/>
            </p:nvSpPr>
            <p:spPr>
              <a:xfrm>
                <a:off x="1486080" y="5335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1485720" y="6858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527760" y="1214280"/>
            <a:ext cx="2559600" cy="459720"/>
            <a:chOff x="527760" y="1214280"/>
            <a:chExt cx="2559600" cy="459720"/>
          </a:xfrm>
        </p:grpSpPr>
        <p:sp>
          <p:nvSpPr>
            <p:cNvPr id="326" name=""/>
            <p:cNvSpPr/>
            <p:nvPr/>
          </p:nvSpPr>
          <p:spPr>
            <a:xfrm>
              <a:off x="527760" y="1214280"/>
              <a:ext cx="255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 + D          E + 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1485720" y="1366920"/>
              <a:ext cx="609840" cy="152280"/>
              <a:chOff x="1485720" y="1366920"/>
              <a:chExt cx="609840" cy="152280"/>
            </a:xfrm>
          </p:grpSpPr>
          <p:sp>
            <p:nvSpPr>
              <p:cNvPr id="328" name=""/>
              <p:cNvSpPr/>
              <p:nvPr/>
            </p:nvSpPr>
            <p:spPr>
              <a:xfrm>
                <a:off x="1486080" y="13669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1485720" y="15192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0" name=""/>
          <p:cNvSpPr/>
          <p:nvPr/>
        </p:nvSpPr>
        <p:spPr>
          <a:xfrm flipH="1">
            <a:off x="2133720" y="457200"/>
            <a:ext cx="38088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533520" y="1290600"/>
            <a:ext cx="38088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666520" y="457200"/>
            <a:ext cx="38124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066320" y="1290600"/>
            <a:ext cx="38124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1959120"/>
            <a:ext cx="2666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27040" y="2035080"/>
            <a:ext cx="2526120" cy="459720"/>
            <a:chOff x="527040" y="2035080"/>
            <a:chExt cx="2526120" cy="459720"/>
          </a:xfrm>
        </p:grpSpPr>
        <p:sp>
          <p:nvSpPr>
            <p:cNvPr id="336" name=""/>
            <p:cNvSpPr/>
            <p:nvPr/>
          </p:nvSpPr>
          <p:spPr>
            <a:xfrm>
              <a:off x="527040" y="2035080"/>
              <a:ext cx="252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A + B          E + 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1485720" y="2187720"/>
              <a:ext cx="609840" cy="152280"/>
              <a:chOff x="1485720" y="2187720"/>
              <a:chExt cx="609840" cy="152280"/>
            </a:xfrm>
          </p:grpSpPr>
          <p:sp>
            <p:nvSpPr>
              <p:cNvPr id="338" name=""/>
              <p:cNvSpPr/>
              <p:nvPr/>
            </p:nvSpPr>
            <p:spPr>
              <a:xfrm>
                <a:off x="1486080" y="21877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1485720" y="23400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0" name=""/>
          <p:cNvGrpSpPr/>
          <p:nvPr/>
        </p:nvGrpSpPr>
        <p:grpSpPr>
          <a:xfrm>
            <a:off x="4960440" y="152280"/>
            <a:ext cx="1623600" cy="864360"/>
            <a:chOff x="4960440" y="152280"/>
            <a:chExt cx="1623600" cy="864360"/>
          </a:xfrm>
        </p:grpSpPr>
        <p:grpSp>
          <p:nvGrpSpPr>
            <p:cNvPr id="341" name=""/>
            <p:cNvGrpSpPr/>
            <p:nvPr/>
          </p:nvGrpSpPr>
          <p:grpSpPr>
            <a:xfrm>
              <a:off x="4960440" y="296640"/>
              <a:ext cx="735480" cy="583200"/>
              <a:chOff x="4960440" y="296640"/>
              <a:chExt cx="735480" cy="583200"/>
            </a:xfrm>
          </p:grpSpPr>
          <p:sp>
            <p:nvSpPr>
              <p:cNvPr id="342" name=""/>
              <p:cNvSpPr/>
              <p:nvPr/>
            </p:nvSpPr>
            <p:spPr>
              <a:xfrm>
                <a:off x="4960440" y="369720"/>
                <a:ext cx="735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160960" y="29664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5623200" y="152280"/>
              <a:ext cx="960840" cy="864360"/>
              <a:chOff x="5623200" y="152280"/>
              <a:chExt cx="960840" cy="864360"/>
            </a:xfrm>
          </p:grpSpPr>
          <p:sp>
            <p:nvSpPr>
              <p:cNvPr id="345" name=""/>
              <p:cNvSpPr/>
              <p:nvPr/>
            </p:nvSpPr>
            <p:spPr>
              <a:xfrm>
                <a:off x="5623200" y="152280"/>
                <a:ext cx="960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][D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641560" y="556920"/>
                <a:ext cx="92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A][B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730480" y="58392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8" name=""/>
          <p:cNvGrpSpPr/>
          <p:nvPr/>
        </p:nvGrpSpPr>
        <p:grpSpPr>
          <a:xfrm>
            <a:off x="4982760" y="1054080"/>
            <a:ext cx="1604520" cy="864360"/>
            <a:chOff x="4982760" y="1054080"/>
            <a:chExt cx="1604520" cy="864360"/>
          </a:xfrm>
        </p:grpSpPr>
        <p:sp>
          <p:nvSpPr>
            <p:cNvPr id="349" name=""/>
            <p:cNvSpPr/>
            <p:nvPr/>
          </p:nvSpPr>
          <p:spPr>
            <a:xfrm>
              <a:off x="4982760" y="1269720"/>
              <a:ext cx="73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83280" y="119664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43760" y="119196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5626440" y="1054080"/>
              <a:ext cx="960840" cy="864360"/>
              <a:chOff x="5626440" y="1054080"/>
              <a:chExt cx="960840" cy="864360"/>
            </a:xfrm>
          </p:grpSpPr>
          <p:sp>
            <p:nvSpPr>
              <p:cNvPr id="353" name=""/>
              <p:cNvSpPr/>
              <p:nvPr/>
            </p:nvSpPr>
            <p:spPr>
              <a:xfrm>
                <a:off x="5647320" y="1054080"/>
                <a:ext cx="910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E][F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626440" y="1458720"/>
                <a:ext cx="960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][D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730480" y="1485720"/>
                <a:ext cx="76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2203920" y="3068640"/>
            <a:ext cx="1612440" cy="864360"/>
            <a:chOff x="2203920" y="3068640"/>
            <a:chExt cx="1612440" cy="864360"/>
          </a:xfrm>
        </p:grpSpPr>
        <p:grpSp>
          <p:nvGrpSpPr>
            <p:cNvPr id="357" name=""/>
            <p:cNvGrpSpPr/>
            <p:nvPr/>
          </p:nvGrpSpPr>
          <p:grpSpPr>
            <a:xfrm>
              <a:off x="2889000" y="3068640"/>
              <a:ext cx="927360" cy="864360"/>
              <a:chOff x="2889000" y="3068640"/>
              <a:chExt cx="927360" cy="864360"/>
            </a:xfrm>
          </p:grpSpPr>
          <p:sp>
            <p:nvSpPr>
              <p:cNvPr id="358" name=""/>
              <p:cNvSpPr/>
              <p:nvPr/>
            </p:nvSpPr>
            <p:spPr>
              <a:xfrm>
                <a:off x="2895120" y="3068640"/>
                <a:ext cx="910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E][F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889000" y="3473280"/>
                <a:ext cx="92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A][B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977920" y="350028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2203920" y="3270240"/>
              <a:ext cx="820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396960" y="304920"/>
            <a:ext cx="557280" cy="582840"/>
            <a:chOff x="3396960" y="304920"/>
            <a:chExt cx="557280" cy="582840"/>
          </a:xfrm>
        </p:grpSpPr>
        <p:sp>
          <p:nvSpPr>
            <p:cNvPr id="363" name=""/>
            <p:cNvSpPr/>
            <p:nvPr/>
          </p:nvSpPr>
          <p:spPr>
            <a:xfrm>
              <a:off x="3396960" y="377640"/>
              <a:ext cx="55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97480" y="30492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3396960" y="1130400"/>
            <a:ext cx="557280" cy="587880"/>
            <a:chOff x="3396960" y="1130400"/>
            <a:chExt cx="557280" cy="587880"/>
          </a:xfrm>
        </p:grpSpPr>
        <p:sp>
          <p:nvSpPr>
            <p:cNvPr id="366" name=""/>
            <p:cNvSpPr/>
            <p:nvPr/>
          </p:nvSpPr>
          <p:spPr>
            <a:xfrm>
              <a:off x="3396960" y="1208160"/>
              <a:ext cx="55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657600" y="113040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594240" y="113040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3399120" y="20098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5045760" y="3213000"/>
            <a:ext cx="1894320" cy="587880"/>
            <a:chOff x="5045760" y="3213000"/>
            <a:chExt cx="1894320" cy="587880"/>
          </a:xfrm>
        </p:grpSpPr>
        <p:sp>
          <p:nvSpPr>
            <p:cNvPr id="371" name=""/>
            <p:cNvSpPr/>
            <p:nvPr/>
          </p:nvSpPr>
          <p:spPr>
            <a:xfrm>
              <a:off x="5045760" y="3290760"/>
              <a:ext cx="820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6382800" y="3213000"/>
              <a:ext cx="557280" cy="587880"/>
              <a:chOff x="6382800" y="3213000"/>
              <a:chExt cx="557280" cy="587880"/>
            </a:xfrm>
          </p:grpSpPr>
          <p:sp>
            <p:nvSpPr>
              <p:cNvPr id="373" name=""/>
              <p:cNvSpPr/>
              <p:nvPr/>
            </p:nvSpPr>
            <p:spPr>
              <a:xfrm>
                <a:off x="6382800" y="3290760"/>
                <a:ext cx="55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643440" y="321300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580080" y="321300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5784480" y="3213000"/>
              <a:ext cx="557280" cy="582840"/>
              <a:chOff x="5784480" y="3213000"/>
              <a:chExt cx="557280" cy="582840"/>
            </a:xfrm>
          </p:grpSpPr>
          <p:sp>
            <p:nvSpPr>
              <p:cNvPr id="377" name=""/>
              <p:cNvSpPr/>
              <p:nvPr/>
            </p:nvSpPr>
            <p:spPr>
              <a:xfrm>
                <a:off x="5784480" y="3285720"/>
                <a:ext cx="55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985000" y="321300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6148440" y="3289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324000" y="432432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i una reacción puede ser expresada como la suma de dos o mas reacciones, la constante de equilibrio de toda la reacción está dada por el producto de las constantes de equilibrio de cada rea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"/>
          <p:cNvGrpSpPr/>
          <p:nvPr/>
        </p:nvGrpSpPr>
        <p:grpSpPr>
          <a:xfrm>
            <a:off x="604440" y="988920"/>
            <a:ext cx="3210480" cy="510120"/>
            <a:chOff x="604440" y="988920"/>
            <a:chExt cx="3210480" cy="510120"/>
          </a:xfrm>
        </p:grpSpPr>
        <p:sp>
          <p:nvSpPr>
            <p:cNvPr id="382" name=""/>
            <p:cNvSpPr/>
            <p:nvPr/>
          </p:nvSpPr>
          <p:spPr>
            <a:xfrm>
              <a:off x="604440" y="988920"/>
              <a:ext cx="3210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2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904760" y="11538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1904400" y="13064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457560" y="1973160"/>
            <a:ext cx="3407040" cy="1003680"/>
            <a:chOff x="457560" y="1973160"/>
            <a:chExt cx="3407040" cy="1003680"/>
          </a:xfrm>
        </p:grpSpPr>
        <p:sp>
          <p:nvSpPr>
            <p:cNvPr id="386" name=""/>
            <p:cNvSpPr/>
            <p:nvPr/>
          </p:nvSpPr>
          <p:spPr>
            <a:xfrm>
              <a:off x="2007720" y="2226960"/>
              <a:ext cx="185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= 4.63 x 10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457560" y="1973160"/>
              <a:ext cx="1582200" cy="1003680"/>
              <a:chOff x="457560" y="1973160"/>
              <a:chExt cx="1582200" cy="1003680"/>
            </a:xfrm>
          </p:grpSpPr>
          <p:sp>
            <p:nvSpPr>
              <p:cNvPr id="388" name=""/>
              <p:cNvSpPr/>
              <p:nvPr/>
            </p:nvSpPr>
            <p:spPr>
              <a:xfrm>
                <a:off x="457560" y="2228400"/>
                <a:ext cx="73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=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9" name=""/>
              <p:cNvGrpSpPr/>
              <p:nvPr/>
            </p:nvGrpSpPr>
            <p:grpSpPr>
              <a:xfrm>
                <a:off x="1033200" y="1973160"/>
                <a:ext cx="1006560" cy="1003680"/>
                <a:chOff x="1033200" y="1973160"/>
                <a:chExt cx="1006560" cy="100368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1033200" y="1973160"/>
                  <a:ext cx="10065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400" spc="-1" strike="noStrike">
                      <a:solidFill>
                        <a:srgbClr val="000000"/>
                      </a:solidFill>
                      <a:latin typeface="Arial"/>
                    </a:rPr>
                    <a:t>[NO</a:t>
                  </a:r>
                  <a:r>
                    <a:rPr b="0" lang="es-MX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s-MX" sz="2400" spc="-1" strike="noStrike">
                      <a:solidFill>
                        <a:srgbClr val="000000"/>
                      </a:solidFill>
                      <a:latin typeface="Arial"/>
                    </a:rPr>
                    <a:t>]</a:t>
                  </a:r>
                  <a:r>
                    <a:rPr b="0" lang="es-MX" sz="2400" spc="-1" strike="noStrike" baseline="30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1033200" y="2466720"/>
                  <a:ext cx="10065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400" spc="-1" strike="noStrike">
                      <a:solidFill>
                        <a:srgbClr val="000000"/>
                      </a:solidFill>
                      <a:latin typeface="Arial"/>
                    </a:rPr>
                    <a:t>[N</a:t>
                  </a:r>
                  <a:r>
                    <a:rPr b="0" lang="es-MX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s-MX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s-MX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r>
                    <a:rPr b="0" lang="es-MX" sz="2400" spc="-1" strike="noStrike">
                      <a:solidFill>
                        <a:srgbClr val="000000"/>
                      </a:solidFill>
                      <a:latin typeface="Arial"/>
                    </a:rPr>
                    <a:t>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1117440" y="2447640"/>
                  <a:ext cx="838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93" name=""/>
          <p:cNvGrpSpPr/>
          <p:nvPr/>
        </p:nvGrpSpPr>
        <p:grpSpPr>
          <a:xfrm>
            <a:off x="5194080" y="988920"/>
            <a:ext cx="3210120" cy="510120"/>
            <a:chOff x="5194080" y="988920"/>
            <a:chExt cx="3210120" cy="510120"/>
          </a:xfrm>
        </p:grpSpPr>
        <p:sp>
          <p:nvSpPr>
            <p:cNvPr id="394" name=""/>
            <p:cNvSpPr/>
            <p:nvPr/>
          </p:nvSpPr>
          <p:spPr>
            <a:xfrm>
              <a:off x="5194080" y="988920"/>
              <a:ext cx="3210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2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N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494040" y="11538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493680" y="13064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5029200" y="1973160"/>
            <a:ext cx="1662120" cy="1004040"/>
            <a:chOff x="5029200" y="1973160"/>
            <a:chExt cx="1662120" cy="1004040"/>
          </a:xfrm>
        </p:grpSpPr>
        <p:sp>
          <p:nvSpPr>
            <p:cNvPr id="398" name=""/>
            <p:cNvSpPr/>
            <p:nvPr/>
          </p:nvSpPr>
          <p:spPr>
            <a:xfrm>
              <a:off x="5029200" y="2228760"/>
              <a:ext cx="81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5684760" y="1973160"/>
              <a:ext cx="1006560" cy="1004040"/>
              <a:chOff x="5684760" y="1973160"/>
              <a:chExt cx="1006560" cy="1004040"/>
            </a:xfrm>
          </p:grpSpPr>
          <p:sp>
            <p:nvSpPr>
              <p:cNvPr id="400" name=""/>
              <p:cNvSpPr/>
              <p:nvPr/>
            </p:nvSpPr>
            <p:spPr>
              <a:xfrm>
                <a:off x="5684760" y="1973160"/>
                <a:ext cx="1006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N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684760" y="2467080"/>
                <a:ext cx="1006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NO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r>
                  <a:rPr b="0" lang="es-MX" sz="24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769000" y="2448000"/>
                <a:ext cx="83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3" name=""/>
            <p:cNvSpPr/>
            <p:nvPr/>
          </p:nvSpPr>
          <p:spPr>
            <a:xfrm>
              <a:off x="5247000" y="212580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6627600" y="2011320"/>
            <a:ext cx="763920" cy="866160"/>
            <a:chOff x="6627600" y="2011320"/>
            <a:chExt cx="763920" cy="866160"/>
          </a:xfrm>
        </p:grpSpPr>
        <p:sp>
          <p:nvSpPr>
            <p:cNvPr id="405" name=""/>
            <p:cNvSpPr/>
            <p:nvPr/>
          </p:nvSpPr>
          <p:spPr>
            <a:xfrm>
              <a:off x="6627600" y="22291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6934320" y="2011320"/>
              <a:ext cx="457200" cy="866160"/>
              <a:chOff x="6934320" y="2011320"/>
              <a:chExt cx="457200" cy="866160"/>
            </a:xfrm>
          </p:grpSpPr>
          <p:sp>
            <p:nvSpPr>
              <p:cNvPr id="407" name=""/>
              <p:cNvSpPr/>
              <p:nvPr/>
            </p:nvSpPr>
            <p:spPr>
              <a:xfrm>
                <a:off x="6988680" y="2011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934320" y="24429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971040" y="24177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0" name=""/>
          <p:cNvSpPr/>
          <p:nvPr/>
        </p:nvSpPr>
        <p:spPr>
          <a:xfrm>
            <a:off x="7415280" y="222732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2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5280" y="407664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uando la ecuación de una reacción reversible está escrita en dirección opuesta, la constante de equilibrio se convierte en el recíproco de la constante de equilibrio origi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416600" y="228600"/>
            <a:ext cx="63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xpresiones de constante de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28600" y="838080"/>
            <a:ext cx="8686800" cy="51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as concentraciones de las especies en reacción en la fase condensada se expresan en </a:t>
            </a:r>
            <a:r>
              <a:rPr b="0" i="1" lang="es-MX" sz="2200" spc="-1" strike="noStrike">
                <a:solidFill>
                  <a:srgbClr val="000000"/>
                </a:solidFill>
                <a:latin typeface="Arial"/>
              </a:rPr>
              <a:t>M. 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En la fase gaseosa, las concentraciones pueden ser expresadas en </a:t>
            </a:r>
            <a:r>
              <a:rPr b="0" i="1" lang="es-MX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 o en at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as concentraciones de los sólidos puros, líquidos puros y solventes no aparecen en las expresiones de constante de equilibri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a constante de equilibrio es una cantidad sin dimensio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Al calcular el valor de la constante de equilibrio, se debe especificar la ecuación balanceada y la temperatur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Si una reacción puede ser expresada como la suma de dos o más reacciones, la constante de equilibrio para toda la reacción está determinada por el producto de las constantes de equilibrio de cada una de las reaccio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4" name=""/>
          <p:cNvGraphicFramePr/>
          <p:nvPr/>
        </p:nvGraphicFramePr>
        <p:xfrm>
          <a:off x="1187280" y="3819600"/>
          <a:ext cx="7129800" cy="30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819600"/>
                    <a:ext cx="7129800" cy="30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380880" y="766800"/>
            <a:ext cx="83822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cociente de una reacció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calcula sustituyendo las concentraciones iniciales de los reactantes y productos en la expresión de la constante de equilibrio (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4000" y="1946160"/>
            <a:ext cx="8299440" cy="18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sistema procede de izquierda a derecha para alcanzar el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Qc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c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l sistema se encuentra en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Qc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c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sistema procede de derecha a izquierda para alcanzar el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95280" y="235080"/>
            <a:ext cx="8642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gnificado del valor numérico de una constante de equilibr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7000" y="380880"/>
            <a:ext cx="85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quilibrio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 un estado en el cual no se observan cambios a medida que transcurre el tiemp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1341360"/>
            <a:ext cx="85881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quilibrio químico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alcanza cuan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reactivos se transforman en productos con la misma velocidad que los productos vuelven a transformarse en reac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concentración de los reactivos y productos permanecen constant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315900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ilibrio Quími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námi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 se establece debido a la igualdad de la velocidad con que ocurren dos procesos opue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299960" y="243000"/>
            <a:ext cx="657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álculo de concentraciones de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8600" y="1371600"/>
            <a:ext cx="86868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xpresar las concentraciones, presiones parciales, o número de moles de equilibrio de todas las especies en términos de las cantidades iniciales y como una incógnita x, que representa el camb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cribir la expresión de la constante de equilibrio en términos de las concentraciones (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c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) o de las presiones (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p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) de equilibrio. Sabiendo el valor de la constante de equilibrio, despejar 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eniendo el valor de x, calcular las concentraciones de equilibrio de todas las espe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390520" y="63849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2" name=""/>
          <p:cNvGraphicFramePr/>
          <p:nvPr/>
        </p:nvGraphicFramePr>
        <p:xfrm>
          <a:off x="152280" y="152280"/>
          <a:ext cx="6705720" cy="387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6705720" cy="387216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2781360" y="5486400"/>
          <a:ext cx="320040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1360" y="5486400"/>
                    <a:ext cx="3200400" cy="114300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152280" y="4219560"/>
          <a:ext cx="3238560" cy="1104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4219560"/>
                    <a:ext cx="3238560" cy="110484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7086600" y="152280"/>
          <a:ext cx="1752480" cy="960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86600" y="152280"/>
                    <a:ext cx="1752480" cy="96048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7086600" y="1295280"/>
          <a:ext cx="1752480" cy="944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86600" y="1295280"/>
                    <a:ext cx="1752480" cy="94464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3619440" y="4219560"/>
          <a:ext cx="472464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19440" y="4219560"/>
                    <a:ext cx="4724640" cy="111456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4" name=""/>
          <p:cNvGraphicFramePr/>
          <p:nvPr/>
        </p:nvGraphicFramePr>
        <p:xfrm>
          <a:off x="6172200" y="5486400"/>
          <a:ext cx="2819520" cy="1143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72200" y="5486400"/>
                    <a:ext cx="2819520" cy="114300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6" name=""/>
          <p:cNvGraphicFramePr/>
          <p:nvPr/>
        </p:nvGraphicFramePr>
        <p:xfrm>
          <a:off x="152280" y="5486400"/>
          <a:ext cx="2446560" cy="1150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52280" y="5486400"/>
                    <a:ext cx="2446560" cy="115092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789120" y="244440"/>
            <a:ext cx="818028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 128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 la constante de equilibrio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 para la re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 de 1.1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.  Si las concentraciones iniciales son [Br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0.063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y [Br] = 0.012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, calcular las concentraciones de estas especies en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3025800" y="812880"/>
            <a:ext cx="3151440" cy="440640"/>
            <a:chOff x="3025800" y="812880"/>
            <a:chExt cx="3151440" cy="440640"/>
          </a:xfrm>
        </p:grpSpPr>
        <p:sp>
          <p:nvSpPr>
            <p:cNvPr id="440" name=""/>
            <p:cNvSpPr/>
            <p:nvPr/>
          </p:nvSpPr>
          <p:spPr>
            <a:xfrm>
              <a:off x="3025800" y="812880"/>
              <a:ext cx="3151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2Br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4108320" y="928440"/>
              <a:ext cx="609120" cy="152280"/>
              <a:chOff x="4108320" y="928440"/>
              <a:chExt cx="609120" cy="152280"/>
            </a:xfrm>
          </p:grpSpPr>
          <p:sp>
            <p:nvSpPr>
              <p:cNvPr id="442" name=""/>
              <p:cNvSpPr/>
              <p:nvPr/>
            </p:nvSpPr>
            <p:spPr>
              <a:xfrm>
                <a:off x="4108320" y="928440"/>
                <a:ext cx="6091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>
                <a:off x="4108320" y="1080720"/>
                <a:ext cx="6091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4" name=""/>
          <p:cNvGrpSpPr/>
          <p:nvPr/>
        </p:nvGrpSpPr>
        <p:grpSpPr>
          <a:xfrm>
            <a:off x="2881440" y="3062160"/>
            <a:ext cx="3852720" cy="440640"/>
            <a:chOff x="2881440" y="3062160"/>
            <a:chExt cx="3852720" cy="440640"/>
          </a:xfrm>
        </p:grpSpPr>
        <p:sp>
          <p:nvSpPr>
            <p:cNvPr id="445" name=""/>
            <p:cNvSpPr/>
            <p:nvPr/>
          </p:nvSpPr>
          <p:spPr>
            <a:xfrm>
              <a:off x="2881440" y="3062160"/>
              <a:ext cx="3852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    2Br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4069800" y="3178080"/>
              <a:ext cx="609840" cy="152280"/>
              <a:chOff x="4069800" y="3178080"/>
              <a:chExt cx="609840" cy="152280"/>
            </a:xfrm>
          </p:grpSpPr>
          <p:sp>
            <p:nvSpPr>
              <p:cNvPr id="447" name=""/>
              <p:cNvSpPr/>
              <p:nvPr/>
            </p:nvSpPr>
            <p:spPr>
              <a:xfrm>
                <a:off x="4070160" y="31780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4069800" y="33303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9" name=""/>
          <p:cNvSpPr/>
          <p:nvPr/>
        </p:nvSpPr>
        <p:spPr>
          <a:xfrm>
            <a:off x="779400" y="2492280"/>
            <a:ext cx="666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jamos a “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”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como el cambio en la concentración de Br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005120" y="3573360"/>
            <a:ext cx="128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icial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53640" y="4106880"/>
            <a:ext cx="151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mbio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54360" y="4640400"/>
            <a:ext cx="168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quilibrio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912040" y="357336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6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402880" y="357336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165840" y="41068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533920" y="4106880"/>
            <a:ext cx="6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699640" y="464040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63 -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67720" y="4640400"/>
            <a:ext cx="137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12 + 2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255600" y="5372280"/>
            <a:ext cx="1538280" cy="845280"/>
            <a:chOff x="255600" y="5372280"/>
            <a:chExt cx="1538280" cy="845280"/>
          </a:xfrm>
        </p:grpSpPr>
        <p:grpSp>
          <p:nvGrpSpPr>
            <p:cNvPr id="460" name=""/>
            <p:cNvGrpSpPr/>
            <p:nvPr/>
          </p:nvGrpSpPr>
          <p:grpSpPr>
            <a:xfrm>
              <a:off x="1031760" y="5372280"/>
              <a:ext cx="762120" cy="845280"/>
              <a:chOff x="1031760" y="5372280"/>
              <a:chExt cx="762120" cy="845280"/>
            </a:xfrm>
          </p:grpSpPr>
          <p:sp>
            <p:nvSpPr>
              <p:cNvPr id="461" name=""/>
              <p:cNvSpPr/>
              <p:nvPr/>
            </p:nvSpPr>
            <p:spPr>
              <a:xfrm>
                <a:off x="1074600" y="5372280"/>
                <a:ext cx="65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r]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077480" y="5776920"/>
                <a:ext cx="6580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r</a:t>
                </a:r>
                <a:r>
                  <a:rPr b="0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031760" y="575604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255600" y="5573520"/>
              <a:ext cx="713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2237040" y="5348160"/>
            <a:ext cx="3972240" cy="828720"/>
            <a:chOff x="2237040" y="5348160"/>
            <a:chExt cx="3972240" cy="828720"/>
          </a:xfrm>
        </p:grpSpPr>
        <p:sp>
          <p:nvSpPr>
            <p:cNvPr id="466" name=""/>
            <p:cNvSpPr/>
            <p:nvPr/>
          </p:nvSpPr>
          <p:spPr>
            <a:xfrm>
              <a:off x="2237040" y="5576760"/>
              <a:ext cx="713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2922840" y="5348160"/>
              <a:ext cx="1839600" cy="828720"/>
              <a:chOff x="2922840" y="5348160"/>
              <a:chExt cx="1839600" cy="828720"/>
            </a:xfrm>
          </p:grpSpPr>
          <p:sp>
            <p:nvSpPr>
              <p:cNvPr id="468" name=""/>
              <p:cNvSpPr/>
              <p:nvPr/>
            </p:nvSpPr>
            <p:spPr>
              <a:xfrm>
                <a:off x="2922840" y="5348160"/>
                <a:ext cx="1630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(0.012 + 2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201120" y="5778000"/>
                <a:ext cx="117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0.063 - 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009600" y="5744880"/>
                <a:ext cx="1752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>
              <a:off x="4772880" y="5575320"/>
              <a:ext cx="143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1.1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6880320" y="54529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ra “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”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"/>
          <p:cNvGrpSpPr/>
          <p:nvPr/>
        </p:nvGrpSpPr>
        <p:grpSpPr>
          <a:xfrm>
            <a:off x="459000" y="352440"/>
            <a:ext cx="3972240" cy="828720"/>
            <a:chOff x="459000" y="352440"/>
            <a:chExt cx="3972240" cy="828720"/>
          </a:xfrm>
        </p:grpSpPr>
        <p:sp>
          <p:nvSpPr>
            <p:cNvPr id="474" name=""/>
            <p:cNvSpPr/>
            <p:nvPr/>
          </p:nvSpPr>
          <p:spPr>
            <a:xfrm>
              <a:off x="459000" y="581040"/>
              <a:ext cx="713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1144800" y="352440"/>
              <a:ext cx="1839600" cy="828720"/>
              <a:chOff x="1144800" y="352440"/>
              <a:chExt cx="1839600" cy="828720"/>
            </a:xfrm>
          </p:grpSpPr>
          <p:sp>
            <p:nvSpPr>
              <p:cNvPr id="476" name=""/>
              <p:cNvSpPr/>
              <p:nvPr/>
            </p:nvSpPr>
            <p:spPr>
              <a:xfrm>
                <a:off x="1144800" y="352440"/>
                <a:ext cx="1770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(0.012 + 2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423080" y="782280"/>
                <a:ext cx="1241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0.063 - 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231560" y="749160"/>
                <a:ext cx="1752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9" name=""/>
            <p:cNvSpPr/>
            <p:nvPr/>
          </p:nvSpPr>
          <p:spPr>
            <a:xfrm>
              <a:off x="2994840" y="579600"/>
              <a:ext cx="143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1.1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439560" y="1177920"/>
            <a:ext cx="562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0.048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0.000144 = 0.0000693 – 0.0011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42800" y="1635120"/>
            <a:ext cx="36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0.0491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0.0000747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657080" y="2244600"/>
            <a:ext cx="187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b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034320" y="1925640"/>
            <a:ext cx="2709000" cy="929520"/>
            <a:chOff x="6034320" y="1925640"/>
            <a:chExt cx="2709000" cy="929520"/>
          </a:xfrm>
        </p:grpSpPr>
        <p:sp>
          <p:nvSpPr>
            <p:cNvPr id="484" name=""/>
            <p:cNvSpPr/>
            <p:nvPr/>
          </p:nvSpPr>
          <p:spPr>
            <a:xfrm>
              <a:off x="6598080" y="2041560"/>
              <a:ext cx="214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b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±   b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4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147440" y="1925640"/>
              <a:ext cx="3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485120" y="200160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680160" y="2446200"/>
              <a:ext cx="198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410960" y="23954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034320" y="2217600"/>
              <a:ext cx="68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-38880" y="3429000"/>
            <a:ext cx="6795720" cy="1999080"/>
            <a:chOff x="-38880" y="3429000"/>
            <a:chExt cx="6795720" cy="1999080"/>
          </a:xfrm>
        </p:grpSpPr>
        <p:grpSp>
          <p:nvGrpSpPr>
            <p:cNvPr id="491" name=""/>
            <p:cNvGrpSpPr/>
            <p:nvPr/>
          </p:nvGrpSpPr>
          <p:grpSpPr>
            <a:xfrm>
              <a:off x="2614320" y="3429000"/>
              <a:ext cx="3852360" cy="440640"/>
              <a:chOff x="2614320" y="3429000"/>
              <a:chExt cx="3852360" cy="440640"/>
            </a:xfrm>
          </p:grpSpPr>
          <p:sp>
            <p:nvSpPr>
              <p:cNvPr id="492" name=""/>
              <p:cNvSpPr/>
              <p:nvPr/>
            </p:nvSpPr>
            <p:spPr>
              <a:xfrm>
                <a:off x="2614320" y="3429000"/>
                <a:ext cx="3852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Br</a:t>
                </a:r>
                <a:r>
                  <a:rPr b="0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)                            2Br (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3" name=""/>
              <p:cNvGrpSpPr/>
              <p:nvPr/>
            </p:nvGrpSpPr>
            <p:grpSpPr>
              <a:xfrm>
                <a:off x="4056840" y="3544920"/>
                <a:ext cx="667440" cy="152280"/>
                <a:chOff x="4056840" y="3544920"/>
                <a:chExt cx="667440" cy="15228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4056840" y="3544920"/>
                  <a:ext cx="667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H="1">
                  <a:off x="4056840" y="3697200"/>
                  <a:ext cx="667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6" name=""/>
            <p:cNvSpPr/>
            <p:nvPr/>
          </p:nvSpPr>
          <p:spPr>
            <a:xfrm>
              <a:off x="17280" y="3962160"/>
              <a:ext cx="240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Inicia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-38880" y="4495680"/>
              <a:ext cx="270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ambi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-38520" y="5029200"/>
              <a:ext cx="2871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quilibri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865960" y="3962160"/>
              <a:ext cx="95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0.063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835160" y="3962160"/>
              <a:ext cx="158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0.0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44240" y="449568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978800" y="449568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+2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631960" y="5029200"/>
              <a:ext cx="145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0.063 -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467960" y="5029200"/>
              <a:ext cx="228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0.012 + 2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3525480" y="276084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-0.001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96680" y="276084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-0.01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90400" y="5749920"/>
            <a:ext cx="496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equilibrio, [Br] = 0.012 + 2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 -0.009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641200" y="5749920"/>
            <a:ext cx="18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    0.00844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04880" y="2637000"/>
            <a:ext cx="182880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535200" y="2637000"/>
            <a:ext cx="182880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4356000" y="5661000"/>
            <a:ext cx="121932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535200" y="2637000"/>
            <a:ext cx="182880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97600" y="6207120"/>
            <a:ext cx="509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equilibrio, [Br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0.062 –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  0.0648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4" name=""/>
          <p:cNvGraphicFramePr/>
          <p:nvPr/>
        </p:nvGraphicFramePr>
        <p:xfrm>
          <a:off x="250920" y="228600"/>
          <a:ext cx="8713800" cy="50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28600"/>
                    <a:ext cx="871380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2124000" y="5467320"/>
          <a:ext cx="5000760" cy="105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5467320"/>
                    <a:ext cx="500076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8" name=""/>
          <p:cNvGraphicFramePr/>
          <p:nvPr/>
        </p:nvGraphicFramePr>
        <p:xfrm>
          <a:off x="468360" y="404640"/>
          <a:ext cx="8156520" cy="37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04640"/>
                    <a:ext cx="8156520" cy="37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"/>
          <p:cNvSpPr/>
          <p:nvPr/>
        </p:nvSpPr>
        <p:spPr>
          <a:xfrm>
            <a:off x="533520" y="4761000"/>
            <a:ext cx="8076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puede ver que l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roxim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ión que el grado de descomposición era muy pequeño, debido al valor pequeño de la constante de equilibrio, era correcto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539640" y="90792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ólido-Solució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1116000" y="1704960"/>
            <a:ext cx="6912000" cy="446076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2895480" y="304920"/>
            <a:ext cx="412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QUILIBRIO HETEROGENE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1279440" y="439560"/>
            <a:ext cx="667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¿Cuál es la solubilidad del cloruro de plata en g/L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1765440" y="1197000"/>
            <a:ext cx="4220280" cy="398880"/>
            <a:chOff x="1765440" y="1197000"/>
            <a:chExt cx="4220280" cy="398880"/>
          </a:xfrm>
        </p:grpSpPr>
        <p:sp>
          <p:nvSpPr>
            <p:cNvPr id="526" name=""/>
            <p:cNvSpPr/>
            <p:nvPr/>
          </p:nvSpPr>
          <p:spPr>
            <a:xfrm>
              <a:off x="1765440" y="1197000"/>
              <a:ext cx="422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AgC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Ag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Cl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014280" y="13017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3013920" y="14540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6634800" y="2119320"/>
            <a:ext cx="176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sp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[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[Cl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131400" y="2043000"/>
            <a:ext cx="1680840" cy="1465560"/>
            <a:chOff x="131400" y="2043000"/>
            <a:chExt cx="1680840" cy="1465560"/>
          </a:xfrm>
        </p:grpSpPr>
        <p:sp>
          <p:nvSpPr>
            <p:cNvPr id="531" name=""/>
            <p:cNvSpPr/>
            <p:nvPr/>
          </p:nvSpPr>
          <p:spPr>
            <a:xfrm>
              <a:off x="182880" y="2043000"/>
              <a:ext cx="1283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Inicia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31400" y="2576520"/>
              <a:ext cx="151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ambi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32120" y="3109680"/>
              <a:ext cx="168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quilibri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4088520" y="20430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170600" y="2576520"/>
            <a:ext cx="45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34560" y="20430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521320" y="2576520"/>
            <a:ext cx="45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304880" y="3110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679720" y="3110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630480" y="2536920"/>
            <a:ext cx="1007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sp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s-MX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6874560" y="2997360"/>
            <a:ext cx="1108440" cy="459360"/>
            <a:chOff x="6874560" y="2997360"/>
            <a:chExt cx="1108440" cy="459360"/>
          </a:xfrm>
        </p:grpSpPr>
        <p:sp>
          <p:nvSpPr>
            <p:cNvPr id="542" name=""/>
            <p:cNvSpPr/>
            <p:nvPr/>
          </p:nvSpPr>
          <p:spPr>
            <a:xfrm>
              <a:off x="6874560" y="3008520"/>
              <a:ext cx="1064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  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148520" y="3057840"/>
              <a:ext cx="31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449840" y="299736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6891480" y="3490920"/>
            <a:ext cx="163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1.3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7600" y="4113360"/>
            <a:ext cx="232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1.3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262680" y="4111560"/>
            <a:ext cx="22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Cl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1.3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50840" y="4888080"/>
            <a:ext cx="222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olubilidad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 AgC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2414160" y="4722840"/>
            <a:ext cx="2657880" cy="765720"/>
            <a:chOff x="2414160" y="4722840"/>
            <a:chExt cx="2657880" cy="765720"/>
          </a:xfrm>
        </p:grpSpPr>
        <p:sp>
          <p:nvSpPr>
            <p:cNvPr id="550" name=""/>
            <p:cNvSpPr/>
            <p:nvPr/>
          </p:nvSpPr>
          <p:spPr>
            <a:xfrm>
              <a:off x="2414160" y="4722840"/>
              <a:ext cx="228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1.3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5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mol AgC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150000" y="5089680"/>
              <a:ext cx="107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1 L sol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481120" y="508788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5071680" y="4722840"/>
            <a:ext cx="2184840" cy="765360"/>
            <a:chOff x="5071680" y="4722840"/>
            <a:chExt cx="2184840" cy="765360"/>
          </a:xfrm>
        </p:grpSpPr>
        <p:grpSp>
          <p:nvGrpSpPr>
            <p:cNvPr id="554" name=""/>
            <p:cNvGrpSpPr/>
            <p:nvPr/>
          </p:nvGrpSpPr>
          <p:grpSpPr>
            <a:xfrm>
              <a:off x="5427720" y="4722840"/>
              <a:ext cx="1828800" cy="765360"/>
              <a:chOff x="5427720" y="4722840"/>
              <a:chExt cx="1828800" cy="765360"/>
            </a:xfrm>
          </p:grpSpPr>
          <p:sp>
            <p:nvSpPr>
              <p:cNvPr id="555" name=""/>
              <p:cNvSpPr/>
              <p:nvPr/>
            </p:nvSpPr>
            <p:spPr>
              <a:xfrm>
                <a:off x="5462640" y="4722840"/>
                <a:ext cx="1764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143.35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g AgC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632560" y="5089320"/>
                <a:ext cx="1424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1 mol AgC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427720" y="5087880"/>
                <a:ext cx="1828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8" name=""/>
            <p:cNvSpPr/>
            <p:nvPr/>
          </p:nvSpPr>
          <p:spPr>
            <a:xfrm>
              <a:off x="5071680" y="4900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7242480" y="4911840"/>
            <a:ext cx="186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1.9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3745080" y="4800240"/>
            <a:ext cx="129528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878440" y="5181120"/>
            <a:ext cx="129564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637680" y="1160640"/>
            <a:ext cx="1915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sp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1.6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3436920" y="473040"/>
            <a:ext cx="23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cipi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24000" y="1517760"/>
            <a:ext cx="8381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acciones de precipitación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quéllas que dan como resultado la formación d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 producto insolu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ecipitado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ólido insoluble que se forma por una reacción en solu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95280" y="3317760"/>
            <a:ext cx="838188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¿Cómo saber si se formará precipitado?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ezclamos dos disoluciones que contienen dos iones qu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ueden formar una sal insolu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= 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quilibrio : disolución satu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&gt; 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e desplaza hacia la izquierda : precipit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&lt; 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No precipita : disolución no satur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611280" y="2492280"/>
            <a:ext cx="7848360" cy="337212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324000" y="333360"/>
            <a:ext cx="838188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jemplo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 mezclamos disoluciones de AgN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(a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y KI 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ar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btener una disolución de mezcla que contiene [Ag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]=0.001M 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[I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]=0.015M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 AgI es una sal poco soluble.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cir si la disolución es saturada, no saturada 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bresatu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ato: 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AgI)=8.5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-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78040" y="927000"/>
            <a:ext cx="7365960" cy="5526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174760" y="260280"/>
            <a:ext cx="482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Ca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80000" y="476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731000" cy="335916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1187280" y="404640"/>
            <a:ext cx="69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Que cantidad de ion plata permanece en soluc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11280" y="5373720"/>
            <a:ext cx="79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e resultado aproximado dice que la cantidad de ion plata que permanece en solución es practicamente ce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380880" y="333360"/>
            <a:ext cx="84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a manera para resolver el problema es suponer que la reacción ocurre en un 100% hacia la derecha (que sería el significado del resultado anterior) y luego plantear el problema del equilibrio a partir de los productos de la reacció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551808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e procedimiento es muy conveniente en muchos casos en que la reacción planteada originalmente ocurre en casi un 100% y el resultado numérico no puede distinguir el valor real del correspondiente al 100%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676908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468360" y="800280"/>
            <a:ext cx="818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¿Qué concentración de 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s requerida para precipitar únicamente AgBr en una solución que contiene tanto Br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como Cl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 una concentración de 0.02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932760" y="4246560"/>
            <a:ext cx="4711320" cy="398880"/>
            <a:chOff x="932760" y="4246560"/>
            <a:chExt cx="4711320" cy="398880"/>
          </a:xfrm>
        </p:grpSpPr>
        <p:sp>
          <p:nvSpPr>
            <p:cNvPr id="576" name=""/>
            <p:cNvSpPr/>
            <p:nvPr/>
          </p:nvSpPr>
          <p:spPr>
            <a:xfrm>
              <a:off x="932760" y="4246560"/>
              <a:ext cx="471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AgC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 Ag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Cl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182680" y="43513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2182320" y="45036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6449040" y="4711680"/>
            <a:ext cx="176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ps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[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[Cl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451920" y="4254480"/>
            <a:ext cx="1915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ps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1.6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932040" y="2112840"/>
            <a:ext cx="4738680" cy="398880"/>
            <a:chOff x="932040" y="2112840"/>
            <a:chExt cx="4738680" cy="398880"/>
          </a:xfrm>
        </p:grpSpPr>
        <p:sp>
          <p:nvSpPr>
            <p:cNvPr id="582" name=""/>
            <p:cNvSpPr/>
            <p:nvPr/>
          </p:nvSpPr>
          <p:spPr>
            <a:xfrm>
              <a:off x="932040" y="2112840"/>
              <a:ext cx="473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AgBr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 Ag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Br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183040" y="221760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2183040" y="236988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6380640" y="2112840"/>
            <a:ext cx="1915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ps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7.7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377040" y="2494080"/>
            <a:ext cx="1777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ps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[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[Br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1416600" y="3051000"/>
            <a:ext cx="1781640" cy="832320"/>
            <a:chOff x="1416600" y="3051000"/>
            <a:chExt cx="1781640" cy="832320"/>
          </a:xfrm>
        </p:grpSpPr>
        <p:sp>
          <p:nvSpPr>
            <p:cNvPr id="588" name=""/>
            <p:cNvSpPr/>
            <p:nvPr/>
          </p:nvSpPr>
          <p:spPr>
            <a:xfrm>
              <a:off x="1416600" y="328140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Ag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9" name=""/>
            <p:cNvGrpSpPr/>
            <p:nvPr/>
          </p:nvGrpSpPr>
          <p:grpSpPr>
            <a:xfrm>
              <a:off x="2534400" y="3051000"/>
              <a:ext cx="663840" cy="832320"/>
              <a:chOff x="2534400" y="3051000"/>
              <a:chExt cx="663840" cy="832320"/>
            </a:xfrm>
          </p:grpSpPr>
          <p:sp>
            <p:nvSpPr>
              <p:cNvPr id="590" name=""/>
              <p:cNvSpPr/>
              <p:nvPr/>
            </p:nvSpPr>
            <p:spPr>
              <a:xfrm>
                <a:off x="2602800" y="3051000"/>
                <a:ext cx="506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p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534400" y="3484440"/>
                <a:ext cx="62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r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588760" y="34732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3" name=""/>
          <p:cNvGrpSpPr/>
          <p:nvPr/>
        </p:nvGrpSpPr>
        <p:grpSpPr>
          <a:xfrm>
            <a:off x="3180600" y="3089160"/>
            <a:ext cx="3573360" cy="765360"/>
            <a:chOff x="3180600" y="3089160"/>
            <a:chExt cx="3573360" cy="765360"/>
          </a:xfrm>
        </p:grpSpPr>
        <p:grpSp>
          <p:nvGrpSpPr>
            <p:cNvPr id="594" name=""/>
            <p:cNvGrpSpPr/>
            <p:nvPr/>
          </p:nvGrpSpPr>
          <p:grpSpPr>
            <a:xfrm>
              <a:off x="3180600" y="3089160"/>
              <a:ext cx="1789200" cy="765360"/>
              <a:chOff x="3180600" y="3089160"/>
              <a:chExt cx="1789200" cy="765360"/>
            </a:xfrm>
          </p:grpSpPr>
          <p:grpSp>
            <p:nvGrpSpPr>
              <p:cNvPr id="595" name=""/>
              <p:cNvGrpSpPr/>
              <p:nvPr/>
            </p:nvGrpSpPr>
            <p:grpSpPr>
              <a:xfrm>
                <a:off x="3522240" y="3089160"/>
                <a:ext cx="1447560" cy="765360"/>
                <a:chOff x="3522240" y="3089160"/>
                <a:chExt cx="1447560" cy="76536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3594960" y="3089160"/>
                  <a:ext cx="1299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7.7 x 10</a:t>
                  </a:r>
                  <a:r>
                    <a:rPr b="0" lang="es-MX" sz="2000" spc="-1" strike="noStrike" baseline="30000">
                      <a:solidFill>
                        <a:srgbClr val="000000"/>
                      </a:solidFill>
                      <a:latin typeface="Arial"/>
                    </a:rPr>
                    <a:t>-1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3773160" y="3455640"/>
                  <a:ext cx="81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0.0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3522240" y="3458880"/>
                  <a:ext cx="1447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9" name=""/>
              <p:cNvSpPr/>
              <p:nvPr/>
            </p:nvSpPr>
            <p:spPr>
              <a:xfrm>
                <a:off x="3180600" y="327780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4953240" y="3279600"/>
              <a:ext cx="180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3.9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11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1419840" y="5108400"/>
            <a:ext cx="1781640" cy="832320"/>
            <a:chOff x="1419840" y="5108400"/>
            <a:chExt cx="1781640" cy="832320"/>
          </a:xfrm>
        </p:grpSpPr>
        <p:sp>
          <p:nvSpPr>
            <p:cNvPr id="602" name=""/>
            <p:cNvSpPr/>
            <p:nvPr/>
          </p:nvSpPr>
          <p:spPr>
            <a:xfrm>
              <a:off x="1419840" y="533880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Ag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2538360" y="5108400"/>
              <a:ext cx="663120" cy="832320"/>
              <a:chOff x="2538360" y="5108400"/>
              <a:chExt cx="663120" cy="832320"/>
            </a:xfrm>
          </p:grpSpPr>
          <p:sp>
            <p:nvSpPr>
              <p:cNvPr id="604" name=""/>
              <p:cNvSpPr/>
              <p:nvPr/>
            </p:nvSpPr>
            <p:spPr>
              <a:xfrm>
                <a:off x="2606040" y="5108400"/>
                <a:ext cx="506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p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538360" y="5541840"/>
                <a:ext cx="610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Cl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592000" y="55306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7" name=""/>
          <p:cNvGrpSpPr/>
          <p:nvPr/>
        </p:nvGrpSpPr>
        <p:grpSpPr>
          <a:xfrm>
            <a:off x="3183480" y="5146560"/>
            <a:ext cx="3486600" cy="765360"/>
            <a:chOff x="3183480" y="5146560"/>
            <a:chExt cx="3486600" cy="765360"/>
          </a:xfrm>
        </p:grpSpPr>
        <p:grpSp>
          <p:nvGrpSpPr>
            <p:cNvPr id="608" name=""/>
            <p:cNvGrpSpPr/>
            <p:nvPr/>
          </p:nvGrpSpPr>
          <p:grpSpPr>
            <a:xfrm>
              <a:off x="3183480" y="5146560"/>
              <a:ext cx="1789920" cy="765360"/>
              <a:chOff x="3183480" y="5146560"/>
              <a:chExt cx="1789920" cy="765360"/>
            </a:xfrm>
          </p:grpSpPr>
          <p:grpSp>
            <p:nvGrpSpPr>
              <p:cNvPr id="609" name=""/>
              <p:cNvGrpSpPr/>
              <p:nvPr/>
            </p:nvGrpSpPr>
            <p:grpSpPr>
              <a:xfrm>
                <a:off x="3525480" y="5146560"/>
                <a:ext cx="1447920" cy="765360"/>
                <a:chOff x="3525480" y="5146560"/>
                <a:chExt cx="1447920" cy="76536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3600360" y="5146560"/>
                  <a:ext cx="1299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1.6 x 10</a:t>
                  </a:r>
                  <a:r>
                    <a:rPr b="0" lang="es-MX" sz="2000" spc="-1" strike="noStrike" baseline="30000">
                      <a:solidFill>
                        <a:srgbClr val="000000"/>
                      </a:solidFill>
                      <a:latin typeface="Arial"/>
                    </a:rPr>
                    <a:t>-1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3777120" y="5513040"/>
                  <a:ext cx="81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0.0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3525480" y="5516280"/>
                  <a:ext cx="1447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3" name=""/>
              <p:cNvSpPr/>
              <p:nvPr/>
            </p:nvSpPr>
            <p:spPr>
              <a:xfrm>
                <a:off x="3183480" y="533520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>
              <a:off x="4951800" y="5337000"/>
              <a:ext cx="171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8.0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9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2257920" y="6200640"/>
            <a:ext cx="401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.9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1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&lt; [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&lt; 8.0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413080" y="26028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ECIPITACION SE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324000" y="817560"/>
            <a:ext cx="853272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468360" y="900000"/>
            <a:ext cx="828036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152280" y="60948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i una perturbación externa se aplica a un sistema en equilibrio, el sistema se ajusta en cierta forma para que la perturbación se contrarreste parcialmente y el sistema pueda alcanzar una nueva posición de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003840" y="189000"/>
            <a:ext cx="31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incipio de Le Ch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âtel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44480" y="2220840"/>
            <a:ext cx="36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mbios en la 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922680" y="3247920"/>
            <a:ext cx="4218480" cy="440640"/>
            <a:chOff x="922680" y="3247920"/>
            <a:chExt cx="4218480" cy="440640"/>
          </a:xfrm>
        </p:grpSpPr>
        <p:sp>
          <p:nvSpPr>
            <p:cNvPr id="623" name=""/>
            <p:cNvSpPr/>
            <p:nvPr/>
          </p:nvSpPr>
          <p:spPr>
            <a:xfrm>
              <a:off x="922680" y="3247920"/>
              <a:ext cx="4218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+ 3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2N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3125160" y="3376440"/>
              <a:ext cx="609840" cy="152280"/>
              <a:chOff x="3125160" y="3376440"/>
              <a:chExt cx="609840" cy="152280"/>
            </a:xfrm>
          </p:grpSpPr>
          <p:sp>
            <p:nvSpPr>
              <p:cNvPr id="625" name=""/>
              <p:cNvSpPr/>
              <p:nvPr/>
            </p:nvSpPr>
            <p:spPr>
              <a:xfrm>
                <a:off x="3125520" y="337644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3125160" y="35287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7" name=""/>
          <p:cNvGrpSpPr/>
          <p:nvPr/>
        </p:nvGrpSpPr>
        <p:grpSpPr>
          <a:xfrm>
            <a:off x="3726360" y="3657600"/>
            <a:ext cx="1270440" cy="1250280"/>
            <a:chOff x="3726360" y="3657600"/>
            <a:chExt cx="1270440" cy="1250280"/>
          </a:xfrm>
        </p:grpSpPr>
        <p:sp>
          <p:nvSpPr>
            <p:cNvPr id="628" name=""/>
            <p:cNvSpPr/>
            <p:nvPr/>
          </p:nvSpPr>
          <p:spPr>
            <a:xfrm>
              <a:off x="3726360" y="4162320"/>
              <a:ext cx="127044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Se aña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4294080" y="36576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763560" y="3886200"/>
            <a:ext cx="2832120" cy="1618560"/>
            <a:chOff x="763560" y="3886200"/>
            <a:chExt cx="2832120" cy="1618560"/>
          </a:xfrm>
        </p:grpSpPr>
        <p:sp>
          <p:nvSpPr>
            <p:cNvPr id="631" name=""/>
            <p:cNvSpPr/>
            <p:nvPr/>
          </p:nvSpPr>
          <p:spPr>
            <a:xfrm flipH="1">
              <a:off x="2757600" y="447012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63560" y="3886200"/>
              <a:ext cx="19051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l equilibrio se desplaza hacia la izquierda para disminuir el cambi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6012000" y="1916280"/>
            <a:ext cx="2814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2500560" y="503280"/>
            <a:ext cx="387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ambios en la 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658600" y="387828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193440" y="3573360"/>
            <a:ext cx="255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Desplazamiento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68880" y="4411800"/>
            <a:ext cx="48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umenta la concentración de producto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924960" y="4411800"/>
            <a:ext cx="12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zquier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67440" y="4843440"/>
            <a:ext cx="477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crece la concentración de producto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008480" y="4843440"/>
            <a:ext cx="110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rec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67440" y="5707080"/>
            <a:ext cx="484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crece la concentración de reactante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68880" y="5275440"/>
            <a:ext cx="49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umenta la concentración de reactante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000560" y="5275440"/>
            <a:ext cx="110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rec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924960" y="5707080"/>
            <a:ext cx="12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zquier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2869200" y="2486160"/>
            <a:ext cx="3493080" cy="398880"/>
            <a:chOff x="2869200" y="2486160"/>
            <a:chExt cx="3493080" cy="398880"/>
          </a:xfrm>
        </p:grpSpPr>
        <p:sp>
          <p:nvSpPr>
            <p:cNvPr id="646" name=""/>
            <p:cNvSpPr/>
            <p:nvPr/>
          </p:nvSpPr>
          <p:spPr>
            <a:xfrm>
              <a:off x="2869200" y="2486160"/>
              <a:ext cx="349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A +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B                   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 +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233960" y="260352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4233960" y="27561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4708440" y="1419120"/>
            <a:ext cx="1864080" cy="1629000"/>
            <a:chOff x="4708440" y="1419120"/>
            <a:chExt cx="1864080" cy="1629000"/>
          </a:xfrm>
        </p:grpSpPr>
        <p:grpSp>
          <p:nvGrpSpPr>
            <p:cNvPr id="650" name=""/>
            <p:cNvGrpSpPr/>
            <p:nvPr/>
          </p:nvGrpSpPr>
          <p:grpSpPr>
            <a:xfrm>
              <a:off x="5655600" y="1419120"/>
              <a:ext cx="916920" cy="903240"/>
              <a:chOff x="5655600" y="1419120"/>
              <a:chExt cx="916920" cy="903240"/>
            </a:xfrm>
          </p:grpSpPr>
          <p:sp>
            <p:nvSpPr>
              <p:cNvPr id="651" name=""/>
              <p:cNvSpPr/>
              <p:nvPr/>
            </p:nvSpPr>
            <p:spPr>
              <a:xfrm>
                <a:off x="6111360" y="178884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655600" y="1419120"/>
                <a:ext cx="91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ff0000"/>
                    </a:solidFill>
                    <a:latin typeface="Arial"/>
                  </a:rPr>
                  <a:t>Añadi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3" name=""/>
            <p:cNvSpPr/>
            <p:nvPr/>
          </p:nvSpPr>
          <p:spPr>
            <a:xfrm flipH="1">
              <a:off x="4708440" y="304812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3614040" y="1419120"/>
            <a:ext cx="2024280" cy="1629000"/>
            <a:chOff x="3614040" y="1419120"/>
            <a:chExt cx="2024280" cy="1629000"/>
          </a:xfrm>
        </p:grpSpPr>
        <p:sp>
          <p:nvSpPr>
            <p:cNvPr id="655" name=""/>
            <p:cNvSpPr/>
            <p:nvPr/>
          </p:nvSpPr>
          <p:spPr>
            <a:xfrm>
              <a:off x="4724280" y="3048120"/>
              <a:ext cx="914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3614040" y="1419120"/>
              <a:ext cx="916920" cy="903240"/>
              <a:chOff x="3614040" y="1419120"/>
              <a:chExt cx="916920" cy="903240"/>
            </a:xfrm>
          </p:grpSpPr>
          <p:sp>
            <p:nvSpPr>
              <p:cNvPr id="657" name=""/>
              <p:cNvSpPr/>
              <p:nvPr/>
            </p:nvSpPr>
            <p:spPr>
              <a:xfrm>
                <a:off x="4070160" y="178884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614040" y="1419120"/>
                <a:ext cx="91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ff0000"/>
                    </a:solidFill>
                    <a:latin typeface="Arial"/>
                  </a:rPr>
                  <a:t>Añadi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9" name=""/>
          <p:cNvGrpSpPr/>
          <p:nvPr/>
        </p:nvGrpSpPr>
        <p:grpSpPr>
          <a:xfrm>
            <a:off x="2738520" y="1406520"/>
            <a:ext cx="1985040" cy="1641600"/>
            <a:chOff x="2738520" y="1406520"/>
            <a:chExt cx="1985040" cy="1641600"/>
          </a:xfrm>
        </p:grpSpPr>
        <p:sp>
          <p:nvSpPr>
            <p:cNvPr id="660" name=""/>
            <p:cNvSpPr/>
            <p:nvPr/>
          </p:nvSpPr>
          <p:spPr>
            <a:xfrm flipH="1">
              <a:off x="3809520" y="3048120"/>
              <a:ext cx="914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1" name=""/>
            <p:cNvGrpSpPr/>
            <p:nvPr/>
          </p:nvGrpSpPr>
          <p:grpSpPr>
            <a:xfrm>
              <a:off x="2738520" y="1406520"/>
              <a:ext cx="874080" cy="902880"/>
              <a:chOff x="2738520" y="1406520"/>
              <a:chExt cx="874080" cy="902880"/>
            </a:xfrm>
          </p:grpSpPr>
          <p:sp>
            <p:nvSpPr>
              <p:cNvPr id="662" name=""/>
              <p:cNvSpPr/>
              <p:nvPr/>
            </p:nvSpPr>
            <p:spPr>
              <a:xfrm flipV="1">
                <a:off x="3173400" y="1776240"/>
                <a:ext cx="0" cy="533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738520" y="1406520"/>
                <a:ext cx="874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ff0000"/>
                    </a:solidFill>
                    <a:latin typeface="Arial"/>
                  </a:rPr>
                  <a:t>Quita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4" name=""/>
          <p:cNvGrpSpPr/>
          <p:nvPr/>
        </p:nvGrpSpPr>
        <p:grpSpPr>
          <a:xfrm>
            <a:off x="3733920" y="1380960"/>
            <a:ext cx="1821960" cy="1667160"/>
            <a:chOff x="3733920" y="1380960"/>
            <a:chExt cx="1821960" cy="1667160"/>
          </a:xfrm>
        </p:grpSpPr>
        <p:grpSp>
          <p:nvGrpSpPr>
            <p:cNvPr id="665" name=""/>
            <p:cNvGrpSpPr/>
            <p:nvPr/>
          </p:nvGrpSpPr>
          <p:grpSpPr>
            <a:xfrm>
              <a:off x="4681800" y="1380960"/>
              <a:ext cx="874080" cy="902880"/>
              <a:chOff x="4681800" y="1380960"/>
              <a:chExt cx="874080" cy="902880"/>
            </a:xfrm>
          </p:grpSpPr>
          <p:sp>
            <p:nvSpPr>
              <p:cNvPr id="666" name=""/>
              <p:cNvSpPr/>
              <p:nvPr/>
            </p:nvSpPr>
            <p:spPr>
              <a:xfrm flipV="1">
                <a:off x="5116680" y="1750680"/>
                <a:ext cx="0" cy="533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681800" y="1380960"/>
                <a:ext cx="874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ff0000"/>
                    </a:solidFill>
                    <a:latin typeface="Arial"/>
                  </a:rPr>
                  <a:t>Quita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8" name=""/>
            <p:cNvSpPr/>
            <p:nvPr/>
          </p:nvSpPr>
          <p:spPr>
            <a:xfrm>
              <a:off x="3733920" y="304812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2626560" y="476280"/>
            <a:ext cx="409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ambios en volumen y 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2994120" y="1197000"/>
            <a:ext cx="3472920" cy="398880"/>
            <a:chOff x="2994120" y="1197000"/>
            <a:chExt cx="3472920" cy="398880"/>
          </a:xfrm>
        </p:grpSpPr>
        <p:sp>
          <p:nvSpPr>
            <p:cNvPr id="671" name=""/>
            <p:cNvSpPr/>
            <p:nvPr/>
          </p:nvSpPr>
          <p:spPr>
            <a:xfrm>
              <a:off x="2994120" y="1197000"/>
              <a:ext cx="347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g)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+ B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g)  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C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g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722840" y="13143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4722480" y="14670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4" name=""/>
          <p:cNvSpPr/>
          <p:nvPr/>
        </p:nvSpPr>
        <p:spPr>
          <a:xfrm>
            <a:off x="1667880" y="256860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624920" y="2263680"/>
            <a:ext cx="255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Desplazamiento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979920" y="3102120"/>
            <a:ext cx="24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umenta la pres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460760" y="3102120"/>
            <a:ext cx="385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 lado con menos moles de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979920" y="3533760"/>
            <a:ext cx="254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minuye la 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467600" y="3533760"/>
            <a:ext cx="35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 lado con más moles de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979920" y="4397400"/>
            <a:ext cx="26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minuye el 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80280" y="396540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umenta el 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467600" y="3965400"/>
            <a:ext cx="35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 lado con más moles de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460760" y="4397400"/>
            <a:ext cx="385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 lado con menos moles de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572000" y="175896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4572000" y="175896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572000" y="175896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4572000" y="175896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43" dur="1" fill="hold"/>
                                  <p:tgtEl>
                                    <p:spTgt spid="6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2698200" y="476280"/>
            <a:ext cx="36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ambios en la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171080" y="206532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913200" y="206532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Rx Exotér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81680" y="2598840"/>
            <a:ext cx="29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umenta la temperatu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411080" y="259884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decre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81320" y="3030480"/>
            <a:ext cx="308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minuye la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372200" y="303048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aum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656400" y="2065320"/>
            <a:ext cx="213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Rx Endotér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218720" y="259884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aum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257600" y="303048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decre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8" name=""/>
          <p:cNvGrpSpPr/>
          <p:nvPr/>
        </p:nvGrpSpPr>
        <p:grpSpPr>
          <a:xfrm>
            <a:off x="611280" y="1844640"/>
            <a:ext cx="7924680" cy="3070440"/>
            <a:chOff x="611280" y="1844640"/>
            <a:chExt cx="7924680" cy="3070440"/>
          </a:xfrm>
        </p:grpSpPr>
        <p:pic>
          <p:nvPicPr>
            <p:cNvPr id="699" name="" descr=""/>
            <p:cNvPicPr/>
            <p:nvPr/>
          </p:nvPicPr>
          <p:blipFill>
            <a:blip r:embed="rId1"/>
            <a:srcRect l="0" t="0" r="0" b="10022"/>
            <a:stretch/>
          </p:blipFill>
          <p:spPr>
            <a:xfrm>
              <a:off x="611280" y="1844640"/>
              <a:ext cx="7924680" cy="307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950040" y="4346640"/>
              <a:ext cx="185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Sin cataliza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335560" y="4346640"/>
              <a:ext cx="195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n cataliza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2059200" y="5300640"/>
            <a:ext cx="5514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n catalizador baja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para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mba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reac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50920" y="589608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Un catalizador no cambia la constante de equilibrio o mueve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258920" y="692280"/>
            <a:ext cx="669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 cambia el valor de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 cambia la posición de un sistema en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sistema alcanzará más rápido el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864160" y="260280"/>
            <a:ext cx="34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dición de  un cataliz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4195" r="0" b="5676"/>
          <a:stretch/>
        </p:blipFill>
        <p:spPr>
          <a:xfrm>
            <a:off x="152280" y="1143000"/>
            <a:ext cx="8686800" cy="32767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966400" y="304920"/>
            <a:ext cx="3210480" cy="510120"/>
            <a:chOff x="2966400" y="304920"/>
            <a:chExt cx="3210480" cy="510120"/>
          </a:xfrm>
        </p:grpSpPr>
        <p:sp>
          <p:nvSpPr>
            <p:cNvPr id="52" name=""/>
            <p:cNvSpPr/>
            <p:nvPr/>
          </p:nvSpPr>
          <p:spPr>
            <a:xfrm>
              <a:off x="2966400" y="304920"/>
              <a:ext cx="3210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2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266720" y="4701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4266720" y="62244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460800" y="4495680"/>
            <a:ext cx="2188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mpieza con N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85360" y="4495680"/>
            <a:ext cx="227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mpieza con N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79160" y="4495680"/>
            <a:ext cx="3003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mpieza con N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y N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838800" y="1800360"/>
            <a:ext cx="1396800" cy="1003320"/>
            <a:chOff x="838800" y="1800360"/>
            <a:chExt cx="1396800" cy="1003320"/>
          </a:xfrm>
        </p:grpSpPr>
        <p:sp>
          <p:nvSpPr>
            <p:cNvPr id="59" name=""/>
            <p:cNvSpPr/>
            <p:nvPr/>
          </p:nvSpPr>
          <p:spPr>
            <a:xfrm>
              <a:off x="1684440" y="2194200"/>
              <a:ext cx="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38800" y="1800360"/>
              <a:ext cx="139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0000"/>
                  </a:solidFill>
                  <a:latin typeface="Arial"/>
                </a:rPr>
                <a:t>equilibr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872520" y="1197000"/>
            <a:ext cx="1396800" cy="1003320"/>
            <a:chOff x="3872520" y="1197000"/>
            <a:chExt cx="1396800" cy="1003320"/>
          </a:xfrm>
        </p:grpSpPr>
        <p:sp>
          <p:nvSpPr>
            <p:cNvPr id="62" name=""/>
            <p:cNvSpPr/>
            <p:nvPr/>
          </p:nvSpPr>
          <p:spPr>
            <a:xfrm>
              <a:off x="4718160" y="1590840"/>
              <a:ext cx="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72520" y="1197000"/>
              <a:ext cx="139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0000"/>
                  </a:solidFill>
                  <a:latin typeface="Arial"/>
                </a:rPr>
                <a:t>equilibr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6901560" y="2181240"/>
            <a:ext cx="1396800" cy="1003320"/>
            <a:chOff x="6901560" y="2181240"/>
            <a:chExt cx="1396800" cy="1003320"/>
          </a:xfrm>
        </p:grpSpPr>
        <p:sp>
          <p:nvSpPr>
            <p:cNvPr id="65" name=""/>
            <p:cNvSpPr/>
            <p:nvPr/>
          </p:nvSpPr>
          <p:spPr>
            <a:xfrm>
              <a:off x="7747200" y="2575080"/>
              <a:ext cx="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901560" y="2181240"/>
              <a:ext cx="139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0000"/>
                  </a:solidFill>
                  <a:latin typeface="Arial"/>
                </a:rPr>
                <a:t>equilibr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2"/>
          <a:srcRect l="0" t="4620" r="0" b="0"/>
          <a:stretch/>
        </p:blipFill>
        <p:spPr>
          <a:xfrm>
            <a:off x="2286000" y="5105520"/>
            <a:ext cx="487692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2671200" y="189000"/>
            <a:ext cx="382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INCIPIO DE LE CH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ÂTEL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43960" y="145908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453040" y="1114560"/>
            <a:ext cx="262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Desplazamiento d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5716800" y="1063800"/>
            <a:ext cx="3036600" cy="714240"/>
            <a:chOff x="5716800" y="1063800"/>
            <a:chExt cx="3036600" cy="714240"/>
          </a:xfrm>
        </p:grpSpPr>
        <p:sp>
          <p:nvSpPr>
            <p:cNvPr id="710" name=""/>
            <p:cNvSpPr/>
            <p:nvPr/>
          </p:nvSpPr>
          <p:spPr>
            <a:xfrm>
              <a:off x="5716800" y="1063800"/>
              <a:ext cx="3036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Cambio en la consta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de equilibr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84840" y="1778040"/>
              <a:ext cx="2895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"/>
          <p:cNvSpPr/>
          <p:nvPr/>
        </p:nvSpPr>
        <p:spPr>
          <a:xfrm>
            <a:off x="360720" y="2028960"/>
            <a:ext cx="182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479040" y="202896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972120" y="2028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62840" y="260028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479040" y="260028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972120" y="2600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86880" y="317196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479040" y="317196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972120" y="3171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56120" y="3743280"/>
            <a:ext cx="16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479040" y="374328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904800" y="374328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27520" y="431496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 cataliz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546000" y="4314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972120" y="4314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333360"/>
          <a:ext cx="9144000" cy="448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33360"/>
                    <a:ext cx="9144000" cy="44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6588000" y="6021360"/>
            <a:ext cx="20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3300"/>
                </a:solidFill>
                <a:latin typeface="Arial"/>
              </a:rPr>
              <a:t>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7667640" y="4797360"/>
            <a:ext cx="360360" cy="1224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426560" y="1450800"/>
            <a:ext cx="157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4.63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882160" y="1197000"/>
            <a:ext cx="1497240" cy="934200"/>
            <a:chOff x="2882160" y="1197000"/>
            <a:chExt cx="1497240" cy="934200"/>
          </a:xfrm>
        </p:grpSpPr>
        <p:sp>
          <p:nvSpPr>
            <p:cNvPr id="74" name=""/>
            <p:cNvSpPr/>
            <p:nvPr/>
          </p:nvSpPr>
          <p:spPr>
            <a:xfrm>
              <a:off x="2882160" y="1452600"/>
              <a:ext cx="6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3453480" y="1197000"/>
              <a:ext cx="925920" cy="934200"/>
              <a:chOff x="3453480" y="1197000"/>
              <a:chExt cx="925920" cy="934200"/>
            </a:xfrm>
          </p:grpSpPr>
          <p:sp>
            <p:nvSpPr>
              <p:cNvPr id="76" name=""/>
              <p:cNvSpPr/>
              <p:nvPr/>
            </p:nvSpPr>
            <p:spPr>
              <a:xfrm>
                <a:off x="3453480" y="1197000"/>
                <a:ext cx="868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[N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453480" y="1690560"/>
                <a:ext cx="868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[N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541320" y="1623960"/>
                <a:ext cx="83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" name=""/>
          <p:cNvGrpSpPr/>
          <p:nvPr/>
        </p:nvGrpSpPr>
        <p:grpSpPr>
          <a:xfrm>
            <a:off x="3481920" y="4206960"/>
            <a:ext cx="1724040" cy="953280"/>
            <a:chOff x="3481920" y="4206960"/>
            <a:chExt cx="1724040" cy="953280"/>
          </a:xfrm>
        </p:grpSpPr>
        <p:sp>
          <p:nvSpPr>
            <p:cNvPr id="80" name=""/>
            <p:cNvSpPr/>
            <p:nvPr/>
          </p:nvSpPr>
          <p:spPr>
            <a:xfrm>
              <a:off x="3481920" y="4462560"/>
              <a:ext cx="73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4057200" y="4206960"/>
              <a:ext cx="1148760" cy="953280"/>
              <a:chOff x="4057200" y="4206960"/>
              <a:chExt cx="1148760" cy="953280"/>
            </a:xfrm>
          </p:grpSpPr>
          <p:sp>
            <p:nvSpPr>
              <p:cNvPr id="82" name=""/>
              <p:cNvSpPr/>
              <p:nvPr/>
            </p:nvSpPr>
            <p:spPr>
              <a:xfrm>
                <a:off x="4057200" y="4206960"/>
                <a:ext cx="114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[C]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[D]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067640" y="4700520"/>
                <a:ext cx="112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[A]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[B]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097160" y="4681440"/>
                <a:ext cx="10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2672280" y="5578560"/>
            <a:ext cx="366912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ey de acción de ma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42280" y="549360"/>
            <a:ext cx="3318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 (g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2N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74280" y="3257640"/>
            <a:ext cx="426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  +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  +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13080" y="3402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212720" y="3546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06960" y="693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206600" y="83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252720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ra una reacción gener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62120" y="2666880"/>
            <a:ext cx="64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   K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&gt;&gt; 1   se favorece la formación de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3200400"/>
            <a:ext cx="639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   K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&lt;&lt; 1   se favorece la formación de rea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7800" y="1916280"/>
            <a:ext cx="38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e puede concluir q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652000" y="692280"/>
            <a:ext cx="1724040" cy="953280"/>
            <a:chOff x="5652000" y="692280"/>
            <a:chExt cx="1724040" cy="953280"/>
          </a:xfrm>
        </p:grpSpPr>
        <p:sp>
          <p:nvSpPr>
            <p:cNvPr id="97" name=""/>
            <p:cNvSpPr/>
            <p:nvPr/>
          </p:nvSpPr>
          <p:spPr>
            <a:xfrm>
              <a:off x="5652000" y="947880"/>
              <a:ext cx="73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6227280" y="692280"/>
              <a:ext cx="1148760" cy="953280"/>
              <a:chOff x="6227280" y="692280"/>
              <a:chExt cx="1148760" cy="953280"/>
            </a:xfrm>
          </p:grpSpPr>
          <p:sp>
            <p:nvSpPr>
              <p:cNvPr id="99" name=""/>
              <p:cNvSpPr/>
              <p:nvPr/>
            </p:nvSpPr>
            <p:spPr>
              <a:xfrm>
                <a:off x="6227280" y="692280"/>
                <a:ext cx="114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]</a:t>
                </a:r>
                <a:r>
                  <a:rPr b="0" lang="es-MX" sz="2400" spc="-1" strike="noStrike" baseline="30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D]</a:t>
                </a:r>
                <a:r>
                  <a:rPr b="0" lang="es-MX" sz="2400" spc="-1" strike="noStrike" baseline="30000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237720" y="1185840"/>
                <a:ext cx="112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A]</a:t>
                </a:r>
                <a:r>
                  <a:rPr b="0" lang="es-MX" sz="2400" spc="-1" strike="noStrike" baseline="30000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B]</a:t>
                </a:r>
                <a:r>
                  <a:rPr b="0" lang="es-MX" sz="2400" spc="-1" strike="noStrike" baseline="30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267240" y="1166760"/>
                <a:ext cx="10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1627560" y="880920"/>
            <a:ext cx="3236400" cy="459720"/>
            <a:chOff x="1627560" y="880920"/>
            <a:chExt cx="3236400" cy="459720"/>
          </a:xfrm>
        </p:grpSpPr>
        <p:sp>
          <p:nvSpPr>
            <p:cNvPr id="103" name=""/>
            <p:cNvSpPr/>
            <p:nvPr/>
          </p:nvSpPr>
          <p:spPr>
            <a:xfrm>
              <a:off x="1627560" y="880920"/>
              <a:ext cx="32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A +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B         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 +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41560" y="104580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941560" y="119844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6" name=""/>
          <p:cNvGraphicFramePr/>
          <p:nvPr/>
        </p:nvGraphicFramePr>
        <p:xfrm>
          <a:off x="324000" y="4005360"/>
          <a:ext cx="4176720" cy="227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005360"/>
                    <a:ext cx="4176720" cy="22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4788000" y="4005360"/>
          <a:ext cx="4248000" cy="228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4005360"/>
                    <a:ext cx="4248000" cy="22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24000" y="2637000"/>
            <a:ext cx="19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IPOS DE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84360" y="134136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quilibrio Homogén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407664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quilibrio Heterogén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98100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ase Gase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65840" y="17733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65840" y="357336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ólido – Gas (vap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65840" y="411336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íquido – Gas (vap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67280" y="468792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ólido – Líq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80000" y="907920"/>
            <a:ext cx="73080" cy="1368720"/>
          </a:xfrm>
          <a:custGeom>
            <a:avLst/>
            <a:gdLst>
              <a:gd name="textAreaLeft" fmla="*/ 46800 w 73080"/>
              <a:gd name="textAreaRight" fmla="*/ 73440 w 7308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80000" y="3357720"/>
            <a:ext cx="144360" cy="1800000"/>
          </a:xfrm>
          <a:custGeom>
            <a:avLst/>
            <a:gdLst>
              <a:gd name="textAreaLeft" fmla="*/ 92160 w 144360"/>
              <a:gd name="textAreaRight" fmla="*/ 144360 w 14436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66920" y="1413000"/>
            <a:ext cx="144360" cy="3025800"/>
          </a:xfrm>
          <a:custGeom>
            <a:avLst/>
            <a:gdLst>
              <a:gd name="textAreaLeft" fmla="*/ 92160 w 144360"/>
              <a:gd name="textAreaRight" fmla="*/ 144360 w 144360"/>
              <a:gd name="textAreaTop" fmla="*/ 78840 h 3025800"/>
              <a:gd name="textAreaBottom" fmla="*/ 2946960 h 302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700360" y="11592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QUILIBRIO HOMOGÉN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98920" y="692280"/>
            <a:ext cx="374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4 (g)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                 2N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 (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40360" y="836640"/>
            <a:ext cx="86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140360" y="979560"/>
            <a:ext cx="86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791440" y="1241280"/>
            <a:ext cx="1492560" cy="934200"/>
            <a:chOff x="2791440" y="1241280"/>
            <a:chExt cx="1492560" cy="934200"/>
          </a:xfrm>
        </p:grpSpPr>
        <p:sp>
          <p:nvSpPr>
            <p:cNvPr id="126" name=""/>
            <p:cNvSpPr/>
            <p:nvPr/>
          </p:nvSpPr>
          <p:spPr>
            <a:xfrm>
              <a:off x="2791440" y="1496880"/>
              <a:ext cx="736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3358080" y="1241280"/>
              <a:ext cx="925920" cy="934200"/>
              <a:chOff x="3358080" y="1241280"/>
              <a:chExt cx="925920" cy="934200"/>
            </a:xfrm>
          </p:grpSpPr>
          <p:sp>
            <p:nvSpPr>
              <p:cNvPr id="128" name=""/>
              <p:cNvSpPr/>
              <p:nvPr/>
            </p:nvSpPr>
            <p:spPr>
              <a:xfrm>
                <a:off x="3358080" y="1241280"/>
                <a:ext cx="868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[N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358080" y="1734840"/>
                <a:ext cx="868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[N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45920" y="1668240"/>
                <a:ext cx="83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" name=""/>
          <p:cNvSpPr/>
          <p:nvPr/>
        </p:nvSpPr>
        <p:spPr>
          <a:xfrm>
            <a:off x="179280" y="2530440"/>
            <a:ext cx="122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N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32000" y="234936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úmero de m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27464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76360" y="274644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13080" y="2492280"/>
            <a:ext cx="25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un gas ide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40560" y="2492280"/>
            <a:ext cx="146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V = n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27640" y="313992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to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40360" y="2924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33559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15280" y="310500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65800" y="2960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93080" y="33559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83280" y="3321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64360" y="3321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0600" y="443088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5640" y="443700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645000"/>
            <a:ext cx="129564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8000" y="41860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RT) 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08000" y="41148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05080" y="46180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92360" y="4618080"/>
            <a:ext cx="129528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36720" y="51595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36720" y="50878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03640" y="443700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52720" y="4076640"/>
            <a:ext cx="129564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81440" y="4653000"/>
            <a:ext cx="129528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52720" y="46180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21440" y="461808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35640" y="46530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RT) 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41860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43640" y="443700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935040" y="4400640"/>
            <a:ext cx="455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307280" y="440064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RT)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1200" y="6094440"/>
            <a:ext cx="455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4360" y="609444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32000" y="5734080"/>
            <a:ext cx="129528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60360" y="6310440"/>
            <a:ext cx="129564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32000" y="62755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87640" y="5608800"/>
            <a:ext cx="61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 número de moles de gas de productos –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úmero de moles de gas de rea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86600" y="6416640"/>
            <a:ext cx="22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  (c + d) – (a + 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02:14:45Z</dcterms:created>
  <dc:creator>Stephanie Manzur Andreu</dc:creator>
  <dc:description/>
  <dc:language>en-US</dc:language>
  <cp:lastModifiedBy>Dpto. Cs. de los Materiales</cp:lastModifiedBy>
  <dcterms:modified xsi:type="dcterms:W3CDTF">2007-10-16T18:54:31Z</dcterms:modified>
  <cp:revision>177</cp:revision>
  <dc:subject/>
  <dc:title>Presentación de PowerPoint</dc:title>
</cp:coreProperties>
</file>