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1144440" y="85212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81840" y="937728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5A03-15B5-4DD4-A312-4FEB76047E98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4440" y="85248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jercicios 1 a 5 (página 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4440" y="85248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jercicios 1 a 5 (página 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800100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458200" y="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1530-04CC-41E6-9564-D98EF9494120}" type="slidenum"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ERMOQUÍMIC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Calor a volumen constante (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v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 el intercambio de energía en un recipiente cerrado que no cambia de volume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V= constante, es decir,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V = 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W = 0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Q</a:t>
            </a:r>
            <a:r>
              <a:rPr b="1" lang="es-ES_tradnl" sz="3200" spc="-1" strike="noStrike" baseline="-25000">
                <a:solidFill>
                  <a:srgbClr val="fafd00"/>
                </a:solidFill>
                <a:latin typeface="Times New Roman"/>
              </a:rPr>
              <a:t>v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 = </a:t>
            </a:r>
            <a:r>
              <a:rPr b="1" lang="es-ES_tradnl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4076640"/>
            <a:ext cx="194436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Calor a presión constante (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p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mayoría de los procesos químicos ocurren a presión constante, normalmente la atmosfér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p = cte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W = – p ·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V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U = Q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– p ·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 U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Q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–  p · (V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V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 U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 p · V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U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 p · V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 algn="just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      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entalpí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 algn="just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4991040" y="5067000"/>
            <a:ext cx="380880" cy="1676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781360" y="5067360"/>
            <a:ext cx="380880" cy="1676160"/>
          </a:xfrm>
          <a:custGeom>
            <a:avLst/>
            <a:gdLst>
              <a:gd name="textAreaLeft" fmla="*/ 243360 w 380880"/>
              <a:gd name="textAreaRight" fmla="*/ 381240 w 3808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9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  <p:animClr clrSpc="rgb">
                                <p:cBhvr>
                                  <p:cTn id="83" dur="1" fill="hold"/>
                                  <p:tgtEl>
                                    <p:spTgt spid="8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  <p:animClr clrSpc="rgb">
                                <p:cBhvr>
                                  <p:cTn id="84" dur="1" fill="hold"/>
                                  <p:tgtEl>
                                    <p:spTgt spid="8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Calor a presión constante (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p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U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 p · V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;   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U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 p · V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+ H 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= H 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Q</a:t>
            </a:r>
            <a:r>
              <a:rPr b="1" lang="es-ES_tradnl" sz="3200" spc="-1" strike="noStrike" baseline="-25000">
                <a:solidFill>
                  <a:srgbClr val="fafd00"/>
                </a:solidFill>
                <a:latin typeface="Times New Roman"/>
              </a:rPr>
              <a:t>p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 = H</a:t>
            </a:r>
            <a:r>
              <a:rPr b="1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 –  H</a:t>
            </a:r>
            <a:r>
              <a:rPr b="1" lang="es-ES_tradnl" sz="3200" spc="-1" strike="noStrike" baseline="-25000">
                <a:solidFill>
                  <a:srgbClr val="fafd00"/>
                </a:solidFill>
                <a:latin typeface="Times New Roman"/>
              </a:rPr>
              <a:t>1 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= </a:t>
            </a:r>
            <a:r>
              <a:rPr b="1" lang="es-ES_tradnl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 es una función de estado.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562720" y="1218960"/>
            <a:ext cx="3581280" cy="2210040"/>
            <a:chOff x="5562720" y="1218960"/>
            <a:chExt cx="3581280" cy="2210040"/>
          </a:xfrm>
        </p:grpSpPr>
        <p:sp>
          <p:nvSpPr>
            <p:cNvPr id="90" name=""/>
            <p:cNvSpPr/>
            <p:nvPr/>
          </p:nvSpPr>
          <p:spPr>
            <a:xfrm>
              <a:off x="6248520" y="297180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activ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5562720" y="1218960"/>
              <a:ext cx="3581280" cy="2210040"/>
              <a:chOff x="5562720" y="1218960"/>
              <a:chExt cx="3581280" cy="2210040"/>
            </a:xfrm>
          </p:grpSpPr>
          <p:sp>
            <p:nvSpPr>
              <p:cNvPr id="92" name=""/>
              <p:cNvSpPr/>
              <p:nvPr/>
            </p:nvSpPr>
            <p:spPr>
              <a:xfrm flipV="1">
                <a:off x="6095880" y="137124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095880" y="3429000"/>
                <a:ext cx="2590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324480" y="2971800"/>
                <a:ext cx="1067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543800" y="2286000"/>
                <a:ext cx="1066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200000">
                <a:off x="4884120" y="1897200"/>
                <a:ext cx="175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Entalpia (H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91520" y="190512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roduct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7010280" y="2285640"/>
                <a:ext cx="1067040" cy="685800"/>
              </a:xfrm>
              <a:prstGeom prst="line">
                <a:avLst/>
              </a:prstGeom>
              <a:ln w="38160">
                <a:solidFill>
                  <a:srgbClr val="f57b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91520" y="2743200"/>
                <a:ext cx="17524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Times New Roman"/>
                  </a:rPr>
                  <a:t>H &gt; 0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00800" y="1523880"/>
                <a:ext cx="2362320" cy="398880"/>
              </a:xfrm>
              <a:prstGeom prst="rect">
                <a:avLst/>
              </a:prstGeom>
              <a:noFill/>
              <a:ln w="1260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afd00"/>
                    </a:solidFill>
                    <a:latin typeface="Times New Roman"/>
                  </a:rPr>
                  <a:t>Reac. endotérmic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5715000" y="3733920"/>
            <a:ext cx="3429000" cy="2133360"/>
            <a:chOff x="5715000" y="3733920"/>
            <a:chExt cx="3429000" cy="2133360"/>
          </a:xfrm>
        </p:grpSpPr>
        <p:sp>
          <p:nvSpPr>
            <p:cNvPr id="102" name=""/>
            <p:cNvSpPr/>
            <p:nvPr/>
          </p:nvSpPr>
          <p:spPr>
            <a:xfrm flipV="1">
              <a:off x="6172200" y="3809520"/>
              <a:ext cx="0" cy="2057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715000" y="3733920"/>
              <a:ext cx="3429000" cy="2133360"/>
              <a:chOff x="5715000" y="3733920"/>
              <a:chExt cx="3429000" cy="2133360"/>
            </a:xfrm>
          </p:grpSpPr>
          <p:sp>
            <p:nvSpPr>
              <p:cNvPr id="104" name=""/>
              <p:cNvSpPr/>
              <p:nvPr/>
            </p:nvSpPr>
            <p:spPr>
              <a:xfrm>
                <a:off x="6172200" y="5867280"/>
                <a:ext cx="2590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6200000">
                <a:off x="5036400" y="4487760"/>
                <a:ext cx="175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Entalpia (H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324480" y="4038480"/>
                <a:ext cx="15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Reactiv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20120" y="533412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roduct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400800" y="4495680"/>
                <a:ext cx="1143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96080" y="5257800"/>
                <a:ext cx="1143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934320" y="4495680"/>
                <a:ext cx="1295280" cy="762120"/>
              </a:xfrm>
              <a:prstGeom prst="line">
                <a:avLst/>
              </a:prstGeom>
              <a:ln w="38160">
                <a:solidFill>
                  <a:srgbClr val="f57b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96080" y="4343400"/>
                <a:ext cx="12193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Times New Roman"/>
                  </a:rPr>
                  <a:t>H &lt; 0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81680" y="3733920"/>
                <a:ext cx="2362320" cy="398880"/>
              </a:xfrm>
              <a:prstGeom prst="rect">
                <a:avLst/>
              </a:prstGeom>
              <a:noFill/>
              <a:ln w="1260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afd00"/>
                    </a:solidFill>
                    <a:latin typeface="Times New Roman"/>
                  </a:rPr>
                  <a:t>Reac. exotérmic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547640" y="3716280"/>
            <a:ext cx="3600720" cy="86508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Relación 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v 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con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 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p 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(gases)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H = </a:t>
            </a: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U + p · </a:t>
            </a: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plicando la ecuación de los gases: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 · V = n · R ·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 si p y T son constantes la ecuación se cumplirá para los estados inicial y final: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p ·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V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n · R ·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H = </a:t>
            </a: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U + </a:t>
            </a: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n · R ·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1752480"/>
            <a:ext cx="3886200" cy="76212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5334120"/>
            <a:ext cx="4267440" cy="76176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Relación 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v 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con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 Q</a:t>
            </a:r>
            <a:r>
              <a:rPr b="0" lang="es-ES_tradnl" sz="4400" spc="-1" strike="noStrike" baseline="-25000">
                <a:solidFill>
                  <a:srgbClr val="fafd00"/>
                </a:solidFill>
                <a:latin typeface="Times New Roman"/>
              </a:rPr>
              <a:t>p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(sólidos y líquido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reacciones de sólidos y líquidos apenas se produce variación de volumen y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afd00"/>
                </a:solidFill>
                <a:latin typeface="Times New Roman"/>
              </a:rPr>
              <a:t>Q</a:t>
            </a:r>
            <a:r>
              <a:rPr b="1" lang="es-ES_tradnl" sz="4400" spc="-1" strike="noStrike" baseline="-25000">
                <a:solidFill>
                  <a:srgbClr val="fafd00"/>
                </a:solidFill>
                <a:latin typeface="Times New Roman"/>
              </a:rPr>
              <a:t>v </a:t>
            </a:r>
            <a:r>
              <a:rPr b="1" lang="es-ES_tradnl" sz="44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1" lang="es-ES_tradnl" sz="4400" spc="-1" strike="noStrike">
                <a:solidFill>
                  <a:srgbClr val="fafd00"/>
                </a:solidFill>
                <a:latin typeface="Times New Roman"/>
              </a:rPr>
              <a:t> Q</a:t>
            </a:r>
            <a:r>
              <a:rPr b="1" lang="es-ES_tradnl" sz="4400" spc="-1" strike="noStrike" baseline="-25000">
                <a:solidFill>
                  <a:srgbClr val="fafd00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es deci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4400" spc="-1" strike="noStrike">
                <a:solidFill>
                  <a:srgbClr val="fafd00"/>
                </a:solidFill>
                <a:latin typeface="Times New Roman"/>
              </a:rPr>
              <a:t>U </a:t>
            </a:r>
            <a:r>
              <a:rPr b="1" lang="es-ES_tradnl" sz="44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1" lang="es-ES_tradnl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4400" spc="-1" strike="noStrike">
                <a:solidFill>
                  <a:srgbClr val="fafd00"/>
                </a:solidFill>
                <a:latin typeface="Times New Roman"/>
              </a:rPr>
              <a:t>H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3048120"/>
            <a:ext cx="2362320" cy="76176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4343400"/>
            <a:ext cx="2590560" cy="76212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129440" cy="10080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57b49"/>
                </a:solidFill>
                <a:uFillTx/>
                <a:latin typeface="Times New Roman"/>
              </a:rPr>
              <a:t>Ejercicio: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En termoquímica el valor de R suele tomarse en unidades del sistema internacional.  Se sabe que R = 0,082 atm·l·mol</a:t>
            </a:r>
            <a:r>
              <a:rPr b="0" lang="es-ES_tradnl" sz="2800" spc="-1" strike="noStrike" baseline="30000">
                <a:solidFill>
                  <a:srgbClr val="fafd00"/>
                </a:solidFill>
                <a:latin typeface="Times New Roman"/>
              </a:rPr>
              <a:t>-1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·K</a:t>
            </a:r>
            <a:r>
              <a:rPr b="0" lang="es-ES_tradnl" sz="2800" spc="-1" strike="noStrike" baseline="30000">
                <a:solidFill>
                  <a:srgbClr val="fafd00"/>
                </a:solidFill>
                <a:latin typeface="Times New Roman"/>
              </a:rPr>
              <a:t>-1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. Determinar el valor de  R en el S.I con sus unidades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2276640"/>
            <a:ext cx="860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 = d g h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atm = 13546 kg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-3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,8 m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0,76 m =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0900 kg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149720"/>
            <a:ext cx="9144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4520" y="319644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4451400"/>
          <a:ext cx="914400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451400"/>
                    <a:ext cx="9144000" cy="777960"/>
                  </a:xfrm>
                  <a:prstGeom prst="rect">
                    <a:avLst/>
                  </a:prstGeom>
                  <a:ln w="9360">
                    <a:solidFill>
                      <a:srgbClr val="bcf9fe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eterminar la variación de energía interna para el proceso de combustión de 1 mol de propano a 25ºC y 1 atm, si la variación de entalpía, en estas condiciones, vale – 2219,8 kJ.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g) + 5 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g)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3 C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g) + 4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 (l)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H = –2219,8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reactiv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= 1+5 = 6 ; n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produc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= 3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 = –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pejando en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U =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H –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 · R · T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219 kJ + 3 mol · (8,3 J/mol.K) · 298 K = –2214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U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=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– 2212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5181480"/>
            <a:ext cx="3047760" cy="68580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talpía estándar de la reacció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el incremento entálpico de una reacción en la cual, tanto reactivos como productos están en condiciones estándar (p = 1 atm; T = 298 K = 25 ºC; conc. = 1 M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expresa como </a:t>
            </a:r>
            <a:r>
              <a:rPr b="1" lang="es-ES_tradnl" sz="3200" spc="-1" strike="noStrike">
                <a:solidFill>
                  <a:srgbClr val="fee19a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fee19a"/>
                </a:solidFill>
                <a:latin typeface="Times New Roman"/>
              </a:rPr>
              <a:t>H</a:t>
            </a:r>
            <a:r>
              <a:rPr b="1" lang="es-ES_tradnl" sz="3200" spc="-1" strike="noStrike" baseline="30000">
                <a:solidFill>
                  <a:srgbClr val="fee19a"/>
                </a:solidFill>
                <a:latin typeface="Times New Roman"/>
              </a:rPr>
              <a:t>0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y como se mide en J o kJ depende de cómo se ajuste la  reac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sí,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de la reacción “2 H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+ O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2 H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” es el doble del de “H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+ ½ O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”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1" lang="es-ES_tradnl" sz="3200" spc="-1" strike="noStrike" baseline="30000">
                <a:solidFill>
                  <a:srgbClr val="fafd00"/>
                </a:solidFill>
                <a:latin typeface="Times New Roman"/>
              </a:rPr>
              <a:t>0 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= H</a:t>
            </a:r>
            <a:r>
              <a:rPr b="1" lang="es-ES_tradnl" sz="32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1" lang="es-ES_tradnl" sz="3200" spc="-1" strike="noStrike" baseline="-25000">
                <a:solidFill>
                  <a:srgbClr val="fafd00"/>
                </a:solidFill>
                <a:latin typeface="Times New Roman"/>
              </a:rPr>
              <a:t>productos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 –  H</a:t>
            </a:r>
            <a:r>
              <a:rPr b="1" lang="es-ES_tradnl" sz="32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1" lang="es-ES_tradnl" sz="3200" spc="-1" strike="noStrike" baseline="-25000">
                <a:solidFill>
                  <a:srgbClr val="fafd00"/>
                </a:solidFill>
                <a:latin typeface="Times New Roman"/>
              </a:rPr>
              <a:t>react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5867280"/>
            <a:ext cx="5029200" cy="8384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cuaciones termoquímica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an tanto los reactivos como los productos indicando entre paréntesis su estado físico, y a continuación la variación energética expresada com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 (habitualmente com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Ejemplos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 2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 2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(l);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–890 kJ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 ½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(g)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–241.4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enidos (1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stemas, estados y funciones de es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imer principio de la Termodinám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ergía interna y entalpía. Reacciones a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volumen y a presión consta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1.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lación entre amb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4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alpía estándar de reac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4.1.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cuaciones termoquím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5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alpía estándar de formación.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6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álculo de las entalpías de reac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7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ey de Hes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cuaciones termoquímica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ee19a"/>
                </a:solidFill>
                <a:uFillTx/>
                <a:latin typeface="Times New Roman"/>
              </a:rPr>
              <a:t>¡OJO!:</a:t>
            </a:r>
            <a:r>
              <a:rPr b="0" lang="en-US" sz="3200" spc="-1" strike="noStrike">
                <a:solidFill>
                  <a:srgbClr val="f95ab7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 depende del número de moles que se forman o producen. Por tanto, si se ajusta poniendo coeficientes dobles, habrá que multiplica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or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spcAft>
                <a:spcPts val="1301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2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(g) ;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2· (–241.4 kJ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 frecuencia, suelen usarse coeficientes fraccionarios para ajustar las ecuacion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spcAft>
                <a:spcPts val="1301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½ 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(g) ;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= –241.4 k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talpía estándar de formación (calor de formación)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24452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el incremento entálpico (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) que se produce en la reacción de formación de </a:t>
            </a:r>
            <a:r>
              <a:rPr b="1" lang="es-ES_tradnl" sz="3200" spc="-1" strike="noStrike" u="sng">
                <a:solidFill>
                  <a:srgbClr val="fee19a"/>
                </a:solidFill>
                <a:uFillTx/>
                <a:latin typeface="Times New Roman"/>
              </a:rPr>
              <a:t>un mol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de un determinado compuesto a partir de los elementos en estado físico normal (en condiciones estánda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expresa como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trata de un “calor molar”, es decir, el cociente entre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y el número de moles formados de product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 tanto, se mide en kJ/mo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afd00"/>
                </a:solidFill>
                <a:uFillTx/>
                <a:latin typeface="Times New Roman"/>
              </a:rPr>
              <a:t>Ejemplos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(s) + 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C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g)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= – 393.13 kJ/mol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g) + ½ 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= – 285.8 kJ/m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5226120" cy="7389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álculo de </a:t>
            </a:r>
            <a:r>
              <a:rPr b="0" lang="en-US" sz="4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0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calor de reacción)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licando la ley de Hess podemos concluir qu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(productos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(reactiv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uerda qu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e todos los elementos en estado original es 0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3200400"/>
            <a:ext cx="7010280" cy="129528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91600">
            <a:off x="7257240" y="534240"/>
            <a:ext cx="1889280" cy="703800"/>
          </a:xfrm>
          <a:prstGeom prst="rect">
            <a:avLst/>
          </a:prstGeom>
          <a:solidFill>
            <a:srgbClr val="fb5bf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nocidas las entalpías estándar de formación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del butano (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, agua líquida y C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, cuyos valores son respectivamente –124.7, –285.8 y –393.5 kJ/mol, calcular la entalpía estándar de combustión del butano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reacción de combustión del butano 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13/2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4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 5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com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product.)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eactivos) =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mol(– 393.5 kJ/mol) + 5 mol(– 285.8 kJ/mol)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1 mol(– 124.7 kJ/mol) = – 2878.3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uego la entalpía estándar de combustión será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combust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– 2878.3 kJ/m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4876920"/>
            <a:ext cx="5486400" cy="6858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ey de He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19a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ee19a"/>
                </a:solidFill>
                <a:latin typeface="Times New Roman"/>
              </a:rPr>
              <a:t>H en una reacción química es constante con independencia de que la reacción se produzca en una o más etapas</a:t>
            </a:r>
            <a:r>
              <a:rPr b="0" lang="en-US" sz="3200" spc="-1" strike="noStrike">
                <a:solidFill>
                  <a:srgbClr val="fee19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uerda que H es función de es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 tanto, si una ecuación química se puede expresar como combinación lineal de otras, podremos igualmente calcula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 de la reacción global combinando lo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 de cada una de las reaccio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2091600">
            <a:off x="7257240" y="534240"/>
            <a:ext cx="1889280" cy="703800"/>
          </a:xfrm>
          <a:prstGeom prst="rect">
            <a:avLst/>
          </a:prstGeom>
          <a:solidFill>
            <a:srgbClr val="fee19a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Dadas las reacciones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(1)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+ ½ 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(g) 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– 241.8 kJ</a:t>
            </a:r>
            <a:r>
              <a:rPr b="0" lang="en-US" sz="35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2)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+ ½ 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(l)   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– 285.8 kJ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alcular la entalpía de vaporización del agua en condiciones estándar.</a:t>
            </a:r>
            <a:r>
              <a:rPr b="0" lang="en-US" sz="35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reacción de vaporización e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3)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(l)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(g)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3) puede expresarse como (1) – (2), lue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241.8 kJ – (–285.8 kJ) = 44 kJ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ctr">
              <a:lnSpc>
                <a:spcPct val="90000"/>
              </a:lnSpc>
              <a:spcBef>
                <a:spcPts val="2001"/>
              </a:spcBef>
              <a:buClr>
                <a:srgbClr val="fafd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vaporizació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44 kJ /m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5791320"/>
            <a:ext cx="4572000" cy="60948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squema de la ley de He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752120" y="2057040"/>
            <a:ext cx="1800" cy="3809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25909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5334120"/>
            <a:ext cx="266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4572000"/>
            <a:ext cx="1905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2590920"/>
            <a:ext cx="0" cy="27432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43400" y="2590920"/>
            <a:ext cx="0" cy="19810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105520" y="4571640"/>
            <a:ext cx="0" cy="762120"/>
          </a:xfrm>
          <a:prstGeom prst="line">
            <a:avLst/>
          </a:prstGeom>
          <a:ln w="12600">
            <a:solidFill>
              <a:srgbClr val="bcf9f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3048120"/>
            <a:ext cx="266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– 241.8 k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3809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– 285.8 k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472428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f9fe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bcf9fe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bcf9fe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bcf9fe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bcf9fe"/>
                </a:solidFill>
                <a:latin typeface="Times New Roman"/>
              </a:rPr>
              <a:t> = 44 k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36232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19810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(g) + ½ O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(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3962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(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5410080"/>
            <a:ext cx="10670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56040" y="5440320"/>
            <a:ext cx="9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(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57b49"/>
                </a:solidFill>
                <a:uFillTx/>
                <a:latin typeface="Times New Roman"/>
              </a:rPr>
              <a:t>Ejercicio:</a:t>
            </a:r>
            <a:r>
              <a:rPr b="0" lang="en-US" sz="2800" spc="-1" strike="noStrike">
                <a:solidFill>
                  <a:srgbClr val="f57b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nocidas las entalpías estándar de formación del butano (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, agua líquida y C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, cuyos valores son respectivamente –124.7, –285.8 y –393.5 kJ/mol, calcular la entalpía estándar de combustión del butano.</a:t>
            </a:r>
            <a:br>
              <a:rPr sz="2800"/>
            </a:b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 utilizamos la ley de Hess, la reac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4)   C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13/2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4 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5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comb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=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ede obtenerse a partir 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½ 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– 285.8 kJ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C(s) + 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– 393.5 kJ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3)   4 C(s) + 5 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C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    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– 124.7 k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 = 4 · (2) + 5 · (1) – 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4 C(s) + 4 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5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5/2 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C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4 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 + 5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(l) + 4 C(s) + 5 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g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4 mol(–393.5 kJ/mol) + 5 mol(–285.8 kJ/mol) –1 mol(– 124.7 kJ/mol) 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– 2878.3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62120" y="5105520"/>
            <a:ext cx="838080" cy="380880"/>
          </a:xfrm>
          <a:prstGeom prst="line">
            <a:avLst/>
          </a:prstGeom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123720" y="5105520"/>
            <a:ext cx="4953240" cy="761760"/>
            <a:chOff x="3123720" y="5105520"/>
            <a:chExt cx="4953240" cy="761760"/>
          </a:xfrm>
        </p:grpSpPr>
        <p:sp>
          <p:nvSpPr>
            <p:cNvPr id="175" name=""/>
            <p:cNvSpPr/>
            <p:nvPr/>
          </p:nvSpPr>
          <p:spPr>
            <a:xfrm flipH="1">
              <a:off x="7238520" y="5486400"/>
              <a:ext cx="838440" cy="38088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123720" y="5105520"/>
              <a:ext cx="838440" cy="38088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019920" y="5486400"/>
              <a:ext cx="838080" cy="38088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57b49"/>
                </a:solidFill>
                <a:uFillTx/>
                <a:latin typeface="Times New Roman"/>
              </a:rPr>
              <a:t>Ejercicio:</a:t>
            </a:r>
            <a:r>
              <a:rPr b="1" lang="en-US" sz="3200" spc="-1" strike="noStrike">
                <a:solidFill>
                  <a:srgbClr val="f57b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eterminar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el eteno (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 a 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artir de los calores de reacción de las siguientes reacciones químicas: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1) 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+ ½ 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(l)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– 285.8 kJ 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2)  C(s) + 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C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– 393.13 kJ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3)  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+ 3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2C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g) + 2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(l) 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– 1422 kJ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335232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reacción de formación del eteno C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g) a partir de sus constituyentes en estado normal 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4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 C(s) + 2  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C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4) se puede expresar como 2·(2) + 2·(1) – (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enidos (2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8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ergía o entalpía de enlace de enlace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8.1.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álculo de la energía de reacción a partir de entalpías de enlace aplicando la ley de H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8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pontaneidad de las reacciones químic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9.-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rop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9.1.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undo principio de la Termodinám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9.2.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cer principio de la Termodinám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.-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ergía libre de Gib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1.-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pontaneidad de las reacciones químicas. Influencia de la tempera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57b49"/>
                </a:solidFill>
                <a:uFillTx/>
                <a:latin typeface="Times New Roman"/>
              </a:rPr>
              <a:t>Ejercicio:</a:t>
            </a:r>
            <a:r>
              <a:rPr b="0" lang="en-US" sz="2800" spc="-1" strike="noStrike">
                <a:solidFill>
                  <a:srgbClr val="f57b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eterminar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el eteno (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 a partir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de los calores de reacción de las siguientes reacciones química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331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1)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+ ½ O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O(l)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6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= – 285.8 kJ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2)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C(s) + O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CO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= – 393.13 kJ</a:t>
            </a:r>
            <a:br>
              <a:rPr sz="2600"/>
            </a:b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3)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C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+ 3O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2CO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(g) + 2 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O(l)  </a:t>
            </a:r>
            <a:r>
              <a:rPr b="0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n-US" sz="26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= – 1422 k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C(s) + 2 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 = 2·(2) + 2·(1) – 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ueg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2·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2·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2 · (–393.13 kJ) + 2 · (– 285.8 kJ) – (– 1422 kJ) =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64’14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decir 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eteno) =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64.14 kJ/mo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trata, pues, de una reacción endotérm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5240160"/>
            <a:ext cx="4496040" cy="6098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48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57b49"/>
                </a:solidFill>
                <a:uFillTx/>
                <a:latin typeface="Times New Roman"/>
              </a:rPr>
              <a:t>Ejercicio:</a:t>
            </a:r>
            <a:r>
              <a:rPr b="0" lang="en-US" sz="2800" spc="-1" strike="noStrike">
                <a:solidFill>
                  <a:srgbClr val="f57b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as entalpías de combustión de la glucosa (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 del etanol (C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H)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on –2815 kJ/mol y –1372 kJ/mol, respectivamente. Con estos datos determina la energía intercambiada en la fermenta– ción de un mol de glucosa, reacción en la que se produce etanol y C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. ¿Es exotérmica la reacción?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0120" y="5410080"/>
            <a:ext cx="1218960" cy="6858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as reacciones de combustión son, respectivamente: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)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6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6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815 kJ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 + 3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372 kJ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a reacción de fermentación de la glucosa es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2 C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H +2 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     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3) puede expresarse como (1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2· (2), luego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2·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2815 kJ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2·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1372 kJ) = 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1" lang="en-US" sz="2600" spc="-1" strike="noStrike">
                <a:solidFill>
                  <a:srgbClr val="fafd00"/>
                </a:solidFill>
                <a:latin typeface="Times New Roman"/>
              </a:rPr>
              <a:t> 71 k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y la reacción e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xotérmic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ergía de enlace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280" y="853920"/>
            <a:ext cx="8604360" cy="60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3200" spc="-1" strike="noStrike">
                <a:solidFill>
                  <a:srgbClr val="fee19a"/>
                </a:solidFill>
                <a:latin typeface="Times New Roman"/>
              </a:rPr>
              <a:t>Es la energía necesaria para romper un enlace de un mol de sustancia en estado gaseos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el caso de moléculas diatómicas es igual que la energía de disocia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—B(g)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(g) + B(g) 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di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= 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enlac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afd00"/>
                </a:solidFill>
                <a:uFillTx/>
                <a:latin typeface="Times New Roman"/>
              </a:rPr>
              <a:t>Ejemplo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2 H(g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 = 436 k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positiva (es necesario aportar energía al sistem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difícil de med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suele calcular aplicando la ley de H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alcular la energía del enlace H—Cl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en el cloruro de hidrógeno conociendo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HCl) cuyo valor es –92,3 kJ/mol y las entalpías de disociación del H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y del Cl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que son 436.0 kJ/mol y 243.4 kJ/mol, respectivamente.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reacción de disociación del HCl será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 HCl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(g) + Cl(g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 ½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 ½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Cl(g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–92.3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2H(g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436.0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 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2Cl(g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243.4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) = –(1) +  ½(2) +  ½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–(– 92.3 kJ ) + ½(436.0 kJ) +  ½(243.4 kJ) =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432.0 k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HCl)  =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 432.0 kJ/m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5867280"/>
            <a:ext cx="3962520" cy="6858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álculo de </a:t>
            </a:r>
            <a:r>
              <a:rPr b="0" lang="en-US" sz="4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0 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 partir de las</a:t>
            </a:r>
            <a:r>
              <a:rPr b="0" lang="en-US" sz="4400" spc="-1" strike="noStrike" baseline="30000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ergía de enlace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(disociación)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0520" indent="-2905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plicando la ley de Hess en cualquier caso se obtiene la siguiente fórmul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· 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enl. rotos)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· 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enl. formad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donde ni  representa el número de enlaces rotos y formados de cada tip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7880" y="3581280"/>
            <a:ext cx="8686800" cy="11430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2091600">
            <a:off x="7257240" y="1372320"/>
            <a:ext cx="1889280" cy="703800"/>
          </a:xfrm>
          <a:prstGeom prst="rect">
            <a:avLst/>
          </a:prstGeom>
          <a:solidFill>
            <a:srgbClr val="fb5bf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4600" y="138240"/>
            <a:ext cx="8077320" cy="16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Sabiendo que las energía de los siguientes enlaces (kJ/mol): C=C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 611; C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–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C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 347; C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–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H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: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 413 y H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–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H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: 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436, calcular el valor de </a:t>
            </a:r>
            <a:r>
              <a:rPr b="0" lang="es-ES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s-ES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 de la reacción de hidrogenación del eteno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cción: 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 el proceso se rompe un enlace C=C y otro H–H y se forman 2 enlaces C–H nuevos (el etano tiene 6 mientras que el eteno tenía sólo 4) y un enlace C–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nl. rotos)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nl. formados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1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=C) + 1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H–H) – 1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–C) – 2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–H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1 mol · 611 kJ/mol + 1mol · 436 kJ/mo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(1 mol · 347 kJ/mol + 2 mol · 413 kJ/mol) =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–126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24720" y="5373720"/>
            <a:ext cx="140328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324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9900"/>
                </a:solidFill>
                <a:uFillTx/>
                <a:latin typeface="Times New Roman"/>
              </a:rPr>
              <a:t>Ejercicio: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Calcular el calor de combustión de propano 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a partir de los datos de energía de enlace de la tabla</a:t>
            </a:r>
            <a:r>
              <a:rPr b="0" lang="es-ES" sz="2800" spc="-1" strike="noStrike">
                <a:solidFill>
                  <a:srgbClr val="fafd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-2296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8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 5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3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4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laces roto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 C–H, 2 C–C y 5 O=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laces formad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 C=O y 8 O–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. rotos)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. form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8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–H) + 2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–C) +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O=O) – [6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=O) + 8 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O–H)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8·413 kJ + 2·347 kJ +5·499 kJ – (6·745 kJ + 8·460 kJ) = –1657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com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–1657 kJ/m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477120" y="361800"/>
          <a:ext cx="2666880" cy="4743360"/>
        </p:xfrm>
        <a:graphic>
          <a:graphicData uri="http://schemas.openxmlformats.org/drawingml/2006/table">
            <a:tbl>
              <a:tblPr/>
              <a:tblGrid>
                <a:gridCol w="1066680"/>
                <a:gridCol w="160020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l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es-ES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kJ/mol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–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–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=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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=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–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–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–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=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–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–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3735360" y="6183360"/>
            <a:ext cx="2087640" cy="620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tropía (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a medida del desorden del sistema que sí puede medirse y tabula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= 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i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inici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en tablas de 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entropía molar estándar) de diferentes sustanci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7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una reacción quím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· 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product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· 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reactiv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entropía es una función de es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4267080"/>
            <a:ext cx="6476760" cy="76212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8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3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8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3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8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041800" cy="7129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489720" cy="9175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istema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e pequeña del universo que se aísla para someter a estud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resto se denomin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TOR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eden s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iertos (intercambia materia y energí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rados (no intercambia materia y sí energí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slados (no intercambia ni materia ni energí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reacciones químicas..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STEMAS = Sustancias quím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490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Calcular </a:t>
            </a:r>
            <a:r>
              <a:rPr b="0" lang="es-ES_tradnl" sz="2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s-ES_tradnl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para las siguientes reacciones químicas: </a:t>
            </a:r>
            <a:br>
              <a:rPr sz="2800"/>
            </a:b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a)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N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+ O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s-ES_tradnl" sz="2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2 NO(g); </a:t>
            </a:r>
            <a:br>
              <a:rPr sz="2800"/>
            </a:b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3 H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+ N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</a:t>
            </a:r>
            <a:r>
              <a:rPr b="0" lang="es-ES_tradnl" sz="2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2 NH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. </a:t>
            </a:r>
            <a:br>
              <a:rPr sz="2800"/>
            </a:br>
            <a:r>
              <a:rPr b="1" lang="es-ES_tradnl" sz="2800" spc="-1" strike="noStrike" u="sng">
                <a:solidFill>
                  <a:srgbClr val="fafd00"/>
                </a:solidFill>
                <a:uFillTx/>
                <a:latin typeface="Times New Roman"/>
              </a:rPr>
              <a:t>Datos: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S</a:t>
            </a:r>
            <a:r>
              <a:rPr b="0" lang="es-ES_tradnl" sz="28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 (J·mol</a:t>
            </a:r>
            <a:r>
              <a:rPr b="0" lang="es-ES_tradnl" sz="2800" spc="-1" strike="noStrike" baseline="30000">
                <a:solidFill>
                  <a:srgbClr val="fafd00"/>
                </a:solidFill>
                <a:latin typeface="Times New Roman"/>
              </a:rPr>
              <a:t>–1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·K</a:t>
            </a:r>
            <a:r>
              <a:rPr b="0" lang="es-ES_tradnl" sz="2800" spc="-1" strike="noStrike" baseline="30000">
                <a:solidFill>
                  <a:srgbClr val="fafd00"/>
                </a:solidFill>
                <a:latin typeface="Times New Roman"/>
              </a:rPr>
              <a:t>–1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): H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= 130.6; O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=205; N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= 191.5; NO(g) = 210.7; NH</a:t>
            </a:r>
            <a:r>
              <a:rPr b="0" lang="es-ES_tradnl" sz="28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fafd00"/>
                </a:solidFill>
                <a:latin typeface="Times New Roman"/>
              </a:rPr>
              <a:t>(g) =192.3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· 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product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· 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react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2 mol · 210.7 J ·mo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·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191.5  J·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 205 J·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24.9 J·K</a:t>
            </a:r>
            <a:r>
              <a:rPr b="1" lang="en-US" sz="2800" spc="-1" strike="noStrike" baseline="30000">
                <a:solidFill>
                  <a:srgbClr val="fafd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2·192.3 J·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3 mol ·130.6 J· mo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191.5 J·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1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–198,7 J·K</a:t>
            </a:r>
            <a:r>
              <a:rPr b="1" lang="en-US" sz="2800" spc="-1" strike="noStrike" baseline="30000">
                <a:solidFill>
                  <a:srgbClr val="fafd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76640" y="3762360"/>
            <a:ext cx="172908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47640" y="5300640"/>
            <a:ext cx="2016360" cy="647640"/>
          </a:xfrm>
          <a:prstGeom prst="rect">
            <a:avLst/>
          </a:prstGeom>
          <a:noFill/>
          <a:ln w="12600">
            <a:solidFill>
              <a:srgbClr val="bc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egundo principio de la Termodinámica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cualquier proceso espontáneo la entropía total del universo tiende a aumentar siempre”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univer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istem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ntorn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veces el sistema pierde entropía (se ordena) espontáneamente. En dichos casos el entorno se desorde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5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0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ercer principio de la Termodinámic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entropía de cualquier sustancia a 0 K es igual a 0” (máximo orde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ivale a decir que no se puede bajar de dicha temperatu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¡OJO!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 S de los elementos en condiciones estándar no son 0 sino que son  positiv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09120" y="152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</a:t>
            </a:r>
            <a:r>
              <a:rPr b="1" lang="es-ES_tradnl" sz="3200" spc="-1" strike="noStrike" u="sng">
                <a:solidFill>
                  <a:srgbClr val="fafd00"/>
                </a:solidFill>
                <a:uFillTx/>
                <a:latin typeface="Times New Roman"/>
              </a:rPr>
              <a:t>procesos reversible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y a </a:t>
            </a:r>
            <a:r>
              <a:rPr b="1" lang="es-ES_tradnl" sz="3200" spc="-1" strike="noStrike" u="sng">
                <a:solidFill>
                  <a:srgbClr val="fafd00"/>
                </a:solidFill>
                <a:uFillTx/>
                <a:latin typeface="Times New Roman"/>
              </a:rPr>
              <a:t>temperatura constante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puede calcular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 de un sistema como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(rev)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 = —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y si el proceso químico se produce a </a:t>
            </a:r>
            <a:r>
              <a:rPr b="1" lang="es-ES_tradnl" sz="3200" spc="-1" strike="noStrike" u="sng">
                <a:solidFill>
                  <a:srgbClr val="fafd00"/>
                </a:solidFill>
                <a:uFillTx/>
                <a:latin typeface="Times New Roman"/>
              </a:rPr>
              <a:t>presión constant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6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istema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istema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istema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 ———  ;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entorn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————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entropía molar estándar) se mide en</a:t>
            </a:r>
            <a:br>
              <a:rPr sz="3200"/>
            </a:b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J·mol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–1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–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reac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se mide e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J·K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–1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Energía libre de Gibbs (G)</a:t>
            </a:r>
            <a:br>
              <a:rPr sz="4400"/>
            </a:b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(energía libre o entalpía libre)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procesos a T constante se define com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 = H – T · 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 – T ·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condiciones estándar: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T·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univer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istem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ntorn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gt; 0 (p. espontáne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icando por “–T” y como “–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ntorn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 ·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univer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– T ·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is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i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 &lt;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procesos espontáneos: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 &lt;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&gt; 0   la reacción no es espontán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0 el sistema está en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2158920"/>
            <a:ext cx="3657600" cy="4572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2158920"/>
            <a:ext cx="3657600" cy="4572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619280" y="-531720"/>
            <a:ext cx="5753160" cy="8136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Variación de energía libre de una reacción (</a:t>
            </a:r>
            <a:r>
              <a:rPr b="0" lang="es-ES_tradnl" sz="4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G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es una función de es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 igual que el incremento entálpico el incremento de energía libre de una reacción puede obtenerse a partir de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de reactivos y produc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(productos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(reactiv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4800600"/>
            <a:ext cx="7467840" cy="1143000"/>
          </a:xfrm>
          <a:prstGeom prst="rect">
            <a:avLst/>
          </a:prstGeom>
          <a:noFill/>
          <a:ln w="12600">
            <a:solidFill>
              <a:srgbClr val="fee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ergía libre y Espontaneidad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 las reacciones química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30280" y="485784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act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265400" y="2927520"/>
            <a:ext cx="0" cy="2482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65400" y="5410080"/>
            <a:ext cx="2809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12720" y="4857840"/>
            <a:ext cx="1157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35360" y="4030560"/>
            <a:ext cx="115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-172080" y="359424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ergía libre (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70120" y="3571920"/>
            <a:ext cx="14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du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257560" y="4030560"/>
            <a:ext cx="1157040" cy="827280"/>
          </a:xfrm>
          <a:prstGeom prst="line">
            <a:avLst/>
          </a:prstGeom>
          <a:ln w="3816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70120" y="4583160"/>
            <a:ext cx="190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G &gt; 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253120" y="2914560"/>
            <a:ext cx="0" cy="2571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3120" y="5486400"/>
            <a:ext cx="2994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3825000" y="381168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ergía libre  (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29160" y="3200400"/>
            <a:ext cx="176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act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26400" y="481968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du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16640" y="3772080"/>
            <a:ext cx="1320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13520" y="4724280"/>
            <a:ext cx="1320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32600" y="3772080"/>
            <a:ext cx="1496880" cy="952200"/>
          </a:xfrm>
          <a:prstGeom prst="line">
            <a:avLst/>
          </a:prstGeom>
          <a:ln w="3816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13520" y="3581280"/>
            <a:ext cx="1409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G &lt; 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1828800"/>
            <a:ext cx="3338280" cy="520560"/>
          </a:xfrm>
          <a:prstGeom prst="rect">
            <a:avLst/>
          </a:prstGeom>
          <a:noFill/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Reac.   espontán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T, p = ct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91320" y="556272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T, p = ct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533520"/>
          </a:xfrm>
          <a:prstGeom prst="rect">
            <a:avLst/>
          </a:prstGeom>
          <a:noFill/>
          <a:ln w="12600">
            <a:solidFill>
              <a:srgbClr val="f57b49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Reac.  no espontán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spontaneidad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 las reacciones químicas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iempre las reacciones exotérmicas son espontán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reacciones endotérmicas espontáne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poración de líqu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olución de sales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Ejemplos de reacciones endotérmicas espontán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(s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q) + 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(aq)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14.7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(l)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(g)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44.0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0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3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8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3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8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Espontaneidad de las </a:t>
            </a:r>
            <a:br>
              <a:rPr sz="4400"/>
            </a:b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reacciones químicas (cont)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280" y="1296720"/>
            <a:ext cx="8604360" cy="57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reacción es espontánea cuando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G (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H – T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S)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es negativ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gún sean positivos o negativos los valores de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siempre es positiva) se cumplirá qu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 &lt; 0 y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S &gt; 0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&lt; 0 Espontáne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 &gt; 0 y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S &lt; 0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&gt; 0 No espontán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 &lt; 0 y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S &lt; 0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&lt; 0 a T bajas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&gt; 0 a T al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 &gt; 0 y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S &gt; 0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&lt; 0 a T altas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 &gt; 0 a T baj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Definición de Termoquímica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la parte de la Química que se encarga del estudio del intercambio energético de un sistema químico con el exter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y sistemas químicos que evolucionan de reactivos a productos desprendiendo energía. Son las reacciones 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exotérmica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tros sistemas químicos evolucionan de reactivos a productos precisando energía. Son las reacciones </a:t>
            </a:r>
            <a:r>
              <a:rPr b="1" lang="es-ES_tradnl" sz="3200" spc="-1" strike="noStrike">
                <a:solidFill>
                  <a:srgbClr val="fafd00"/>
                </a:solidFill>
                <a:latin typeface="Times New Roman"/>
              </a:rPr>
              <a:t>endotérmica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Espontaneidad de las </a:t>
            </a:r>
            <a:br>
              <a:rPr sz="4400"/>
            </a:br>
            <a:r>
              <a:rPr b="0" lang="es-ES_tradnl" sz="4400" spc="-1" strike="noStrike">
                <a:solidFill>
                  <a:srgbClr val="fafd00"/>
                </a:solidFill>
                <a:latin typeface="Times New Roman"/>
              </a:rPr>
              <a:t>reacciones químicas (cont)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648320" y="1905120"/>
            <a:ext cx="0" cy="40384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1828800"/>
            <a:ext cx="2971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 &gt; 0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 &gt;  0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spontánea  a  temperaturas alt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1905120"/>
            <a:ext cx="3124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 &lt; 0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 &gt;  0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spontánea  a  todas las temperatur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4343400"/>
            <a:ext cx="2971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 &lt; 0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 &lt;  0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spontánea  a  temperaturas baj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4120" y="4267080"/>
            <a:ext cx="3809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 &gt; 0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 &lt;  0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No Espontánea  a  cualquier temperatur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1905120"/>
            <a:ext cx="1371600" cy="914400"/>
          </a:xfrm>
          <a:prstGeom prst="rect">
            <a:avLst/>
          </a:prstGeom>
          <a:noFill/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1828800"/>
            <a:ext cx="1447920" cy="914400"/>
          </a:xfrm>
          <a:prstGeom prst="rect">
            <a:avLst/>
          </a:prstGeom>
          <a:noFill/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19320" y="4343400"/>
            <a:ext cx="1447560" cy="914400"/>
          </a:xfrm>
          <a:prstGeom prst="rect">
            <a:avLst/>
          </a:prstGeom>
          <a:noFill/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4343400"/>
            <a:ext cx="1524240" cy="838080"/>
          </a:xfrm>
          <a:prstGeom prst="rect">
            <a:avLst/>
          </a:prstGeom>
          <a:noFill/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4114800"/>
            <a:ext cx="76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afd00"/>
                </a:solidFill>
                <a:latin typeface="Times New Roman"/>
              </a:rPr>
              <a:t>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182880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fafd00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2091600">
            <a:off x="7257240" y="534240"/>
            <a:ext cx="1889280" cy="703800"/>
          </a:xfrm>
          <a:prstGeom prst="rect">
            <a:avLst/>
          </a:prstGeom>
          <a:solidFill>
            <a:srgbClr val="fb5bf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Y IMPORT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5280" y="1052280"/>
            <a:ext cx="8388360" cy="10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6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emplo: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¿Será o no espontánea la siguiente reacción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H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(l)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2H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(l) + O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(g)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n condiciones estándar?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4360" y="3068280"/>
            <a:ext cx="7704000" cy="33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Dato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s-ES_tradnl" sz="32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f 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(kJ/mol) H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O(l) =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–285.8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                      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O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(l) =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–187.8 ;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</a:t>
            </a:r>
            <a:r>
              <a:rPr b="0" lang="es-ES_tradnl" sz="3200" spc="-1" strike="noStrike" baseline="30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(J·mol</a:t>
            </a:r>
            <a:r>
              <a:rPr b="0" lang="es-ES_tradnl" sz="3200" spc="-1" strike="noStrike" baseline="30000">
                <a:solidFill>
                  <a:srgbClr val="fafd00"/>
                </a:solidFill>
                <a:latin typeface="Times New Roman"/>
              </a:rPr>
              <a:t>-1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K</a:t>
            </a:r>
            <a:r>
              <a:rPr b="0" lang="es-ES_tradnl" sz="3200" spc="-1" strike="noStrike" baseline="30000">
                <a:solidFill>
                  <a:srgbClr val="fafd00"/>
                </a:solidFill>
                <a:latin typeface="Times New Roman"/>
              </a:rPr>
              <a:t>-1)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H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O(l) =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69.9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                       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O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(l) = 109.6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                          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O</a:t>
            </a:r>
            <a:r>
              <a:rPr b="0" lang="es-ES_tradnl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afd00"/>
                </a:solidFill>
                <a:latin typeface="Times New Roman"/>
              </a:rPr>
              <a:t>(g) =205.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539640" y="404640"/>
            <a:ext cx="8280360" cy="64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np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productos)–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nr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reactivos) =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= 2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O) +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O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) – 2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) =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2 mol(–285.8 kJ/mol) – 2 mol(–187.8 kJ/mol)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= –196.0 k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np· S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roductos –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nr· S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reactivos =</a:t>
            </a:r>
            <a:br>
              <a:rPr sz="2600"/>
            </a:b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2 S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O) + S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O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) –  2 S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H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) =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2 mol(69.9 J/mol·K) + 1 mol(205. J/mol·K)</a:t>
            </a:r>
            <a:br>
              <a:rPr sz="2600"/>
            </a:b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– 2mol(109.6 J/mol·K) = 126.0 J / K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= 0.126 kJ / 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– T ·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lang="es-ES_tradnl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= –196.0 kJ – 298 K · 0.126 kJ/ K =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s-ES_tradnl" sz="26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s-ES_tradnl" sz="2600" spc="-1" strike="noStrike">
                <a:solidFill>
                  <a:srgbClr val="fafd00"/>
                </a:solidFill>
                <a:latin typeface="Times New Roman"/>
              </a:rPr>
              <a:t>G0 = – 233.5 kJ   luego será espontáne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ariables de estad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gnitudes que pueden variar a lo largo de un proceso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(por ejemplo, en el transcurso de una reacción química)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ee19a"/>
                </a:solidFill>
                <a:uFillTx/>
                <a:latin typeface="Times New Roman"/>
              </a:rPr>
              <a:t>Ejempl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mperatu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olu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centració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unciones de estad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enen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alor únic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ara cada estado del siste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 variación solo depen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l estado inicial y final y no del camino desarrollad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Í s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Presión, temperatura, energía interna, entalp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 s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calor, traba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mer principio de la Termodinámic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ÍA INTERNA (U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s la energía total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 sistema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imposible medi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 variación sí se m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U = Q + 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 y W &gt; 0 si se realizan a favor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 es función de es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556000" y="2781360"/>
            <a:ext cx="4647600" cy="2005560"/>
            <a:chOff x="2556000" y="2781360"/>
            <a:chExt cx="4647600" cy="2005560"/>
          </a:xfrm>
        </p:grpSpPr>
        <p:sp>
          <p:nvSpPr>
            <p:cNvPr id="70" name=""/>
            <p:cNvSpPr/>
            <p:nvPr/>
          </p:nvSpPr>
          <p:spPr>
            <a:xfrm>
              <a:off x="3698640" y="2781360"/>
              <a:ext cx="2285640" cy="198108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31960" y="331452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98840" y="331452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708280" y="4305240"/>
              <a:ext cx="152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298840" y="430524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3774960" y="3619440"/>
              <a:ext cx="1514160" cy="42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latin typeface="Arial Black"/>
                </a:rPr>
                <a:t>   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Arial Black"/>
                </a:rPr>
                <a:t>SISTE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56000" y="2857320"/>
              <a:ext cx="1523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AL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Q &gt; 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32360" y="2933640"/>
              <a:ext cx="11426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AL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Q &lt; 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31960" y="3848040"/>
              <a:ext cx="14475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TRABAJ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W &lt;  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56040" y="3924360"/>
              <a:ext cx="14475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TRABAJ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W &gt; 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21:16:56Z</dcterms:created>
  <dc:creator>Fco. Javier Gutiérrez</dc:creator>
  <dc:description/>
  <dc:language>en-US</dc:language>
  <cp:lastModifiedBy>RICARDO LETELIER</cp:lastModifiedBy>
  <cp:lastPrinted>1998-10-08T09:53:56Z</cp:lastPrinted>
  <dcterms:modified xsi:type="dcterms:W3CDTF">2005-06-07T20:13:04Z</dcterms:modified>
  <cp:revision>113</cp:revision>
  <dc:subject/>
  <dc:title>TERMOQUÍMICA</dc:title>
</cp:coreProperties>
</file>