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D126-52CD-4346-918F-273DB49B4F15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458200" y="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8DC-A531-446F-96D0-3D88C845754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MOQUÍ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el intercambio de energía en un recipiente cerrado que no cambia de volum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V= constante, es decir,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W =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mayoría de los procesos químicos ocurren a presión constante, normalmente la atmosfé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p = ct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W =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 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 p · (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entalpí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991040" y="5067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781360" y="5067360"/>
            <a:ext cx="380880" cy="1676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90" dur="1" fill="hold"/>
                                  <p:tgtEl>
                                    <p:spTgt spid="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91" dur="1" fill="hold"/>
                                  <p:tgtEl>
                                    <p:spTgt spid="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;   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+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1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es una función de estado.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218960"/>
            <a:ext cx="3581280" cy="2210040"/>
            <a:chOff x="5562720" y="1218960"/>
            <a:chExt cx="3581280" cy="2210040"/>
          </a:xfrm>
        </p:grpSpPr>
        <p:sp>
          <p:nvSpPr>
            <p:cNvPr id="90" name=""/>
            <p:cNvSpPr/>
            <p:nvPr/>
          </p:nvSpPr>
          <p:spPr>
            <a:xfrm>
              <a:off x="6248520" y="29718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ac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562720" y="1218960"/>
              <a:ext cx="3581280" cy="2210040"/>
              <a:chOff x="5562720" y="1218960"/>
              <a:chExt cx="3581280" cy="22100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6095880" y="137124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95880" y="342900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24480" y="2971800"/>
                <a:ext cx="106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43800" y="2286000"/>
                <a:ext cx="1066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884120" y="189720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520" y="1905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010280" y="2285640"/>
                <a:ext cx="1067040" cy="68580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274320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g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152388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nd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715000" y="3733920"/>
            <a:ext cx="3429000" cy="2133360"/>
            <a:chOff x="5715000" y="3733920"/>
            <a:chExt cx="3429000" cy="2133360"/>
          </a:xfrm>
        </p:grpSpPr>
        <p:sp>
          <p:nvSpPr>
            <p:cNvPr id="102" name=""/>
            <p:cNvSpPr/>
            <p:nvPr/>
          </p:nvSpPr>
          <p:spPr>
            <a:xfrm flipV="1">
              <a:off x="6172200" y="38095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15000" y="3733920"/>
              <a:ext cx="3429000" cy="2133360"/>
              <a:chOff x="5715000" y="3733920"/>
              <a:chExt cx="3429000" cy="213336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586728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5036400" y="44877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24480" y="40384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activ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5334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0800" y="449568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96080" y="525780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34320" y="4495680"/>
                <a:ext cx="1295280" cy="76212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96080" y="43434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l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37339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x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gases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p ·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licando la ecuación de los gases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 · V =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 si p y T son constantes la ecuación se cumplirá para los estados inicial y final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V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sólidos y líquido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reacciones de sólidos y líquidos apenas se produce variación de volumen y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U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1008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En termoquímica el valor de R suele tomarse en unidades del sistema internacional.  Se sabe que R = 0,082 atm·l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. Determinar el valor de  R en el S.I con sus unidades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 = d g h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atm = 13546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3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,8 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76 m =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900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445140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5140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la variación de energía interna para el proceso de combustión de 1 mol de propano a 25ºC y 1 atm, si la variación de entalpía, en estas condiciones, vale – 2219,8 kJ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5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4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(l)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= –2219,8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1+5 = 6 ;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3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= –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pejando en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 =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–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· R · T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219 kJ + 3 mol · (8,3 J/mol.K) · 298 K = –22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=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– 2212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la reacció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1" lang="es-ES_tradnl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ee19a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como se mide en J o kJ depende de cómo se ajuste la  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sí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 reacción “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 es el doble del de “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½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roduct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an tanto los reactivos como los productos indicando entre paréntesis su estado físico, y a continuación la variación energética expresada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(habitualmente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890 kJ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241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s, estados y funciones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mer principio de la Termodinám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interna y entalpía. Reacciones 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umen y a presión cons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entre amb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uaciones termoquím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formación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las entalpías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y de H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19a"/>
                </a:solidFill>
                <a:uFillTx/>
                <a:latin typeface="Times New Roman"/>
              </a:rPr>
              <a:t>¡OJO!:</a:t>
            </a: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pende del número de moles que se forman o producen. Por tanto, si se ajusta poniendo coeficientes dobles, habrá que multiplic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2· (–241.4 kJ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frecuencia, suelen usarse coeficientes fraccionarios para ajustar las ecu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 –241.4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formación (calor de form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) que se produce en la reacción de formación de </a:t>
            </a:r>
            <a:r>
              <a:rPr b="1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un mo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un determinado compuesto a partir de los elementos en estado físico normal (en condiciones estánd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trata de un “calor molar”, es decir, el cociente entr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el número de moles formados de produc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, se mide en kJ/m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(s) +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393.13 kJ/mol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285.8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26120" cy="738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calor de reacción)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ndo la ley de Hess podemos concluir qu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todos los elementos en estado original es 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combustión del butano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duct.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activos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l(– 393.5 kJ/mol) + 5 mol(– 285.8 kJ/mol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1 mol(– 124.7 kJ/mol) = 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la entalpía estándar de combustión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ust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ee19a"/>
                </a:solidFill>
                <a:latin typeface="Times New Roman"/>
              </a:rPr>
              <a:t>H en una reacción química es constante con independencia de que la reacción se produzca en una o más etapas</a:t>
            </a:r>
            <a:r>
              <a:rPr b="0" lang="en-US" sz="3200" spc="-1" strike="noStrike">
                <a:solidFill>
                  <a:srgbClr val="fee19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H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tanto, si una ecuación química se puede expresar como combinación lineal de otras, podremos igualmente calcul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la reacción global combinando lo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cada una de las reac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adas las reaccione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(1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41.8 kJ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 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talpía de vaporización del agua en condiciones estándar.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eacción de vaporización 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puede expresarse como (1) – (2), l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41.8 kJ – (–285.8 kJ) = 44 k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aporizació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4 kJ /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quema de la 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41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85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utilizamos la ley de Hess, la rea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4)  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ede obtenerse a partir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285.8 kJ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393.5 kJ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 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124.7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4 · (2) + 5 · 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(s) + 4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5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/2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+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4 mol(–393.5 kJ/mol) + 5 mol(–285.8 kJ/mol) –1 mol(– 124.7 kJ/mol)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175" name="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1" lang="en-US" sz="32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rtir de los calores de reacción de las siguientes reacciones químicas: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 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 C(s) +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  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eacción de formación del eteno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a partir de sus constituyentes en estado normal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 se puede expresar como 2·(2) + 2·(1) –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o entalpía de enlace de enlac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1.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lculo de la energía de reacción a partir de entalpías de enlace aplicando la ley de H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1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undo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2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.-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libre de Gib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1.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Influencia de la tempera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partir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 los calores de reacción de las siguientes reacciones química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2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2·(2) + 2·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 · (–393.13 kJ) + 2 · (– 285.8 kJ) – (– 1422 kJ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64’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decir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eteno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64.14 kJ/m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trata, pues, de una reacción endotér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8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s entalpías de combustión de la glucosa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 del etanol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H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on –2815 kJ/mol y –1372 kJ/mol, respectivamente. Con estos datos determina la energía intercambiada en la fermenta– ción de un mol de glucosa, reacción en la que se produce etanol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 ¿Es exotérmica la reacción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 reacciones de combustión son, respectivamente: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6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815 kJ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+ 3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72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reacción de fermentación de la glucosa 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H +2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puede expresarse como (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2), luego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815 kJ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372 kJ) =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 71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 la reacción 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xotérmic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Es la energía necesaria para romper un enlace de un mol de sustancia en estado gaseo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caso de moléculas diatómicas es igual que la energía de disoci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—B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(g) + B(g)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d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lac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2 H(g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= 43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tiva (es necesario aportar energía a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difícil de med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suele calcular aplicando la ley de H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ergía del enlace H—Cl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en el cloruro de hidrógeno conociendo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HCl) cuyo valor es –92,3 kJ/mol y las entalpías de disociación del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y del 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que son 436.0 kJ/mol y 243.4 kJ/mol, respectivamente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disociación del HCl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HCl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(g) + 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½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Cl(g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92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H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36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43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–(1) +  ½(2) +  ½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(– 92.3 kJ ) + ½(436.0 kJ) +  ½(243.4 kJ) =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32.0 k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Cl)  =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432.0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partir de la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disoci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ndo la ley de Hess en cualquier caso se obtiene la siguiente fó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rotos)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form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donde ni  representa el número de enlaces rotos y formados de cada tip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91600">
            <a:off x="7257240" y="137232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13824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611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347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413 y H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436, calcular el valor de </a:t>
            </a:r>
            <a:r>
              <a:rPr b="0" lang="es-E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de la reacción de hidrogenación del ete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ción: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formados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C) + 1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–H) –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–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 mol · 611 kJ/mol + 1mol · 436 kJ/m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(1 mol · 347 kJ/mol + 2 mol · 413 kJ/mol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26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324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9900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Calcular el calor de combustión de propano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a partir de los datos de energía de enlace de la tabla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5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roto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C–H, 2 C–C y 5 O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form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C=O y 8 O–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form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+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+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=O) – [6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O) +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–H)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·413 kJ + 2·347 kJ +5·499 kJ – (6·745 kJ + 8·460 kJ) = –165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657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477120" y="361800"/>
          <a:ext cx="2666880" cy="474336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ropía (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medida del desorden del sistema que sí puede medirse y tabula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ni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en tablas de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ntropía molar estándar) de diferentes sustanc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a reacción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7129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9720" cy="9175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stem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e pequeña del universo que se aísla para someter a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resto se denomin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ertos (intercambia materia y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rados (no intercambia materia y sí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slados (no intercambia ni materia ni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reacciones química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= Sustancias quí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90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Calcular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para las siguientes reacciones químicas: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a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O(g);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3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. </a:t>
            </a:r>
            <a:br>
              <a:rPr sz="2800"/>
            </a:br>
            <a:r>
              <a:rPr b="1" lang="es-ES_tradnl" sz="2800" spc="-1" strike="noStrike" u="sng">
                <a:solidFill>
                  <a:srgbClr val="fafd00"/>
                </a:solidFill>
                <a:uFillTx/>
                <a:latin typeface="Times New Roman"/>
              </a:rPr>
              <a:t>Datos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(J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):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30.6;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205;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91.5; NO(g) = 210.7;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192.3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 mol · 210.7 J ·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1.5 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 20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4.9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192.3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3 mol ·130.6 J· 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91.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98,7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530064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gundo principio de la Termodiná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ualquier proceso espontáneo la entropía total del universo tiende a aumentar siempre”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ces el sistema pierde entropía (se ordena) espontáneamente. En dichos casos el entorno se desord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c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de cualquier sustancia a 0 K es igual a 0” (máximo orde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 a decir que no se puede bajar de dich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¡OJO!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S de los elementos en condiciones estándar no son 0 sino que son  posi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ocesos reversib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y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temperatura constante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 calcular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de un sistema co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v)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= —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el proceso químico se produce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esión consta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6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 ———  ;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orn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————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tropía molar estándar) se mide en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J·mol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mide e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nergía libre de Gibbs (G)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energía libre o entalpía libre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a T constante se define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H – T · 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ondiciones estándar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·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0 (p. espontáne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ndo por “–T” y como “–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espontáneo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gt; 0   la reacción no es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 el sistema está en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753160" cy="8136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Variación de energía libre de una reacción (</a:t>
            </a:r>
            <a:r>
              <a:rPr b="0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G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igual que el incremento entálpico el incremento de energía libre de una reacción puede obtenerse a partir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reactivos y produ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libre y 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 las reacciones 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no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 las reacciones química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empre las reacciones exotérmicas son espontán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reacciones endotérmicas espontán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ción de líqu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lución de sal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jemplos de reacciones endotérmicas espontán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(s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aq)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4.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4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reacción es espontánea cuand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G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– T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es neg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sean positivos o negativos los valores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siempre es positiva) se cumplirá qu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Espontáne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No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bajas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al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altas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Definición de Termoquí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parte de la Química que se encarga del estudio del intercambio energético de un sistema químico con e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sistemas químicos que evolucionan de reactivos a productos desprendie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x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 sistemas químicos evolucionan de reactivos a productos precisa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nd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al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odas las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baj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 Espontánea  a  cualquier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838836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¿Será o no espontánea la siguiente reacció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 + 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g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n condiciones estándar?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77040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Dat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f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kJ/mol)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285.8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187.8 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J·mol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K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)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9.9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109.6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g) =205.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404640"/>
            <a:ext cx="82803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productos)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reactivos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–285.8 kJ/mol) – 2 mol(–187.8 kJ/mol)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–196.0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os 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activos =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69.9 J/mol·K) + 1 mol(205. J/mol·K)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2mol(109.6 J/mol·K) = 126.0 J / K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0.126 kJ / 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T ·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–196.0 kJ – 298 K · 0.126 kJ/ K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G0 = – 233.5 kJ   luego será espontán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riabl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gnitudes que pueden variar a lo largo de un proceso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or ejemplo, en el transcurso de una reacción química)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mpera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olu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ntrac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ion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en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or ún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 cada estado del sis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 variación solo depe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l estado inicial y final y no del camino desarroll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Í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esión, temperatura, energía interna, ental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alor,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ÍA INTERNA (U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 la energía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 sistem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osible med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 variación sí se m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U = Q + 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y W &gt; 0 si se realizan a favor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81360"/>
            <a:ext cx="4647600" cy="2005560"/>
            <a:chOff x="2556000" y="2781360"/>
            <a:chExt cx="4647600" cy="2005560"/>
          </a:xfrm>
        </p:grpSpPr>
        <p:sp>
          <p:nvSpPr>
            <p:cNvPr id="70" name=""/>
            <p:cNvSpPr/>
            <p:nvPr/>
          </p:nvSpPr>
          <p:spPr>
            <a:xfrm>
              <a:off x="3698640" y="2781360"/>
              <a:ext cx="2285640" cy="19810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196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9884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08280" y="4305240"/>
              <a:ext cx="152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298840" y="4305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774960" y="3619440"/>
              <a:ext cx="151416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285732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32360" y="2933640"/>
              <a:ext cx="1142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l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31960" y="384804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lt; 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6040" y="392436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RICARDO LETELIER</cp:lastModifiedBy>
  <cp:lastPrinted>1998-10-08T09:53:56Z</cp:lastPrinted>
  <dcterms:modified xsi:type="dcterms:W3CDTF">2005-06-07T20:13:04Z</dcterms:modified>
  <cp:revision>113</cp:revision>
  <dc:subject/>
  <dc:title>TERMOQUÍMICA</dc:title>
</cp:coreProperties>
</file>