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44440" y="85212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81840" y="93772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80EC-8295-4204-9FB2-E95BC2E1AACF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458200" y="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C8D8-C8FA-4FB0-BA67-B0AEBD6755CB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RMOQUÍ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volume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 el intercambio de energía en un recipiente cerrado que no cambia de volum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V= constante, es decir,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 = 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W =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v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= </a:t>
            </a: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76640"/>
            <a:ext cx="1944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mayoría de los procesos químicos ocurren a presión constante, normalmente la atmosfér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p = ct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W = – p ·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 = 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p ·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 p · (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entalpí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4991040" y="5067000"/>
            <a:ext cx="380880" cy="1676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781360" y="5067360"/>
            <a:ext cx="380880" cy="167616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" dur="1" fill="hold"/>
                                  <p:tgtEl>
                                    <p:spTgt spid="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  <p:animClr clrSpc="rgb">
                                <p:cBhvr>
                                  <p:cTn id="94" dur="1" fill="hold"/>
                                  <p:tgtEl>
                                    <p:spTgt spid="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  <p:animClr clrSpc="rgb">
                                <p:cBhvr>
                                  <p:cTn id="95" dur="1" fill="hold"/>
                                  <p:tgtEl>
                                    <p:spTgt spid="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;   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+ H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H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= H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–  H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1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= </a:t>
            </a: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es una función de estado.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62720" y="1218960"/>
            <a:ext cx="3581280" cy="2210040"/>
            <a:chOff x="5562720" y="1218960"/>
            <a:chExt cx="3581280" cy="2210040"/>
          </a:xfrm>
        </p:grpSpPr>
        <p:sp>
          <p:nvSpPr>
            <p:cNvPr id="90" name=""/>
            <p:cNvSpPr/>
            <p:nvPr/>
          </p:nvSpPr>
          <p:spPr>
            <a:xfrm>
              <a:off x="6248520" y="297180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acti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562720" y="1218960"/>
              <a:ext cx="3581280" cy="2210040"/>
              <a:chOff x="5562720" y="1218960"/>
              <a:chExt cx="3581280" cy="221004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6095880" y="137124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95880" y="3429000"/>
                <a:ext cx="259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24480" y="2971800"/>
                <a:ext cx="1067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43800" y="2286000"/>
                <a:ext cx="1066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4884120" y="189720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Entalpia (H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91520" y="19051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roduct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7010280" y="2285640"/>
                <a:ext cx="1067040" cy="685800"/>
              </a:xfrm>
              <a:prstGeom prst="line">
                <a:avLst/>
              </a:prstGeom>
              <a:ln w="38160">
                <a:solidFill>
                  <a:srgbClr val="f57b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91520" y="2743200"/>
                <a:ext cx="17524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Times New Roman"/>
                  </a:rPr>
                  <a:t>H &gt; 0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00800" y="152388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afd00"/>
                    </a:solidFill>
                    <a:latin typeface="Times New Roman"/>
                  </a:rPr>
                  <a:t>Reac. endotérmic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5715000" y="3733920"/>
            <a:ext cx="3429000" cy="2133360"/>
            <a:chOff x="5715000" y="3733920"/>
            <a:chExt cx="3429000" cy="2133360"/>
          </a:xfrm>
        </p:grpSpPr>
        <p:sp>
          <p:nvSpPr>
            <p:cNvPr id="102" name=""/>
            <p:cNvSpPr/>
            <p:nvPr/>
          </p:nvSpPr>
          <p:spPr>
            <a:xfrm flipV="1">
              <a:off x="6172200" y="380952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715000" y="3733920"/>
              <a:ext cx="3429000" cy="2133360"/>
              <a:chOff x="5715000" y="3733920"/>
              <a:chExt cx="3429000" cy="2133360"/>
            </a:xfrm>
          </p:grpSpPr>
          <p:sp>
            <p:nvSpPr>
              <p:cNvPr id="104" name=""/>
              <p:cNvSpPr/>
              <p:nvPr/>
            </p:nvSpPr>
            <p:spPr>
              <a:xfrm>
                <a:off x="6172200" y="5867280"/>
                <a:ext cx="259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6200000">
                <a:off x="5036400" y="448776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Entalpia (H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24480" y="403848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eactiv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20120" y="53341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roduct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00800" y="4495680"/>
                <a:ext cx="1143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96080" y="5257800"/>
                <a:ext cx="1143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34320" y="4495680"/>
                <a:ext cx="1295280" cy="762120"/>
              </a:xfrm>
              <a:prstGeom prst="line">
                <a:avLst/>
              </a:prstGeom>
              <a:ln w="38160">
                <a:solidFill>
                  <a:srgbClr val="f57b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96080" y="4343400"/>
                <a:ext cx="1219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Times New Roman"/>
                  </a:rPr>
                  <a:t>H &lt; 0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81680" y="37339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afd00"/>
                    </a:solidFill>
                    <a:latin typeface="Times New Roman"/>
                  </a:rPr>
                  <a:t>Reac. exotérmic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547640" y="3716280"/>
            <a:ext cx="3600720" cy="86508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lación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on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gases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H =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U + p ·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plicando la ecuación de los gases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 · V =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 si p y T son constantes la ecuación se cumplirá para los estados inicial y final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p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V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H =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U +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1752480"/>
            <a:ext cx="388620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5334120"/>
            <a:ext cx="426744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lación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on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sólidos y líquido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reacciones de sólidos y líquidos apenas se produce variación de volumen y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1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es dec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U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H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048120"/>
            <a:ext cx="236232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43400"/>
            <a:ext cx="259056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10080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En termoquímica el valor de R suele tomarse en unidades del sistema internacional.  Se sabe que R = 0,082 atm·l·mol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. Determinar el valor de  R en el S.I con sus unidades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860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 = d g h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atm = 13546 kg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3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,8 m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,76 m =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900 kg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49720"/>
            <a:ext cx="9144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520" y="31964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4451400"/>
          <a:ext cx="91440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51400"/>
                    <a:ext cx="9144000" cy="777960"/>
                  </a:xfrm>
                  <a:prstGeom prst="rect">
                    <a:avLst/>
                  </a:prstGeom>
                  <a:ln w="9360">
                    <a:solidFill>
                      <a:srgbClr val="bcf9fe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la variación de energía interna para el proceso de combustión de 1 mol de propano a 25ºC y 1 atm, si la variación de entalpía, en estas condiciones, vale – 2219,8 kJ.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+ 5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3 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+ 4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 (l)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 = –2219,8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1+5 = 6 ; 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3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 = –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pejando en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U =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 –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 · R · T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219 kJ + 3 mol · (8,3 J/mol.K) · 298 K = –221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U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=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– 2212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5181480"/>
            <a:ext cx="3047760" cy="68580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alpía estándar de la reacció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el incremento entálpico de una reacción en la cual, tanto reactivos como productos están en condiciones estándar (p = 1 atm; T = 298 K = 25 ºC; conc. = 1 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expresa como </a:t>
            </a:r>
            <a:r>
              <a:rPr b="1" lang="es-ES_tradnl" sz="3200" spc="-1" strike="noStrike">
                <a:solidFill>
                  <a:srgbClr val="fee19a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ee19a"/>
                </a:solidFill>
                <a:latin typeface="Times New Roman"/>
              </a:rPr>
              <a:t>H</a:t>
            </a:r>
            <a:r>
              <a:rPr b="1" lang="es-ES_tradnl" sz="3200" spc="-1" strike="noStrike" baseline="30000">
                <a:solidFill>
                  <a:srgbClr val="fee19a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como se mide en J o kJ depende de cómo se ajuste la  reac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sí,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de la reacción “2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+ O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2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” es el doble del de “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+ ½ O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”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= 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productos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–  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reac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867280"/>
            <a:ext cx="5029200" cy="8384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cuaciones termo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an tanto los reactivos como los productos indicando entre paréntesis su estado físico, y a continuación la variación energética expresada com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(habitualmente com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s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2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2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;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890 kJ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g)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241.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enidos (1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s, estados y funciones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imer principio de la Termodinám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interna y entalpía. Reacciones a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olumen y a presión const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1.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lación entre amb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alpía estándar de rea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1.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uaciones termoquím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alpía estándar de formación.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las entalpías de rea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7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ey de Hes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cuaciones termo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19a"/>
                </a:solidFill>
                <a:uFillTx/>
                <a:latin typeface="Times New Roman"/>
              </a:rPr>
              <a:t>¡OJO!:</a:t>
            </a:r>
            <a:r>
              <a:rPr b="0" lang="en-US" sz="3200" spc="-1" strike="noStrike">
                <a:solidFill>
                  <a:srgbClr val="f95ab7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pende del número de moles que se forman o producen. Por tanto, si se ajusta poniendo coeficientes dobles, habrá que multiplica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r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spcAft>
                <a:spcPts val="1301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g) ;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2· (–241.4 kJ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 frecuencia, suelen usarse coeficientes fraccionarios para ajustar las ecuac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spcAft>
                <a:spcPts val="1301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g) ;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= –241.4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alpía estándar de formación (calor de formación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24452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el incremento entálpico (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) que se produce en la reacción de formación de </a:t>
            </a:r>
            <a:r>
              <a:rPr b="1" lang="es-ES_tradnl" sz="3200" spc="-1" strike="noStrike" u="sng">
                <a:solidFill>
                  <a:srgbClr val="fee19a"/>
                </a:solidFill>
                <a:uFillTx/>
                <a:latin typeface="Times New Roman"/>
              </a:rPr>
              <a:t>un mo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e un determinado compuesto a partir de los elementos en estado físico normal (en condiciones estánd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expresa com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trata de un “calor molar”, es decir, el cociente entr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y el número de moles formados de produc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, se mide en kJ/m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s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(s) +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– 393.13 kJ/mol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– 285.8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226120" cy="7389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álculo de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calor de reacción)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ndo la ley de Hess podemos concluir qu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(productos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(reactiv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erda qu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 todos los elementos en estado original es 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200400"/>
            <a:ext cx="7010280" cy="12952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nocidas las entalpías estándar de formación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el buta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, agua líquida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, cuyos valores son respectivamente –124.7, –285.8 y –393.5 kJ/mol, calcular la entalpía estándar de combustión del butano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reacción de combustión del butano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13/2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4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duct.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activos) =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ol(– 393.5 kJ/mol) + 5 mol(– 285.8 kJ/mol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1 mol(– 124.7 kJ/mol) = – 2878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ego la entalpía estándar de combustión ser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ust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 2878.3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4876920"/>
            <a:ext cx="548640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y de He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19a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ee19a"/>
                </a:solidFill>
                <a:latin typeface="Times New Roman"/>
              </a:rPr>
              <a:t>H en una reacción química es constante con independencia de que la reacción se produzca en una o más etapas</a:t>
            </a:r>
            <a:r>
              <a:rPr b="0" lang="en-US" sz="3200" spc="-1" strike="noStrike">
                <a:solidFill>
                  <a:srgbClr val="fee19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erda que H es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tanto, si una ecuación química se puede expresar como combinación lineal de otras, podremos igualmente calcula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 la reacción global combinando lo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 cada una de las reacci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ee19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adas las reaccione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(1)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g) 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41.8 kJ</a:t>
            </a:r>
            <a:r>
              <a:rPr b="0" lang="en-US" sz="35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2)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  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85.8 kJ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lcular la entalpía de vaporización del agua en condiciones estándar.</a:t>
            </a:r>
            <a:r>
              <a:rPr b="0" lang="en-US" sz="35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eacción de vaporización e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(g)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puede expresarse como (1) – (2), lu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241.8 kJ – (–285.8 kJ) = 44 k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ctr">
              <a:lnSpc>
                <a:spcPct val="90000"/>
              </a:lnSpc>
              <a:spcBef>
                <a:spcPts val="2001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vaporizació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44 kJ /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5791320"/>
            <a:ext cx="4572000" cy="6094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quema de la ley de He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752120" y="2057040"/>
            <a:ext cx="1800" cy="3809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590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533412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457200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2590920"/>
            <a:ext cx="0" cy="274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2590920"/>
            <a:ext cx="0" cy="19810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05520" y="4571640"/>
            <a:ext cx="0" cy="762120"/>
          </a:xfrm>
          <a:prstGeom prst="line">
            <a:avLst/>
          </a:prstGeom>
          <a:ln w="12600">
            <a:solidFill>
              <a:srgbClr val="bcf9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30481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– 241.8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809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– 285.8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4724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f9fe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bcf9fe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bcf9fe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bcf9fe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bcf9fe"/>
                </a:solidFill>
                <a:latin typeface="Times New Roman"/>
              </a:rPr>
              <a:t> = 44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3623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3962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5410080"/>
            <a:ext cx="1067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040" y="544032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nocidas las entalpías estándar de formación del buta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, agua líquida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, cuyos valores son respectivamente –124.7, –285.8 y –393.5 kJ/mol, calcular la entalpía estándar de combustión del butano.</a:t>
            </a:r>
            <a:br>
              <a:rPr sz="2800"/>
            </a:b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utilizamos la ley de Hess, la rea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4)  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13/2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4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=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ede obtenerse a partir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285.8 kJ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(s) +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393.5 kJ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   4 C(s) + 5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  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124.7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4 · (2) + 5 · (1) –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 C(s) + 4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5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/2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+ 4 C(s) + 5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4 mol(–393.5 kJ/mol) + 5 mol(–285.8 kJ/mol) –1 mol(– 124.7 kJ/mol)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 2878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62120" y="5105520"/>
            <a:ext cx="838080" cy="380880"/>
          </a:xfrm>
          <a:prstGeom prst="line">
            <a:avLst/>
          </a:prstGeom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123720" y="5105520"/>
            <a:ext cx="4953240" cy="761760"/>
            <a:chOff x="3123720" y="5105520"/>
            <a:chExt cx="4953240" cy="761760"/>
          </a:xfrm>
        </p:grpSpPr>
        <p:sp>
          <p:nvSpPr>
            <p:cNvPr id="175" name=""/>
            <p:cNvSpPr/>
            <p:nvPr/>
          </p:nvSpPr>
          <p:spPr>
            <a:xfrm flipH="1">
              <a:off x="7238520" y="5486400"/>
              <a:ext cx="83844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123720" y="5105520"/>
              <a:ext cx="83844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019920" y="5486400"/>
              <a:ext cx="83808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1" lang="en-US" sz="32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l ete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 a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artir de los calores de reacción de las siguientes reacciones químicas: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) 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85.8 kJ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2)  C(s) +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393.13 kJ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3)  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3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2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1422 kJ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335232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reacción de formación del eteno 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a partir de sus constituyentes en estado normal 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 C(s) + 2  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4) se puede expresar como 2·(2) + 2·(1) – (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enidos (2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o entalpía de enlace de enlace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1.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álculo de la energía de reacción a partir de entalpías de enlace aplicando la ley de H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ontaneidad de las reacciones químic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1.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undo principio de la Termodiná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2.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cer principio de la Termodiná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.-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libre de Gib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1.-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ontaneidad de las reacciones químicas. Influencia de la tempera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l ete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 a partir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e los calores de reacción de las siguientes reacciones química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1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1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285.8 kJ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2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(s) + 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393.13 kJ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3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3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2C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2 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O(l) 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1422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C(s) + 2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2·(2) + 2·(1) –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eg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·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2·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2 · (–393.13 kJ) + 2 · (– 285.8 kJ) – (– 1422 kJ) =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64’1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decir 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eteno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64.14 kJ/m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trata, pues, de una reacción endotér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5240160"/>
            <a:ext cx="4496040" cy="6098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48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as entalpías de combustión de la glucosa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 del etanol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H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on –2815 kJ/mol y –1372 kJ/mol, respectivamente. Con estos datos determina la energía intercambiada en la fermenta– ción de un mol de glucosa, reacción en la que se produce etanol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. ¿Es exotérmica la reacción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0120" y="5410080"/>
            <a:ext cx="121896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s reacciones de combustión son, respectivamente: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6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6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815 kJ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 + 3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372 kJ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 reacción de fermentación de la glucosa e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H +2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   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 puede expresarse como (1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 (2), luego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815 kJ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1372 kJ) = 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 71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y la reacción e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xotérmic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de enlace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853920"/>
            <a:ext cx="8604360" cy="60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fee19a"/>
                </a:solidFill>
                <a:latin typeface="Times New Roman"/>
              </a:rPr>
              <a:t>Es la energía necesaria para romper un enlace de un mol de sustancia en estado gaseos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caso de moléculas diatómicas es igual que la energía de disoci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—B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(g) + B(g)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di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nlac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2 H(g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= 436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tiva (es necesario aportar energía al siste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difícil de med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suele calcular aplicando la ley de H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lcular la energía del enlace H—Cl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en el cloruro de hidrógeno conociendo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HCl) cuyo valor es –92,3 kJ/mol y las entalpías de disociación del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y del Cl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que son 436.0 kJ/mol y 243.4 kJ/mol, respectivamente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reacción de disociación del HCl ser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HCl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(g) + Cl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 ½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½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Cl(g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92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H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436.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 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Cl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43.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–(1) +  ½(2) +  ½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(– 92.3 kJ ) + ½(436.0 kJ) +  ½(243.4 kJ) =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432.0 k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HCl)  =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 432.0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5867280"/>
            <a:ext cx="396252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álculo de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 partir de las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de enlac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(disociación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licando la ley de Hess en cualquier caso se obtiene la siguiente fórmul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·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l. rotos)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·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l. formad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donde ni  representa el número de enlaces rotos y formados de cada tip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7880" y="3581280"/>
            <a:ext cx="8686800" cy="11430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91600">
            <a:off x="7257240" y="137232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4600" y="138240"/>
            <a:ext cx="8077320" cy="16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Sabiendo que las energía de los siguientes enlaces (kJ/mol): C=C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611; C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C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347; C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413 y H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436, calcular el valor de </a:t>
            </a:r>
            <a:r>
              <a:rPr b="0" lang="es-E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de la reacción de hidrogenación del eteno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ción: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el proceso se rompe un enlace C=C y otro H–H y se forman 2 enlaces C–H nuevos (el etano tiene 6 mientras que el eteno tenía sólo 4) y un enlace C–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nl. rotos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nl. formados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=C) + 1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H–H) – 1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C) – 2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H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 mol · 611 kJ/mol + 1mol · 436 kJ/mo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(1 mol · 347 kJ/mol + 2 mol · 413 kJ/mol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26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5373720"/>
            <a:ext cx="14032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324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9900"/>
                </a:solidFill>
                <a:uFillTx/>
                <a:latin typeface="Times New Roman"/>
              </a:rPr>
              <a:t>Ejercici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Calcular el calor de combustión de propano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a partir de los datos de energía de enlace de la tabla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 5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3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4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laces roto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C–H, 2 C–C y 5 O=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laces form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C=O y 8 O–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. rotos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. form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8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H) + 2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C) +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O=O) – [6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=O) + 8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O–H)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8·413 kJ + 2·347 kJ +5·499 kJ – (6·745 kJ + 8·460 kJ) = –1657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657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477120" y="361800"/>
          <a:ext cx="2666880" cy="4743360"/>
        </p:xfrm>
        <a:graphic>
          <a:graphicData uri="http://schemas.openxmlformats.org/drawingml/2006/table">
            <a:tbl>
              <a:tblPr/>
              <a:tblGrid>
                <a:gridCol w="1066680"/>
                <a:gridCol w="160020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J/m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=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3735360" y="6183360"/>
            <a:ext cx="2087640" cy="620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ropía (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medida del desorden del sistema que sí puede medirse y tabula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=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inic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en tablas de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entropía molar estándar) de diferentes sustanci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7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una reacción quím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entropía es una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267080"/>
            <a:ext cx="6476760" cy="76212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041800" cy="7129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489720" cy="9175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stem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e pequeña del universo que se aísla para someter a estu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resto se denomin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TOR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eden s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iertos (intercambia materia y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rados (no intercambia materia y sí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slados (no intercambia ni materia ni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reacciones químicas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S = Sustancias quím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490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Calcular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para las siguientes reacciones químicas: </a:t>
            </a: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a)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+ O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2 NO(g); </a:t>
            </a: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3 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+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2 N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. </a:t>
            </a:r>
            <a:br>
              <a:rPr sz="2800"/>
            </a:br>
            <a:r>
              <a:rPr b="1" lang="es-ES_tradnl" sz="2800" spc="-1" strike="noStrike" u="sng">
                <a:solidFill>
                  <a:srgbClr val="fafd00"/>
                </a:solidFill>
                <a:uFillTx/>
                <a:latin typeface="Times New Roman"/>
              </a:rPr>
              <a:t>Datos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S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(J·mol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): 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 130.6; O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205;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 191.5; NO(g) = 210.7; N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192.3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 mol · 210.7 J ·mo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91.5 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 205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24.9 J·K</a:t>
            </a:r>
            <a:r>
              <a:rPr b="1" lang="en-US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·192.3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3 mol ·130.6 J· mo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191.5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98,7 J·K</a:t>
            </a:r>
            <a:r>
              <a:rPr b="1" lang="en-US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76640" y="3762360"/>
            <a:ext cx="17290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5300640"/>
            <a:ext cx="2016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egundo principio de la Termodinámica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ualquier proceso espontáneo la entropía total del universo tiende a aumentar siempre”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eces el sistema pierde entropía (se ordena) espontáneamente. En dichos casos el entorno se desord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rcer principio de la Termodiná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entropía de cualquier sustancia a 0 K es igual a 0” (máximo orde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vale a decir que no se puede bajar de dich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¡OJO!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S de los elementos en condiciones estándar no son 0 sino que son  posi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120" y="152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procesos reversible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y a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temperatura constante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puede calcular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 de un sistema co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rev)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 = —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el proceso químico se produce a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presión constant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6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 ———  ;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ntorn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————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tropía molar estándar) se mide en</a:t>
            </a:r>
            <a:br>
              <a:rPr sz="32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J·mol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reac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e mide e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J·K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nergía libre de Gibbs (G)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energía libre o entalpía libre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procesos a T constante se define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H – T · 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 – 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ondiciones estándar: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·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em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 0 (p. espontáne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icando por “–T” y como “–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– 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procesos espontáneos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&gt; 0   la reacción no es espontá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0 el sistema está en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158920"/>
            <a:ext cx="3657600" cy="4572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158920"/>
            <a:ext cx="3657600" cy="4572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19280" y="-531720"/>
            <a:ext cx="5753160" cy="8136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Variación de energía libre de una reacción (</a:t>
            </a:r>
            <a:r>
              <a:rPr b="0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G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es una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 igual que el incremento entálpico el incremento de energía libre de una reacción puede obtenerse a partir d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e reactivos y produ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productos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reactiv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4800600"/>
            <a:ext cx="7467840" cy="1143000"/>
          </a:xfrm>
          <a:prstGeom prst="rect">
            <a:avLst/>
          </a:prstGeom>
          <a:noFill/>
          <a:ln w="12600">
            <a:solidFill>
              <a:srgbClr val="fee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libre y Espontaneidad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 las reacciones 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30280" y="48578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265400" y="2927520"/>
            <a:ext cx="0" cy="2482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65400" y="5410080"/>
            <a:ext cx="280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12720" y="4857840"/>
            <a:ext cx="11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35360" y="4030560"/>
            <a:ext cx="115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-172080" y="35942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ergía libre (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70120" y="357192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257560" y="4030560"/>
            <a:ext cx="1157040" cy="827280"/>
          </a:xfrm>
          <a:prstGeom prst="line">
            <a:avLst/>
          </a:prstGeom>
          <a:ln w="3816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70120" y="4583160"/>
            <a:ext cx="190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 &gt;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53120" y="2914560"/>
            <a:ext cx="0" cy="2571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3120" y="5486400"/>
            <a:ext cx="299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825000" y="38116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ergía libre  (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29160" y="320040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26400" y="481968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16640" y="3772080"/>
            <a:ext cx="132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13520" y="4724280"/>
            <a:ext cx="132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32600" y="3772080"/>
            <a:ext cx="1496880" cy="952200"/>
          </a:xfrm>
          <a:prstGeom prst="line">
            <a:avLst/>
          </a:prstGeom>
          <a:ln w="3816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3520" y="3581280"/>
            <a:ext cx="140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1828800"/>
            <a:ext cx="3338280" cy="52056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Reac.   espontá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, p = c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55627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, p = c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53352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Reac.  no espontá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pontaneidad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 las reacciones químicas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empre las reacciones exotérmicas son espontán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reacciones endotérmicas espontán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poración de líqu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lución de sal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jemplos de reacciones endotérmicas espontán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(s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q) +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aq)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4.7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g)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44.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7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spontaneidad de las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acciones químicas (cont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296720"/>
            <a:ext cx="8604360" cy="57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reacción es espontánea cuand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G (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H – T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S)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es nega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sean positivos o negativos los valores d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siempre es positiva) se cumplirá qu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l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g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Espontáne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g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l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No espontá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l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l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a T bajas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a T al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g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g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a T altas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a T baj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Definición de Termoquímica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la parte de la Química que se encarga del estudio del intercambio energético de un sistema químico con el ex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y sistemas químicos que evolucionan de reactivos a productos desprendiendo energía. Son las reacciones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exotérmic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tros sistemas químicos evolucionan de reactivos a productos precisando energía. Son las reacciones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endotérmic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spontaneidad de las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acciones químicas (cont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64832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8288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g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emperaturas alt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1905120"/>
            <a:ext cx="3124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gt;  0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odas las temperatur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43434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emperaturas baj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4267080"/>
            <a:ext cx="3809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No Espontánea  a  cualquier temperatur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1905120"/>
            <a:ext cx="137160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1828800"/>
            <a:ext cx="144792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4343400"/>
            <a:ext cx="144756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4343400"/>
            <a:ext cx="1524240" cy="83808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4114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182880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8388360" cy="10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¿Será o no espontánea la siguiente reacció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H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l)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2H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l) + 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g)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n condiciones estándar?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360" y="3068280"/>
            <a:ext cx="77040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Dat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f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kJ/mol) 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285.8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187.8 ;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J·mol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K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-1)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9.9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l) = 109.6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g) =205.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39640" y="404640"/>
            <a:ext cx="828036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p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productos)–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reactivos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= 2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) +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– 2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 mol(–285.8 kJ/mol) – 2 mol(–187.8 kJ/mol)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= –196.0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p·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oductos –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r·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eactivos =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2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) +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–  2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 mol(69.9 J/mol·K) + 1 mol(205. J/mol·K)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– 2mol(109.6 J/mol·K) = 126.0 J / K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= 0.126 kJ / 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– T ·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–196.0 kJ – 298 K · 0.126 kJ/ K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fafd00"/>
                </a:solidFill>
                <a:latin typeface="Times New Roman"/>
              </a:rPr>
              <a:t>G0 = – 233.5 kJ   luego será espontáne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ariables de est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gnitudes que pueden variar a lo largo de un proceso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(por ejemplo, en el transcurso de una reacción química)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ee19a"/>
                </a:solidFill>
                <a:uFillTx/>
                <a:latin typeface="Times New Roman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mperatu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olu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entració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unciones de est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nen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lor únic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 cada estado del sist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 variación solo depe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l estado inicial y final y no del camino desarrolla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Í s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Presión, temperatura, energía interna, entalp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 s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calor,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er principio de la Termodiná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ÍA INTERNA (U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s la energía tot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 sistem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imposible med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 variación sí se m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U = Q + 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 y W &gt; 0 si se realizan a favor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es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56000" y="2781360"/>
            <a:ext cx="4647600" cy="2005560"/>
            <a:chOff x="2556000" y="2781360"/>
            <a:chExt cx="4647600" cy="2005560"/>
          </a:xfrm>
        </p:grpSpPr>
        <p:sp>
          <p:nvSpPr>
            <p:cNvPr id="70" name=""/>
            <p:cNvSpPr/>
            <p:nvPr/>
          </p:nvSpPr>
          <p:spPr>
            <a:xfrm>
              <a:off x="3698640" y="2781360"/>
              <a:ext cx="2285640" cy="19810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31960" y="33145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98840" y="33145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708280" y="4305240"/>
              <a:ext cx="152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298840" y="430524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3774960" y="3619440"/>
              <a:ext cx="1514160" cy="4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   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56000" y="2857320"/>
              <a:ext cx="1523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L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Q &g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32360" y="2933640"/>
              <a:ext cx="1142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L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Q &l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31960" y="3848040"/>
              <a:ext cx="14475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RABAJ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 &lt; 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6040" y="3924360"/>
              <a:ext cx="14475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RABAJ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 &g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21:16:56Z</dcterms:created>
  <dc:creator>Fco. Javier Gutiérrez</dc:creator>
  <dc:description/>
  <dc:language>en-US</dc:language>
  <cp:lastModifiedBy>RICARDO LETELIER</cp:lastModifiedBy>
  <cp:lastPrinted>1998-10-08T09:53:56Z</cp:lastPrinted>
  <dcterms:modified xsi:type="dcterms:W3CDTF">2005-06-07T20:13:04Z</dcterms:modified>
  <cp:revision>113</cp:revision>
  <dc:subject/>
  <dc:title>TERMOQUÍMICA</dc:title>
</cp:coreProperties>
</file>