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FB4-0169-4ED0-8518-43C813AC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A9D-AA7F-4ED5-A39C-32E2C7DE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278-D3A5-45C8-910E-8ED8A561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A66-4515-4427-B398-C2523894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088-27AE-4E20-9E1C-002CB01F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074-9890-468A-A388-4E677931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3F7-5AA8-4BA4-9941-B4E7CA9C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D51-2133-4E48-B78E-11682297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CD1-36FC-44BF-B639-865F9D49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068-3168-4716-9274-D912361A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123-8FCC-4A97-B28A-D6FD8F53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5AC-2D68-4F18-8ADA-BEB723D7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B719-9B23-4C87-A646-AF4F32DF5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565360"/>
            <a:ext cx="533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1161" t="19659" r="4702" b="5898"/>
          <a:stretch/>
        </p:blipFill>
        <p:spPr>
          <a:xfrm>
            <a:off x="6084720" y="1484280"/>
            <a:ext cx="25052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53040" y="95400"/>
          <a:ext cx="376236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3040" y="95400"/>
                    <a:ext cx="37623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76320"/>
          <a:ext cx="4759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6320"/>
                    <a:ext cx="4759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06400" y="5157720"/>
            <a:ext cx="302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79920" y="514368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6400" y="5730840"/>
            <a:ext cx="300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4560" y="6280200"/>
            <a:ext cx="21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2760" y="630720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572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hay intercambio de calor con el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52280"/>
            <a:ext cx="19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volume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78468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pres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89000"/>
            <a:ext cx="864072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ción de un calor de reacción a partir de da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bomba calorimé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mbustión de 1,010 g de sacarosa (azúcar), en una bomba calorimétrica, hace que la temperatura se eleve de 24,92 a 28,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C. La capacidad calorífica del conjunto del calorímetro es 4,90 kJ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Cuál es el calor de combustión de la sacarosa, expresado en kJ por mol d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que la frase publicitaria de los productores de azúcar que una cucharadita de azúcar (aproximadamente 4,8 g) sólo contiene 19 calo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908520"/>
            <a:ext cx="82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4,90 kJ/°C)(28,33-24,92)°C = (4,90)(3,41)kJ = 16,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9720" y="4437000"/>
            <a:ext cx="524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 16,7 kJ = -5,6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2920" y="4400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 1,01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0920" y="5084640"/>
            <a:ext cx="347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ara una cucharita = 4,8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5807160"/>
            <a:ext cx="77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-16,5 kJ/g) (              ) (                ) =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cal/cucharadit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56624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8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60595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c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566100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,00 k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60580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18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6059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6058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17536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sión contra la que se expande el gas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no la presión interna del gas.  De la misma manera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que comprime el gas en el caso de una compres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828800" y="755640"/>
          <a:ext cx="5683320" cy="38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55640"/>
                    <a:ext cx="568332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40800" y="102564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4680" y="2397240"/>
            <a:ext cx="117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200" y="1868400"/>
            <a:ext cx="26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volumen const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820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116160"/>
            <a:ext cx="820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volumen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2320" y="3979800"/>
            <a:ext cx="15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360" y="4761000"/>
            <a:ext cx="639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Volume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02600" y="76212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280" y="1989000"/>
            <a:ext cx="57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0" y="14605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2565360"/>
            <a:ext cx="820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presión constante.  Reorden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5640" y="3284640"/>
            <a:ext cx="385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400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endo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005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alpía : H = E + 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0720" y="4700520"/>
            <a:ext cx="278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0760" y="4653000"/>
            <a:ext cx="15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760" y="5300640"/>
            <a:ext cx="640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18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Pres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5996160"/>
            <a:ext cx="24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800" y="60213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pro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0440" y="15228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alpia (H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cantidad de calor liberado o absorbido en el proces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25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reacción química a presión constante el cambio en entalpía será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3360" y="170028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H (productos) – H (reac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0640" y="227664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or liberado o absorbid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268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756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6176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7628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0040" y="2781360"/>
          <a:ext cx="64850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2781360"/>
                    <a:ext cx="64850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74080" y="1411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ciones term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17040" y="6165720"/>
            <a:ext cx="4612320" cy="451800"/>
            <a:chOff x="2417040" y="6165720"/>
            <a:chExt cx="4612320" cy="451800"/>
          </a:xfrm>
        </p:grpSpPr>
        <p:grpSp>
          <p:nvGrpSpPr>
            <p:cNvPr id="150" name=""/>
            <p:cNvGrpSpPr/>
            <p:nvPr/>
          </p:nvGrpSpPr>
          <p:grpSpPr>
            <a:xfrm>
              <a:off x="2417040" y="6176880"/>
              <a:ext cx="2477880" cy="440640"/>
              <a:chOff x="2417040" y="6176880"/>
              <a:chExt cx="2477880" cy="440640"/>
            </a:xfrm>
          </p:grpSpPr>
          <p:sp>
            <p:nvSpPr>
              <p:cNvPr id="151" name=""/>
              <p:cNvSpPr/>
              <p:nvPr/>
            </p:nvSpPr>
            <p:spPr>
              <a:xfrm>
                <a:off x="3375000" y="63831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17040" y="6176880"/>
                <a:ext cx="247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397840" y="616572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6.01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15232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¿E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negativo o posi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66160" y="21556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istema absorbe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8680" y="28926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9400" y="36306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3640" y="5445000"/>
            <a:ext cx="74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mol de hielo que se funde a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y 1 atm absorbe 6.01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6059520"/>
            <a:ext cx="21333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65000"/>
          <a:ext cx="4464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5000"/>
                    <a:ext cx="446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58160" y="5978520"/>
            <a:ext cx="7848360" cy="522720"/>
            <a:chOff x="758160" y="5978520"/>
            <a:chExt cx="7848360" cy="522720"/>
          </a:xfrm>
        </p:grpSpPr>
        <p:grpSp>
          <p:nvGrpSpPr>
            <p:cNvPr id="163" name=""/>
            <p:cNvGrpSpPr/>
            <p:nvPr/>
          </p:nvGrpSpPr>
          <p:grpSpPr>
            <a:xfrm>
              <a:off x="758160" y="5991120"/>
              <a:ext cx="5633640" cy="510120"/>
              <a:chOff x="758160" y="5991120"/>
              <a:chExt cx="5633640" cy="510120"/>
            </a:xfrm>
          </p:grpSpPr>
          <p:sp>
            <p:nvSpPr>
              <p:cNvPr id="164" name=""/>
              <p:cNvSpPr/>
              <p:nvPr/>
            </p:nvSpPr>
            <p:spPr>
              <a:xfrm>
                <a:off x="3257640" y="624528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8160" y="5991120"/>
                <a:ext cx="563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 2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   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417360" y="59785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02880" y="380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istema emite el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0360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04320" y="1855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7560" y="4973760"/>
            <a:ext cx="74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cada mol de metano que se quema a 25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y 1 atm se libe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90.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84960" y="587700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260280"/>
          <a:ext cx="460872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460872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13413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es la ecuación termoquímica. Significa que se desprenden 890 kJ de calor por cada mol de metano que se consume. Si tengo dos m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4076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quiero “regenerar” el metano a partir de los productos de la reacción, entonces tengo que aportar 890 kJ de calor por mol de metano. La reacción inversa es por tanto endotér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213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ntidad de calor desprendida depende de la mas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La entalpía es una propiedad extensiv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08640" y="517680"/>
            <a:ext cx="7768800" cy="451800"/>
            <a:chOff x="908640" y="517680"/>
            <a:chExt cx="7768800" cy="451800"/>
          </a:xfrm>
        </p:grpSpPr>
        <p:grpSp>
          <p:nvGrpSpPr>
            <p:cNvPr id="178" name=""/>
            <p:cNvGrpSpPr/>
            <p:nvPr/>
          </p:nvGrpSpPr>
          <p:grpSpPr>
            <a:xfrm>
              <a:off x="908640" y="528840"/>
              <a:ext cx="4991040" cy="440640"/>
              <a:chOff x="908640" y="528840"/>
              <a:chExt cx="4991040" cy="440640"/>
            </a:xfrm>
          </p:grpSpPr>
          <p:sp>
            <p:nvSpPr>
              <p:cNvPr id="179" name=""/>
              <p:cNvSpPr/>
              <p:nvPr/>
            </p:nvSpPr>
            <p:spPr>
              <a:xfrm>
                <a:off x="3087360" y="73512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8640" y="528840"/>
                <a:ext cx="499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050880" y="51768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435720" y="36684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8480" y="2427120"/>
            <a:ext cx="8272440" cy="451800"/>
            <a:chOff x="618480" y="2427120"/>
            <a:chExt cx="8272440" cy="451800"/>
          </a:xfrm>
        </p:grpSpPr>
        <p:grpSp>
          <p:nvGrpSpPr>
            <p:cNvPr id="184" name=""/>
            <p:cNvGrpSpPr/>
            <p:nvPr/>
          </p:nvGrpSpPr>
          <p:grpSpPr>
            <a:xfrm>
              <a:off x="618480" y="2438280"/>
              <a:ext cx="5625360" cy="440640"/>
              <a:chOff x="618480" y="2438280"/>
              <a:chExt cx="5625360" cy="440640"/>
            </a:xfrm>
          </p:grpSpPr>
          <p:sp>
            <p:nvSpPr>
              <p:cNvPr id="185" name=""/>
              <p:cNvSpPr/>
              <p:nvPr/>
            </p:nvSpPr>
            <p:spPr>
              <a:xfrm>
                <a:off x="3111480" y="264456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8480" y="2438280"/>
                <a:ext cx="5625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4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2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137640" y="2427120"/>
              <a:ext cx="27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 (-890.4)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437160" y="2205000"/>
            <a:ext cx="237672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52320" y="5308560"/>
            <a:ext cx="7944840" cy="451800"/>
            <a:chOff x="652320" y="5308560"/>
            <a:chExt cx="7944840" cy="451800"/>
          </a:xfrm>
        </p:grpSpPr>
        <p:grpSp>
          <p:nvGrpSpPr>
            <p:cNvPr id="190" name=""/>
            <p:cNvGrpSpPr/>
            <p:nvPr/>
          </p:nvGrpSpPr>
          <p:grpSpPr>
            <a:xfrm>
              <a:off x="652320" y="5319720"/>
              <a:ext cx="5202360" cy="440640"/>
              <a:chOff x="652320" y="5319720"/>
              <a:chExt cx="5202360" cy="440640"/>
            </a:xfrm>
          </p:grpSpPr>
          <p:sp>
            <p:nvSpPr>
              <p:cNvPr id="191" name=""/>
              <p:cNvSpPr/>
              <p:nvPr/>
            </p:nvSpPr>
            <p:spPr>
              <a:xfrm>
                <a:off x="2943360" y="552600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2320" y="5319720"/>
                <a:ext cx="520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+ 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    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906520" y="5308560"/>
              <a:ext cx="26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+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91360" y="515772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71640" y="1722600"/>
            <a:ext cx="760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ánto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spren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quema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66 g de fósforo blanco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en 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4320" y="3303720"/>
            <a:ext cx="5081760" cy="772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08000" y="2774880"/>
            <a:ext cx="52516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59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encia que estudia las transferencias de energía (calor y trabajo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de materia asociadas a un cambio de estado en un sist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014480"/>
            <a:ext cx="8534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rmodinámica se aplica a sistem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croscóp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tiene un carácter empír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Termodinámica se refiere o toma com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ia estados de equilibrio o procesos ent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s de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6799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ones básicas de la Termodinám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4903920"/>
            <a:ext cx="44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parte del universo que diferenciamos de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to para su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7200" y="3906720"/>
            <a:ext cx="3755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iertos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la transferencia de masa y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rado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solo la transferencia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slad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no permiten la transferencia de masa ni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272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O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resto del unive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56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químic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estudio de la transferencia de calor asociada a reacciones quí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11080" y="136440"/>
            <a:ext cx="39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ent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6240" y="4908600"/>
            <a:ext cx="19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-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36240" y="4919760"/>
            <a:ext cx="41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1 mol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4.5 L a 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2960" y="551808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1 atm x 24.5 L = 2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9440" y="612792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-367.5 kJ/mol – 2.5 kJ/mol = -370.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2220" r="0" b="9141"/>
          <a:stretch/>
        </p:blipFill>
        <p:spPr>
          <a:xfrm>
            <a:off x="2143080" y="1533600"/>
            <a:ext cx="4876920" cy="3047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2880" y="833400"/>
            <a:ext cx="821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a (s)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(l)                  2NaOH (ac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)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-367.5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328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26028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BIOS 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COS EN REACCIONES QUI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765000"/>
            <a:ext cx="8399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l cambio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reaccion qu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ica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es igual a la diferencia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productos menos la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reactiv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1808280"/>
            <a:ext cx="475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H (productos) – H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0080" y="2492280"/>
            <a:ext cx="85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Se debe medir el cambio de entalpía para cada reacción de interé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087720"/>
            <a:ext cx="4824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de reacción estánd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Δ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60" y="3716280"/>
            <a:ext cx="864072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talpía estándar de formación 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el cambio de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uando u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se for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sus element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uros en sus estad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sión de 1 atmósf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la entalpía de formación de u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o pu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su estado estándar 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entalpía estándar de formación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es, entonces, igual a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en que se forma el com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8640" y="1700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stado estándar de cualquier elemento es su forma más estable a la presión estándar, P = 1 a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560" y="2492280"/>
            <a:ext cx="178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4960" y="2492280"/>
            <a:ext cx="206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rafi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4760" y="2995560"/>
            <a:ext cx="287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42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37840" y="2995560"/>
            <a:ext cx="34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iam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.9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17720" y="422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estandar para algunos eleme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084640"/>
            <a:ext cx="74883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(rómb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íqu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al(sólido) (excepto mercurio que es líqu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62080"/>
            <a:ext cx="35830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00" y="476280"/>
            <a:ext cx="3987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rafit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+    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476280"/>
            <a:ext cx="36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74.8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6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41280" y="260280"/>
            <a:ext cx="8615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alpía estánd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entalpía de una reacción a 25°C y 1 a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una reacción cualqui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72440" y="1413000"/>
            <a:ext cx="3424320" cy="398880"/>
            <a:chOff x="2872440" y="1413000"/>
            <a:chExt cx="3424320" cy="398880"/>
          </a:xfrm>
        </p:grpSpPr>
        <p:sp>
          <p:nvSpPr>
            <p:cNvPr id="226" name=""/>
            <p:cNvSpPr/>
            <p:nvPr/>
          </p:nvSpPr>
          <p:spPr>
            <a:xfrm>
              <a:off x="2872440" y="1413000"/>
              <a:ext cx="342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     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0720" y="16048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66840" y="4292640"/>
            <a:ext cx="838188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Hess: Cuando los reactivos son convertidos a productos, el cambio de entalpía es el mismo si la reacción ocurre en un paso o en una serie de p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5805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talpía es una función de estado. No importa el camino tomado, solamente los estados inicial y final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2023920"/>
            <a:ext cx="741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[ c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  + 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 ]  -  [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)  + 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6200" y="2637000"/>
            <a:ext cx="605016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oductos) 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32320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los coeficientes estequiométricos de productos y reactivos,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066680" y="146160"/>
          <a:ext cx="7086600" cy="655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6160"/>
                    <a:ext cx="7086600" cy="6559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50920" y="189000"/>
          <a:ext cx="413388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413388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676040" y="1341360"/>
            <a:ext cx="407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88640" y="1989000"/>
            <a:ext cx="39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880" y="2887560"/>
            <a:ext cx="389304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249228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1557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2205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141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42920" y="198900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811640" y="134136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206280"/>
            <a:ext cx="8661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cular la entalpía estándar de formación de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a partir de las siguientes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5800" y="90504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55840" y="1338120"/>
            <a:ext cx="665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74560" y="1841400"/>
            <a:ext cx="659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(l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1072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720" y="2349360"/>
            <a:ext cx="565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ribir la reacción de formación para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1160" y="2852640"/>
            <a:ext cx="389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5000" y="3429000"/>
            <a:ext cx="86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binar las tres ecuaciones algebraicamente para dar la dese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280" y="4903920"/>
            <a:ext cx="735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107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30040" y="4869000"/>
            <a:ext cx="8837640" cy="533160"/>
            <a:chOff x="230040" y="4869000"/>
            <a:chExt cx="8837640" cy="533160"/>
          </a:xfrm>
        </p:grpSpPr>
        <p:sp>
          <p:nvSpPr>
            <p:cNvPr id="255" name=""/>
            <p:cNvSpPr/>
            <p:nvPr/>
          </p:nvSpPr>
          <p:spPr>
            <a:xfrm>
              <a:off x="304920" y="5402160"/>
              <a:ext cx="876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0040" y="4869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41720" y="5661000"/>
            <a:ext cx="403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 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3440" y="6235560"/>
            <a:ext cx="60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393.5 +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96.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72 = 86.3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220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4656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65680" y="5843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0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01800" y="396396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02840" y="4397400"/>
            <a:ext cx="739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78200" y="41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2764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70036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728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34000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5928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7164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79640" y="494172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58800" y="246240"/>
            <a:ext cx="8180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benceno (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se quema en presencia de aire para producir el dióxido de carbono y el agua líquida.   ¿Cuánto calor se libera por cada mol de benceno quemado? La entalpía estándar de formación del benceno es 49.04 kJ/m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29320" y="1916280"/>
            <a:ext cx="6116400" cy="440640"/>
            <a:chOff x="1129320" y="1916280"/>
            <a:chExt cx="6116400" cy="440640"/>
          </a:xfrm>
        </p:grpSpPr>
        <p:sp>
          <p:nvSpPr>
            <p:cNvPr id="278" name=""/>
            <p:cNvSpPr/>
            <p:nvPr/>
          </p:nvSpPr>
          <p:spPr>
            <a:xfrm>
              <a:off x="1129320" y="1916280"/>
              <a:ext cx="611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15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                   12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6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38320" y="2120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046160" y="2638440"/>
            <a:ext cx="6168240" cy="503640"/>
            <a:chOff x="1046160" y="2638440"/>
            <a:chExt cx="6168240" cy="503640"/>
          </a:xfrm>
        </p:grpSpPr>
        <p:grpSp>
          <p:nvGrpSpPr>
            <p:cNvPr id="281" name=""/>
            <p:cNvGrpSpPr/>
            <p:nvPr/>
          </p:nvGrpSpPr>
          <p:grpSpPr>
            <a:xfrm>
              <a:off x="1046160" y="2647800"/>
              <a:ext cx="939240" cy="479520"/>
              <a:chOff x="1046160" y="2647800"/>
              <a:chExt cx="939240" cy="479520"/>
            </a:xfrm>
          </p:grpSpPr>
          <p:sp>
            <p:nvSpPr>
              <p:cNvPr id="282" name=""/>
              <p:cNvSpPr/>
              <p:nvPr/>
            </p:nvSpPr>
            <p:spPr>
              <a:xfrm>
                <a:off x="1046160" y="26478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449720" y="27284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342880" y="2649600"/>
              <a:ext cx="2246040" cy="492480"/>
              <a:chOff x="2342880" y="2649600"/>
              <a:chExt cx="2246040" cy="492480"/>
            </a:xfrm>
          </p:grpSpPr>
          <p:sp>
            <p:nvSpPr>
              <p:cNvPr id="285" name=""/>
              <p:cNvSpPr/>
              <p:nvPr/>
            </p:nvSpPr>
            <p:spPr>
              <a:xfrm>
                <a:off x="2342880" y="2649600"/>
                <a:ext cx="224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product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72520" y="27432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830960" y="2674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49280" y="26622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6600" y="265248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997520" y="2639880"/>
              <a:ext cx="2216880" cy="492840"/>
              <a:chOff x="4997520" y="2639880"/>
              <a:chExt cx="2216880" cy="492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997520" y="2639880"/>
                <a:ext cx="221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reactiv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27520" y="2733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903560" y="26524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90880" y="26431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1920" y="2638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063800" y="3402000"/>
            <a:ext cx="7394400" cy="497520"/>
            <a:chOff x="1063800" y="3402000"/>
            <a:chExt cx="7394400" cy="497520"/>
          </a:xfrm>
        </p:grpSpPr>
        <p:grpSp>
          <p:nvGrpSpPr>
            <p:cNvPr id="297" name=""/>
            <p:cNvGrpSpPr/>
            <p:nvPr/>
          </p:nvGrpSpPr>
          <p:grpSpPr>
            <a:xfrm>
              <a:off x="1063800" y="3402000"/>
              <a:ext cx="939240" cy="479520"/>
              <a:chOff x="1063800" y="3402000"/>
              <a:chExt cx="939240" cy="479520"/>
            </a:xfrm>
          </p:grpSpPr>
          <p:sp>
            <p:nvSpPr>
              <p:cNvPr id="298" name=""/>
              <p:cNvSpPr/>
              <p:nvPr/>
            </p:nvSpPr>
            <p:spPr>
              <a:xfrm>
                <a:off x="1063800" y="34020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7360" y="34826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382640" y="3406680"/>
              <a:ext cx="1685160" cy="492480"/>
              <a:chOff x="4382640" y="3406680"/>
              <a:chExt cx="1685160" cy="492480"/>
            </a:xfrm>
          </p:grpSpPr>
          <p:sp>
            <p:nvSpPr>
              <p:cNvPr id="301" name=""/>
              <p:cNvSpPr/>
              <p:nvPr/>
            </p:nvSpPr>
            <p:spPr>
              <a:xfrm>
                <a:off x="4382640" y="3406680"/>
                <a:ext cx="1685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(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54320" y="3500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484720" y="3406680"/>
              <a:ext cx="1802520" cy="492840"/>
              <a:chOff x="2484720" y="3406680"/>
              <a:chExt cx="1802520" cy="492840"/>
            </a:xfrm>
          </p:grpSpPr>
          <p:sp>
            <p:nvSpPr>
              <p:cNvPr id="304" name=""/>
              <p:cNvSpPr/>
              <p:nvPr/>
            </p:nvSpPr>
            <p:spPr>
              <a:xfrm>
                <a:off x="2484720" y="3406680"/>
                <a:ext cx="1802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(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59000" y="35006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848600" y="34290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9068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31360" y="34164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9572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2800" y="3403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570000" y="3405240"/>
              <a:ext cx="1799640" cy="492480"/>
              <a:chOff x="6570000" y="3405240"/>
              <a:chExt cx="1799640" cy="492480"/>
            </a:xfrm>
          </p:grpSpPr>
          <p:sp>
            <p:nvSpPr>
              <p:cNvPr id="312" name=""/>
              <p:cNvSpPr/>
              <p:nvPr/>
            </p:nvSpPr>
            <p:spPr>
              <a:xfrm>
                <a:off x="6570000" y="3405240"/>
                <a:ext cx="17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(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42040" y="3498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3928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072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01960" y="4086360"/>
            <a:ext cx="6936840" cy="492120"/>
            <a:chOff x="1101960" y="4086360"/>
            <a:chExt cx="6936840" cy="492120"/>
          </a:xfrm>
        </p:grpSpPr>
        <p:grpSp>
          <p:nvGrpSpPr>
            <p:cNvPr id="317" name=""/>
            <p:cNvGrpSpPr/>
            <p:nvPr/>
          </p:nvGrpSpPr>
          <p:grpSpPr>
            <a:xfrm>
              <a:off x="1101960" y="4098960"/>
              <a:ext cx="939240" cy="479520"/>
              <a:chOff x="1101960" y="4098960"/>
              <a:chExt cx="939240" cy="479520"/>
            </a:xfrm>
          </p:grpSpPr>
          <p:sp>
            <p:nvSpPr>
              <p:cNvPr id="318" name=""/>
              <p:cNvSpPr/>
              <p:nvPr/>
            </p:nvSpPr>
            <p:spPr>
              <a:xfrm>
                <a:off x="1101960" y="409896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505520" y="417960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88676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12280" y="4086360"/>
              <a:ext cx="57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 12x–393.5 + 6x–187.6 ] – [ 2x49.04 ] = -5946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491200" y="5062680"/>
            <a:ext cx="3873960" cy="816120"/>
            <a:chOff x="2491200" y="5062680"/>
            <a:chExt cx="3873960" cy="816120"/>
          </a:xfrm>
        </p:grpSpPr>
        <p:grpSp>
          <p:nvGrpSpPr>
            <p:cNvPr id="323" name=""/>
            <p:cNvGrpSpPr/>
            <p:nvPr/>
          </p:nvGrpSpPr>
          <p:grpSpPr>
            <a:xfrm>
              <a:off x="2491200" y="5062680"/>
              <a:ext cx="1324440" cy="816120"/>
              <a:chOff x="2491200" y="5062680"/>
              <a:chExt cx="1324440" cy="816120"/>
            </a:xfrm>
          </p:grpSpPr>
          <p:sp>
            <p:nvSpPr>
              <p:cNvPr id="324" name=""/>
              <p:cNvSpPr/>
              <p:nvPr/>
            </p:nvSpPr>
            <p:spPr>
              <a:xfrm>
                <a:off x="2491200" y="506268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5946 k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05760" y="5479920"/>
                <a:ext cx="80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20720" y="5452920"/>
                <a:ext cx="129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3832560" y="5265720"/>
              <a:ext cx="253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 2973 kJ/mol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411280" y="5013360"/>
            <a:ext cx="403236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1844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04000" y="3933720"/>
            <a:ext cx="129708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8200" y="765000"/>
            <a:ext cx="151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4000" y="189000"/>
            <a:ext cx="617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º para la reacción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4560" y="44370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77 - 94.6 – 286 = -557,6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6680" y="50086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¡Exotérmic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05800" y="2200320"/>
            <a:ext cx="65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7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5200" y="1122480"/>
            <a:ext cx="738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5280" y="2816280"/>
            <a:ext cx="62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4.6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9440" y="3463920"/>
            <a:ext cx="841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ntalpía de formación estandar del agua líquida 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286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4360" y="134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35280" y="2455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3032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173664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bie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60800" y="144792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0800" y="404028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280" y="404640"/>
            <a:ext cx="89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ación de la entalpía de reacción con la temperatura:  Ley de Kirch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0520" y="1628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0520" y="4292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79440" y="2060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168880" y="1988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16360" y="12319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16360" y="3860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144792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0402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2492280"/>
            <a:ext cx="3097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46560" y="2503440"/>
            <a:ext cx="3097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76360" y="4724280"/>
            <a:ext cx="5040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+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5229360"/>
            <a:ext cx="41767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5280" y="573408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] – [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24000" y="623736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52480" y="812880"/>
            <a:ext cx="78231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 energía es la capacidad para realizar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radiante proviene del Sol y es la fuente de energía primaria de la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térmica es la energía asociada con el movimiento aleatorio de átomos y moléc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química es la energía almacenada dentro de los enlaces de las sustancias quí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nuclear es la energía almacenada dentro del núcleo por los neutrones y protones en el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potencial es la energía disponible en virtud de la posición de un obje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temperatura es una medida de la energía tér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500760" y="1413000"/>
            <a:ext cx="8284680" cy="451800"/>
            <a:chOff x="500760" y="1413000"/>
            <a:chExt cx="8284680" cy="451800"/>
          </a:xfrm>
        </p:grpSpPr>
        <p:grpSp>
          <p:nvGrpSpPr>
            <p:cNvPr id="361" name=""/>
            <p:cNvGrpSpPr/>
            <p:nvPr/>
          </p:nvGrpSpPr>
          <p:grpSpPr>
            <a:xfrm>
              <a:off x="500760" y="1424160"/>
              <a:ext cx="6017760" cy="440640"/>
              <a:chOff x="500760" y="1424160"/>
              <a:chExt cx="6017760" cy="440640"/>
            </a:xfrm>
          </p:grpSpPr>
          <p:sp>
            <p:nvSpPr>
              <p:cNvPr id="362" name=""/>
              <p:cNvSpPr/>
              <p:nvPr/>
            </p:nvSpPr>
            <p:spPr>
              <a:xfrm>
                <a:off x="3195720" y="163044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0760" y="1424160"/>
                <a:ext cx="6017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+    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  +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158880" y="141300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56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68360" y="260280"/>
            <a:ext cx="8424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El  calor  de   combustión  estándar  del  metano, C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 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es  de  -856.4 kJ/mol.  Cuál será la temperatura de los productos gaseosos si se impide que se transfiera el calor al ento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720" y="1989000"/>
            <a:ext cx="71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solvería el problema y qué otros datos necesita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6200640"/>
            <a:ext cx="69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8.03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8.89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113360"/>
            <a:ext cx="763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56.4 kJ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492280"/>
            <a:ext cx="8532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uación termoquímica me dice que cuando reacciona un mol de metano gaseoso con dos moles de oxígeno gaseoso a 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dar un mol de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gaseoso y dos moles de agua vapor 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sprenden 856.4 kJ.  Por lo tanto, si esta cantidad de calor no se puede transferir al entorno, debe absorverlo los productos con el consiguiente aumento de su temp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1200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8920" y="43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5157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de la temperatura será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5589720"/>
            <a:ext cx="6264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 = 856.4 kJ = [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+ 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] (X – 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6000" y="62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4724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46160" y="18900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ciones de entalpía que acompañan a los cambios de estado de la mat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4360" y="90792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para el proceso en el que 50,0 g de agua pasan del estado líquido a 10,0°C a vapor a 25,0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9440" y="2166840"/>
            <a:ext cx="863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emos el proceso en dos etapa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ción de la temperatura del agua líquida y vaporización completa del líquido. La variación de entalpía total es la suma de las variaciones de cada eta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331956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zcamos la ecuación y calcule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4075200"/>
            <a:ext cx="2880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+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822840"/>
            <a:ext cx="4608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: 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sa del agua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da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apacidad 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rica del agua vapo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cambio de temperatura     n = moles de agua y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lor de vaporización d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9120" y="576756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50,0 g)(4,184 J/g °C)(25,0-10,0)°C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9120" y="641664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,14 kJ + 122 kJ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59320" y="57326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,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76720" y="5551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,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594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76720" y="594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65720" y="1700280"/>
            <a:ext cx="58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líquida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10,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vapor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0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19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8120" y="296064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ARIABLES TERMODINÁMICA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junto de “coordenadas” que determinan 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do de un sistema (por ejemplo: P, V y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8120" y="4113360"/>
            <a:ext cx="8381880" cy="100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NCIÓN DE ESTA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able termodinámica que depende únicamente del estado en el que se encuentra un sistema y no del camino seguido para llegar a é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una fun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7048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n en la que se encuentra un sistema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se puede definir de forma inequív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082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 DE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variables que lo defin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varí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333" t="0" r="0" b="16855"/>
          <a:stretch/>
        </p:blipFill>
        <p:spPr>
          <a:xfrm>
            <a:off x="539640" y="3309840"/>
            <a:ext cx="4464000" cy="227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9880" y="47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99560" y="47628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esión, Volumen,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funciones de estad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en estas propiedad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enden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inicial y estad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3640" y="1211400"/>
            <a:ext cx="236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83720" y="1820880"/>
            <a:ext cx="2368440" cy="1805400"/>
            <a:chOff x="6183720" y="1820880"/>
            <a:chExt cx="2368440" cy="1805400"/>
          </a:xfrm>
        </p:grpSpPr>
        <p:sp>
          <p:nvSpPr>
            <p:cNvPr id="61" name=""/>
            <p:cNvSpPr/>
            <p:nvPr/>
          </p:nvSpPr>
          <p:spPr>
            <a:xfrm>
              <a:off x="6184800" y="18208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84800" y="25066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3720" y="3116160"/>
              <a:ext cx="231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79280" y="57340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ergía poten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xcursionista 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excursionista 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misma aun cuando ellos tomar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minos difer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amino recorr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función de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492360" y="4581360"/>
            <a:ext cx="32004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834920" y="4978440"/>
            <a:ext cx="419076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347640" y="3429000"/>
            <a:ext cx="230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5084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ino recorr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3573360"/>
            <a:ext cx="0" cy="18496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0053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bio en la energia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64000" y="4292640"/>
            <a:ext cx="433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720" y="5516640"/>
            <a:ext cx="23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36160" y="4581360"/>
            <a:ext cx="143820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= q +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41300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principio de conservación de la energí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un sistema absorbe calor desde su entorno, se transforma en un cambio en la energía interna del sistema y/o trabajo realizado por el sistema sobre el ento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264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el cambio en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na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tre el sistema y 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el trabajo realizado por (o sobre) 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549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MER PRINCIPIO DE LA TERMODINÁ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72960" y="3403440"/>
            <a:ext cx="303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ntor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6048360" cy="446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7280" y="310356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1160" y="418464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0" y="69696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or y trabajo en termodiná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880" y="1357200"/>
            <a:ext cx="8686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nto el calor como el trabajo son las dos formas en las que la energía pasa de  unos sistemas a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El calor es la forma de energía que produce en su transferencia una variación de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El resto de transferencias de energía son tra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53232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expansión : variaciones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eléctrico: corriente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superficie: creación de superf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químico: reacción quí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84360" y="260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y medida de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154160"/>
            <a:ext cx="4395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=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11286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916280"/>
            <a:ext cx="868680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órmula fundamental de la calorimetría nos da el ca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ecesario par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temperatura 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am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sustanci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qu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mas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el calor espe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o (cantidad de calor para subir la temperatura de un gramo de substancia en un grado) y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el cambio de temperatura.  El produc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 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la capacidad caloric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m gramos de substancia en un grado). Si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rresponde a la masa molar se define como capacidad calorica molar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un mol de substancia en un gr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8690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positivo, la temperatura final es mayor que la inicial, es un calent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positivo, El sistema absorbe calor desde su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d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 la temperatura final es menor que la inicial, es un enfri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. El sistema entrega calor al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x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3T02:12:50Z</dcterms:modified>
  <cp:revision>184</cp:revision>
  <dc:subject/>
  <dc:title>Presentación de PowerPoint</dc:title>
</cp:coreProperties>
</file>