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5C-F900-49A6-93FE-3E51F35B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A5-D4AD-47D1-92FA-C4515CD4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88A-8329-42BA-821F-9A3A6F98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417-52ED-44D7-B1D9-EEDCB6D7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D62-489C-45C3-B4E4-195AB50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F38-9410-4AB8-AB6B-5C96C15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F75-98C0-4868-B67A-88605028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062-3B2B-4182-8E11-7D01F40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F67-C1BD-41FF-9C27-F75FC391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9E8-03D3-4D6B-B0C6-2520B3E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C92-803C-4C51-8462-DC2A73C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A45-6849-4D1B-AC12-3743436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1B3-0206-4D65-8824-0A068AFB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360" y="4761000"/>
            <a:ext cx="639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0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3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8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4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0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 d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6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5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8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1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7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2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7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3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456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77 - 94.6 – 286 = -557,6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5800" y="2200320"/>
            <a:ext cx="65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5280" y="2816280"/>
            <a:ext cx="62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1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calor espe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o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capacidad caloric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capacidad calorica molar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3T02:12:50Z</dcterms:modified>
  <cp:revision>184</cp:revision>
  <dc:subject/>
  <dc:title>Presentación de PowerPoint</dc:title>
</cp:coreProperties>
</file>