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2.jpeg" ContentType="image/jpeg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A6E4-717F-46BA-B55E-FF3E09422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CD94-361E-439D-9FBC-32F0CF2A6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EC9D-D8BB-4ECE-B698-A9789C4F0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D22F-439F-4FA9-86CD-ABA1609CD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98F6-D6C9-41E7-A8EA-208F2C7BA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B570-F3FC-4EE4-9583-2A3DFFED6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A538-23B5-4F78-97E0-A50E7441A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B9D3-0E72-49E6-A31D-EEE8CA0FE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1650-59A1-4095-AF9C-FB6CC71F5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AEB9-5671-4E89-9C13-C8BDFAB1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0ADE-ACA0-4639-B771-88612D2E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745F-66E7-4817-86B5-E1594E97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4EBD6-816D-449D-9319-59DB3DAA33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2565360"/>
            <a:ext cx="5334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MODINÁ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21161" t="19659" r="4702" b="5898"/>
          <a:stretch/>
        </p:blipFill>
        <p:spPr>
          <a:xfrm>
            <a:off x="6084720" y="1484280"/>
            <a:ext cx="250524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5153040" y="95400"/>
          <a:ext cx="3762360" cy="432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53040" y="95400"/>
                    <a:ext cx="3762360" cy="43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228600" y="76320"/>
          <a:ext cx="4759200" cy="434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76320"/>
                    <a:ext cx="47592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1706400" y="5157720"/>
            <a:ext cx="3024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gu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x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79920" y="5143680"/>
            <a:ext cx="1828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y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06400" y="5730840"/>
            <a:ext cx="3009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x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- (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gu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44560" y="6280200"/>
            <a:ext cx="2194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gu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m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22760" y="6307200"/>
            <a:ext cx="1676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al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24000" y="4572000"/>
            <a:ext cx="501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o hay intercambio de calor con el me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59280" y="152280"/>
            <a:ext cx="195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lor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í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etro a volumen const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76720" y="3784680"/>
            <a:ext cx="1952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lor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í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etro a presi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ó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 const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79280" y="189000"/>
            <a:ext cx="8640720" cy="36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ación de un calor de reacción a partir de dato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 bomba calorimétr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combustión de 1,010 g de sacarosa (azúcar), en una bomba calorimétrica, hace que la temperatura se eleve de 24,92 a 28,3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°C. La capacidad calorífica del conjunto del calorímetro es 4,90 kJ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°C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¿Cuál es el calor de combustión de la sacarosa, expresado en kJ por mol de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ique la frase publicitaria de los productores de azúcar que una cucharadita de azúcar (aproximadamente 4,8 g) sólo contiene 19 calorí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3908520"/>
            <a:ext cx="820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calorim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(4,90 kJ/°C)(28,33-24,92)°C = (4,90)(3,41)kJ = 16,7 k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39720" y="4437000"/>
            <a:ext cx="5240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x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-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alori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 - 16,7 kJ = -5,65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J/m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442920" y="440064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or 1,010 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10920" y="5084640"/>
            <a:ext cx="347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para una cucharita = 4,8 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11280" y="5807160"/>
            <a:ext cx="777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(-16,5 kJ/g) (              ) (                ) =  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cal/cucharadita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27280" y="566244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4,8 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56000" y="605952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 cu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80000" y="5661000"/>
            <a:ext cx="122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,00 k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52720" y="605808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4,184 k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27280" y="60595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24360" y="60580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62120" y="5175360"/>
            <a:ext cx="7696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presión contra la que se expande el gas es l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esión exter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y no la presión interna del gas.  De la misma manera es l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esión exter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la que comprime el gas en el caso de una compresión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828800" y="755640"/>
          <a:ext cx="5683320" cy="389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755640"/>
                    <a:ext cx="5683320" cy="38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340800" y="1025640"/>
            <a:ext cx="2948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q +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334680" y="2397240"/>
            <a:ext cx="1175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200" y="1868400"/>
            <a:ext cx="262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volumen consta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92360" y="182088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w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3116160"/>
            <a:ext cx="82087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que 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 la cantidad de calor transferida en el proceso a volumen const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82320" y="3979800"/>
            <a:ext cx="1552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4360" y="4761000"/>
            <a:ext cx="6399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que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 la capacidad calórica a presión cons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92360" y="47628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ceso a Volumen con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802600" y="762120"/>
            <a:ext cx="2948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q +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25280" y="1989000"/>
            <a:ext cx="5735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=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P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080" y="1460520"/>
            <a:ext cx="24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presión cons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700360" y="14130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w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8000" y="2565360"/>
            <a:ext cx="82090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que 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 la cantidad de calor transferida en el proceso a presión constante.  Reordenand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915640" y="3284640"/>
            <a:ext cx="385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P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– (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P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8000" y="4005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finiendo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35280" y="4005360"/>
            <a:ext cx="34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talpía : H = E + P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10720" y="4700520"/>
            <a:ext cx="278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–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=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60760" y="4653000"/>
            <a:ext cx="1573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4760" y="5300640"/>
            <a:ext cx="6407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que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 la capacidad calórica a presión cons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63640" y="18900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ceso a Presión con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27280" y="5996160"/>
            <a:ext cx="24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 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 +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P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4800" y="6021360"/>
            <a:ext cx="233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a todo proces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90440" y="152280"/>
            <a:ext cx="8763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alpia (H)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 la cantidad de calor liberado o absorbido en el proceso a presión cons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1125360"/>
            <a:ext cx="87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a una reacción química a presión constante el cambio en entalpía será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3360" y="1700280"/>
            <a:ext cx="48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 H (productos) – H (reactiv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0640" y="2276640"/>
            <a:ext cx="603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lor liberado o absorbido a presión cons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32680" y="5877000"/>
            <a:ext cx="242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roducto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rea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347560" y="6292800"/>
            <a:ext cx="11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&l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61760" y="5877000"/>
            <a:ext cx="242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roducto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rea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876280" y="6292800"/>
            <a:ext cx="11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&g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400040" y="2781360"/>
          <a:ext cx="6485040" cy="29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0040" y="2781360"/>
                    <a:ext cx="648504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674080" y="14112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uaciones termoquím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417040" y="6165720"/>
            <a:ext cx="4612320" cy="451800"/>
            <a:chOff x="2417040" y="6165720"/>
            <a:chExt cx="4612320" cy="451800"/>
          </a:xfrm>
        </p:grpSpPr>
        <p:grpSp>
          <p:nvGrpSpPr>
            <p:cNvPr id="150" name=""/>
            <p:cNvGrpSpPr/>
            <p:nvPr/>
          </p:nvGrpSpPr>
          <p:grpSpPr>
            <a:xfrm>
              <a:off x="2417040" y="6176880"/>
              <a:ext cx="2477880" cy="440640"/>
              <a:chOff x="2417040" y="6176880"/>
              <a:chExt cx="2477880" cy="440640"/>
            </a:xfrm>
          </p:grpSpPr>
          <p:sp>
            <p:nvSpPr>
              <p:cNvPr id="151" name=""/>
              <p:cNvSpPr/>
              <p:nvPr/>
            </p:nvSpPr>
            <p:spPr>
              <a:xfrm>
                <a:off x="3375000" y="6383160"/>
                <a:ext cx="635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417040" y="6176880"/>
                <a:ext cx="2477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O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)          H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O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5397840" y="6165720"/>
              <a:ext cx="1631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H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6.01 kJ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5152320" y="1371600"/>
            <a:ext cx="398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¿Es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negativo o positiv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66160" y="2155680"/>
            <a:ext cx="296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sistema absorbe ca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68680" y="2892600"/>
            <a:ext cx="16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otér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69400" y="36306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63640" y="5445000"/>
            <a:ext cx="740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da mol de hielo que se funde a 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y 1 atm absorbe 6.01 kJ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148360" y="6059520"/>
            <a:ext cx="213336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79280" y="765000"/>
          <a:ext cx="4464000" cy="439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765000"/>
                    <a:ext cx="446400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758160" y="5978520"/>
            <a:ext cx="7848360" cy="522720"/>
            <a:chOff x="758160" y="5978520"/>
            <a:chExt cx="7848360" cy="522720"/>
          </a:xfrm>
        </p:grpSpPr>
        <p:grpSp>
          <p:nvGrpSpPr>
            <p:cNvPr id="163" name=""/>
            <p:cNvGrpSpPr/>
            <p:nvPr/>
          </p:nvGrpSpPr>
          <p:grpSpPr>
            <a:xfrm>
              <a:off x="758160" y="5991120"/>
              <a:ext cx="5633640" cy="510120"/>
              <a:chOff x="758160" y="5991120"/>
              <a:chExt cx="5633640" cy="510120"/>
            </a:xfrm>
          </p:grpSpPr>
          <p:sp>
            <p:nvSpPr>
              <p:cNvPr id="164" name=""/>
              <p:cNvSpPr/>
              <p:nvPr/>
            </p:nvSpPr>
            <p:spPr>
              <a:xfrm>
                <a:off x="3257640" y="6245280"/>
                <a:ext cx="635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58160" y="5991120"/>
                <a:ext cx="56336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)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+ 2O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g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          CO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g)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 +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O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417360" y="5978520"/>
              <a:ext cx="218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H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-890.4 k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5402880" y="380880"/>
            <a:ext cx="293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sistema emite el ca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403600" y="111744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otér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04320" y="18558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87560" y="4973760"/>
            <a:ext cx="74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ara cada mol de metano que se quema a 25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 y 1 atm se liber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890.4 K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384960" y="5877000"/>
            <a:ext cx="22860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79280" y="260280"/>
          <a:ext cx="460872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60280"/>
                    <a:ext cx="460872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57200" y="134136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a es la ecuación termoquímica. Significa que se desprenden 890 kJ de calor por cada mol de metano que se consume. Si tengo dos mo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407664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 quiero “regenerar” el metano a partir de los productos de la reacción, entonces tengo que aportar 890 kJ de calor por mol de metano. La reacción inversa es por tanto endotérm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321300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cantidad de calor desprendida depende de la masa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La entalpía es una propiedad extensiva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908640" y="517680"/>
            <a:ext cx="7768800" cy="451800"/>
            <a:chOff x="908640" y="517680"/>
            <a:chExt cx="7768800" cy="451800"/>
          </a:xfrm>
        </p:grpSpPr>
        <p:grpSp>
          <p:nvGrpSpPr>
            <p:cNvPr id="178" name=""/>
            <p:cNvGrpSpPr/>
            <p:nvPr/>
          </p:nvGrpSpPr>
          <p:grpSpPr>
            <a:xfrm>
              <a:off x="908640" y="528840"/>
              <a:ext cx="4991040" cy="440640"/>
              <a:chOff x="908640" y="528840"/>
              <a:chExt cx="4991040" cy="440640"/>
            </a:xfrm>
          </p:grpSpPr>
          <p:sp>
            <p:nvSpPr>
              <p:cNvPr id="179" name=""/>
              <p:cNvSpPr/>
              <p:nvPr/>
            </p:nvSpPr>
            <p:spPr>
              <a:xfrm>
                <a:off x="3087360" y="735120"/>
                <a:ext cx="634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8640" y="528840"/>
                <a:ext cx="49910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) + 2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g)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          C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g) +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H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O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6050880" y="517680"/>
              <a:ext cx="262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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H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-890.4 kJ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6435720" y="366840"/>
            <a:ext cx="22860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8480" y="2427120"/>
            <a:ext cx="8272440" cy="451800"/>
            <a:chOff x="618480" y="2427120"/>
            <a:chExt cx="8272440" cy="451800"/>
          </a:xfrm>
        </p:grpSpPr>
        <p:grpSp>
          <p:nvGrpSpPr>
            <p:cNvPr id="184" name=""/>
            <p:cNvGrpSpPr/>
            <p:nvPr/>
          </p:nvGrpSpPr>
          <p:grpSpPr>
            <a:xfrm>
              <a:off x="618480" y="2438280"/>
              <a:ext cx="5625360" cy="440640"/>
              <a:chOff x="618480" y="2438280"/>
              <a:chExt cx="5625360" cy="440640"/>
            </a:xfrm>
          </p:grpSpPr>
          <p:sp>
            <p:nvSpPr>
              <p:cNvPr id="185" name=""/>
              <p:cNvSpPr/>
              <p:nvPr/>
            </p:nvSpPr>
            <p:spPr>
              <a:xfrm>
                <a:off x="3111480" y="2644560"/>
                <a:ext cx="634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18480" y="2438280"/>
                <a:ext cx="5625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 CH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) + 4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g)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            2 C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g) +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4 H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O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6137640" y="2427120"/>
              <a:ext cx="275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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H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2 (-890.4) kJ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6437160" y="2205000"/>
            <a:ext cx="2376720" cy="863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652320" y="5308560"/>
            <a:ext cx="7944840" cy="451800"/>
            <a:chOff x="652320" y="5308560"/>
            <a:chExt cx="7944840" cy="451800"/>
          </a:xfrm>
        </p:grpSpPr>
        <p:grpSp>
          <p:nvGrpSpPr>
            <p:cNvPr id="190" name=""/>
            <p:cNvGrpSpPr/>
            <p:nvPr/>
          </p:nvGrpSpPr>
          <p:grpSpPr>
            <a:xfrm>
              <a:off x="652320" y="5319720"/>
              <a:ext cx="5202360" cy="440640"/>
              <a:chOff x="652320" y="5319720"/>
              <a:chExt cx="5202360" cy="440640"/>
            </a:xfrm>
          </p:grpSpPr>
          <p:sp>
            <p:nvSpPr>
              <p:cNvPr id="191" name=""/>
              <p:cNvSpPr/>
              <p:nvPr/>
            </p:nvSpPr>
            <p:spPr>
              <a:xfrm>
                <a:off x="2943360" y="5526000"/>
                <a:ext cx="635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52320" y="5319720"/>
                <a:ext cx="5202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g)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+ 2H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O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)               CH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) 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+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g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5906520" y="5308560"/>
              <a:ext cx="269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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H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+890.4 kJ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6291360" y="5157720"/>
            <a:ext cx="22860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971640" y="1722600"/>
            <a:ext cx="76057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¿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ánto calo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 desprende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uando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 queman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66 g de fósforo blanco (P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 en air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984320" y="3303720"/>
            <a:ext cx="5081760" cy="7729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1908000" y="2774880"/>
            <a:ext cx="5251680" cy="3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24000" y="115920"/>
            <a:ext cx="85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iencia que estudia las transferencias de energía (calor y trabajo)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y de materia asociadas a un cambio de estado en un sistem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1014480"/>
            <a:ext cx="85341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termodinámica se aplica a sistema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croscópic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y tiene un carácter empíric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Termodinámica se refiere o toma com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ferencia estados de equilibrio o procesos ent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ados de equilibri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3679920"/>
            <a:ext cx="439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finiciones básicas de la Termodinámic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2200" y="4903920"/>
            <a:ext cx="446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SISTEM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parte del universo que diferenciamos del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sto para su estud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37200" y="3906720"/>
            <a:ext cx="375588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biertos,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ermiten la transferencia de masa y energ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errado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ermiten solo la transferencia de energ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islado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no permiten la transferencia de masa ni de energ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627228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ENTORN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resto del univer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256536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ermoquímica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 el estudio de la transferencia de calor asociada a reacciones quími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611080" y="136440"/>
            <a:ext cx="397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ación ent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416240" y="4908600"/>
            <a:ext cx="192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 - P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936240" y="4919760"/>
            <a:ext cx="4123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25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, 1 mol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24.5 L a 1 a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82960" y="5518080"/>
            <a:ext cx="354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= 1 atm x 24.5 L = 2.5 k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69440" y="6127920"/>
            <a:ext cx="558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= -367.5 kJ/mol – 2.5 kJ/mol = -370.0 kJ/m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2220" r="0" b="9141"/>
          <a:stretch/>
        </p:blipFill>
        <p:spPr>
          <a:xfrm>
            <a:off x="2143080" y="1533600"/>
            <a:ext cx="4876920" cy="30477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52880" y="833400"/>
            <a:ext cx="8211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Na (s) + 2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(l)                  2NaOH (ac) +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g)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 = -367.5 kJ/m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43280" y="105264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900000" y="260280"/>
            <a:ext cx="727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MBIOS ENERG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ICOS EN REACCIONES QUIM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765000"/>
            <a:ext cx="83991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El cambio de </a:t>
            </a:r>
            <a:r>
              <a:rPr b="1" lang="es-E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entalpía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de una reaccion qu</a:t>
            </a:r>
            <a:r>
              <a:rPr b="1" lang="es-E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í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mica,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Arial"/>
              </a:rPr>
              <a:t>rxn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,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es igual a la diferencia de </a:t>
            </a:r>
            <a:r>
              <a:rPr b="1" lang="es-E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entalpía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de los productos menos la </a:t>
            </a:r>
            <a:r>
              <a:rPr b="1" lang="es-E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entalpía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de los reactivo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340000" y="1808280"/>
            <a:ext cx="4753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Arial"/>
              </a:rPr>
              <a:t>rx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H (productos) – H (reactiv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0080" y="2492280"/>
            <a:ext cx="858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¿Se debe medir el cambio de entalpía para cada reacción de interés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627280" y="3087720"/>
            <a:ext cx="482436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talpía de reacción estánda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Δ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s-E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rx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2360" y="3716280"/>
            <a:ext cx="8640720" cy="29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entalpía estándar de formación (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es el cambio de calo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oducid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cuando u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o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de un compuesto se form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partir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 sus elemento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puros en sus estados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ánda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l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presión de 1 atmósfer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r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finició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la entalpía de formación de un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o pur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en su estado estándar e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e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entalpía estándar de formación (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de un compuesto es, entonces, igual a la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talpía estánda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de reacc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ó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 de la reacc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ó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 en que se forma el compues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95280" y="3068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fini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458640" y="1700280"/>
            <a:ext cx="815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estado estándar de cualquier elemento es su forma más estable a la presión estándar, P = 1 at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26560" y="2492280"/>
            <a:ext cx="1786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º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04960" y="2492280"/>
            <a:ext cx="2062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º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,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rafi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24760" y="2995560"/>
            <a:ext cx="2876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º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(g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142 kJ/m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37840" y="2995560"/>
            <a:ext cx="3420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º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,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iaman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1.90 kJ/m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917720" y="422100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ado estandar para algunos elemen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38080" y="5084640"/>
            <a:ext cx="7488360" cy="14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(rómbico)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a(sólido)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r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líquido)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g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gas)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etal(sólido) (excepto mercurio que es líquid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sólido)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sólido)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e(gas)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g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364000" y="262080"/>
            <a:ext cx="3583080" cy="86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94800" y="476280"/>
            <a:ext cx="3987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grafito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+    2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(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292720" y="476280"/>
            <a:ext cx="367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i="1" lang="en-US" sz="2000" spc="-1" strike="noStrike">
                <a:solidFill>
                  <a:srgbClr val="000000"/>
                </a:solidFill>
                <a:latin typeface=""/>
              </a:rPr>
              <a:t>º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rxn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i="1" lang="en-US" sz="2000" spc="-1" strike="noStrike">
                <a:solidFill>
                  <a:srgbClr val="000000"/>
                </a:solidFill>
                <a:latin typeface=""/>
              </a:rPr>
              <a:t>º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-74.8 kJ/m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59280" y="6922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41280" y="260280"/>
            <a:ext cx="861552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talpía estánda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 reacc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rx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s la entalpía de una reacción a 25°C y 1 at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ara una reacción cualquie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2872440" y="1413000"/>
            <a:ext cx="3424320" cy="398880"/>
            <a:chOff x="2872440" y="1413000"/>
            <a:chExt cx="3424320" cy="398880"/>
          </a:xfrm>
        </p:grpSpPr>
        <p:sp>
          <p:nvSpPr>
            <p:cNvPr id="226" name=""/>
            <p:cNvSpPr/>
            <p:nvPr/>
          </p:nvSpPr>
          <p:spPr>
            <a:xfrm>
              <a:off x="2872440" y="1413000"/>
              <a:ext cx="342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 +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                  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 +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230720" y="160488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366840" y="4292640"/>
            <a:ext cx="8381880" cy="100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ey de Hess: Cuando los reactivos son convertidos a productos, el cambio de entalpía es el mismo si la reacción ocurre en un paso o en una serie de pas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50920" y="5805360"/>
            <a:ext cx="87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entalpía es una función de estado. No importa el camino tomado, solamente los estados inicial y final.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00000" y="2023920"/>
            <a:ext cx="741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"/>
              </a:rPr>
              <a:t>º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"/>
              </a:rPr>
              <a:t>rxn</a:t>
            </a:r>
            <a:r>
              <a:rPr b="0" lang="en-US" sz="2000" spc="-1" strike="noStrike">
                <a:solidFill>
                  <a:srgbClr val="000000"/>
                </a:solidFill>
                <a:latin typeface=""/>
              </a:rPr>
              <a:t> =  [ c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º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)  + d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º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D) ]  -  [ 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º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A)  +  b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º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B)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546200" y="2637000"/>
            <a:ext cx="6050160" cy="440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"/>
              </a:rPr>
              <a:t>º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"/>
              </a:rPr>
              <a:t>rxn</a:t>
            </a:r>
            <a:r>
              <a:rPr b="0" lang="en-US" sz="2000" spc="-1" strike="noStrike">
                <a:solidFill>
                  <a:srgbClr val="000000"/>
                </a:solidFill>
                <a:latin typeface=""/>
              </a:rPr>
              <a:t> =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"/>
              </a:rPr>
              <a:t>n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º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roductos)  -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º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Reactiv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5280" y="3232080"/>
            <a:ext cx="83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que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son los coeficientes estequiométricos de productos y reactivos, respectivam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"/>
          <p:cNvGraphicFramePr/>
          <p:nvPr/>
        </p:nvGraphicFramePr>
        <p:xfrm>
          <a:off x="1066680" y="146160"/>
          <a:ext cx="7086600" cy="655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46160"/>
                    <a:ext cx="7086600" cy="655956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"/>
          <p:cNvGraphicFramePr/>
          <p:nvPr/>
        </p:nvGraphicFramePr>
        <p:xfrm>
          <a:off x="250920" y="189000"/>
          <a:ext cx="4133880" cy="50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89000"/>
                    <a:ext cx="4133880" cy="50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4676040" y="1341360"/>
            <a:ext cx="4076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(grafi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½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CO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)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688640" y="1989000"/>
            <a:ext cx="3973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½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880" y="2887560"/>
            <a:ext cx="3893040" cy="440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(grafi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643280" y="2492280"/>
            <a:ext cx="4249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948360" y="155736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948360" y="2205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948360" y="314172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4642920" y="1989000"/>
            <a:ext cx="576360" cy="43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7811640" y="1341360"/>
            <a:ext cx="576360" cy="43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95280" y="206280"/>
            <a:ext cx="86612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alcular la entalpía estándar de formación de CS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(l)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a partir de las siguientes rea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585800" y="905040"/>
            <a:ext cx="6527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(grafito)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+ 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2 (g)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            C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2 (g)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3333cc"/>
                </a:solidFill>
                <a:latin typeface=""/>
              </a:rPr>
              <a:t>º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"/>
              </a:rPr>
              <a:t>rxn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= -393.5 k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455840" y="1338120"/>
            <a:ext cx="6654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(rómbico)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+ 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2 (g)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            S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2 (g )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3333cc"/>
                </a:solidFill>
                <a:latin typeface=""/>
              </a:rPr>
              <a:t>º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"/>
              </a:rPr>
              <a:t>rxn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= -296.1 k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474560" y="1841400"/>
            <a:ext cx="6593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2(l)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+ 3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2 (g)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         C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2 (g)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+ 2S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2 (g)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3333cc"/>
                </a:solidFill>
                <a:latin typeface=""/>
              </a:rPr>
              <a:t>º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"/>
              </a:rPr>
              <a:t>rxn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= -1072 k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51720" y="2349360"/>
            <a:ext cx="565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scribir la reacción de formación para CS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621160" y="2852640"/>
            <a:ext cx="3899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(grafi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2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(rómbic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C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2 (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15000" y="3429000"/>
            <a:ext cx="86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mbinar las tres ecuaciones algebraicamente para dar la dese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71280" y="4903920"/>
            <a:ext cx="7358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(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2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C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3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"/>
              </a:rPr>
              <a:t>º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"/>
              </a:rPr>
              <a:t>rx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=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+107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230040" y="4869000"/>
            <a:ext cx="8837640" cy="533160"/>
            <a:chOff x="230040" y="4869000"/>
            <a:chExt cx="8837640" cy="533160"/>
          </a:xfrm>
        </p:grpSpPr>
        <p:sp>
          <p:nvSpPr>
            <p:cNvPr id="255" name=""/>
            <p:cNvSpPr/>
            <p:nvPr/>
          </p:nvSpPr>
          <p:spPr>
            <a:xfrm>
              <a:off x="304920" y="5402160"/>
              <a:ext cx="8762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30040" y="48690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341720" y="5661000"/>
            <a:ext cx="4039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(grafi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  2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(rómbic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C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73440" y="6235560"/>
            <a:ext cx="6014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"/>
              </a:rPr>
              <a:t>º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º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x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-393.5 + (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2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296.1)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072 = 86.3 k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03640" y="306864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562200" y="112536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492360" y="155736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346560" y="206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65680" y="58435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203640" y="5084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801800" y="3963960"/>
            <a:ext cx="6527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(grafito)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+ 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2 (g)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            C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2 (g)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3333cc"/>
                </a:solidFill>
                <a:latin typeface=""/>
              </a:rPr>
              <a:t>º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"/>
              </a:rPr>
              <a:t>rxn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= -393.5 k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302840" y="4397400"/>
            <a:ext cx="7390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(rómbico)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+ 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2 (g)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            S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2 (g )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3333cc"/>
                </a:solidFill>
                <a:latin typeface=""/>
              </a:rPr>
              <a:t>º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"/>
              </a:rPr>
              <a:t>rxn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= -296.1 kJ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x 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778200" y="4184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348000" y="4653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4427640" y="4005360"/>
            <a:ext cx="504720" cy="360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2700360" y="4005360"/>
            <a:ext cx="504720" cy="360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4067280" y="4437000"/>
            <a:ext cx="504720" cy="360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2340000" y="4437000"/>
            <a:ext cx="504720" cy="360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4859280" y="4940280"/>
            <a:ext cx="504720" cy="360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971640" y="4940280"/>
            <a:ext cx="504720" cy="360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1979640" y="4941720"/>
            <a:ext cx="504720" cy="360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658800" y="246240"/>
            <a:ext cx="81802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benceno (C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 se quema en presencia de aire para producir el dióxido de carbono y el agua líquida.   ¿Cuánto calor se libera por cada mol de benceno quemado? La entalpía estándar de formación del benceno es 49.04 kJ/mo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1129320" y="1916280"/>
            <a:ext cx="6116400" cy="440640"/>
            <a:chOff x="1129320" y="1916280"/>
            <a:chExt cx="6116400" cy="440640"/>
          </a:xfrm>
        </p:grpSpPr>
        <p:sp>
          <p:nvSpPr>
            <p:cNvPr id="278" name=""/>
            <p:cNvSpPr/>
            <p:nvPr/>
          </p:nvSpPr>
          <p:spPr>
            <a:xfrm>
              <a:off x="1129320" y="1916280"/>
              <a:ext cx="6116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 + 15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                    12C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 + 6H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838320" y="212076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1046160" y="2638440"/>
            <a:ext cx="6168240" cy="503640"/>
            <a:chOff x="1046160" y="2638440"/>
            <a:chExt cx="6168240" cy="503640"/>
          </a:xfrm>
        </p:grpSpPr>
        <p:grpSp>
          <p:nvGrpSpPr>
            <p:cNvPr id="281" name=""/>
            <p:cNvGrpSpPr/>
            <p:nvPr/>
          </p:nvGrpSpPr>
          <p:grpSpPr>
            <a:xfrm>
              <a:off x="1046160" y="2647800"/>
              <a:ext cx="939240" cy="479520"/>
              <a:chOff x="1046160" y="2647800"/>
              <a:chExt cx="939240" cy="479520"/>
            </a:xfrm>
          </p:grpSpPr>
          <p:sp>
            <p:nvSpPr>
              <p:cNvPr id="282" name=""/>
              <p:cNvSpPr/>
              <p:nvPr/>
            </p:nvSpPr>
            <p:spPr>
              <a:xfrm>
                <a:off x="1046160" y="2647800"/>
                <a:ext cx="60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449720" y="2728440"/>
                <a:ext cx="53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rx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2342880" y="2649600"/>
              <a:ext cx="2246040" cy="492480"/>
              <a:chOff x="2342880" y="2649600"/>
              <a:chExt cx="2246040" cy="492480"/>
            </a:xfrm>
          </p:grpSpPr>
          <p:sp>
            <p:nvSpPr>
              <p:cNvPr id="285" name=""/>
              <p:cNvSpPr/>
              <p:nvPr/>
            </p:nvSpPr>
            <p:spPr>
              <a:xfrm>
                <a:off x="2342880" y="2649600"/>
                <a:ext cx="224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0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 (productos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972520" y="2743200"/>
                <a:ext cx="25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" name=""/>
            <p:cNvSpPr/>
            <p:nvPr/>
          </p:nvSpPr>
          <p:spPr>
            <a:xfrm>
              <a:off x="1830960" y="267480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49280" y="266220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136600" y="2652480"/>
              <a:ext cx="33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4997520" y="2639880"/>
              <a:ext cx="2216880" cy="492840"/>
              <a:chOff x="4997520" y="2639880"/>
              <a:chExt cx="2216880" cy="492840"/>
            </a:xfrm>
          </p:grpSpPr>
          <p:sp>
            <p:nvSpPr>
              <p:cNvPr id="291" name=""/>
              <p:cNvSpPr/>
              <p:nvPr/>
            </p:nvSpPr>
            <p:spPr>
              <a:xfrm>
                <a:off x="4997520" y="2639880"/>
                <a:ext cx="221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0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 (reactivos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627520" y="2733840"/>
                <a:ext cx="25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4903560" y="265248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790880" y="2643120"/>
              <a:ext cx="33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561920" y="263844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1063800" y="3402000"/>
            <a:ext cx="7394400" cy="497520"/>
            <a:chOff x="1063800" y="3402000"/>
            <a:chExt cx="7394400" cy="497520"/>
          </a:xfrm>
        </p:grpSpPr>
        <p:grpSp>
          <p:nvGrpSpPr>
            <p:cNvPr id="297" name=""/>
            <p:cNvGrpSpPr/>
            <p:nvPr/>
          </p:nvGrpSpPr>
          <p:grpSpPr>
            <a:xfrm>
              <a:off x="1063800" y="3402000"/>
              <a:ext cx="939240" cy="479520"/>
              <a:chOff x="1063800" y="3402000"/>
              <a:chExt cx="939240" cy="479520"/>
            </a:xfrm>
          </p:grpSpPr>
          <p:sp>
            <p:nvSpPr>
              <p:cNvPr id="298" name=""/>
              <p:cNvSpPr/>
              <p:nvPr/>
            </p:nvSpPr>
            <p:spPr>
              <a:xfrm>
                <a:off x="1063800" y="3402000"/>
                <a:ext cx="60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467360" y="3482640"/>
                <a:ext cx="53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rx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4382640" y="3406680"/>
              <a:ext cx="1685160" cy="492480"/>
              <a:chOff x="4382640" y="3406680"/>
              <a:chExt cx="1685160" cy="492480"/>
            </a:xfrm>
          </p:grpSpPr>
          <p:sp>
            <p:nvSpPr>
              <p:cNvPr id="301" name=""/>
              <p:cNvSpPr/>
              <p:nvPr/>
            </p:nvSpPr>
            <p:spPr>
              <a:xfrm>
                <a:off x="4382640" y="3406680"/>
                <a:ext cx="16851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0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(H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O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954320" y="3500280"/>
                <a:ext cx="25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2484720" y="3406680"/>
              <a:ext cx="1802520" cy="492840"/>
              <a:chOff x="2484720" y="3406680"/>
              <a:chExt cx="1802520" cy="492840"/>
            </a:xfrm>
          </p:grpSpPr>
          <p:sp>
            <p:nvSpPr>
              <p:cNvPr id="304" name=""/>
              <p:cNvSpPr/>
              <p:nvPr/>
            </p:nvSpPr>
            <p:spPr>
              <a:xfrm>
                <a:off x="2484720" y="3406680"/>
                <a:ext cx="18025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0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  (C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159000" y="3500640"/>
                <a:ext cx="25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>
              <a:off x="1848600" y="342900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290680" y="341640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131360" y="341640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895720" y="341640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112800" y="340344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6570000" y="3405240"/>
              <a:ext cx="1799640" cy="492480"/>
              <a:chOff x="6570000" y="3405240"/>
              <a:chExt cx="1799640" cy="492480"/>
            </a:xfrm>
          </p:grpSpPr>
          <p:sp>
            <p:nvSpPr>
              <p:cNvPr id="312" name=""/>
              <p:cNvSpPr/>
              <p:nvPr/>
            </p:nvSpPr>
            <p:spPr>
              <a:xfrm>
                <a:off x="6570000" y="3405240"/>
                <a:ext cx="17996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0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   (C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6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6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142040" y="3498840"/>
                <a:ext cx="25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>
              <a:off x="6392880" y="340524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207280" y="340524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1101960" y="4086360"/>
            <a:ext cx="6936840" cy="492120"/>
            <a:chOff x="1101960" y="4086360"/>
            <a:chExt cx="6936840" cy="492120"/>
          </a:xfrm>
        </p:grpSpPr>
        <p:grpSp>
          <p:nvGrpSpPr>
            <p:cNvPr id="317" name=""/>
            <p:cNvGrpSpPr/>
            <p:nvPr/>
          </p:nvGrpSpPr>
          <p:grpSpPr>
            <a:xfrm>
              <a:off x="1101960" y="4098960"/>
              <a:ext cx="939240" cy="479520"/>
              <a:chOff x="1101960" y="4098960"/>
              <a:chExt cx="939240" cy="479520"/>
            </a:xfrm>
          </p:grpSpPr>
          <p:sp>
            <p:nvSpPr>
              <p:cNvPr id="318" name=""/>
              <p:cNvSpPr/>
              <p:nvPr/>
            </p:nvSpPr>
            <p:spPr>
              <a:xfrm>
                <a:off x="1101960" y="4098960"/>
                <a:ext cx="60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505520" y="4179600"/>
                <a:ext cx="53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rx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0" name=""/>
            <p:cNvSpPr/>
            <p:nvPr/>
          </p:nvSpPr>
          <p:spPr>
            <a:xfrm>
              <a:off x="1886760" y="412596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312280" y="4086360"/>
              <a:ext cx="572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[ 12x–393.5 + 6x–187.6 ] – [ 2x49.04 ] = -5946 kJ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2491200" y="5062680"/>
            <a:ext cx="3873960" cy="816120"/>
            <a:chOff x="2491200" y="5062680"/>
            <a:chExt cx="3873960" cy="816120"/>
          </a:xfrm>
        </p:grpSpPr>
        <p:grpSp>
          <p:nvGrpSpPr>
            <p:cNvPr id="323" name=""/>
            <p:cNvGrpSpPr/>
            <p:nvPr/>
          </p:nvGrpSpPr>
          <p:grpSpPr>
            <a:xfrm>
              <a:off x="2491200" y="5062680"/>
              <a:ext cx="1324440" cy="816120"/>
              <a:chOff x="2491200" y="5062680"/>
              <a:chExt cx="1324440" cy="816120"/>
            </a:xfrm>
          </p:grpSpPr>
          <p:sp>
            <p:nvSpPr>
              <p:cNvPr id="324" name=""/>
              <p:cNvSpPr/>
              <p:nvPr/>
            </p:nvSpPr>
            <p:spPr>
              <a:xfrm>
                <a:off x="2491200" y="5062680"/>
                <a:ext cx="1159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-5946 kJ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2705760" y="5479920"/>
                <a:ext cx="80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 mo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520720" y="5452920"/>
                <a:ext cx="129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7" name=""/>
            <p:cNvSpPr/>
            <p:nvPr/>
          </p:nvSpPr>
          <p:spPr>
            <a:xfrm>
              <a:off x="3832560" y="5265720"/>
              <a:ext cx="2532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- 2973 kJ/mol 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2411280" y="5013360"/>
            <a:ext cx="4032360" cy="936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116000" y="1844640"/>
            <a:ext cx="115236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04000" y="3933720"/>
            <a:ext cx="1297080" cy="719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38200" y="765000"/>
            <a:ext cx="151272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324000" y="189000"/>
            <a:ext cx="6175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terminar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º para la reacción sigui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284560" y="4437000"/>
            <a:ext cx="42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"/>
              </a:rPr>
              <a:t>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-177 - 94.6 – 286 = -557,6 kJ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586680" y="5008680"/>
            <a:ext cx="16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¡Exotérmico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405800" y="2200320"/>
            <a:ext cx="6551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a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g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H)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a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"/>
              </a:rPr>
              <a:t>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77 k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35200" y="1122480"/>
            <a:ext cx="7382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H)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(a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(a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a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(l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"/>
              </a:rPr>
              <a:t>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745280" y="2816280"/>
            <a:ext cx="6276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(l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½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g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a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"/>
              </a:rPr>
              <a:t>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94.6 k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79440" y="3463920"/>
            <a:ext cx="8413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entalpía de formación estandar del agua líquida e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"/>
              </a:rPr>
              <a:t>º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-286 kJ/m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924360" y="1341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635280" y="24559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635280" y="3032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24000" y="1736640"/>
            <a:ext cx="182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abiendo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460800" y="1447920"/>
            <a:ext cx="552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A     +     bB                                 cC     +     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60800" y="4040280"/>
            <a:ext cx="552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A     +     bB                                 cC     +     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0280" y="404640"/>
            <a:ext cx="89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ariación de la entalpía de reacción con la temperatura:  Ley de Kirchof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360520" y="1628640"/>
            <a:ext cx="1727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360520" y="4292640"/>
            <a:ext cx="1727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279440" y="2060640"/>
            <a:ext cx="0" cy="187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5168880" y="1988640"/>
            <a:ext cx="0" cy="187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916360" y="1231920"/>
            <a:ext cx="50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916360" y="3860640"/>
            <a:ext cx="50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516720" y="1447920"/>
            <a:ext cx="129528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rxn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516720" y="4040280"/>
            <a:ext cx="129528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rxn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258920" y="2492280"/>
            <a:ext cx="309708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a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A) (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–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+ b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B) (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–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146560" y="2503440"/>
            <a:ext cx="309744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c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C) (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–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+ d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D) (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–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476360" y="4724280"/>
            <a:ext cx="504036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rx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+   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rx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+    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476360" y="5229360"/>
            <a:ext cx="417672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rx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rx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+    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835280" y="5734080"/>
            <a:ext cx="6121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[ c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C) + d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D)] – [ a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A) + b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B)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124000" y="6237360"/>
            <a:ext cx="1800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 = 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–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52480" y="812880"/>
            <a:ext cx="782316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La energía es la capacidad para realizar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La energía radiante proviene del Sol y es la fuente de energía primaria de la Tier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La energía térmica es la energía asociada con el movimiento aleatorio de átomos y molécul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La energía química es la energía almacenada dentro de los enlaces de las sustancias químic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La energía nuclear es la energía almacenada dentro del núcleo por los neutrones y protones en el áto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La energía potencial es la energía disponible en virtud de la posición de un objeto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La temperatura es una medida de la energía térm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"/>
          <p:cNvGrpSpPr/>
          <p:nvPr/>
        </p:nvGrpSpPr>
        <p:grpSpPr>
          <a:xfrm>
            <a:off x="500760" y="1413000"/>
            <a:ext cx="8284680" cy="451800"/>
            <a:chOff x="500760" y="1413000"/>
            <a:chExt cx="8284680" cy="451800"/>
          </a:xfrm>
        </p:grpSpPr>
        <p:grpSp>
          <p:nvGrpSpPr>
            <p:cNvPr id="361" name=""/>
            <p:cNvGrpSpPr/>
            <p:nvPr/>
          </p:nvGrpSpPr>
          <p:grpSpPr>
            <a:xfrm>
              <a:off x="500760" y="1424160"/>
              <a:ext cx="6017760" cy="440640"/>
              <a:chOff x="500760" y="1424160"/>
              <a:chExt cx="6017760" cy="440640"/>
            </a:xfrm>
          </p:grpSpPr>
          <p:sp>
            <p:nvSpPr>
              <p:cNvPr id="362" name=""/>
              <p:cNvSpPr/>
              <p:nvPr/>
            </p:nvSpPr>
            <p:spPr>
              <a:xfrm>
                <a:off x="3195720" y="1630440"/>
                <a:ext cx="635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00760" y="1424160"/>
                <a:ext cx="60177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)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  +     2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g)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                  C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g)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   +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H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O 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4" name=""/>
            <p:cNvSpPr/>
            <p:nvPr/>
          </p:nvSpPr>
          <p:spPr>
            <a:xfrm>
              <a:off x="6158880" y="1413000"/>
              <a:ext cx="262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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H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-856.4 kJ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468360" y="260280"/>
            <a:ext cx="842472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El  calor  de   combustión  estándar  del  metano, C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 25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ºC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es  de  -856.4 kJ/mol.  Cuál será la temperatura de los productos gaseosos si se impide que se transfiera el calor al entorn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6720" y="1989000"/>
            <a:ext cx="719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Cómo resolvería el problema y qué otros datos necesitarí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50920" y="6200640"/>
            <a:ext cx="6913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(g)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8.03 cal/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º mol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 8.89 cal/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º m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95280" y="4113360"/>
            <a:ext cx="7632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g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+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)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856.4 kJ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g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+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24000" y="2492280"/>
            <a:ext cx="853272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ecuación termoquímica me dice que cuando reacciona un mol de metano gaseoso con dos moles de oxígeno gaseoso a 2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ºC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para dar un mol de C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gaseoso y dos moles de agua vapor a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5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ºC,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desprenden 856.4 kJ.  Por lo tanto, si esta cantidad de calor no se puede transferir al entorno, debe absorverlo los productos con el consiguiente aumento de su temperatu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619280" y="454500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5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º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012000" y="454500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º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498920" y="4329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24000" y="5157720"/>
            <a:ext cx="51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variación de la temperatura será tal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79280" y="5589720"/>
            <a:ext cx="626436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 = 856.4 kJ = [ n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CO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CO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+  m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O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] (X – 2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236000" y="6200640"/>
            <a:ext cx="122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X =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ºC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771640" y="472428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46160" y="189000"/>
            <a:ext cx="860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ciones de entalpía que acompañan a los cambios de estado de la mate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4360" y="907920"/>
            <a:ext cx="860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 para el proceso en el que 50,0 g de agua pasan del estado líquido a 10,0°C a vapor a 25,0°C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09440" y="2166840"/>
            <a:ext cx="8639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ideremos el proceso en dos etapas: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vación de la temperatura del agua líquida y vaporización completa del líquido. La variación de entalpía total es la suma de las variaciones de cada etap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79280" y="3319560"/>
            <a:ext cx="50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ezcamos la ecuación y calculem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79280" y="4075200"/>
            <a:ext cx="288000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m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+ 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va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56000" y="3822840"/>
            <a:ext cx="460872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que: 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sa del agua 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ida,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Capacidad 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órica del agua vapor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= cambio de temperatura     n = moles de agua y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va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calor de vaporización del agu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9120" y="5767560"/>
            <a:ext cx="467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(50,0 g)(4,184 J/g °C)(25,0-10,0)°C 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9120" y="6416640"/>
            <a:ext cx="330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3,14 kJ + 122 kJ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5 k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259320" y="5732640"/>
            <a:ext cx="148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4,0 kJ/m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076720" y="555156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50,0 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932360" y="5948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9 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076720" y="5948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65720" y="1700280"/>
            <a:ext cx="5841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(líquida)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(10,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°C)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                 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(vapor)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,0°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95640" y="19162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38120" y="2960640"/>
            <a:ext cx="8381880" cy="7038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VARIABLES TERMODINÁMICAS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njunto de “coordenadas” que determinan e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tado de un sistema (por ejemplo: P, V y 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8120" y="4113360"/>
            <a:ext cx="8381880" cy="10087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FUNCIÓN DE ESTADO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V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riable termodinámica que depende únicamente del estado en el que se encuentra un sistema y no del camino seguido para llegar a é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La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erg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í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es una func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ó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e est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704880"/>
            <a:ext cx="8381880" cy="7038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ESTADO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tuación en la que se encuentra un sistema 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que se puede definir de forma inequívo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1808280"/>
            <a:ext cx="8381880" cy="7038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ESTADO DE EQUILIBRIO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s variables que lo define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o varían con el tiemp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3333" t="0" r="0" b="16855"/>
          <a:stretch/>
        </p:blipFill>
        <p:spPr>
          <a:xfrm>
            <a:off x="539640" y="3309840"/>
            <a:ext cx="4464000" cy="2279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69880" y="47628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99560" y="476280"/>
            <a:ext cx="467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resión, Volumen, Temper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1197000"/>
            <a:ext cx="511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on funciones de estado: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variación en estas propiedades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ól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penden del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tado inicial y estado 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73640" y="1211400"/>
            <a:ext cx="2367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fi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n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183720" y="1820880"/>
            <a:ext cx="2368440" cy="1805400"/>
            <a:chOff x="6183720" y="1820880"/>
            <a:chExt cx="2368440" cy="1805400"/>
          </a:xfrm>
        </p:grpSpPr>
        <p:sp>
          <p:nvSpPr>
            <p:cNvPr id="61" name=""/>
            <p:cNvSpPr/>
            <p:nvPr/>
          </p:nvSpPr>
          <p:spPr>
            <a:xfrm>
              <a:off x="6184800" y="1820880"/>
              <a:ext cx="2367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final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-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inici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184800" y="2506680"/>
              <a:ext cx="2367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final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-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inici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183720" y="3116160"/>
              <a:ext cx="2316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final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-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inici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179280" y="5734080"/>
            <a:ext cx="871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ergía potenci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l 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excursionista 1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y el </a:t>
            </a:r>
            <a:r>
              <a:rPr b="1" lang="es-ES" sz="2000" spc="-1" strike="noStrike">
                <a:solidFill>
                  <a:srgbClr val="3333cc"/>
                </a:solidFill>
                <a:latin typeface="Arial"/>
              </a:rPr>
              <a:t>excursionista 2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s la misma aun cuando ellos tomaron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aminos diferent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camino recorrido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s una función de est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3492360" y="4581360"/>
            <a:ext cx="3200400" cy="533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1834920" y="4978440"/>
            <a:ext cx="419076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3347640" y="3429000"/>
            <a:ext cx="23036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40360" y="508464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mino recorr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292720" y="3573360"/>
            <a:ext cx="0" cy="184968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940360" y="4005360"/>
            <a:ext cx="269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mbio en la energia pote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364000" y="4292640"/>
            <a:ext cx="43344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276720" y="5516640"/>
            <a:ext cx="23032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836160" y="4581360"/>
            <a:ext cx="1438200" cy="3988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 = q + 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9640" y="141300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 el principio de conservación de la energía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 un sistema absorbe calor desde su entorno, se transforma en un cambio en la energía interna del sistema y/o trabajo realizado por el sistema sobre el entor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5264280"/>
            <a:ext cx="8077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 el cambio en la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ergí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erna del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 la cantidad de calor transferida entre el sistema y el ento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el trabajo realizado por (o sobre) el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08000" y="549360"/>
            <a:ext cx="59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IMER PRINCIPIO DE LA TERMODINÁMIC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72960" y="3403440"/>
            <a:ext cx="3039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iste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entorn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916360" y="1052640"/>
            <a:ext cx="6048360" cy="4465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07280" y="310356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ceso exotér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1160" y="4184640"/>
            <a:ext cx="278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ceso endotér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286000" y="696960"/>
            <a:ext cx="523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lor y trabajo en termodinám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72880" y="1357200"/>
            <a:ext cx="868680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anto el calor como el trabajo son las dos formas en las que la energía pasa de  unos sistemas a o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. El calor es la forma de energía que produce en su transferencia una variación de tempera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. El resto de transferencias de energía son trabaj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0920" y="3532320"/>
            <a:ext cx="86868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rabajo de expansión : variaciones de 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rabajo eléctrico: corriente eléct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rabajo de superficie: creación de superfic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rabajo químico: reacción quím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484360" y="26028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álculo y medida del 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42920" y="1154160"/>
            <a:ext cx="439596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Q =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C</a:t>
            </a:r>
            <a:r>
              <a:rPr b="1" lang="es-E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 = T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- T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72360" y="112860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Q =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1916280"/>
            <a:ext cx="8686800" cy="26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órmula fundamental de la calorimetría nos da el calo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necesario par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odifica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la temperatura d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gram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de sustancia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en qu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es la masa,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 el calor espec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í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co (cantidad de calor para subir la temperatura de un gramo de substancia en un grado) y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es el cambio de temperatura.  El producto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 C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es la capacidad calorica,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(cantidad de calor para subir la temperatura de m gramos de substancia en un grado). Si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orresponde a la masa molar se define como capacidad calorica molar,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(cantidad de calor para subir la temperatura de un mol de substancia en un grad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4869000"/>
            <a:ext cx="8686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 positivo, la temperatura final es mayor que la inicial, es un calentamiento.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es positivo, El sistema absorbe calor desde su entorno, el proceso es 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endot</a:t>
            </a:r>
            <a:r>
              <a:rPr b="1" lang="es-E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é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rmic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Si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es negativo la temperatura final es menor que la inicial, es un enfriamiento.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es negativo. El sistema entrega calor al entorno, el proceso es 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exot</a:t>
            </a:r>
            <a:r>
              <a:rPr b="1" lang="es-E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é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rmic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6T02:14:45Z</dcterms:created>
  <dc:creator>Stephanie Manzur Andreu</dc:creator>
  <dc:description/>
  <dc:language>en-US</dc:language>
  <cp:lastModifiedBy>Dpto. Cs. de los Materiales</cp:lastModifiedBy>
  <dcterms:modified xsi:type="dcterms:W3CDTF">2007-10-03T02:12:50Z</dcterms:modified>
  <cp:revision>184</cp:revision>
  <dc:subject/>
  <dc:title>Presentación de PowerPoint</dc:title>
</cp:coreProperties>
</file>