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652-8B5B-4D89-9025-3C4AA709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C85-990A-4530-B928-4AF20398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B07-426A-43DA-A807-10A4478B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871-5F5F-49B9-96E2-3ABF478F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0A5-B434-4F8C-8352-367096BF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E93-1A1B-4288-8DC5-FDD8F021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035-FCB3-40F9-A278-AE3B306E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0BC-5551-467D-BAA0-2405FE4E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4D1-1608-4601-B938-D7148777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BA4-5808-4A7A-ABDB-13147264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2D4-C24A-4E8C-AE43-6A8A000F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C00-0363-464F-83A5-5869EF84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3E3D-B1D3-45D3-9908-A2C4FB430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333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BITALES MOLE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838840"/>
            <a:ext cx="8382240" cy="703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oría de orbitales molecula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los enlaces se forman a partir de la interacción de orbitales átomícos para formar orbital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ecula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85600" y="2204640"/>
            <a:ext cx="1129680" cy="469800"/>
            <a:chOff x="1785600" y="2204640"/>
            <a:chExt cx="1129680" cy="469800"/>
          </a:xfrm>
        </p:grpSpPr>
        <p:grpSp>
          <p:nvGrpSpPr>
            <p:cNvPr id="44" name=""/>
            <p:cNvGrpSpPr/>
            <p:nvPr/>
          </p:nvGrpSpPr>
          <p:grpSpPr>
            <a:xfrm>
              <a:off x="1785600" y="2204640"/>
              <a:ext cx="761040" cy="457560"/>
              <a:chOff x="1785600" y="2204640"/>
              <a:chExt cx="761040" cy="457560"/>
            </a:xfrm>
          </p:grpSpPr>
          <p:sp>
            <p:nvSpPr>
              <p:cNvPr id="45" name=""/>
              <p:cNvSpPr/>
              <p:nvPr/>
            </p:nvSpPr>
            <p:spPr>
              <a:xfrm>
                <a:off x="1785600" y="226332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" name=""/>
              <p:cNvGrpSpPr/>
              <p:nvPr/>
            </p:nvGrpSpPr>
            <p:grpSpPr>
              <a:xfrm>
                <a:off x="2165400" y="2409480"/>
                <a:ext cx="381240" cy="69840"/>
                <a:chOff x="2165400" y="2409480"/>
                <a:chExt cx="381240" cy="6984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165400" y="247932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165400" y="24094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1885680" y="2204640"/>
                <a:ext cx="228960" cy="76320"/>
                <a:chOff x="1885680" y="2204640"/>
                <a:chExt cx="228960" cy="76320"/>
              </a:xfrm>
            </p:grpSpPr>
            <p:sp>
              <p:nvSpPr>
                <p:cNvPr id="50" name=""/>
                <p:cNvSpPr/>
                <p:nvPr/>
              </p:nvSpPr>
              <p:spPr>
                <a:xfrm rot="16200000">
                  <a:off x="1885680" y="2204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rot="16200000">
                  <a:off x="2038320" y="2204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1885680" y="2585520"/>
                <a:ext cx="228960" cy="76320"/>
                <a:chOff x="1885680" y="2585520"/>
                <a:chExt cx="228960" cy="76320"/>
              </a:xfrm>
            </p:grpSpPr>
            <p:sp>
              <p:nvSpPr>
                <p:cNvPr id="53" name=""/>
                <p:cNvSpPr/>
                <p:nvPr/>
              </p:nvSpPr>
              <p:spPr>
                <a:xfrm rot="16200000">
                  <a:off x="1885680" y="2585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rot="16200000">
                  <a:off x="2038320" y="2585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" name=""/>
            <p:cNvGrpSpPr/>
            <p:nvPr/>
          </p:nvGrpSpPr>
          <p:grpSpPr>
            <a:xfrm>
              <a:off x="2536560" y="2217240"/>
              <a:ext cx="378720" cy="457200"/>
              <a:chOff x="2536560" y="2217240"/>
              <a:chExt cx="378720" cy="457200"/>
            </a:xfrm>
          </p:grpSpPr>
          <p:sp>
            <p:nvSpPr>
              <p:cNvPr id="56" name=""/>
              <p:cNvSpPr/>
              <p:nvPr/>
            </p:nvSpPr>
            <p:spPr>
              <a:xfrm rot="10800000">
                <a:off x="2536560" y="22280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2586240" y="2598120"/>
                <a:ext cx="228960" cy="76320"/>
                <a:chOff x="2586240" y="2598120"/>
                <a:chExt cx="228960" cy="76320"/>
              </a:xfrm>
            </p:grpSpPr>
            <p:sp>
              <p:nvSpPr>
                <p:cNvPr id="58" name=""/>
                <p:cNvSpPr/>
                <p:nvPr/>
              </p:nvSpPr>
              <p:spPr>
                <a:xfrm rot="5400000">
                  <a:off x="2738880" y="2598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5400000">
                  <a:off x="2585880" y="25981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2586240" y="2217240"/>
                <a:ext cx="228960" cy="76320"/>
                <a:chOff x="2586240" y="2217240"/>
                <a:chExt cx="228960" cy="76320"/>
              </a:xfrm>
            </p:grpSpPr>
            <p:sp>
              <p:nvSpPr>
                <p:cNvPr id="61" name=""/>
                <p:cNvSpPr/>
                <p:nvPr/>
              </p:nvSpPr>
              <p:spPr>
                <a:xfrm rot="5400000">
                  <a:off x="2738880" y="22172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5400000">
                  <a:off x="2585880" y="22172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3" name=""/>
          <p:cNvSpPr/>
          <p:nvPr/>
        </p:nvSpPr>
        <p:spPr>
          <a:xfrm>
            <a:off x="441360" y="3397320"/>
            <a:ext cx="32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ría s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magn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32360" y="2384280"/>
            <a:ext cx="3898800" cy="3149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836640"/>
            <a:ext cx="8496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mente se  observa  que el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agnético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comportamiento paramagnético se atribuye a la presencia de electrones desapareados en el diagrama de energ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020000" y="1700280"/>
            <a:ext cx="1828800" cy="1904760"/>
            <a:chOff x="7020000" y="1700280"/>
            <a:chExt cx="1828800" cy="1904760"/>
          </a:xfrm>
        </p:grpSpPr>
        <p:pic>
          <p:nvPicPr>
            <p:cNvPr id="67" name="" descr=""/>
            <p:cNvPicPr/>
            <p:nvPr/>
          </p:nvPicPr>
          <p:blipFill>
            <a:blip r:embed="rId2"/>
            <a:srcRect l="10027" t="2087" r="9743" b="45837"/>
            <a:stretch/>
          </p:blipFill>
          <p:spPr>
            <a:xfrm>
              <a:off x="7020000" y="1700280"/>
              <a:ext cx="18288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8188560" y="3528720"/>
              <a:ext cx="7632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4000" y="285264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 observan electrones desapar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31284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éculas diatómicas heteronucleares:  el monóxido de carbono,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93880" y="1665360"/>
            <a:ext cx="4038840" cy="4572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4884840" y="5504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0800" y="5504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884840" y="4361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60800" y="4361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960800" y="367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37120" y="367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27640" y="314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18000" y="314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03600" y="3141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94320" y="3141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93840" y="4581360"/>
          <a:ext cx="5905440" cy="20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4581360"/>
                    <a:ext cx="590544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95280" y="2205000"/>
            <a:ext cx="1965240" cy="2232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1522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bitales moleculares deslocalizad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están confinados entre dos átomos enlazados adyacentes, sino que en realidad están dispersos sobre tres o más átom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34136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molécula de benceno es plana, todos los enlaces C-C son equivalentes y todos los ángulos de enlace son 120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220500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ructura de enlaces loc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2449440" cy="1636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515280" y="5248440"/>
            <a:ext cx="19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bitales deloc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039680" y="1390680"/>
          <a:ext cx="706608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390680"/>
                    <a:ext cx="70660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00000" y="69228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ar los diagramas de energía de las siguientes especies diatómicas, indicando configuración electrónica, orden de enlace, distancias relativas de enlace, propiedades magn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2997360"/>
            <a:ext cx="2881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22860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ÉCULAS DIATÓMICA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MONUCLEAR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294948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ar el cambio de orden en 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erg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os orb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635280" y="152280"/>
            <a:ext cx="5419800" cy="6705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427640" y="447516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99000" y="98100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4221000"/>
            <a:ext cx="2448000" cy="576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619280" y="1333440"/>
            <a:ext cx="1905120" cy="144792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1280" y="31284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éculas diatómicas heteronucleares:  el monóxido de carbono,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93880" y="1665360"/>
            <a:ext cx="4038840" cy="4572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>
            <a:off x="4884840" y="5504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60800" y="5504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884840" y="4361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0800" y="4361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960800" y="367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37120" y="367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427640" y="314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8000" y="314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03600" y="3141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94320" y="3141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403280" y="2800440"/>
          <a:ext cx="64087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800440"/>
                    <a:ext cx="64087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476440" y="1900080"/>
            <a:ext cx="99072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1900080"/>
            <a:ext cx="99072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91880" y="985680"/>
            <a:ext cx="2448360" cy="1475640"/>
            <a:chOff x="191880" y="985680"/>
            <a:chExt cx="2448360" cy="1475640"/>
          </a:xfrm>
        </p:grpSpPr>
        <p:grpSp>
          <p:nvGrpSpPr>
            <p:cNvPr id="155" name=""/>
            <p:cNvGrpSpPr/>
            <p:nvPr/>
          </p:nvGrpSpPr>
          <p:grpSpPr>
            <a:xfrm>
              <a:off x="380880" y="1163520"/>
              <a:ext cx="2044800" cy="1297800"/>
              <a:chOff x="380880" y="1163520"/>
              <a:chExt cx="2044800" cy="12978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93120" y="1188720"/>
                <a:ext cx="2018520" cy="1272600"/>
                <a:chOff x="393120" y="1188720"/>
                <a:chExt cx="2018520" cy="12726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9312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192680" y="11887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99332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81880" y="20016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741240" y="1415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79320" y="1415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350720" y="158256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2094840" y="1163520"/>
                <a:ext cx="228600" cy="76320"/>
                <a:chOff x="2094840" y="1163520"/>
                <a:chExt cx="228600" cy="76320"/>
              </a:xfrm>
            </p:grpSpPr>
            <p:sp>
              <p:nvSpPr>
                <p:cNvPr id="165" name=""/>
                <p:cNvSpPr/>
                <p:nvPr/>
              </p:nvSpPr>
              <p:spPr>
                <a:xfrm rot="5400000">
                  <a:off x="224712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5400000">
                  <a:off x="209448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349360" y="1303200"/>
                <a:ext cx="76320" cy="228600"/>
                <a:chOff x="2349360" y="1303200"/>
                <a:chExt cx="76320" cy="2286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349360" y="1303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349360" y="1455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94840" y="1582560"/>
                <a:ext cx="228600" cy="76320"/>
                <a:chOff x="2094840" y="1582560"/>
                <a:chExt cx="228600" cy="76320"/>
              </a:xfrm>
            </p:grpSpPr>
            <p:sp>
              <p:nvSpPr>
                <p:cNvPr id="171" name=""/>
                <p:cNvSpPr/>
                <p:nvPr/>
              </p:nvSpPr>
              <p:spPr>
                <a:xfrm rot="5400000">
                  <a:off x="224712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5400000">
                  <a:off x="209448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155600" y="2116080"/>
                <a:ext cx="75960" cy="228600"/>
                <a:chOff x="1155600" y="2116080"/>
                <a:chExt cx="75960" cy="2286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155600" y="2116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155600" y="2268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1536480" y="2116080"/>
                <a:ext cx="76320" cy="228600"/>
                <a:chOff x="1536480" y="2116080"/>
                <a:chExt cx="76320" cy="2286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536480" y="21160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536480" y="2268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69800" y="1163520"/>
                <a:ext cx="228600" cy="76320"/>
                <a:chOff x="469800" y="1163520"/>
                <a:chExt cx="228600" cy="76320"/>
              </a:xfrm>
            </p:grpSpPr>
            <p:sp>
              <p:nvSpPr>
                <p:cNvPr id="180" name=""/>
                <p:cNvSpPr/>
                <p:nvPr/>
              </p:nvSpPr>
              <p:spPr>
                <a:xfrm flipH="1" rot="16200000">
                  <a:off x="46980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rot="16200000">
                  <a:off x="62172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80880" y="1302840"/>
                <a:ext cx="75960" cy="228600"/>
                <a:chOff x="380880" y="1302840"/>
                <a:chExt cx="75960" cy="228600"/>
              </a:xfrm>
            </p:grpSpPr>
            <p:sp>
              <p:nvSpPr>
                <p:cNvPr id="183" name=""/>
                <p:cNvSpPr/>
                <p:nvPr/>
              </p:nvSpPr>
              <p:spPr>
                <a:xfrm flipH="1" rot="10800000">
                  <a:off x="380520" y="145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rot="10800000">
                  <a:off x="380520" y="1302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69800" y="1582560"/>
                <a:ext cx="228600" cy="76320"/>
                <a:chOff x="469800" y="1582560"/>
                <a:chExt cx="228600" cy="76320"/>
              </a:xfrm>
            </p:grpSpPr>
            <p:sp>
              <p:nvSpPr>
                <p:cNvPr id="186" name=""/>
                <p:cNvSpPr/>
                <p:nvPr/>
              </p:nvSpPr>
              <p:spPr>
                <a:xfrm flipH="1" rot="16200000">
                  <a:off x="46980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rot="16200000">
                  <a:off x="62172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 flipV="1">
                <a:off x="1422360" y="158256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91880" y="98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57280" y="98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555360" y="985680"/>
            <a:ext cx="2234520" cy="1653480"/>
            <a:chOff x="3555360" y="985680"/>
            <a:chExt cx="2234520" cy="1653480"/>
          </a:xfrm>
        </p:grpSpPr>
        <p:grpSp>
          <p:nvGrpSpPr>
            <p:cNvPr id="192" name=""/>
            <p:cNvGrpSpPr/>
            <p:nvPr/>
          </p:nvGrpSpPr>
          <p:grpSpPr>
            <a:xfrm>
              <a:off x="3555360" y="1163520"/>
              <a:ext cx="2032560" cy="1297800"/>
              <a:chOff x="3555360" y="1163520"/>
              <a:chExt cx="2032560" cy="12978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431960" y="2369880"/>
                <a:ext cx="228600" cy="76320"/>
                <a:chOff x="4431960" y="2369880"/>
                <a:chExt cx="228600" cy="76320"/>
              </a:xfrm>
            </p:grpSpPr>
            <p:sp>
              <p:nvSpPr>
                <p:cNvPr id="194" name=""/>
                <p:cNvSpPr/>
                <p:nvPr/>
              </p:nvSpPr>
              <p:spPr>
                <a:xfrm rot="5400000">
                  <a:off x="4584240" y="2369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5400000">
                  <a:off x="4431600" y="2369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55360" y="1188720"/>
                <a:ext cx="2018520" cy="1272600"/>
                <a:chOff x="3555360" y="1188720"/>
                <a:chExt cx="2018520" cy="12726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55536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354920" y="11887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15556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344120" y="20016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3903840" y="13903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41920" y="1415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4564080" y="158256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5257440" y="1163520"/>
                <a:ext cx="228600" cy="76320"/>
                <a:chOff x="5257440" y="1163520"/>
                <a:chExt cx="228600" cy="76320"/>
              </a:xfrm>
            </p:grpSpPr>
            <p:sp>
              <p:nvSpPr>
                <p:cNvPr id="205" name=""/>
                <p:cNvSpPr/>
                <p:nvPr/>
              </p:nvSpPr>
              <p:spPr>
                <a:xfrm rot="5400000">
                  <a:off x="540972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5400000">
                  <a:off x="525708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511960" y="1303200"/>
                <a:ext cx="75960" cy="228600"/>
                <a:chOff x="5511960" y="1303200"/>
                <a:chExt cx="75960" cy="2286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511960" y="1303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511960" y="1455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57440" y="1582560"/>
                <a:ext cx="228600" cy="76320"/>
                <a:chOff x="5257440" y="1582560"/>
                <a:chExt cx="228600" cy="76320"/>
              </a:xfrm>
            </p:grpSpPr>
            <p:sp>
              <p:nvSpPr>
                <p:cNvPr id="211" name=""/>
                <p:cNvSpPr/>
                <p:nvPr/>
              </p:nvSpPr>
              <p:spPr>
                <a:xfrm rot="5400000">
                  <a:off x="540972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525708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317840" y="2116080"/>
                <a:ext cx="76320" cy="228600"/>
                <a:chOff x="4317840" y="2116080"/>
                <a:chExt cx="76320" cy="2286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317840" y="21160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17840" y="2268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699080" y="2116080"/>
                <a:ext cx="75960" cy="228600"/>
                <a:chOff x="4699080" y="2116080"/>
                <a:chExt cx="75960" cy="2286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699080" y="2116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699080" y="2268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632040" y="1163520"/>
                <a:ext cx="228600" cy="76320"/>
                <a:chOff x="3632040" y="1163520"/>
                <a:chExt cx="228600" cy="76320"/>
              </a:xfrm>
            </p:grpSpPr>
            <p:sp>
              <p:nvSpPr>
                <p:cNvPr id="220" name=""/>
                <p:cNvSpPr/>
                <p:nvPr/>
              </p:nvSpPr>
              <p:spPr>
                <a:xfrm flipH="1" rot="16200000">
                  <a:off x="363204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 rot="16200000">
                  <a:off x="378396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632040" y="1582560"/>
                <a:ext cx="228600" cy="76320"/>
                <a:chOff x="3632040" y="1582560"/>
                <a:chExt cx="228600" cy="76320"/>
              </a:xfrm>
            </p:grpSpPr>
            <p:sp>
              <p:nvSpPr>
                <p:cNvPr id="223" name=""/>
                <p:cNvSpPr/>
                <p:nvPr/>
              </p:nvSpPr>
              <p:spPr>
                <a:xfrm flipH="1" rot="16200000">
                  <a:off x="363204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 rot="16200000">
                  <a:off x="378396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3911760" y="14684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506920" y="98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62360" y="2179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472080" y="985680"/>
            <a:ext cx="2213280" cy="1653480"/>
            <a:chOff x="6472080" y="985680"/>
            <a:chExt cx="2213280" cy="1653480"/>
          </a:xfrm>
        </p:grpSpPr>
        <p:grpSp>
          <p:nvGrpSpPr>
            <p:cNvPr id="229" name=""/>
            <p:cNvGrpSpPr/>
            <p:nvPr/>
          </p:nvGrpSpPr>
          <p:grpSpPr>
            <a:xfrm>
              <a:off x="6652800" y="1163520"/>
              <a:ext cx="2032560" cy="1297800"/>
              <a:chOff x="6652800" y="1163520"/>
              <a:chExt cx="2032560" cy="129780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7580160" y="2369880"/>
                <a:ext cx="228600" cy="76320"/>
                <a:chOff x="7580160" y="2369880"/>
                <a:chExt cx="228600" cy="76320"/>
              </a:xfrm>
            </p:grpSpPr>
            <p:sp>
              <p:nvSpPr>
                <p:cNvPr id="231" name=""/>
                <p:cNvSpPr/>
                <p:nvPr/>
              </p:nvSpPr>
              <p:spPr>
                <a:xfrm flipH="1" rot="16200000">
                  <a:off x="7580160" y="2369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 rot="16200000">
                  <a:off x="7732080" y="2369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666840" y="1188720"/>
                <a:ext cx="2018520" cy="1272600"/>
                <a:chOff x="6666840" y="1188720"/>
                <a:chExt cx="2018520" cy="1272600"/>
              </a:xfrm>
            </p:grpSpPr>
            <p:sp>
              <p:nvSpPr>
                <p:cNvPr id="234" name=""/>
                <p:cNvSpPr/>
                <p:nvPr/>
              </p:nvSpPr>
              <p:spPr>
                <a:xfrm flipH="1">
                  <a:off x="826704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7485480" y="11887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66840" y="118872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7478280" y="20016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 flipH="1">
                <a:off x="7879680" y="13903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7041600" y="14158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676640" y="158256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6754680" y="1163520"/>
                <a:ext cx="228600" cy="76320"/>
                <a:chOff x="6754680" y="1163520"/>
                <a:chExt cx="228600" cy="76320"/>
              </a:xfrm>
            </p:grpSpPr>
            <p:sp>
              <p:nvSpPr>
                <p:cNvPr id="242" name=""/>
                <p:cNvSpPr/>
                <p:nvPr/>
              </p:nvSpPr>
              <p:spPr>
                <a:xfrm flipH="1" rot="16200000">
                  <a:off x="675468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rot="16200000">
                  <a:off x="690660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6652800" y="1303200"/>
                <a:ext cx="75960" cy="228600"/>
                <a:chOff x="6652800" y="1303200"/>
                <a:chExt cx="75960" cy="22860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652440" y="1303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652440" y="1455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754680" y="1582560"/>
                <a:ext cx="228600" cy="76320"/>
                <a:chOff x="6754680" y="1582560"/>
                <a:chExt cx="228600" cy="76320"/>
              </a:xfrm>
            </p:grpSpPr>
            <p:sp>
              <p:nvSpPr>
                <p:cNvPr id="248" name=""/>
                <p:cNvSpPr/>
                <p:nvPr/>
              </p:nvSpPr>
              <p:spPr>
                <a:xfrm flipH="1" rot="16200000">
                  <a:off x="675468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rot="16200000">
                  <a:off x="690660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846560" y="2116080"/>
                <a:ext cx="76320" cy="228600"/>
                <a:chOff x="7846560" y="2116080"/>
                <a:chExt cx="7632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 flipH="1">
                  <a:off x="7846560" y="21160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>
                  <a:off x="7846560" y="2268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7465680" y="2116080"/>
                <a:ext cx="75960" cy="228600"/>
                <a:chOff x="7465680" y="2116080"/>
                <a:chExt cx="75960" cy="228600"/>
              </a:xfrm>
            </p:grpSpPr>
            <p:sp>
              <p:nvSpPr>
                <p:cNvPr id="254" name=""/>
                <p:cNvSpPr/>
                <p:nvPr/>
              </p:nvSpPr>
              <p:spPr>
                <a:xfrm flipH="1">
                  <a:off x="7465320" y="2116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7465320" y="2268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8380080" y="1163520"/>
                <a:ext cx="228600" cy="76320"/>
                <a:chOff x="8380080" y="1163520"/>
                <a:chExt cx="228600" cy="76320"/>
              </a:xfrm>
            </p:grpSpPr>
            <p:sp>
              <p:nvSpPr>
                <p:cNvPr id="257" name=""/>
                <p:cNvSpPr/>
                <p:nvPr/>
              </p:nvSpPr>
              <p:spPr>
                <a:xfrm rot="5400000">
                  <a:off x="8532360" y="1163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5400000">
                  <a:off x="8379720" y="1163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8380080" y="1582560"/>
                <a:ext cx="228600" cy="76320"/>
                <a:chOff x="8380080" y="1582560"/>
                <a:chExt cx="228600" cy="76320"/>
              </a:xfrm>
            </p:grpSpPr>
            <p:sp>
              <p:nvSpPr>
                <p:cNvPr id="260" name=""/>
                <p:cNvSpPr/>
                <p:nvPr/>
              </p:nvSpPr>
              <p:spPr>
                <a:xfrm rot="5400000">
                  <a:off x="8532360" y="1582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5400000">
                  <a:off x="8379720" y="1582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 flipH="1">
                <a:off x="7871760" y="14684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6472080" y="98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05520" y="2179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50920" y="189000"/>
            <a:ext cx="79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ón carbonato: 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Todos los enlaces C-O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826920" y="736560"/>
          <a:ext cx="7205760" cy="55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36560"/>
                    <a:ext cx="720576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 flipV="1">
            <a:off x="4140360" y="4276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140360" y="3411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16320" y="4276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16320" y="341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99564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7196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21308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8940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2908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05400" y="4637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367320" y="456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43640" y="456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585120" y="456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61080" y="456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800760" y="4563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77080" y="456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02000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95960" y="384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23744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13760" y="384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45344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29400" y="384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990960" y="3860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67280" y="3860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208400" y="3860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84720" y="3860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24400" y="3860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00720" y="3860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487680" y="506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64000" y="506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208400" y="506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84720" y="506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859280" y="506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35600" y="506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835280" y="2908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908000" y="184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484360" y="184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2589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94036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01200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867280" y="3828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8800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659640" y="384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515280" y="3828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27280" y="1159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ENLACE METÁLI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80880" y="4221000"/>
          <a:ext cx="3505320" cy="23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221000"/>
                    <a:ext cx="3505320" cy="23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380880" y="76500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lace metál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 caso extremo de enlace delocalizado.  Debido a su baja electronegatividad los metales no forman enlace por compartición de pares de electrones entre un par de átomos, sino que la compartición ocurre entre muchos átomos, dando lugar a lo que se conoce como enlace metálico.  La teoría de bandas permite entender el enlace y las propiedades de los me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25653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chos sólidos (metales, sólidos iónicos y covalentes) pueden considerarse como una gran molécula en la que todos sus átomos se encuentran unidos por fuerzas de enlace químico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Teoría de Band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s la extensión de la teoría de orbitales moleculares al caso de los sóli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419720" y="4221000"/>
          <a:ext cx="4343400" cy="243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4221000"/>
                    <a:ext cx="43434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2124000" y="4365720"/>
          <a:ext cx="679140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4365720"/>
                    <a:ext cx="6791400" cy="2216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30320" y="414360"/>
            <a:ext cx="37209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ductivida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tric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una consecuencia de la estructura electrónica de los metal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niveles vacíos corresponden a orbitales próximos en energía y débilmente atraídos por los núcleos. Los electrones de los metales se comportan como electrones libres que pueden responder a un campo eléctric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4006800" y="401760"/>
            <a:ext cx="5029200" cy="3436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08000" y="50785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ivel de Fer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49440" y="5373720"/>
            <a:ext cx="71892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228600"/>
            <a:ext cx="8763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veles de energía de enlace y de antienlace en el orbital molecular del  hidrógeno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4956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bital molecular enlazan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ne menos energía y mayor estabilidad que los orbitales átomicos que lo forma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550224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bi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le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tienlaz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ene más energía  y menor estabilidad que los orbitales átomicos que lo forma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1197000"/>
          <a:ext cx="8785440" cy="30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878544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676520" y="2054160"/>
          <a:ext cx="5897520" cy="33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4160"/>
                    <a:ext cx="5897520" cy="3390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2627280" y="1063800"/>
            <a:ext cx="38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mi-conductores do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00000" y="488880"/>
          <a:ext cx="7201080" cy="58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88880"/>
                    <a:ext cx="7201080" cy="5892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47640" y="476280"/>
          <a:ext cx="560088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6280"/>
                    <a:ext cx="56008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8000" y="26028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POSICION DE ORBITALE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981000"/>
          <a:ext cx="8136000" cy="57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81000"/>
                    <a:ext cx="813600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465200" y="352440"/>
          <a:ext cx="64198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5200" y="352440"/>
                    <a:ext cx="6419880" cy="61722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79360" y="525600"/>
            <a:ext cx="861048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número de orbitales moleculares (OMs) siempre es  igual al número de orbitales atómicos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más estable es el enlace OM, menos estable es el antienlace correspond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OMs se llenan de acuerdo con su nivel de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OM puede tener hasta dos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utiliza la regla de Hund cuando se añaden electrones a los OMs del mismo nivel de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número de electrones en los OMs es igual a la suma de todos los electrones en los átomos un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2960" y="380880"/>
            <a:ext cx="70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ci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orbit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ulares (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22860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ÉCULAS DIATÓMICA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MONUCLEAR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94948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ar el cambio de orden en 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erg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os orb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35280" y="152280"/>
            <a:ext cx="5419800" cy="6705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27640" y="447516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99000" y="98100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4221000"/>
            <a:ext cx="2448000" cy="576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619280" y="1333440"/>
            <a:ext cx="1905120" cy="144792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6120" y="83808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n de en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94320" y="647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94320" y="1065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9560" y="108576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6094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electrones en enlaces 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6094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electrones en antienlaces 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89320" y="42552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13480" y="7002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61320" y="42552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76960" cy="3600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0720" y="5989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96200" y="598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72680" y="598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35520" y="5989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9-04T20:08:56Z</dcterms:modified>
  <cp:revision>85</cp:revision>
  <dc:subject/>
  <dc:title>Presentación de PowerPoint</dc:title>
</cp:coreProperties>
</file>