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3.png" ContentType="image/png"/>
  <Override PartName="/ppt/media/image12.jpeg" ContentType="image/jpeg"/>
  <Override PartName="/ppt/media/image8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19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4.png" ContentType="image/png"/>
  <Override PartName="/ppt/media/image6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30ABC-1713-4D88-A887-A55448372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08AF7-CC04-4A71-8EF1-F8DF7060B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CB3EB-6555-4C3D-AFD1-F4ECF8E9A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F8585-E050-48BB-A654-8A28DD6D8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F23A7-A058-4317-B233-AFAC15CEC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592F8-CB39-4B81-B150-B125892C1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99137-75E2-4843-8367-847AA1547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DF841-BDBF-4F64-9131-2C7B4C1A7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DAFB8-2F02-427C-8FC0-DAFE18255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256D4-06C5-44C6-9DAB-44E88B4C2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9D9C4-D916-47DC-B9D1-57B6CF648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DCFA9-1B76-4C20-A1F0-A1C8F764C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CEE88-42C9-44F8-BB19-97773565BA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411280" y="333360"/>
            <a:ext cx="43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ORBITALES MOLECULA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80880" y="5838840"/>
            <a:ext cx="8382240" cy="7038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oría de orbitales molecular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 los enlaces se forman a partir de la interacción de orbitales átomícos para formar orbitale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lecular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1785600" y="2204640"/>
            <a:ext cx="1129680" cy="469800"/>
            <a:chOff x="1785600" y="2204640"/>
            <a:chExt cx="1129680" cy="469800"/>
          </a:xfrm>
        </p:grpSpPr>
        <p:grpSp>
          <p:nvGrpSpPr>
            <p:cNvPr id="44" name=""/>
            <p:cNvGrpSpPr/>
            <p:nvPr/>
          </p:nvGrpSpPr>
          <p:grpSpPr>
            <a:xfrm>
              <a:off x="1785600" y="2204640"/>
              <a:ext cx="761040" cy="457560"/>
              <a:chOff x="1785600" y="2204640"/>
              <a:chExt cx="761040" cy="457560"/>
            </a:xfrm>
          </p:grpSpPr>
          <p:sp>
            <p:nvSpPr>
              <p:cNvPr id="45" name=""/>
              <p:cNvSpPr/>
              <p:nvPr/>
            </p:nvSpPr>
            <p:spPr>
              <a:xfrm>
                <a:off x="1785600" y="2263320"/>
                <a:ext cx="378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6" name=""/>
              <p:cNvGrpSpPr/>
              <p:nvPr/>
            </p:nvGrpSpPr>
            <p:grpSpPr>
              <a:xfrm>
                <a:off x="2165400" y="2409480"/>
                <a:ext cx="381240" cy="69840"/>
                <a:chOff x="2165400" y="2409480"/>
                <a:chExt cx="381240" cy="69840"/>
              </a:xfrm>
            </p:grpSpPr>
            <p:sp>
              <p:nvSpPr>
                <p:cNvPr id="47" name=""/>
                <p:cNvSpPr/>
                <p:nvPr/>
              </p:nvSpPr>
              <p:spPr>
                <a:xfrm>
                  <a:off x="2165400" y="2479320"/>
                  <a:ext cx="3812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2165400" y="2409480"/>
                  <a:ext cx="3812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" name=""/>
              <p:cNvGrpSpPr/>
              <p:nvPr/>
            </p:nvGrpSpPr>
            <p:grpSpPr>
              <a:xfrm>
                <a:off x="1885680" y="2204640"/>
                <a:ext cx="228960" cy="76320"/>
                <a:chOff x="1885680" y="2204640"/>
                <a:chExt cx="228960" cy="76320"/>
              </a:xfrm>
            </p:grpSpPr>
            <p:sp>
              <p:nvSpPr>
                <p:cNvPr id="50" name=""/>
                <p:cNvSpPr/>
                <p:nvPr/>
              </p:nvSpPr>
              <p:spPr>
                <a:xfrm rot="16200000">
                  <a:off x="1885680" y="220464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 rot="16200000">
                  <a:off x="2038320" y="220464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" name=""/>
              <p:cNvGrpSpPr/>
              <p:nvPr/>
            </p:nvGrpSpPr>
            <p:grpSpPr>
              <a:xfrm>
                <a:off x="1885680" y="2585520"/>
                <a:ext cx="228960" cy="76320"/>
                <a:chOff x="1885680" y="2585520"/>
                <a:chExt cx="228960" cy="76320"/>
              </a:xfrm>
            </p:grpSpPr>
            <p:sp>
              <p:nvSpPr>
                <p:cNvPr id="53" name=""/>
                <p:cNvSpPr/>
                <p:nvPr/>
              </p:nvSpPr>
              <p:spPr>
                <a:xfrm rot="16200000">
                  <a:off x="1885680" y="258552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 rot="16200000">
                  <a:off x="2038320" y="258552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5" name=""/>
            <p:cNvGrpSpPr/>
            <p:nvPr/>
          </p:nvGrpSpPr>
          <p:grpSpPr>
            <a:xfrm>
              <a:off x="2536560" y="2217240"/>
              <a:ext cx="378720" cy="457200"/>
              <a:chOff x="2536560" y="2217240"/>
              <a:chExt cx="378720" cy="457200"/>
            </a:xfrm>
          </p:grpSpPr>
          <p:sp>
            <p:nvSpPr>
              <p:cNvPr id="56" name=""/>
              <p:cNvSpPr/>
              <p:nvPr/>
            </p:nvSpPr>
            <p:spPr>
              <a:xfrm rot="10800000">
                <a:off x="2536560" y="2228040"/>
                <a:ext cx="378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7" name=""/>
              <p:cNvGrpSpPr/>
              <p:nvPr/>
            </p:nvGrpSpPr>
            <p:grpSpPr>
              <a:xfrm>
                <a:off x="2586240" y="2598120"/>
                <a:ext cx="228960" cy="76320"/>
                <a:chOff x="2586240" y="2598120"/>
                <a:chExt cx="228960" cy="76320"/>
              </a:xfrm>
            </p:grpSpPr>
            <p:sp>
              <p:nvSpPr>
                <p:cNvPr id="58" name=""/>
                <p:cNvSpPr/>
                <p:nvPr/>
              </p:nvSpPr>
              <p:spPr>
                <a:xfrm rot="5400000">
                  <a:off x="2738880" y="259812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" name=""/>
                <p:cNvSpPr/>
                <p:nvPr/>
              </p:nvSpPr>
              <p:spPr>
                <a:xfrm rot="5400000">
                  <a:off x="2585880" y="259812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" name=""/>
              <p:cNvGrpSpPr/>
              <p:nvPr/>
            </p:nvGrpSpPr>
            <p:grpSpPr>
              <a:xfrm>
                <a:off x="2586240" y="2217240"/>
                <a:ext cx="228960" cy="76320"/>
                <a:chOff x="2586240" y="2217240"/>
                <a:chExt cx="228960" cy="76320"/>
              </a:xfrm>
            </p:grpSpPr>
            <p:sp>
              <p:nvSpPr>
                <p:cNvPr id="61" name=""/>
                <p:cNvSpPr/>
                <p:nvPr/>
              </p:nvSpPr>
              <p:spPr>
                <a:xfrm rot="5400000">
                  <a:off x="2738880" y="221724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 rot="5400000">
                  <a:off x="2585880" y="221724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3" name=""/>
          <p:cNvSpPr/>
          <p:nvPr/>
        </p:nvSpPr>
        <p:spPr>
          <a:xfrm>
            <a:off x="441360" y="3397320"/>
            <a:ext cx="322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bería s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amagnét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4932360" y="2384280"/>
            <a:ext cx="3898800" cy="314964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24000" y="836640"/>
            <a:ext cx="849600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erimentalmente se  observa  que el 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magnético.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 comportamiento paramagnético se atribuye a la presencia de electrones desapareados en el diagrama de energí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7020000" y="1700280"/>
            <a:ext cx="1828800" cy="1904760"/>
            <a:chOff x="7020000" y="1700280"/>
            <a:chExt cx="1828800" cy="1904760"/>
          </a:xfrm>
        </p:grpSpPr>
        <p:pic>
          <p:nvPicPr>
            <p:cNvPr id="67" name="" descr=""/>
            <p:cNvPicPr/>
            <p:nvPr/>
          </p:nvPicPr>
          <p:blipFill>
            <a:blip r:embed="rId2"/>
            <a:srcRect l="10027" t="2087" r="9743" b="45837"/>
            <a:stretch/>
          </p:blipFill>
          <p:spPr>
            <a:xfrm>
              <a:off x="7020000" y="1700280"/>
              <a:ext cx="1828800" cy="190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8188560" y="3528720"/>
              <a:ext cx="76320" cy="75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324000" y="2852640"/>
            <a:ext cx="489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se observan electrones desapare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11280" y="312840"/>
            <a:ext cx="813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oléculas diatómicas heteronucleares:  el monóxido de carbono, C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2693880" y="1665360"/>
            <a:ext cx="4038840" cy="45720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V="1">
            <a:off x="4884840" y="550404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960800" y="550404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4884840" y="436104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960800" y="436104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4960800" y="367524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37120" y="367524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4427640" y="314136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418000" y="314136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503600" y="31417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494320" y="31417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9" name=""/>
          <p:cNvGraphicFramePr/>
          <p:nvPr/>
        </p:nvGraphicFramePr>
        <p:xfrm>
          <a:off x="393840" y="4581360"/>
          <a:ext cx="5905440" cy="206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3840" y="4581360"/>
                    <a:ext cx="5905440" cy="206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395280" y="2205000"/>
            <a:ext cx="1965240" cy="22320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380880" y="152280"/>
            <a:ext cx="8305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s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orbitales moleculares deslocalizado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no están confinados entre dos átomos enlazados adyacentes, sino que en realidad están dispersos sobre tres o más átomo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68360" y="1341360"/>
            <a:ext cx="8207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 molécula de benceno es plana, todos los enlaces C-C son equivalentes y todos los ángulos de enlace son 120 </a:t>
            </a:r>
            <a:r>
              <a:rPr b="0" lang="es-ES_tradnl" sz="16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132000" y="2205000"/>
            <a:ext cx="439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tructura de enlaces localiz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4"/>
          <a:stretch/>
        </p:blipFill>
        <p:spPr>
          <a:xfrm>
            <a:off x="3851280" y="2708280"/>
            <a:ext cx="2449440" cy="163656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6515280" y="5248440"/>
            <a:ext cx="194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Orbitales delocaliz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7" name=""/>
          <p:cNvGraphicFramePr/>
          <p:nvPr/>
        </p:nvGraphicFramePr>
        <p:xfrm>
          <a:off x="1039680" y="1390680"/>
          <a:ext cx="7066080" cy="4076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39680" y="1390680"/>
                    <a:ext cx="7066080" cy="407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900000" y="692280"/>
            <a:ext cx="7559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tudiar los diagramas de energía de las siguientes especies diatómicas, indicando configuración electrónica, orden de enlace, distancias relativas de enlace, propiedades magnétic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419640" y="2997360"/>
            <a:ext cx="2881080" cy="17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, 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, 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, 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, 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, 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, N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, N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79280" y="228600"/>
            <a:ext cx="3168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OLÉCULAS DIATÓMICAS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HOMONUCLEARES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79280" y="2949480"/>
            <a:ext cx="309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tar el cambio de orden en la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ergí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 los orbit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3635280" y="152280"/>
            <a:ext cx="5419800" cy="670572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4427640" y="4475160"/>
            <a:ext cx="152280" cy="609480"/>
          </a:xfrm>
          <a:custGeom>
            <a:avLst/>
            <a:gdLst>
              <a:gd name="textAreaLeft" fmla="*/ 97200 w 152280"/>
              <a:gd name="textAreaRight" fmla="*/ 152640 w 152280"/>
              <a:gd name="textAreaTop" fmla="*/ 15840 h 609480"/>
              <a:gd name="textAreaBottom" fmla="*/ 59364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699000" y="981000"/>
            <a:ext cx="152280" cy="609840"/>
          </a:xfrm>
          <a:custGeom>
            <a:avLst/>
            <a:gdLst>
              <a:gd name="textAreaLeft" fmla="*/ 97200 w 152280"/>
              <a:gd name="textAreaRight" fmla="*/ 152640 w 15228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908000" y="4221000"/>
            <a:ext cx="2448000" cy="576360"/>
          </a:xfrm>
          <a:prstGeom prst="line">
            <a:avLst/>
          </a:prstGeom>
          <a:ln w="25560">
            <a:solidFill>
              <a:srgbClr val="ff33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1619280" y="1333440"/>
            <a:ext cx="1905120" cy="1447920"/>
          </a:xfrm>
          <a:prstGeom prst="line">
            <a:avLst/>
          </a:prstGeom>
          <a:ln w="25560">
            <a:solidFill>
              <a:srgbClr val="ff33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611280" y="312840"/>
            <a:ext cx="813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oléculas diatómicas heteronucleares:  el monóxido de carbono, C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2693880" y="1665360"/>
            <a:ext cx="4038840" cy="4572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 flipV="1">
            <a:off x="4884840" y="550404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960800" y="550404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4884840" y="436104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960800" y="436104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960800" y="367524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037120" y="367524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427640" y="314136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5418000" y="314136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03600" y="31417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494320" y="31417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0" name=""/>
          <p:cNvGraphicFramePr/>
          <p:nvPr/>
        </p:nvGraphicFramePr>
        <p:xfrm>
          <a:off x="1403280" y="2800440"/>
          <a:ext cx="6408720" cy="369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2800440"/>
                    <a:ext cx="6408720" cy="369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2" name=""/>
          <p:cNvSpPr/>
          <p:nvPr/>
        </p:nvSpPr>
        <p:spPr>
          <a:xfrm>
            <a:off x="2476440" y="1900080"/>
            <a:ext cx="990720" cy="18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638680" y="1900080"/>
            <a:ext cx="990720" cy="18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191880" y="985680"/>
            <a:ext cx="2448360" cy="1475640"/>
            <a:chOff x="191880" y="985680"/>
            <a:chExt cx="2448360" cy="1475640"/>
          </a:xfrm>
        </p:grpSpPr>
        <p:grpSp>
          <p:nvGrpSpPr>
            <p:cNvPr id="155" name=""/>
            <p:cNvGrpSpPr/>
            <p:nvPr/>
          </p:nvGrpSpPr>
          <p:grpSpPr>
            <a:xfrm>
              <a:off x="380880" y="1163520"/>
              <a:ext cx="2044800" cy="1297800"/>
              <a:chOff x="380880" y="1163520"/>
              <a:chExt cx="2044800" cy="129780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93120" y="1188720"/>
                <a:ext cx="2018520" cy="1272600"/>
                <a:chOff x="393120" y="1188720"/>
                <a:chExt cx="2018520" cy="127260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93120" y="1188720"/>
                  <a:ext cx="418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1192680" y="1188720"/>
                  <a:ext cx="400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1993320" y="1188720"/>
                  <a:ext cx="418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1181880" y="2001600"/>
                  <a:ext cx="418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1" name=""/>
              <p:cNvSpPr/>
              <p:nvPr/>
            </p:nvSpPr>
            <p:spPr>
              <a:xfrm>
                <a:off x="741240" y="1415880"/>
                <a:ext cx="457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1579320" y="1415880"/>
                <a:ext cx="457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flipV="1">
                <a:off x="1350720" y="1582560"/>
                <a:ext cx="0" cy="457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4" name=""/>
              <p:cNvGrpSpPr/>
              <p:nvPr/>
            </p:nvGrpSpPr>
            <p:grpSpPr>
              <a:xfrm>
                <a:off x="2094840" y="1163520"/>
                <a:ext cx="228600" cy="76320"/>
                <a:chOff x="2094840" y="1163520"/>
                <a:chExt cx="228600" cy="76320"/>
              </a:xfrm>
            </p:grpSpPr>
            <p:sp>
              <p:nvSpPr>
                <p:cNvPr id="165" name=""/>
                <p:cNvSpPr/>
                <p:nvPr/>
              </p:nvSpPr>
              <p:spPr>
                <a:xfrm rot="5400000">
                  <a:off x="2247120" y="116352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 rot="5400000">
                  <a:off x="2094480" y="116352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7" name=""/>
              <p:cNvGrpSpPr/>
              <p:nvPr/>
            </p:nvGrpSpPr>
            <p:grpSpPr>
              <a:xfrm>
                <a:off x="2349360" y="1303200"/>
                <a:ext cx="76320" cy="228600"/>
                <a:chOff x="2349360" y="1303200"/>
                <a:chExt cx="76320" cy="22860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2349360" y="130320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2349360" y="145584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0" name=""/>
              <p:cNvGrpSpPr/>
              <p:nvPr/>
            </p:nvGrpSpPr>
            <p:grpSpPr>
              <a:xfrm>
                <a:off x="2094840" y="1582560"/>
                <a:ext cx="228600" cy="76320"/>
                <a:chOff x="2094840" y="1582560"/>
                <a:chExt cx="228600" cy="76320"/>
              </a:xfrm>
            </p:grpSpPr>
            <p:sp>
              <p:nvSpPr>
                <p:cNvPr id="171" name=""/>
                <p:cNvSpPr/>
                <p:nvPr/>
              </p:nvSpPr>
              <p:spPr>
                <a:xfrm rot="5400000">
                  <a:off x="2247120" y="158256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 rot="5400000">
                  <a:off x="2094480" y="158256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3" name=""/>
              <p:cNvGrpSpPr/>
              <p:nvPr/>
            </p:nvGrpSpPr>
            <p:grpSpPr>
              <a:xfrm>
                <a:off x="1155600" y="2116080"/>
                <a:ext cx="75960" cy="228600"/>
                <a:chOff x="1155600" y="2116080"/>
                <a:chExt cx="75960" cy="228600"/>
              </a:xfrm>
            </p:grpSpPr>
            <p:sp>
              <p:nvSpPr>
                <p:cNvPr id="174" name=""/>
                <p:cNvSpPr/>
                <p:nvPr/>
              </p:nvSpPr>
              <p:spPr>
                <a:xfrm>
                  <a:off x="1155600" y="211608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1155600" y="226872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6" name=""/>
              <p:cNvGrpSpPr/>
              <p:nvPr/>
            </p:nvGrpSpPr>
            <p:grpSpPr>
              <a:xfrm>
                <a:off x="1536480" y="2116080"/>
                <a:ext cx="76320" cy="228600"/>
                <a:chOff x="1536480" y="2116080"/>
                <a:chExt cx="76320" cy="228600"/>
              </a:xfrm>
            </p:grpSpPr>
            <p:sp>
              <p:nvSpPr>
                <p:cNvPr id="177" name=""/>
                <p:cNvSpPr/>
                <p:nvPr/>
              </p:nvSpPr>
              <p:spPr>
                <a:xfrm>
                  <a:off x="1536480" y="211608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1536480" y="226872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9" name=""/>
              <p:cNvGrpSpPr/>
              <p:nvPr/>
            </p:nvGrpSpPr>
            <p:grpSpPr>
              <a:xfrm>
                <a:off x="469800" y="1163520"/>
                <a:ext cx="228600" cy="76320"/>
                <a:chOff x="469800" y="1163520"/>
                <a:chExt cx="228600" cy="76320"/>
              </a:xfrm>
            </p:grpSpPr>
            <p:sp>
              <p:nvSpPr>
                <p:cNvPr id="180" name=""/>
                <p:cNvSpPr/>
                <p:nvPr/>
              </p:nvSpPr>
              <p:spPr>
                <a:xfrm flipH="1" rot="16200000">
                  <a:off x="469800" y="116352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 flipH="1" rot="16200000">
                  <a:off x="621720" y="116352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2" name=""/>
              <p:cNvGrpSpPr/>
              <p:nvPr/>
            </p:nvGrpSpPr>
            <p:grpSpPr>
              <a:xfrm>
                <a:off x="380880" y="1302840"/>
                <a:ext cx="75960" cy="228600"/>
                <a:chOff x="380880" y="1302840"/>
                <a:chExt cx="75960" cy="228600"/>
              </a:xfrm>
            </p:grpSpPr>
            <p:sp>
              <p:nvSpPr>
                <p:cNvPr id="183" name=""/>
                <p:cNvSpPr/>
                <p:nvPr/>
              </p:nvSpPr>
              <p:spPr>
                <a:xfrm flipH="1" rot="10800000">
                  <a:off x="380520" y="145512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 rot="10800000">
                  <a:off x="380520" y="130284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469800" y="1582560"/>
                <a:ext cx="228600" cy="76320"/>
                <a:chOff x="469800" y="1582560"/>
                <a:chExt cx="228600" cy="76320"/>
              </a:xfrm>
            </p:grpSpPr>
            <p:sp>
              <p:nvSpPr>
                <p:cNvPr id="186" name=""/>
                <p:cNvSpPr/>
                <p:nvPr/>
              </p:nvSpPr>
              <p:spPr>
                <a:xfrm flipH="1" rot="16200000">
                  <a:off x="469800" y="158256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 flipH="1" rot="16200000">
                  <a:off x="621720" y="158256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8" name=""/>
              <p:cNvSpPr/>
              <p:nvPr/>
            </p:nvSpPr>
            <p:spPr>
              <a:xfrm flipV="1">
                <a:off x="1422360" y="1582560"/>
                <a:ext cx="0" cy="457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9" name=""/>
            <p:cNvSpPr/>
            <p:nvPr/>
          </p:nvSpPr>
          <p:spPr>
            <a:xfrm>
              <a:off x="191880" y="98568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357280" y="98568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3555360" y="985680"/>
            <a:ext cx="2234520" cy="1653480"/>
            <a:chOff x="3555360" y="985680"/>
            <a:chExt cx="2234520" cy="1653480"/>
          </a:xfrm>
        </p:grpSpPr>
        <p:grpSp>
          <p:nvGrpSpPr>
            <p:cNvPr id="192" name=""/>
            <p:cNvGrpSpPr/>
            <p:nvPr/>
          </p:nvGrpSpPr>
          <p:grpSpPr>
            <a:xfrm>
              <a:off x="3555360" y="1163520"/>
              <a:ext cx="2032560" cy="1297800"/>
              <a:chOff x="3555360" y="1163520"/>
              <a:chExt cx="2032560" cy="1297800"/>
            </a:xfrm>
          </p:grpSpPr>
          <p:grpSp>
            <p:nvGrpSpPr>
              <p:cNvPr id="193" name=""/>
              <p:cNvGrpSpPr/>
              <p:nvPr/>
            </p:nvGrpSpPr>
            <p:grpSpPr>
              <a:xfrm>
                <a:off x="4431960" y="2369880"/>
                <a:ext cx="228600" cy="76320"/>
                <a:chOff x="4431960" y="2369880"/>
                <a:chExt cx="228600" cy="76320"/>
              </a:xfrm>
            </p:grpSpPr>
            <p:sp>
              <p:nvSpPr>
                <p:cNvPr id="194" name=""/>
                <p:cNvSpPr/>
                <p:nvPr/>
              </p:nvSpPr>
              <p:spPr>
                <a:xfrm rot="5400000">
                  <a:off x="4584240" y="236988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 rot="5400000">
                  <a:off x="4431600" y="236988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6" name=""/>
              <p:cNvGrpSpPr/>
              <p:nvPr/>
            </p:nvGrpSpPr>
            <p:grpSpPr>
              <a:xfrm>
                <a:off x="3555360" y="1188720"/>
                <a:ext cx="2018520" cy="1272600"/>
                <a:chOff x="3555360" y="1188720"/>
                <a:chExt cx="2018520" cy="1272600"/>
              </a:xfrm>
            </p:grpSpPr>
            <p:sp>
              <p:nvSpPr>
                <p:cNvPr id="197" name=""/>
                <p:cNvSpPr/>
                <p:nvPr/>
              </p:nvSpPr>
              <p:spPr>
                <a:xfrm>
                  <a:off x="3555360" y="1188720"/>
                  <a:ext cx="418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4354920" y="1188720"/>
                  <a:ext cx="400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5155560" y="1188720"/>
                  <a:ext cx="418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4344120" y="2001600"/>
                  <a:ext cx="418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1" name=""/>
              <p:cNvSpPr/>
              <p:nvPr/>
            </p:nvSpPr>
            <p:spPr>
              <a:xfrm>
                <a:off x="3903840" y="1390320"/>
                <a:ext cx="457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4741920" y="1415880"/>
                <a:ext cx="457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 flipV="1">
                <a:off x="4564080" y="1582560"/>
                <a:ext cx="0" cy="457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4" name=""/>
              <p:cNvGrpSpPr/>
              <p:nvPr/>
            </p:nvGrpSpPr>
            <p:grpSpPr>
              <a:xfrm>
                <a:off x="5257440" y="1163520"/>
                <a:ext cx="228600" cy="76320"/>
                <a:chOff x="5257440" y="1163520"/>
                <a:chExt cx="228600" cy="76320"/>
              </a:xfrm>
            </p:grpSpPr>
            <p:sp>
              <p:nvSpPr>
                <p:cNvPr id="205" name=""/>
                <p:cNvSpPr/>
                <p:nvPr/>
              </p:nvSpPr>
              <p:spPr>
                <a:xfrm rot="5400000">
                  <a:off x="5409720" y="116352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 rot="5400000">
                  <a:off x="5257080" y="116352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7" name=""/>
              <p:cNvGrpSpPr/>
              <p:nvPr/>
            </p:nvGrpSpPr>
            <p:grpSpPr>
              <a:xfrm>
                <a:off x="5511960" y="1303200"/>
                <a:ext cx="75960" cy="228600"/>
                <a:chOff x="5511960" y="1303200"/>
                <a:chExt cx="75960" cy="228600"/>
              </a:xfrm>
            </p:grpSpPr>
            <p:sp>
              <p:nvSpPr>
                <p:cNvPr id="208" name=""/>
                <p:cNvSpPr/>
                <p:nvPr/>
              </p:nvSpPr>
              <p:spPr>
                <a:xfrm>
                  <a:off x="5511960" y="130320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5511960" y="145584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57440" y="1582560"/>
                <a:ext cx="228600" cy="76320"/>
                <a:chOff x="5257440" y="1582560"/>
                <a:chExt cx="228600" cy="76320"/>
              </a:xfrm>
            </p:grpSpPr>
            <p:sp>
              <p:nvSpPr>
                <p:cNvPr id="211" name=""/>
                <p:cNvSpPr/>
                <p:nvPr/>
              </p:nvSpPr>
              <p:spPr>
                <a:xfrm rot="5400000">
                  <a:off x="5409720" y="158256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5400000">
                  <a:off x="5257080" y="158256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3" name=""/>
              <p:cNvGrpSpPr/>
              <p:nvPr/>
            </p:nvGrpSpPr>
            <p:grpSpPr>
              <a:xfrm>
                <a:off x="4317840" y="2116080"/>
                <a:ext cx="76320" cy="228600"/>
                <a:chOff x="4317840" y="2116080"/>
                <a:chExt cx="76320" cy="228600"/>
              </a:xfrm>
            </p:grpSpPr>
            <p:sp>
              <p:nvSpPr>
                <p:cNvPr id="214" name=""/>
                <p:cNvSpPr/>
                <p:nvPr/>
              </p:nvSpPr>
              <p:spPr>
                <a:xfrm>
                  <a:off x="4317840" y="211608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4317840" y="226872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6" name=""/>
              <p:cNvGrpSpPr/>
              <p:nvPr/>
            </p:nvGrpSpPr>
            <p:grpSpPr>
              <a:xfrm>
                <a:off x="4699080" y="2116080"/>
                <a:ext cx="75960" cy="228600"/>
                <a:chOff x="4699080" y="2116080"/>
                <a:chExt cx="75960" cy="228600"/>
              </a:xfrm>
            </p:grpSpPr>
            <p:sp>
              <p:nvSpPr>
                <p:cNvPr id="217" name=""/>
                <p:cNvSpPr/>
                <p:nvPr/>
              </p:nvSpPr>
              <p:spPr>
                <a:xfrm>
                  <a:off x="4699080" y="211608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4699080" y="226872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3632040" y="1163520"/>
                <a:ext cx="228600" cy="76320"/>
                <a:chOff x="3632040" y="1163520"/>
                <a:chExt cx="228600" cy="76320"/>
              </a:xfrm>
            </p:grpSpPr>
            <p:sp>
              <p:nvSpPr>
                <p:cNvPr id="220" name=""/>
                <p:cNvSpPr/>
                <p:nvPr/>
              </p:nvSpPr>
              <p:spPr>
                <a:xfrm flipH="1" rot="16200000">
                  <a:off x="3632040" y="116352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flipH="1" rot="16200000">
                  <a:off x="3783960" y="116352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2" name=""/>
              <p:cNvGrpSpPr/>
              <p:nvPr/>
            </p:nvGrpSpPr>
            <p:grpSpPr>
              <a:xfrm>
                <a:off x="3632040" y="1582560"/>
                <a:ext cx="228600" cy="76320"/>
                <a:chOff x="3632040" y="1582560"/>
                <a:chExt cx="228600" cy="76320"/>
              </a:xfrm>
            </p:grpSpPr>
            <p:sp>
              <p:nvSpPr>
                <p:cNvPr id="223" name=""/>
                <p:cNvSpPr/>
                <p:nvPr/>
              </p:nvSpPr>
              <p:spPr>
                <a:xfrm flipH="1" rot="16200000">
                  <a:off x="3632040" y="158256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 flipH="1" rot="16200000">
                  <a:off x="3783960" y="158256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5" name=""/>
              <p:cNvSpPr/>
              <p:nvPr/>
            </p:nvSpPr>
            <p:spPr>
              <a:xfrm>
                <a:off x="3911760" y="1468440"/>
                <a:ext cx="457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6" name=""/>
            <p:cNvSpPr/>
            <p:nvPr/>
          </p:nvSpPr>
          <p:spPr>
            <a:xfrm>
              <a:off x="5506920" y="98568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662360" y="217944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6472080" y="985680"/>
            <a:ext cx="2213280" cy="1653480"/>
            <a:chOff x="6472080" y="985680"/>
            <a:chExt cx="2213280" cy="1653480"/>
          </a:xfrm>
        </p:grpSpPr>
        <p:grpSp>
          <p:nvGrpSpPr>
            <p:cNvPr id="229" name=""/>
            <p:cNvGrpSpPr/>
            <p:nvPr/>
          </p:nvGrpSpPr>
          <p:grpSpPr>
            <a:xfrm>
              <a:off x="6652800" y="1163520"/>
              <a:ext cx="2032560" cy="1297800"/>
              <a:chOff x="6652800" y="1163520"/>
              <a:chExt cx="2032560" cy="1297800"/>
            </a:xfrm>
          </p:grpSpPr>
          <p:grpSp>
            <p:nvGrpSpPr>
              <p:cNvPr id="230" name=""/>
              <p:cNvGrpSpPr/>
              <p:nvPr/>
            </p:nvGrpSpPr>
            <p:grpSpPr>
              <a:xfrm>
                <a:off x="7580160" y="2369880"/>
                <a:ext cx="228600" cy="76320"/>
                <a:chOff x="7580160" y="2369880"/>
                <a:chExt cx="228600" cy="76320"/>
              </a:xfrm>
            </p:grpSpPr>
            <p:sp>
              <p:nvSpPr>
                <p:cNvPr id="231" name=""/>
                <p:cNvSpPr/>
                <p:nvPr/>
              </p:nvSpPr>
              <p:spPr>
                <a:xfrm flipH="1" rot="16200000">
                  <a:off x="7580160" y="236988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 flipH="1" rot="16200000">
                  <a:off x="7732080" y="236988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3" name=""/>
              <p:cNvGrpSpPr/>
              <p:nvPr/>
            </p:nvGrpSpPr>
            <p:grpSpPr>
              <a:xfrm>
                <a:off x="6666840" y="1188720"/>
                <a:ext cx="2018520" cy="1272600"/>
                <a:chOff x="6666840" y="1188720"/>
                <a:chExt cx="2018520" cy="1272600"/>
              </a:xfrm>
            </p:grpSpPr>
            <p:sp>
              <p:nvSpPr>
                <p:cNvPr id="234" name=""/>
                <p:cNvSpPr/>
                <p:nvPr/>
              </p:nvSpPr>
              <p:spPr>
                <a:xfrm flipH="1">
                  <a:off x="8267040" y="1188720"/>
                  <a:ext cx="418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 flipH="1">
                  <a:off x="7485480" y="1188720"/>
                  <a:ext cx="400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>
                  <a:off x="6666840" y="1188720"/>
                  <a:ext cx="418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>
                  <a:off x="7478280" y="2001600"/>
                  <a:ext cx="418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 flipH="1">
                <a:off x="7879680" y="1390320"/>
                <a:ext cx="457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flipH="1">
                <a:off x="7041600" y="1415880"/>
                <a:ext cx="457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flipV="1">
                <a:off x="7676640" y="1582560"/>
                <a:ext cx="0" cy="457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1" name=""/>
              <p:cNvGrpSpPr/>
              <p:nvPr/>
            </p:nvGrpSpPr>
            <p:grpSpPr>
              <a:xfrm>
                <a:off x="6754680" y="1163520"/>
                <a:ext cx="228600" cy="76320"/>
                <a:chOff x="6754680" y="1163520"/>
                <a:chExt cx="228600" cy="76320"/>
              </a:xfrm>
            </p:grpSpPr>
            <p:sp>
              <p:nvSpPr>
                <p:cNvPr id="242" name=""/>
                <p:cNvSpPr/>
                <p:nvPr/>
              </p:nvSpPr>
              <p:spPr>
                <a:xfrm flipH="1" rot="16200000">
                  <a:off x="6754680" y="116352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 flipH="1" rot="16200000">
                  <a:off x="6906600" y="116352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4" name=""/>
              <p:cNvGrpSpPr/>
              <p:nvPr/>
            </p:nvGrpSpPr>
            <p:grpSpPr>
              <a:xfrm>
                <a:off x="6652800" y="1303200"/>
                <a:ext cx="75960" cy="228600"/>
                <a:chOff x="6652800" y="1303200"/>
                <a:chExt cx="75960" cy="228600"/>
              </a:xfrm>
            </p:grpSpPr>
            <p:sp>
              <p:nvSpPr>
                <p:cNvPr id="245" name=""/>
                <p:cNvSpPr/>
                <p:nvPr/>
              </p:nvSpPr>
              <p:spPr>
                <a:xfrm flipH="1">
                  <a:off x="6652440" y="130320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>
                  <a:off x="6652440" y="145584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754680" y="1582560"/>
                <a:ext cx="228600" cy="76320"/>
                <a:chOff x="6754680" y="1582560"/>
                <a:chExt cx="228600" cy="76320"/>
              </a:xfrm>
            </p:grpSpPr>
            <p:sp>
              <p:nvSpPr>
                <p:cNvPr id="248" name=""/>
                <p:cNvSpPr/>
                <p:nvPr/>
              </p:nvSpPr>
              <p:spPr>
                <a:xfrm flipH="1" rot="16200000">
                  <a:off x="6754680" y="158256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flipH="1" rot="16200000">
                  <a:off x="6906600" y="158256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0" name=""/>
              <p:cNvGrpSpPr/>
              <p:nvPr/>
            </p:nvGrpSpPr>
            <p:grpSpPr>
              <a:xfrm>
                <a:off x="7846560" y="2116080"/>
                <a:ext cx="76320" cy="228600"/>
                <a:chOff x="7846560" y="2116080"/>
                <a:chExt cx="76320" cy="228600"/>
              </a:xfrm>
            </p:grpSpPr>
            <p:sp>
              <p:nvSpPr>
                <p:cNvPr id="251" name=""/>
                <p:cNvSpPr/>
                <p:nvPr/>
              </p:nvSpPr>
              <p:spPr>
                <a:xfrm flipH="1">
                  <a:off x="7846560" y="211608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 flipH="1">
                  <a:off x="7846560" y="226872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3" name=""/>
              <p:cNvGrpSpPr/>
              <p:nvPr/>
            </p:nvGrpSpPr>
            <p:grpSpPr>
              <a:xfrm>
                <a:off x="7465680" y="2116080"/>
                <a:ext cx="75960" cy="228600"/>
                <a:chOff x="7465680" y="2116080"/>
                <a:chExt cx="75960" cy="228600"/>
              </a:xfrm>
            </p:grpSpPr>
            <p:sp>
              <p:nvSpPr>
                <p:cNvPr id="254" name=""/>
                <p:cNvSpPr/>
                <p:nvPr/>
              </p:nvSpPr>
              <p:spPr>
                <a:xfrm flipH="1">
                  <a:off x="7465320" y="211608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7465320" y="226872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8380080" y="1163520"/>
                <a:ext cx="228600" cy="76320"/>
                <a:chOff x="8380080" y="1163520"/>
                <a:chExt cx="228600" cy="76320"/>
              </a:xfrm>
            </p:grpSpPr>
            <p:sp>
              <p:nvSpPr>
                <p:cNvPr id="257" name=""/>
                <p:cNvSpPr/>
                <p:nvPr/>
              </p:nvSpPr>
              <p:spPr>
                <a:xfrm rot="5400000">
                  <a:off x="8532360" y="116352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 rot="5400000">
                  <a:off x="8379720" y="116352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9" name=""/>
              <p:cNvGrpSpPr/>
              <p:nvPr/>
            </p:nvGrpSpPr>
            <p:grpSpPr>
              <a:xfrm>
                <a:off x="8380080" y="1582560"/>
                <a:ext cx="228600" cy="76320"/>
                <a:chOff x="8380080" y="1582560"/>
                <a:chExt cx="228600" cy="76320"/>
              </a:xfrm>
            </p:grpSpPr>
            <p:sp>
              <p:nvSpPr>
                <p:cNvPr id="260" name=""/>
                <p:cNvSpPr/>
                <p:nvPr/>
              </p:nvSpPr>
              <p:spPr>
                <a:xfrm rot="5400000">
                  <a:off x="8532360" y="158256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 rot="5400000">
                  <a:off x="8379720" y="158256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2" name=""/>
              <p:cNvSpPr/>
              <p:nvPr/>
            </p:nvSpPr>
            <p:spPr>
              <a:xfrm flipH="1">
                <a:off x="7871760" y="1468440"/>
                <a:ext cx="457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3" name=""/>
            <p:cNvSpPr/>
            <p:nvPr/>
          </p:nvSpPr>
          <p:spPr>
            <a:xfrm>
              <a:off x="6472080" y="98568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805520" y="217944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5" name=""/>
          <p:cNvSpPr/>
          <p:nvPr/>
        </p:nvSpPr>
        <p:spPr>
          <a:xfrm>
            <a:off x="250920" y="189000"/>
            <a:ext cx="79214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Ión carbonato: CO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s-ES_tradnl" sz="20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. Todos los enlaces C-O son equivalent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6" name=""/>
          <p:cNvGraphicFramePr/>
          <p:nvPr/>
        </p:nvGraphicFramePr>
        <p:xfrm>
          <a:off x="826920" y="736560"/>
          <a:ext cx="7205760" cy="550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736560"/>
                    <a:ext cx="7205760" cy="550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8" name=""/>
          <p:cNvSpPr/>
          <p:nvPr/>
        </p:nvSpPr>
        <p:spPr>
          <a:xfrm flipV="1">
            <a:off x="4140360" y="427680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4140360" y="34110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216320" y="427680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216320" y="341136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3995640" y="463716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071960" y="463716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V="1">
            <a:off x="4213080" y="463716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289400" y="463716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4429080" y="463716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505400" y="463716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flipV="1">
            <a:off x="6367320" y="45637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443640" y="4564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6585120" y="45637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661080" y="4564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800760" y="45637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77080" y="4564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flipV="1">
            <a:off x="7020000" y="3844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7095960" y="3844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7237440" y="3844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7313760" y="3844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7453440" y="3844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7529400" y="3844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3990960" y="3860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067280" y="38606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4208400" y="3860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284720" y="38606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flipV="1">
            <a:off x="4424400" y="3860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500720" y="38606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3487680" y="5068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564000" y="5068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 flipV="1">
            <a:off x="4208400" y="5068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284720" y="5068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4859280" y="5068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935600" y="5068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flipV="1">
            <a:off x="1835280" y="290844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 flipV="1">
            <a:off x="1908000" y="1844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flipV="1">
            <a:off x="2484360" y="1844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flipV="1">
            <a:off x="1258920" y="1828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V="1">
            <a:off x="5940360" y="3844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 flipV="1">
            <a:off x="6012000" y="3844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 flipV="1">
            <a:off x="5867280" y="38286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 flipV="1">
            <a:off x="6588000" y="3844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6659640" y="3844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V="1">
            <a:off x="6515280" y="38286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2627280" y="115920"/>
            <a:ext cx="38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L ENLACE METÁLICO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3" name=""/>
          <p:cNvGraphicFramePr/>
          <p:nvPr/>
        </p:nvGraphicFramePr>
        <p:xfrm>
          <a:off x="380880" y="4221000"/>
          <a:ext cx="3505320" cy="2310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4221000"/>
                    <a:ext cx="3505320" cy="231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5" name=""/>
          <p:cNvSpPr/>
          <p:nvPr/>
        </p:nvSpPr>
        <p:spPr>
          <a:xfrm>
            <a:off x="380880" y="765000"/>
            <a:ext cx="84582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l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nlace metálico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es un caso extremo de enlace delocalizado.  Debido a su baja electronegatividad los metales no forman enlace por compartición de pares de electrones entre un par de átomos, sino que la compartición ocurre entre muchos átomos, dando lugar a lo que se conoce como enlace metálico.  La teoría de bandas permite entender el enlace y las propiedades de los met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80880" y="256536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Muchos sólidos (metales, sólidos iónicos y covalentes) pueden considerarse como una gran molécula en la que todos sus átomos se encuentran unidos por fuerzas de enlace químico.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a Teoría de Banda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es la extensión de la teoría de orbitales moleculares al caso de los sólido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7" name=""/>
          <p:cNvGraphicFramePr/>
          <p:nvPr/>
        </p:nvGraphicFramePr>
        <p:xfrm>
          <a:off x="4419720" y="4221000"/>
          <a:ext cx="4343400" cy="2433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1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19720" y="4221000"/>
                    <a:ext cx="4343400" cy="243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9" name=""/>
          <p:cNvGraphicFramePr/>
          <p:nvPr/>
        </p:nvGraphicFramePr>
        <p:xfrm>
          <a:off x="2124000" y="4365720"/>
          <a:ext cx="6791400" cy="2216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4000" y="4365720"/>
                    <a:ext cx="6791400" cy="2216160"/>
                  </a:xfrm>
                  <a:prstGeom prst="rect">
                    <a:avLst/>
                  </a:prstGeom>
                  <a:ln w="38160">
                    <a:solidFill>
                      <a:srgbClr val="0000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21" name=""/>
          <p:cNvSpPr/>
          <p:nvPr/>
        </p:nvSpPr>
        <p:spPr>
          <a:xfrm>
            <a:off x="130320" y="414360"/>
            <a:ext cx="3720960" cy="29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a conductividad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l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é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trica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s una consecuencia de la estructura electrónica de los metales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os niveles vacíos corresponden a orbitales próximos en energía y débilmente atraídos por los núcleos. Los electrones de los metales se comportan como electrones libres que pueden responder a un campo eléctrico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3"/>
          <a:stretch/>
        </p:blipFill>
        <p:spPr>
          <a:xfrm>
            <a:off x="4006800" y="401760"/>
            <a:ext cx="5029200" cy="3436920"/>
          </a:xfrm>
          <a:prstGeom prst="rect">
            <a:avLst/>
          </a:prstGeom>
          <a:ln w="0">
            <a:noFill/>
          </a:ln>
        </p:spPr>
      </p:pic>
      <p:sp>
        <p:nvSpPr>
          <p:cNvPr id="323" name=""/>
          <p:cNvSpPr/>
          <p:nvPr/>
        </p:nvSpPr>
        <p:spPr>
          <a:xfrm>
            <a:off x="108000" y="5078520"/>
            <a:ext cx="16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Nivel de Ferm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549440" y="5373720"/>
            <a:ext cx="718920" cy="57636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8600" y="228600"/>
            <a:ext cx="87631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iveles de energía de enlace y de antienlace en el orbital molecular del  hidrógeno (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04920" y="4495680"/>
            <a:ext cx="8534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orbital molecular enlazant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ene menos energía y mayor estabilidad que los orbitales átomicos que lo formar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04920" y="5502240"/>
            <a:ext cx="8534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orbit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molecula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ntienlazan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iene más energía  y menor estabilidad que los orbitales átomicos que lo formar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179280" y="1197000"/>
          <a:ext cx="8785440" cy="305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197000"/>
                    <a:ext cx="8785440" cy="305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5" name=""/>
          <p:cNvGraphicFramePr/>
          <p:nvPr/>
        </p:nvGraphicFramePr>
        <p:xfrm>
          <a:off x="1676520" y="2054160"/>
          <a:ext cx="5897520" cy="339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2054160"/>
                    <a:ext cx="5897520" cy="3390840"/>
                  </a:xfrm>
                  <a:prstGeom prst="rect">
                    <a:avLst/>
                  </a:prstGeom>
                  <a:ln w="38160">
                    <a:solidFill>
                      <a:srgbClr val="0000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27" name=""/>
          <p:cNvSpPr/>
          <p:nvPr/>
        </p:nvSpPr>
        <p:spPr>
          <a:xfrm>
            <a:off x="2627280" y="1063800"/>
            <a:ext cx="389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emi-conductores dopad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900000" y="488880"/>
          <a:ext cx="7201080" cy="589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488880"/>
                    <a:ext cx="7201080" cy="5892840"/>
                  </a:xfrm>
                  <a:prstGeom prst="rect">
                    <a:avLst/>
                  </a:prstGeom>
                  <a:ln w="38160">
                    <a:solidFill>
                      <a:srgbClr val="0000ff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"/>
          <p:cNvGraphicFramePr/>
          <p:nvPr/>
        </p:nvGraphicFramePr>
        <p:xfrm>
          <a:off x="1547640" y="476280"/>
          <a:ext cx="5600880" cy="590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7640" y="476280"/>
                    <a:ext cx="5600880" cy="590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908000" y="260280"/>
            <a:ext cx="58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UPERPOSICION DE ORBITALES 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539640" y="981000"/>
          <a:ext cx="8136000" cy="5703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981000"/>
                    <a:ext cx="8136000" cy="570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" name=""/>
          <p:cNvGraphicFramePr/>
          <p:nvPr/>
        </p:nvGraphicFramePr>
        <p:xfrm>
          <a:off x="1465200" y="352440"/>
          <a:ext cx="6419880" cy="617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65200" y="352440"/>
                    <a:ext cx="6419880" cy="6172200"/>
                  </a:xfrm>
                  <a:prstGeom prst="rect">
                    <a:avLst/>
                  </a:prstGeom>
                  <a:ln w="38160">
                    <a:solidFill>
                      <a:srgbClr val="0000ff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79360" y="525600"/>
            <a:ext cx="8610480" cy="53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 número de orbitales moleculares (OMs) siempre es  igual al número de orbitales atómicos combinad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e más estable es el enlace OM, menos estable es el antienlace correspondie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s OMs se llenan de acuerdo con su nivel de energí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da OM puede tener hasta dos electr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 utiliza la regla de Hund cuando se añaden electrones a los OMs del mismo nivel de energí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 número de electrones en los OMs es igual a la suma de todos los electrones en los átomos unid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912960" y="380880"/>
            <a:ext cx="702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figuracion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 orbital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leculares (O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79280" y="228600"/>
            <a:ext cx="3168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OLÉCULAS DIATÓMICAS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HOMONUCLEARES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79280" y="2949480"/>
            <a:ext cx="309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tar el cambio de orden en la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ergí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 los orbit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3635280" y="152280"/>
            <a:ext cx="5419800" cy="67057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4427640" y="4475160"/>
            <a:ext cx="152280" cy="609480"/>
          </a:xfrm>
          <a:custGeom>
            <a:avLst/>
            <a:gdLst>
              <a:gd name="textAreaLeft" fmla="*/ 97200 w 152280"/>
              <a:gd name="textAreaRight" fmla="*/ 152640 w 152280"/>
              <a:gd name="textAreaTop" fmla="*/ 15840 h 609480"/>
              <a:gd name="textAreaBottom" fmla="*/ 59364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699000" y="981000"/>
            <a:ext cx="152280" cy="609840"/>
          </a:xfrm>
          <a:custGeom>
            <a:avLst/>
            <a:gdLst>
              <a:gd name="textAreaLeft" fmla="*/ 97200 w 152280"/>
              <a:gd name="textAreaRight" fmla="*/ 152640 w 15228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908000" y="4221000"/>
            <a:ext cx="2448000" cy="576360"/>
          </a:xfrm>
          <a:prstGeom prst="line">
            <a:avLst/>
          </a:prstGeom>
          <a:ln w="25560">
            <a:solidFill>
              <a:srgbClr val="ff33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619280" y="1333440"/>
            <a:ext cx="1905120" cy="1447920"/>
          </a:xfrm>
          <a:prstGeom prst="line">
            <a:avLst/>
          </a:prstGeom>
          <a:ln w="25560">
            <a:solidFill>
              <a:srgbClr val="ff33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456120" y="838080"/>
            <a:ext cx="245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rden de enla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794320" y="6476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794320" y="10652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779560" y="1085760"/>
            <a:ext cx="381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809880" y="609480"/>
            <a:ext cx="1752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úmero de electrones en enlaces 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19920" y="609480"/>
            <a:ext cx="1981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úmero de electrones en antienlaces 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289320" y="425520"/>
            <a:ext cx="519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613480" y="700200"/>
            <a:ext cx="366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861320" y="425520"/>
            <a:ext cx="519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33520" y="1981080"/>
            <a:ext cx="8076960" cy="360072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1890720" y="598968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796200" y="59896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672680" y="59896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735520" y="598968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6T02:14:45Z</dcterms:created>
  <dc:creator>Stephanie Manzur Andreu</dc:creator>
  <dc:description/>
  <dc:language>en-US</dc:language>
  <cp:lastModifiedBy>Dpto. Cs. de los Materiales</cp:lastModifiedBy>
  <dcterms:modified xsi:type="dcterms:W3CDTF">2007-09-04T20:08:56Z</dcterms:modified>
  <cp:revision>85</cp:revision>
  <dc:subject/>
  <dc:title>Presentación de PowerPoint</dc:title>
</cp:coreProperties>
</file>