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418-7BF3-4A08-8E0D-50AB585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746-BE60-45EF-AEFB-6E8CE21C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791-9B7E-4AA9-9774-DB52992D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E51-0F23-40EF-B497-36EF00E1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257-59EC-45D0-A415-D1790DBD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7A5-40CD-411A-BF23-417EC6E1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986-9A34-4F9C-8582-BEC2006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8E4-CE11-4FE3-B666-BC577A2D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50B-18D6-45B4-8116-3116FE2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3AD-A492-457B-9B15-CFE7A72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E33-73DC-4EE9-9085-1410529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CD7-60F5-468C-BC9A-069ACCD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98DD-6216-47A0-8AF6-C826BEFF1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BITAL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38840"/>
            <a:ext cx="838224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oría de orbitales molecul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 enlaces se forman a partir de la interacción de orbitales átomícos para formar orbit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85600" y="2204640"/>
            <a:ext cx="1129680" cy="469800"/>
            <a:chOff x="1785600" y="2204640"/>
            <a:chExt cx="1129680" cy="469800"/>
          </a:xfrm>
        </p:grpSpPr>
        <p:grpSp>
          <p:nvGrpSpPr>
            <p:cNvPr id="44" name=""/>
            <p:cNvGrpSpPr/>
            <p:nvPr/>
          </p:nvGrpSpPr>
          <p:grpSpPr>
            <a:xfrm>
              <a:off x="1785600" y="2204640"/>
              <a:ext cx="761040" cy="457560"/>
              <a:chOff x="1785600" y="2204640"/>
              <a:chExt cx="761040" cy="457560"/>
            </a:xfrm>
          </p:grpSpPr>
          <p:sp>
            <p:nvSpPr>
              <p:cNvPr id="45" name=""/>
              <p:cNvSpPr/>
              <p:nvPr/>
            </p:nvSpPr>
            <p:spPr>
              <a:xfrm>
                <a:off x="1785600" y="22633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165400" y="2409480"/>
                <a:ext cx="381240" cy="69840"/>
                <a:chOff x="2165400" y="2409480"/>
                <a:chExt cx="381240" cy="6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165400" y="24793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165400" y="2409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1885680" y="2204640"/>
                <a:ext cx="228960" cy="76320"/>
                <a:chOff x="1885680" y="2204640"/>
                <a:chExt cx="228960" cy="76320"/>
              </a:xfrm>
            </p:grpSpPr>
            <p:sp>
              <p:nvSpPr>
                <p:cNvPr id="50" name=""/>
                <p:cNvSpPr/>
                <p:nvPr/>
              </p:nvSpPr>
              <p:spPr>
                <a:xfrm rot="16200000">
                  <a:off x="1885680" y="2204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rot="16200000">
                  <a:off x="2038320" y="2204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1885680" y="2585520"/>
                <a:ext cx="228960" cy="76320"/>
                <a:chOff x="1885680" y="2585520"/>
                <a:chExt cx="228960" cy="76320"/>
              </a:xfrm>
            </p:grpSpPr>
            <p:sp>
              <p:nvSpPr>
                <p:cNvPr id="53" name=""/>
                <p:cNvSpPr/>
                <p:nvPr/>
              </p:nvSpPr>
              <p:spPr>
                <a:xfrm rot="16200000">
                  <a:off x="1885680" y="2585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16200000">
                  <a:off x="2038320" y="2585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" name=""/>
            <p:cNvGrpSpPr/>
            <p:nvPr/>
          </p:nvGrpSpPr>
          <p:grpSpPr>
            <a:xfrm>
              <a:off x="2536560" y="2217240"/>
              <a:ext cx="378720" cy="457200"/>
              <a:chOff x="2536560" y="2217240"/>
              <a:chExt cx="378720" cy="457200"/>
            </a:xfrm>
          </p:grpSpPr>
          <p:sp>
            <p:nvSpPr>
              <p:cNvPr id="56" name=""/>
              <p:cNvSpPr/>
              <p:nvPr/>
            </p:nvSpPr>
            <p:spPr>
              <a:xfrm rot="10800000">
                <a:off x="2536560" y="2228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586240" y="2598120"/>
                <a:ext cx="228960" cy="76320"/>
                <a:chOff x="2586240" y="2598120"/>
                <a:chExt cx="228960" cy="76320"/>
              </a:xfrm>
            </p:grpSpPr>
            <p:sp>
              <p:nvSpPr>
                <p:cNvPr id="58" name=""/>
                <p:cNvSpPr/>
                <p:nvPr/>
              </p:nvSpPr>
              <p:spPr>
                <a:xfrm rot="5400000">
                  <a:off x="2738880" y="2598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5400000">
                  <a:off x="2585880" y="2598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586240" y="2217240"/>
                <a:ext cx="228960" cy="76320"/>
                <a:chOff x="2586240" y="2217240"/>
                <a:chExt cx="228960" cy="76320"/>
              </a:xfrm>
            </p:grpSpPr>
            <p:sp>
              <p:nvSpPr>
                <p:cNvPr id="61" name=""/>
                <p:cNvSpPr/>
                <p:nvPr/>
              </p:nvSpPr>
              <p:spPr>
                <a:xfrm rot="5400000">
                  <a:off x="2738880" y="2217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5400000">
                  <a:off x="2585880" y="22172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441360" y="339732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ía 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ag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2384280"/>
            <a:ext cx="3898800" cy="314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83664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mente se  observa  que el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agnético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omportamiento paramagnético se atribuye a la presencia de electrones desapareados en el diagrama de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20000" y="1700280"/>
            <a:ext cx="1828800" cy="1904760"/>
            <a:chOff x="7020000" y="1700280"/>
            <a:chExt cx="1828800" cy="19047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rcRect l="10027" t="2087" r="9743" b="45837"/>
            <a:stretch/>
          </p:blipFill>
          <p:spPr>
            <a:xfrm>
              <a:off x="7020000" y="1700280"/>
              <a:ext cx="18288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188560" y="3528720"/>
              <a:ext cx="763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2852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observan electrones desapar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3840" y="4581360"/>
          <a:ext cx="590544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581360"/>
                    <a:ext cx="590544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19652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bitales moleculares deslocaliz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stán confinados entre dos átomos enlazados adyacentes, sino que en realidad están dispersos sobre tres o más áto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341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lécula de benceno es plana, todos los enlaces C-C son equivalentes y todos los ángulos de enlace son 120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2205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ructura de enlaces 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2449440" cy="163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5280" y="524844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bitales de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39680" y="1390680"/>
          <a:ext cx="7066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390680"/>
                    <a:ext cx="7066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ar los diagramas de energía de las siguientes especies diatómicas, indicando configuración electrónica, orden de enlace, distancias relativas de enlace, propiedade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997360"/>
            <a:ext cx="2881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03280" y="2800440"/>
          <a:ext cx="64087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00440"/>
                    <a:ext cx="64087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7644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880" y="985680"/>
            <a:ext cx="2448360" cy="1475640"/>
            <a:chOff x="191880" y="985680"/>
            <a:chExt cx="2448360" cy="1475640"/>
          </a:xfrm>
        </p:grpSpPr>
        <p:grpSp>
          <p:nvGrpSpPr>
            <p:cNvPr id="155" name=""/>
            <p:cNvGrpSpPr/>
            <p:nvPr/>
          </p:nvGrpSpPr>
          <p:grpSpPr>
            <a:xfrm>
              <a:off x="380880" y="1163520"/>
              <a:ext cx="2044800" cy="1297800"/>
              <a:chOff x="380880" y="1163520"/>
              <a:chExt cx="2044800" cy="12978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93120" y="1188720"/>
                <a:ext cx="2018520" cy="1272600"/>
                <a:chOff x="393120" y="1188720"/>
                <a:chExt cx="2018520" cy="1272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31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926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933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818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74124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793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35072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094840" y="1163520"/>
                <a:ext cx="228600" cy="76320"/>
                <a:chOff x="2094840" y="116352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 rot="5400000">
                  <a:off x="22471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20944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349360" y="1303200"/>
                <a:ext cx="76320" cy="228600"/>
                <a:chOff x="2349360" y="1303200"/>
                <a:chExt cx="76320" cy="2286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49360" y="130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49360" y="1455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94840" y="1582560"/>
                <a:ext cx="228600" cy="76320"/>
                <a:chOff x="2094840" y="1582560"/>
                <a:chExt cx="228600" cy="76320"/>
              </a:xfrm>
            </p:grpSpPr>
            <p:sp>
              <p:nvSpPr>
                <p:cNvPr id="171" name=""/>
                <p:cNvSpPr/>
                <p:nvPr/>
              </p:nvSpPr>
              <p:spPr>
                <a:xfrm rot="5400000">
                  <a:off x="22471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20944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155600" y="2116080"/>
                <a:ext cx="75960" cy="228600"/>
                <a:chOff x="1155600" y="2116080"/>
                <a:chExt cx="75960" cy="228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15560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5560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36480" y="2116080"/>
                <a:ext cx="76320" cy="228600"/>
                <a:chOff x="1536480" y="2116080"/>
                <a:chExt cx="76320" cy="228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3648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3648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69800" y="1163520"/>
                <a:ext cx="228600" cy="76320"/>
                <a:chOff x="469800" y="1163520"/>
                <a:chExt cx="228600" cy="7632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rot="16200000">
                  <a:off x="46980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16200000">
                  <a:off x="621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0880" y="1302840"/>
                <a:ext cx="75960" cy="228600"/>
                <a:chOff x="380880" y="1302840"/>
                <a:chExt cx="7596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rot="10800000">
                  <a:off x="380520" y="145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10800000">
                  <a:off x="380520" y="1302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69800" y="1582560"/>
                <a:ext cx="228600" cy="76320"/>
                <a:chOff x="469800" y="1582560"/>
                <a:chExt cx="228600" cy="763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16200000">
                  <a:off x="46980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621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V="1">
                <a:off x="142236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918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72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55360" y="985680"/>
            <a:ext cx="2234520" cy="1653480"/>
            <a:chOff x="3555360" y="985680"/>
            <a:chExt cx="2234520" cy="1653480"/>
          </a:xfrm>
        </p:grpSpPr>
        <p:grpSp>
          <p:nvGrpSpPr>
            <p:cNvPr id="192" name=""/>
            <p:cNvGrpSpPr/>
            <p:nvPr/>
          </p:nvGrpSpPr>
          <p:grpSpPr>
            <a:xfrm>
              <a:off x="3555360" y="1163520"/>
              <a:ext cx="2032560" cy="1297800"/>
              <a:chOff x="3555360" y="1163520"/>
              <a:chExt cx="2032560" cy="12978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31960" y="2369880"/>
                <a:ext cx="228600" cy="76320"/>
                <a:chOff x="4431960" y="2369880"/>
                <a:chExt cx="228600" cy="76320"/>
              </a:xfrm>
            </p:grpSpPr>
            <p:sp>
              <p:nvSpPr>
                <p:cNvPr id="194" name=""/>
                <p:cNvSpPr/>
                <p:nvPr/>
              </p:nvSpPr>
              <p:spPr>
                <a:xfrm rot="5400000">
                  <a:off x="458424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400000">
                  <a:off x="443160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55360" y="1188720"/>
                <a:ext cx="2018520" cy="1272600"/>
                <a:chOff x="3555360" y="1188720"/>
                <a:chExt cx="2018520" cy="1272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553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5492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555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34412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90384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419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56408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257440" y="1163520"/>
                <a:ext cx="228600" cy="76320"/>
                <a:chOff x="5257440" y="1163520"/>
                <a:chExt cx="228600" cy="76320"/>
              </a:xfrm>
            </p:grpSpPr>
            <p:sp>
              <p:nvSpPr>
                <p:cNvPr id="205" name=""/>
                <p:cNvSpPr/>
                <p:nvPr/>
              </p:nvSpPr>
              <p:spPr>
                <a:xfrm rot="5400000">
                  <a:off x="54097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5400000">
                  <a:off x="52570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11960" y="1303200"/>
                <a:ext cx="75960" cy="228600"/>
                <a:chOff x="5511960" y="1303200"/>
                <a:chExt cx="75960" cy="228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1196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1196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57440" y="1582560"/>
                <a:ext cx="228600" cy="76320"/>
                <a:chOff x="5257440" y="1582560"/>
                <a:chExt cx="228600" cy="76320"/>
              </a:xfrm>
            </p:grpSpPr>
            <p:sp>
              <p:nvSpPr>
                <p:cNvPr id="211" name=""/>
                <p:cNvSpPr/>
                <p:nvPr/>
              </p:nvSpPr>
              <p:spPr>
                <a:xfrm rot="5400000">
                  <a:off x="54097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52570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17840" y="2116080"/>
                <a:ext cx="76320" cy="228600"/>
                <a:chOff x="4317840" y="2116080"/>
                <a:chExt cx="76320" cy="228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1784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1784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699080" y="2116080"/>
                <a:ext cx="75960" cy="228600"/>
                <a:chOff x="4699080" y="2116080"/>
                <a:chExt cx="75960" cy="2286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69908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9908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632040" y="1163520"/>
                <a:ext cx="228600" cy="76320"/>
                <a:chOff x="3632040" y="1163520"/>
                <a:chExt cx="228600" cy="763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rot="16200000">
                  <a:off x="363204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16200000">
                  <a:off x="378396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32040" y="1582560"/>
                <a:ext cx="228600" cy="76320"/>
                <a:chOff x="3632040" y="1582560"/>
                <a:chExt cx="22860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rot="16200000">
                  <a:off x="363204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16200000">
                  <a:off x="378396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91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0692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236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72080" y="985680"/>
            <a:ext cx="2213280" cy="1653480"/>
            <a:chOff x="6472080" y="985680"/>
            <a:chExt cx="2213280" cy="1653480"/>
          </a:xfrm>
        </p:grpSpPr>
        <p:grpSp>
          <p:nvGrpSpPr>
            <p:cNvPr id="229" name=""/>
            <p:cNvGrpSpPr/>
            <p:nvPr/>
          </p:nvGrpSpPr>
          <p:grpSpPr>
            <a:xfrm>
              <a:off x="6652800" y="1163520"/>
              <a:ext cx="2032560" cy="1297800"/>
              <a:chOff x="6652800" y="1163520"/>
              <a:chExt cx="2032560" cy="1297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80160" y="2369880"/>
                <a:ext cx="228600" cy="76320"/>
                <a:chOff x="7580160" y="2369880"/>
                <a:chExt cx="228600" cy="76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 rot="16200000">
                  <a:off x="758016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rot="16200000">
                  <a:off x="773208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6840" y="1188720"/>
                <a:ext cx="2018520" cy="1272600"/>
                <a:chOff x="6666840" y="1188720"/>
                <a:chExt cx="2018520" cy="1272600"/>
              </a:xfrm>
            </p:grpSpPr>
            <p:sp>
              <p:nvSpPr>
                <p:cNvPr id="234" name=""/>
                <p:cNvSpPr/>
                <p:nvPr/>
              </p:nvSpPr>
              <p:spPr>
                <a:xfrm flipH="1">
                  <a:off x="82670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4854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668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74782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87968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04160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7664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54680" y="1163520"/>
                <a:ext cx="228600" cy="76320"/>
                <a:chOff x="6754680" y="1163520"/>
                <a:chExt cx="228600" cy="763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rot="16200000">
                  <a:off x="675468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6200000">
                  <a:off x="690660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652800" y="1303200"/>
                <a:ext cx="75960" cy="228600"/>
                <a:chOff x="6652800" y="1303200"/>
                <a:chExt cx="75960" cy="22860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65244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65244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754680" y="1582560"/>
                <a:ext cx="228600" cy="76320"/>
                <a:chOff x="6754680" y="1582560"/>
                <a:chExt cx="228600" cy="763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6200000">
                  <a:off x="675468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6200000">
                  <a:off x="690660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46560" y="2116080"/>
                <a:ext cx="76320" cy="228600"/>
                <a:chOff x="7846560" y="2116080"/>
                <a:chExt cx="7632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784656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784656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465680" y="2116080"/>
                <a:ext cx="75960" cy="228600"/>
                <a:chOff x="7465680" y="2116080"/>
                <a:chExt cx="75960" cy="22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46532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46532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380080" y="1163520"/>
                <a:ext cx="228600" cy="76320"/>
                <a:chOff x="8380080" y="1163520"/>
                <a:chExt cx="228600" cy="76320"/>
              </a:xfrm>
            </p:grpSpPr>
            <p:sp>
              <p:nvSpPr>
                <p:cNvPr id="257" name=""/>
                <p:cNvSpPr/>
                <p:nvPr/>
              </p:nvSpPr>
              <p:spPr>
                <a:xfrm rot="5400000">
                  <a:off x="853236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5400000">
                  <a:off x="8379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380080" y="1582560"/>
                <a:ext cx="228600" cy="76320"/>
                <a:chOff x="8380080" y="1582560"/>
                <a:chExt cx="228600" cy="76320"/>
              </a:xfrm>
            </p:grpSpPr>
            <p:sp>
              <p:nvSpPr>
                <p:cNvPr id="260" name=""/>
                <p:cNvSpPr/>
                <p:nvPr/>
              </p:nvSpPr>
              <p:spPr>
                <a:xfrm rot="5400000">
                  <a:off x="853236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5400000">
                  <a:off x="8379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H="1">
                <a:off x="787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720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0552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50920" y="18900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736560"/>
          <a:ext cx="72057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36560"/>
                    <a:ext cx="7205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 flipV="1">
            <a:off x="414036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140360" y="3411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632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16320" y="341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9564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7196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13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9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29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5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673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851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61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0076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20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59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7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3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940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99096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728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08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4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876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0840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592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2908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800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8436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589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94036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12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88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6596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515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115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LACE METÁL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80880" y="4221000"/>
          <a:ext cx="3505320" cy="23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21000"/>
                    <a:ext cx="3505320" cy="23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80880" y="765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lace metá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caso extremo de enlace delocalizado.  Debido a su baja electronegatividad los metales no forman enlace por compartición de pares de electrones entre un par de átomos, sino que la compartición ocurre entre muchos átomos, dando lugar a lo que se conoce como enlace metálico.  La teoría de bandas permite entender el enlace y las propiedades de los me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65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chos sólidos (metales, sólidos iónicos y covalentes) pueden considerarse como una gran molécula en la que todos sus átomos se encuentran unidos por fuerzas de enlace químico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de Ban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extensión de la teoría de orbitales moleculares al caso de los sóli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19720" y="4221000"/>
          <a:ext cx="4343400" cy="24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221000"/>
                    <a:ext cx="43434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24000" y="4365720"/>
          <a:ext cx="67914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365720"/>
                    <a:ext cx="6791400" cy="2216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30320" y="414360"/>
            <a:ext cx="37209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ductivid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tr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consecuencia de la estructura electrónica de los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niveles vacíos corresponden a orbitales próximos en energía y débilmente atraídos por los núcleos. Los electrones de los metales se comportan como electrones libres que pueden responder a un campo eléctri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006800" y="401760"/>
            <a:ext cx="5029200" cy="3436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8000" y="50785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Fe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49440" y="5373720"/>
            <a:ext cx="71892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energía de enlace y de antienlace en el orbital molecular del  hidrógeno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495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 molecular enlaz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enos energía y may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502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enlaz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más energía  y men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197000"/>
          <a:ext cx="878544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676520" y="2054160"/>
          <a:ext cx="589752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4160"/>
                    <a:ext cx="5897520" cy="33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627280" y="106380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mi-conductores do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00000" y="488880"/>
          <a:ext cx="7201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88880"/>
                    <a:ext cx="7201080" cy="5892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47640" y="476280"/>
          <a:ext cx="56008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6280"/>
                    <a:ext cx="56008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260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POSICION DE ORBITAL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81000"/>
          <a:ext cx="81360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81360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65200" y="352440"/>
          <a:ext cx="6419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52440"/>
                    <a:ext cx="6419880" cy="61722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9360" y="525600"/>
            <a:ext cx="861048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orbitales moleculares (OMs) siempre es  igual al número de orbitales atómicos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más estable es el enlace OM, menos estable es el antienlace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Ms se llenan de acuerdo con su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OM puede tener hasta d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 la regla de Hund cuando se añaden electrones a los OMs del mismo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electrones en los OMs es igual a la suma de todos los electrones en los átom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3808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orbi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es (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6120" y="8380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n d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4320" y="64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4320" y="106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9560" y="108576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0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anti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9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3480" y="70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360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07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620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7268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355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4T20:08:56Z</dcterms:modified>
  <cp:revision>85</cp:revision>
  <dc:subject/>
  <dc:title>Presentación de PowerPoint</dc:title>
</cp:coreProperties>
</file>