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BCC3-4FB7-43A5-A9D5-EC090C811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781E-58CC-4424-9C48-FB518661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9E34-49A8-4BCE-A3A5-12C4C16FA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0CA7-59EE-4D19-B0CB-A814A54C4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648D-9E8A-4F57-9E18-F535794D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C99B-4CFA-49A1-B7F4-2506E2AD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4E9A-EC32-4925-B082-AE42A056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FD53-2CB1-487B-8E4A-842EC763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8EFA-C3C2-4C1A-87B9-B8E3BE43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B32D-6DCC-41D3-834A-E62A8A5A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35AD-D226-4B48-B044-4513C013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C79E-D957-47BC-8959-3FE11792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FFDD-9478-4FF4-8F36-DC8819DB3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4762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LACES QUÍMICOS I:  CONCEPTOS BÁS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1520" y="1125360"/>
            <a:ext cx="830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lace covale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curre cuando dos o más átomos comparten uno o más pares de electr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19890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¿Por qué compartirían electrones dos áto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5280" y="2781360"/>
            <a:ext cx="4176720" cy="2654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789440" y="3286080"/>
            <a:ext cx="4103640" cy="19778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energía potencial del sistema será menor cuando 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r</a:t>
            </a:r>
            <a:r>
              <a:rPr b="1" lang="es-ES" sz="2000" spc="-1" strike="noStrike" baseline="-30000">
                <a:solidFill>
                  <a:srgbClr val="0000ff"/>
                </a:solidFill>
                <a:latin typeface="Arial"/>
                <a:ea typeface="Times New Roman"/>
              </a:rPr>
              <a:t>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o 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r</a:t>
            </a:r>
            <a:r>
              <a:rPr b="1" lang="es-ES" sz="2000" spc="-1" strike="noStrike" baseline="-30000">
                <a:solidFill>
                  <a:srgbClr val="0000ff"/>
                </a:solidFill>
                <a:latin typeface="Arial"/>
                <a:ea typeface="Times New Roman"/>
              </a:rPr>
              <a:t>b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ea muy pequeña o ambas sean pequeñas simultáneamente.  Esto es en la región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entr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los núcleos, cuando se comparten electrones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734080"/>
            <a:ext cx="8569080" cy="8254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compartición de electrones por dos núcleos es la responsable por la formación del en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806120" y="152280"/>
            <a:ext cx="5639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criba la estructura de Lewis para el (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367992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o 4 – Dibujar la molécula. El C es menos electronegativo, pongámosl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l cent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8280" y="655560"/>
            <a:ext cx="751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o 1 – Contar los e- de valencia  C - 4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y O - 6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 carga – 2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21120" y="1303200"/>
            <a:ext cx="49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+ (3 x 6) + 2 = 24 electrones de 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2360" y="173520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so 2  -Determinar el número de electrones necesarios para formar los octet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60360" y="238428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C)  8 electrones  +  (O) 3 x 8 electrones = 3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0920" y="281448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so 3  -Determinar el número de enl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58920" y="3247920"/>
            <a:ext cx="42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32 – 24 = 8 electrones compart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0200" y="3247920"/>
            <a:ext cx="19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8/2 = 4 enl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698280" y="4425840"/>
            <a:ext cx="2018520" cy="1272600"/>
            <a:chOff x="3698280" y="4425840"/>
            <a:chExt cx="2018520" cy="1272600"/>
          </a:xfrm>
        </p:grpSpPr>
        <p:sp>
          <p:nvSpPr>
            <p:cNvPr id="209" name=""/>
            <p:cNvSpPr/>
            <p:nvPr/>
          </p:nvSpPr>
          <p:spPr>
            <a:xfrm>
              <a:off x="3698280" y="44258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97840" y="4425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98480" y="44258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487040" y="52387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4127400" y="4641840"/>
            <a:ext cx="362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19760" y="4641840"/>
            <a:ext cx="36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38560" y="4568760"/>
            <a:ext cx="362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110600" y="4425840"/>
            <a:ext cx="2018520" cy="1272600"/>
            <a:chOff x="1110600" y="4425840"/>
            <a:chExt cx="2018520" cy="1272600"/>
          </a:xfrm>
        </p:grpSpPr>
        <p:sp>
          <p:nvSpPr>
            <p:cNvPr id="217" name=""/>
            <p:cNvSpPr/>
            <p:nvPr/>
          </p:nvSpPr>
          <p:spPr>
            <a:xfrm>
              <a:off x="1110600" y="44258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10160" y="4425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10800" y="44258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99360" y="52387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1539720" y="4641840"/>
            <a:ext cx="362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32080" y="4641840"/>
            <a:ext cx="36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40000" y="4581360"/>
            <a:ext cx="36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513120" y="4425840"/>
            <a:ext cx="2018520" cy="1272600"/>
            <a:chOff x="6513120" y="4425840"/>
            <a:chExt cx="2018520" cy="1272600"/>
          </a:xfrm>
        </p:grpSpPr>
        <p:sp>
          <p:nvSpPr>
            <p:cNvPr id="225" name=""/>
            <p:cNvSpPr/>
            <p:nvPr/>
          </p:nvSpPr>
          <p:spPr>
            <a:xfrm>
              <a:off x="6513120" y="44258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12680" y="4425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113320" y="44258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01880" y="52387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6942240" y="4641840"/>
            <a:ext cx="36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734240" y="4641840"/>
            <a:ext cx="362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16360" y="493092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53440" y="493092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524720" y="493092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24000" y="493092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71640" y="4400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63640" y="522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95640" y="5218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580000" y="4400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5218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524720" y="5218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72360" y="44258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88360" y="4400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56000" y="5218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16360" y="5218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700360" y="4543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00720" y="53355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8000" y="5335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16720" y="41371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16720" y="4543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101080" y="41371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101080" y="4543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92720" y="4543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91280" y="41371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16000" y="4543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08360" y="41371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08360" y="4543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16000" y="4111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00360" y="41371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11280" y="53960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98560" y="41720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932360" y="54338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724360" y="42084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27640" y="42451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532720" y="42451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0920" y="584028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so 5  -Completar oct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4000" y="627228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so 6  -Agregar cargas form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923120" y="152280"/>
            <a:ext cx="538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ibles estructuras para el  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068120" y="971640"/>
            <a:ext cx="2422440" cy="398880"/>
            <a:chOff x="1068120" y="971640"/>
            <a:chExt cx="2422440" cy="398880"/>
          </a:xfrm>
        </p:grpSpPr>
        <p:sp>
          <p:nvSpPr>
            <p:cNvPr id="269" name=""/>
            <p:cNvSpPr/>
            <p:nvPr/>
          </p:nvSpPr>
          <p:spPr>
            <a:xfrm>
              <a:off x="1068120" y="9716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47800" y="9716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28200" y="9716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125520" y="9716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397160" y="11527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095560" y="11527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93960" y="11527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5762520" y="692280"/>
            <a:ext cx="1740600" cy="945000"/>
            <a:chOff x="5762520" y="692280"/>
            <a:chExt cx="1740600" cy="945000"/>
          </a:xfrm>
        </p:grpSpPr>
        <p:sp>
          <p:nvSpPr>
            <p:cNvPr id="277" name=""/>
            <p:cNvSpPr/>
            <p:nvPr/>
          </p:nvSpPr>
          <p:spPr>
            <a:xfrm>
              <a:off x="5764320" y="6922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3640" y="9716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24400" y="9716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62520" y="1238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791400" y="11527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04160" y="924120"/>
              <a:ext cx="380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104160" y="1241280"/>
              <a:ext cx="380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175400" y="2173320"/>
            <a:ext cx="2457360" cy="459720"/>
            <a:chOff x="1175400" y="2173320"/>
            <a:chExt cx="2457360" cy="459720"/>
          </a:xfrm>
        </p:grpSpPr>
        <p:sp>
          <p:nvSpPr>
            <p:cNvPr id="285" name=""/>
            <p:cNvSpPr/>
            <p:nvPr/>
          </p:nvSpPr>
          <p:spPr>
            <a:xfrm>
              <a:off x="1175400" y="2173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54360" y="2173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534400" y="21733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232440" y="2173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03000" y="24019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00160" y="240192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1935360" y="2173320"/>
              <a:ext cx="227880" cy="75960"/>
              <a:chOff x="1935360" y="2173320"/>
              <a:chExt cx="227880" cy="75960"/>
            </a:xfrm>
          </p:grpSpPr>
          <p:sp>
            <p:nvSpPr>
              <p:cNvPr id="292" name=""/>
              <p:cNvSpPr/>
              <p:nvPr/>
            </p:nvSpPr>
            <p:spPr>
              <a:xfrm rot="5400000">
                <a:off x="2087280" y="2173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5400000">
                <a:off x="1935000" y="21733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2621160" y="2173320"/>
              <a:ext cx="227880" cy="75960"/>
              <a:chOff x="2621160" y="2173320"/>
              <a:chExt cx="227880" cy="75960"/>
            </a:xfrm>
          </p:grpSpPr>
          <p:sp>
            <p:nvSpPr>
              <p:cNvPr id="295" name=""/>
              <p:cNvSpPr/>
              <p:nvPr/>
            </p:nvSpPr>
            <p:spPr>
              <a:xfrm rot="5400000">
                <a:off x="2773080" y="2173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5400000">
                <a:off x="2620800" y="21733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201760" y="2363760"/>
              <a:ext cx="380520" cy="75960"/>
              <a:chOff x="2201760" y="2363760"/>
              <a:chExt cx="380520" cy="75960"/>
            </a:xfrm>
          </p:grpSpPr>
          <p:sp>
            <p:nvSpPr>
              <p:cNvPr id="298" name=""/>
              <p:cNvSpPr/>
              <p:nvPr/>
            </p:nvSpPr>
            <p:spPr>
              <a:xfrm>
                <a:off x="2201760" y="2363760"/>
                <a:ext cx="38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201760" y="2439720"/>
                <a:ext cx="38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" name=""/>
          <p:cNvSpPr/>
          <p:nvPr/>
        </p:nvSpPr>
        <p:spPr>
          <a:xfrm>
            <a:off x="1792440" y="16956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478240" y="1695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06480" y="2111400"/>
            <a:ext cx="4572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1463760" y="2252520"/>
            <a:ext cx="1143000" cy="304920"/>
            <a:chOff x="1463760" y="2252520"/>
            <a:chExt cx="1143000" cy="304920"/>
          </a:xfrm>
        </p:grpSpPr>
        <p:sp>
          <p:nvSpPr>
            <p:cNvPr id="304" name=""/>
            <p:cNvSpPr/>
            <p:nvPr/>
          </p:nvSpPr>
          <p:spPr>
            <a:xfrm>
              <a:off x="1463760" y="2252520"/>
              <a:ext cx="457200" cy="304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149560" y="2252520"/>
              <a:ext cx="457200" cy="304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2492280" y="2111400"/>
            <a:ext cx="4572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149560" y="2252520"/>
            <a:ext cx="1143000" cy="304920"/>
            <a:chOff x="2149560" y="2252520"/>
            <a:chExt cx="1143000" cy="304920"/>
          </a:xfrm>
        </p:grpSpPr>
        <p:sp>
          <p:nvSpPr>
            <p:cNvPr id="308" name=""/>
            <p:cNvSpPr/>
            <p:nvPr/>
          </p:nvSpPr>
          <p:spPr>
            <a:xfrm>
              <a:off x="2149560" y="2252520"/>
              <a:ext cx="457200" cy="304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835360" y="2252520"/>
              <a:ext cx="457200" cy="304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650560" y="1911240"/>
            <a:ext cx="1779480" cy="1005840"/>
            <a:chOff x="5650560" y="1911240"/>
            <a:chExt cx="1779480" cy="1005840"/>
          </a:xfrm>
        </p:grpSpPr>
        <p:grpSp>
          <p:nvGrpSpPr>
            <p:cNvPr id="311" name=""/>
            <p:cNvGrpSpPr/>
            <p:nvPr/>
          </p:nvGrpSpPr>
          <p:grpSpPr>
            <a:xfrm>
              <a:off x="7108920" y="2190600"/>
              <a:ext cx="228600" cy="76320"/>
              <a:chOff x="7108920" y="2190600"/>
              <a:chExt cx="228600" cy="76320"/>
            </a:xfrm>
          </p:grpSpPr>
          <p:sp>
            <p:nvSpPr>
              <p:cNvPr id="312" name=""/>
              <p:cNvSpPr/>
              <p:nvPr/>
            </p:nvSpPr>
            <p:spPr>
              <a:xfrm rot="16200000">
                <a:off x="7108920" y="21906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16200000">
                <a:off x="7261200" y="219060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5652360" y="1911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31680" y="2190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1720" y="21906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50560" y="2457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78720" y="239364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991480" y="2190600"/>
              <a:ext cx="380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5991480" y="2507760"/>
              <a:ext cx="380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677280" y="24573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7108920" y="2571480"/>
              <a:ext cx="228600" cy="76320"/>
              <a:chOff x="7108920" y="2571480"/>
              <a:chExt cx="228600" cy="76320"/>
            </a:xfrm>
          </p:grpSpPr>
          <p:sp>
            <p:nvSpPr>
              <p:cNvPr id="323" name=""/>
              <p:cNvSpPr/>
              <p:nvPr/>
            </p:nvSpPr>
            <p:spPr>
              <a:xfrm rot="16200000">
                <a:off x="7108920" y="25714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6200000">
                <a:off x="7261200" y="257148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5" name=""/>
          <p:cNvSpPr/>
          <p:nvPr/>
        </p:nvSpPr>
        <p:spPr>
          <a:xfrm>
            <a:off x="6308640" y="2249640"/>
            <a:ext cx="45720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5927760" y="1982880"/>
            <a:ext cx="1206000" cy="838080"/>
            <a:chOff x="5927760" y="1982880"/>
            <a:chExt cx="1206000" cy="838080"/>
          </a:xfrm>
        </p:grpSpPr>
        <p:sp>
          <p:nvSpPr>
            <p:cNvPr id="327" name=""/>
            <p:cNvSpPr/>
            <p:nvPr/>
          </p:nvSpPr>
          <p:spPr>
            <a:xfrm>
              <a:off x="5927760" y="1982880"/>
              <a:ext cx="53316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27760" y="2363760"/>
              <a:ext cx="53316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600600" y="2173320"/>
              <a:ext cx="53316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994440" y="2170080"/>
            <a:ext cx="457200" cy="533520"/>
            <a:chOff x="6994440" y="2170080"/>
            <a:chExt cx="457200" cy="533520"/>
          </a:xfrm>
        </p:grpSpPr>
        <p:sp>
          <p:nvSpPr>
            <p:cNvPr id="331" name=""/>
            <p:cNvSpPr/>
            <p:nvPr/>
          </p:nvSpPr>
          <p:spPr>
            <a:xfrm>
              <a:off x="6994440" y="2170080"/>
              <a:ext cx="457200" cy="152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994440" y="2550960"/>
              <a:ext cx="457200" cy="152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6588000" y="2249640"/>
            <a:ext cx="53352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386760" y="1776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48800" y="1776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79280" y="2924280"/>
            <a:ext cx="842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estructuras de Lewis con elementos cuya carga es elevada, son menos comunes que aquellas con una carga pequeñ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9280" y="371628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la estructura de Lewis, los átomos cuya carga es negativa, por lo general se colocan con los elementos más electronega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96840" y="4581360"/>
            <a:ext cx="5680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¿Cuál es la estructura correcta para el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973800" y="5286240"/>
            <a:ext cx="2457360" cy="953280"/>
            <a:chOff x="973800" y="5286240"/>
            <a:chExt cx="2457360" cy="953280"/>
          </a:xfrm>
        </p:grpSpPr>
        <p:grpSp>
          <p:nvGrpSpPr>
            <p:cNvPr id="340" name=""/>
            <p:cNvGrpSpPr/>
            <p:nvPr/>
          </p:nvGrpSpPr>
          <p:grpSpPr>
            <a:xfrm>
              <a:off x="973800" y="5779800"/>
              <a:ext cx="2457360" cy="459720"/>
              <a:chOff x="973800" y="5779800"/>
              <a:chExt cx="2457360" cy="459720"/>
            </a:xfrm>
          </p:grpSpPr>
          <p:sp>
            <p:nvSpPr>
              <p:cNvPr id="341" name=""/>
              <p:cNvSpPr/>
              <p:nvPr/>
            </p:nvSpPr>
            <p:spPr>
              <a:xfrm>
                <a:off x="973800" y="57798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652760" y="57798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332800" y="577980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030840" y="57798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301400" y="60084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698560" y="6008400"/>
                <a:ext cx="38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7" name=""/>
              <p:cNvGrpSpPr/>
              <p:nvPr/>
            </p:nvGrpSpPr>
            <p:grpSpPr>
              <a:xfrm>
                <a:off x="1733760" y="5779800"/>
                <a:ext cx="227880" cy="75960"/>
                <a:chOff x="1733760" y="5779800"/>
                <a:chExt cx="227880" cy="75960"/>
              </a:xfrm>
            </p:grpSpPr>
            <p:sp>
              <p:nvSpPr>
                <p:cNvPr id="348" name=""/>
                <p:cNvSpPr/>
                <p:nvPr/>
              </p:nvSpPr>
              <p:spPr>
                <a:xfrm rot="5400000">
                  <a:off x="1885680" y="57798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5400000">
                  <a:off x="1733400" y="577980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2419560" y="5779800"/>
                <a:ext cx="227880" cy="75960"/>
                <a:chOff x="2419560" y="5779800"/>
                <a:chExt cx="227880" cy="75960"/>
              </a:xfrm>
            </p:grpSpPr>
            <p:sp>
              <p:nvSpPr>
                <p:cNvPr id="351" name=""/>
                <p:cNvSpPr/>
                <p:nvPr/>
              </p:nvSpPr>
              <p:spPr>
                <a:xfrm rot="5400000">
                  <a:off x="2571480" y="57798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rot="5400000">
                  <a:off x="2419200" y="577980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2000160" y="5970240"/>
                <a:ext cx="380520" cy="75960"/>
                <a:chOff x="2000160" y="5970240"/>
                <a:chExt cx="380520" cy="7596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2000160" y="5970240"/>
                  <a:ext cx="380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000160" y="6046200"/>
                  <a:ext cx="380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6" name=""/>
            <p:cNvSpPr/>
            <p:nvPr/>
          </p:nvSpPr>
          <p:spPr>
            <a:xfrm>
              <a:off x="1590840" y="5286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76640" y="52862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5856840" y="5241960"/>
            <a:ext cx="1779480" cy="1145520"/>
            <a:chOff x="5856840" y="5241960"/>
            <a:chExt cx="1779480" cy="1145520"/>
          </a:xfrm>
        </p:grpSpPr>
        <p:grpSp>
          <p:nvGrpSpPr>
            <p:cNvPr id="359" name=""/>
            <p:cNvGrpSpPr/>
            <p:nvPr/>
          </p:nvGrpSpPr>
          <p:grpSpPr>
            <a:xfrm>
              <a:off x="5856840" y="5381640"/>
              <a:ext cx="1779480" cy="1005840"/>
              <a:chOff x="5856840" y="5381640"/>
              <a:chExt cx="1779480" cy="1005840"/>
            </a:xfrm>
          </p:grpSpPr>
          <p:grpSp>
            <p:nvGrpSpPr>
              <p:cNvPr id="360" name=""/>
              <p:cNvGrpSpPr/>
              <p:nvPr/>
            </p:nvGrpSpPr>
            <p:grpSpPr>
              <a:xfrm>
                <a:off x="7315200" y="5661000"/>
                <a:ext cx="228600" cy="76320"/>
                <a:chOff x="7315200" y="5661000"/>
                <a:chExt cx="228600" cy="76320"/>
              </a:xfrm>
            </p:grpSpPr>
            <p:sp>
              <p:nvSpPr>
                <p:cNvPr id="361" name=""/>
                <p:cNvSpPr/>
                <p:nvPr/>
              </p:nvSpPr>
              <p:spPr>
                <a:xfrm rot="16200000">
                  <a:off x="7315200" y="56610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rot="16200000">
                  <a:off x="7467480" y="56610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3" name=""/>
              <p:cNvSpPr/>
              <p:nvPr/>
            </p:nvSpPr>
            <p:spPr>
              <a:xfrm>
                <a:off x="5858640" y="5381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537960" y="5661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218000" y="566100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856840" y="5927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885000" y="586404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197760" y="5661000"/>
                <a:ext cx="38088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6197760" y="5978160"/>
                <a:ext cx="38088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883560" y="592776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1" name=""/>
              <p:cNvGrpSpPr/>
              <p:nvPr/>
            </p:nvGrpSpPr>
            <p:grpSpPr>
              <a:xfrm>
                <a:off x="7315200" y="6041880"/>
                <a:ext cx="228600" cy="76320"/>
                <a:chOff x="7315200" y="6041880"/>
                <a:chExt cx="228600" cy="76320"/>
              </a:xfrm>
            </p:grpSpPr>
            <p:sp>
              <p:nvSpPr>
                <p:cNvPr id="372" name=""/>
                <p:cNvSpPr/>
                <p:nvPr/>
              </p:nvSpPr>
              <p:spPr>
                <a:xfrm rot="16200000">
                  <a:off x="7315200" y="60418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rot="16200000">
                  <a:off x="7467480" y="60418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4" name=""/>
            <p:cNvSpPr/>
            <p:nvPr/>
          </p:nvSpPr>
          <p:spPr>
            <a:xfrm>
              <a:off x="6593400" y="5241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255440" y="5241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5626080" y="5013360"/>
            <a:ext cx="2362320" cy="1676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228600" y="13860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ructura resonan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urre cuando se requiere más de una estructura de Lewis para representar una molécula, ya que una sola no da cuenta de sus propie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476440" y="4421160"/>
            <a:ext cx="990720" cy="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638680" y="4421160"/>
            <a:ext cx="990720" cy="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91880" y="3506760"/>
            <a:ext cx="2448360" cy="1475640"/>
            <a:chOff x="191880" y="3506760"/>
            <a:chExt cx="2448360" cy="1475640"/>
          </a:xfrm>
        </p:grpSpPr>
        <p:grpSp>
          <p:nvGrpSpPr>
            <p:cNvPr id="381" name=""/>
            <p:cNvGrpSpPr/>
            <p:nvPr/>
          </p:nvGrpSpPr>
          <p:grpSpPr>
            <a:xfrm>
              <a:off x="380880" y="3684600"/>
              <a:ext cx="2044800" cy="1297800"/>
              <a:chOff x="380880" y="3684600"/>
              <a:chExt cx="2044800" cy="129780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393120" y="3709800"/>
                <a:ext cx="2018520" cy="1272600"/>
                <a:chOff x="393120" y="3709800"/>
                <a:chExt cx="2018520" cy="127260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393120" y="370980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192680" y="37098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993320" y="370980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181880" y="452268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7" name=""/>
              <p:cNvSpPr/>
              <p:nvPr/>
            </p:nvSpPr>
            <p:spPr>
              <a:xfrm>
                <a:off x="741240" y="39369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579320" y="39369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1350720" y="410364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0" name=""/>
              <p:cNvGrpSpPr/>
              <p:nvPr/>
            </p:nvGrpSpPr>
            <p:grpSpPr>
              <a:xfrm>
                <a:off x="2094840" y="3684600"/>
                <a:ext cx="228600" cy="76320"/>
                <a:chOff x="2094840" y="3684600"/>
                <a:chExt cx="228600" cy="76320"/>
              </a:xfrm>
            </p:grpSpPr>
            <p:sp>
              <p:nvSpPr>
                <p:cNvPr id="391" name=""/>
                <p:cNvSpPr/>
                <p:nvPr/>
              </p:nvSpPr>
              <p:spPr>
                <a:xfrm rot="5400000">
                  <a:off x="2247120" y="3684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rot="5400000">
                  <a:off x="2094480" y="3684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2349360" y="3824280"/>
                <a:ext cx="76320" cy="228600"/>
                <a:chOff x="2349360" y="3824280"/>
                <a:chExt cx="76320" cy="22860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2349360" y="3824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349360" y="3976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2094840" y="4103640"/>
                <a:ext cx="228600" cy="76320"/>
                <a:chOff x="2094840" y="4103640"/>
                <a:chExt cx="228600" cy="76320"/>
              </a:xfrm>
            </p:grpSpPr>
            <p:sp>
              <p:nvSpPr>
                <p:cNvPr id="397" name=""/>
                <p:cNvSpPr/>
                <p:nvPr/>
              </p:nvSpPr>
              <p:spPr>
                <a:xfrm rot="5400000">
                  <a:off x="2247120" y="4103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rot="5400000">
                  <a:off x="2094480" y="4103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1155600" y="4637160"/>
                <a:ext cx="75960" cy="228600"/>
                <a:chOff x="1155600" y="4637160"/>
                <a:chExt cx="75960" cy="22860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1155600" y="46371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155600" y="47898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1536480" y="4637160"/>
                <a:ext cx="76320" cy="228600"/>
                <a:chOff x="1536480" y="4637160"/>
                <a:chExt cx="76320" cy="22860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1536480" y="46371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536480" y="47898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469800" y="3684600"/>
                <a:ext cx="228600" cy="76320"/>
                <a:chOff x="469800" y="3684600"/>
                <a:chExt cx="228600" cy="76320"/>
              </a:xfrm>
            </p:grpSpPr>
            <p:sp>
              <p:nvSpPr>
                <p:cNvPr id="406" name=""/>
                <p:cNvSpPr/>
                <p:nvPr/>
              </p:nvSpPr>
              <p:spPr>
                <a:xfrm flipH="1" rot="16200000">
                  <a:off x="469800" y="3684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H="1" rot="16200000">
                  <a:off x="621720" y="3684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380880" y="3823920"/>
                <a:ext cx="75960" cy="228600"/>
                <a:chOff x="380880" y="3823920"/>
                <a:chExt cx="75960" cy="228600"/>
              </a:xfrm>
            </p:grpSpPr>
            <p:sp>
              <p:nvSpPr>
                <p:cNvPr id="409" name=""/>
                <p:cNvSpPr/>
                <p:nvPr/>
              </p:nvSpPr>
              <p:spPr>
                <a:xfrm flipH="1" rot="10800000">
                  <a:off x="380520" y="39762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flipH="1" rot="10800000">
                  <a:off x="380520" y="38239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469800" y="4103640"/>
                <a:ext cx="228600" cy="76320"/>
                <a:chOff x="469800" y="4103640"/>
                <a:chExt cx="228600" cy="76320"/>
              </a:xfrm>
            </p:grpSpPr>
            <p:sp>
              <p:nvSpPr>
                <p:cNvPr id="412" name=""/>
                <p:cNvSpPr/>
                <p:nvPr/>
              </p:nvSpPr>
              <p:spPr>
                <a:xfrm flipH="1" rot="16200000">
                  <a:off x="469800" y="4103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flipH="1" rot="16200000">
                  <a:off x="621720" y="4103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4" name=""/>
              <p:cNvSpPr/>
              <p:nvPr/>
            </p:nvSpPr>
            <p:spPr>
              <a:xfrm flipV="1">
                <a:off x="1422360" y="410364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191880" y="35067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357280" y="35067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3555360" y="3506760"/>
            <a:ext cx="2234520" cy="1653480"/>
            <a:chOff x="3555360" y="3506760"/>
            <a:chExt cx="2234520" cy="1653480"/>
          </a:xfrm>
        </p:grpSpPr>
        <p:grpSp>
          <p:nvGrpSpPr>
            <p:cNvPr id="418" name=""/>
            <p:cNvGrpSpPr/>
            <p:nvPr/>
          </p:nvGrpSpPr>
          <p:grpSpPr>
            <a:xfrm>
              <a:off x="3555360" y="3684600"/>
              <a:ext cx="2032560" cy="1297800"/>
              <a:chOff x="3555360" y="3684600"/>
              <a:chExt cx="2032560" cy="1297800"/>
            </a:xfrm>
          </p:grpSpPr>
          <p:grpSp>
            <p:nvGrpSpPr>
              <p:cNvPr id="419" name=""/>
              <p:cNvGrpSpPr/>
              <p:nvPr/>
            </p:nvGrpSpPr>
            <p:grpSpPr>
              <a:xfrm>
                <a:off x="4431960" y="4890960"/>
                <a:ext cx="228600" cy="76320"/>
                <a:chOff x="4431960" y="4890960"/>
                <a:chExt cx="228600" cy="76320"/>
              </a:xfrm>
            </p:grpSpPr>
            <p:sp>
              <p:nvSpPr>
                <p:cNvPr id="420" name=""/>
                <p:cNvSpPr/>
                <p:nvPr/>
              </p:nvSpPr>
              <p:spPr>
                <a:xfrm rot="5400000">
                  <a:off x="4584240" y="48909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rot="5400000">
                  <a:off x="4431600" y="48909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3555360" y="3709800"/>
                <a:ext cx="2018520" cy="1272600"/>
                <a:chOff x="3555360" y="3709800"/>
                <a:chExt cx="2018520" cy="127260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3555360" y="370980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354920" y="37098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5155560" y="370980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344120" y="452268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7" name=""/>
              <p:cNvSpPr/>
              <p:nvPr/>
            </p:nvSpPr>
            <p:spPr>
              <a:xfrm>
                <a:off x="3903840" y="391140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741920" y="39369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4564080" y="410364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0" name=""/>
              <p:cNvGrpSpPr/>
              <p:nvPr/>
            </p:nvGrpSpPr>
            <p:grpSpPr>
              <a:xfrm>
                <a:off x="5257440" y="3684600"/>
                <a:ext cx="228600" cy="76320"/>
                <a:chOff x="5257440" y="3684600"/>
                <a:chExt cx="228600" cy="76320"/>
              </a:xfrm>
            </p:grpSpPr>
            <p:sp>
              <p:nvSpPr>
                <p:cNvPr id="431" name=""/>
                <p:cNvSpPr/>
                <p:nvPr/>
              </p:nvSpPr>
              <p:spPr>
                <a:xfrm rot="5400000">
                  <a:off x="5409720" y="3684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rot="5400000">
                  <a:off x="5257080" y="3684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5511960" y="3824280"/>
                <a:ext cx="75960" cy="228600"/>
                <a:chOff x="5511960" y="3824280"/>
                <a:chExt cx="75960" cy="22860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5511960" y="38242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511960" y="39769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5257440" y="4103640"/>
                <a:ext cx="228600" cy="76320"/>
                <a:chOff x="5257440" y="4103640"/>
                <a:chExt cx="228600" cy="76320"/>
              </a:xfrm>
            </p:grpSpPr>
            <p:sp>
              <p:nvSpPr>
                <p:cNvPr id="437" name=""/>
                <p:cNvSpPr/>
                <p:nvPr/>
              </p:nvSpPr>
              <p:spPr>
                <a:xfrm rot="5400000">
                  <a:off x="5409720" y="4103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5400000">
                  <a:off x="5257080" y="4103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4317840" y="4637160"/>
                <a:ext cx="76320" cy="228600"/>
                <a:chOff x="4317840" y="4637160"/>
                <a:chExt cx="76320" cy="22860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4317840" y="46371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317840" y="47898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4699080" y="4637160"/>
                <a:ext cx="75960" cy="228600"/>
                <a:chOff x="4699080" y="4637160"/>
                <a:chExt cx="75960" cy="22860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4699080" y="46371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699080" y="47898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3632040" y="3684600"/>
                <a:ext cx="228600" cy="76320"/>
                <a:chOff x="3632040" y="3684600"/>
                <a:chExt cx="228600" cy="76320"/>
              </a:xfrm>
            </p:grpSpPr>
            <p:sp>
              <p:nvSpPr>
                <p:cNvPr id="446" name=""/>
                <p:cNvSpPr/>
                <p:nvPr/>
              </p:nvSpPr>
              <p:spPr>
                <a:xfrm flipH="1" rot="16200000">
                  <a:off x="3632040" y="3684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flipH="1" rot="16200000">
                  <a:off x="3783960" y="3684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3632040" y="4103640"/>
                <a:ext cx="228600" cy="76320"/>
                <a:chOff x="3632040" y="4103640"/>
                <a:chExt cx="228600" cy="76320"/>
              </a:xfrm>
            </p:grpSpPr>
            <p:sp>
              <p:nvSpPr>
                <p:cNvPr id="449" name=""/>
                <p:cNvSpPr/>
                <p:nvPr/>
              </p:nvSpPr>
              <p:spPr>
                <a:xfrm flipH="1" rot="16200000">
                  <a:off x="3632040" y="4103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flipH="1" rot="16200000">
                  <a:off x="3783960" y="4103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1" name=""/>
              <p:cNvSpPr/>
              <p:nvPr/>
            </p:nvSpPr>
            <p:spPr>
              <a:xfrm>
                <a:off x="3911760" y="398952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5506920" y="35067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662360" y="47005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6472080" y="3506760"/>
            <a:ext cx="2213280" cy="1653480"/>
            <a:chOff x="6472080" y="3506760"/>
            <a:chExt cx="2213280" cy="1653480"/>
          </a:xfrm>
        </p:grpSpPr>
        <p:grpSp>
          <p:nvGrpSpPr>
            <p:cNvPr id="455" name=""/>
            <p:cNvGrpSpPr/>
            <p:nvPr/>
          </p:nvGrpSpPr>
          <p:grpSpPr>
            <a:xfrm>
              <a:off x="6652800" y="3684600"/>
              <a:ext cx="2032560" cy="1297800"/>
              <a:chOff x="6652800" y="3684600"/>
              <a:chExt cx="2032560" cy="1297800"/>
            </a:xfrm>
          </p:grpSpPr>
          <p:grpSp>
            <p:nvGrpSpPr>
              <p:cNvPr id="456" name=""/>
              <p:cNvGrpSpPr/>
              <p:nvPr/>
            </p:nvGrpSpPr>
            <p:grpSpPr>
              <a:xfrm>
                <a:off x="7580160" y="4890960"/>
                <a:ext cx="228600" cy="76320"/>
                <a:chOff x="7580160" y="4890960"/>
                <a:chExt cx="228600" cy="76320"/>
              </a:xfrm>
            </p:grpSpPr>
            <p:sp>
              <p:nvSpPr>
                <p:cNvPr id="457" name=""/>
                <p:cNvSpPr/>
                <p:nvPr/>
              </p:nvSpPr>
              <p:spPr>
                <a:xfrm flipH="1" rot="16200000">
                  <a:off x="7580160" y="48909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flipH="1" rot="16200000">
                  <a:off x="7732080" y="48909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6666840" y="3709800"/>
                <a:ext cx="2018520" cy="1272600"/>
                <a:chOff x="6666840" y="3709800"/>
                <a:chExt cx="2018520" cy="1272600"/>
              </a:xfrm>
            </p:grpSpPr>
            <p:sp>
              <p:nvSpPr>
                <p:cNvPr id="460" name=""/>
                <p:cNvSpPr/>
                <p:nvPr/>
              </p:nvSpPr>
              <p:spPr>
                <a:xfrm flipH="1">
                  <a:off x="8267040" y="370980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flipH="1">
                  <a:off x="7485480" y="37098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flipH="1">
                  <a:off x="6666840" y="370980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flipH="1">
                  <a:off x="7478280" y="452268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 flipH="1">
                <a:off x="7879680" y="391140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7041600" y="39369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7676640" y="410364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7" name=""/>
              <p:cNvGrpSpPr/>
              <p:nvPr/>
            </p:nvGrpSpPr>
            <p:grpSpPr>
              <a:xfrm>
                <a:off x="6754680" y="3684600"/>
                <a:ext cx="228600" cy="76320"/>
                <a:chOff x="6754680" y="3684600"/>
                <a:chExt cx="228600" cy="76320"/>
              </a:xfrm>
            </p:grpSpPr>
            <p:sp>
              <p:nvSpPr>
                <p:cNvPr id="468" name=""/>
                <p:cNvSpPr/>
                <p:nvPr/>
              </p:nvSpPr>
              <p:spPr>
                <a:xfrm flipH="1" rot="16200000">
                  <a:off x="6754680" y="3684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H="1" rot="16200000">
                  <a:off x="6906600" y="3684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6652800" y="3824280"/>
                <a:ext cx="75960" cy="228600"/>
                <a:chOff x="6652800" y="3824280"/>
                <a:chExt cx="75960" cy="228600"/>
              </a:xfrm>
            </p:grpSpPr>
            <p:sp>
              <p:nvSpPr>
                <p:cNvPr id="471" name=""/>
                <p:cNvSpPr/>
                <p:nvPr/>
              </p:nvSpPr>
              <p:spPr>
                <a:xfrm flipH="1">
                  <a:off x="6652440" y="38242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H="1">
                  <a:off x="6652440" y="39769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754680" y="4103640"/>
                <a:ext cx="228600" cy="76320"/>
                <a:chOff x="6754680" y="4103640"/>
                <a:chExt cx="228600" cy="76320"/>
              </a:xfrm>
            </p:grpSpPr>
            <p:sp>
              <p:nvSpPr>
                <p:cNvPr id="474" name=""/>
                <p:cNvSpPr/>
                <p:nvPr/>
              </p:nvSpPr>
              <p:spPr>
                <a:xfrm flipH="1" rot="16200000">
                  <a:off x="6754680" y="4103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 rot="16200000">
                  <a:off x="6906600" y="4103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7846560" y="4637160"/>
                <a:ext cx="76320" cy="228600"/>
                <a:chOff x="7846560" y="4637160"/>
                <a:chExt cx="76320" cy="228600"/>
              </a:xfrm>
            </p:grpSpPr>
            <p:sp>
              <p:nvSpPr>
                <p:cNvPr id="477" name=""/>
                <p:cNvSpPr/>
                <p:nvPr/>
              </p:nvSpPr>
              <p:spPr>
                <a:xfrm flipH="1">
                  <a:off x="7846560" y="46371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H="1">
                  <a:off x="7846560" y="47898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7465680" y="4637160"/>
                <a:ext cx="75960" cy="228600"/>
                <a:chOff x="7465680" y="4637160"/>
                <a:chExt cx="75960" cy="228600"/>
              </a:xfrm>
            </p:grpSpPr>
            <p:sp>
              <p:nvSpPr>
                <p:cNvPr id="480" name=""/>
                <p:cNvSpPr/>
                <p:nvPr/>
              </p:nvSpPr>
              <p:spPr>
                <a:xfrm flipH="1">
                  <a:off x="7465320" y="46371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H="1">
                  <a:off x="7465320" y="47898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8380080" y="3684600"/>
                <a:ext cx="228600" cy="76320"/>
                <a:chOff x="8380080" y="3684600"/>
                <a:chExt cx="228600" cy="76320"/>
              </a:xfrm>
            </p:grpSpPr>
            <p:sp>
              <p:nvSpPr>
                <p:cNvPr id="483" name=""/>
                <p:cNvSpPr/>
                <p:nvPr/>
              </p:nvSpPr>
              <p:spPr>
                <a:xfrm rot="5400000">
                  <a:off x="8532360" y="3684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rot="5400000">
                  <a:off x="8379720" y="3684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8380080" y="4103640"/>
                <a:ext cx="228600" cy="76320"/>
                <a:chOff x="8380080" y="4103640"/>
                <a:chExt cx="228600" cy="76320"/>
              </a:xfrm>
            </p:grpSpPr>
            <p:sp>
              <p:nvSpPr>
                <p:cNvPr id="486" name=""/>
                <p:cNvSpPr/>
                <p:nvPr/>
              </p:nvSpPr>
              <p:spPr>
                <a:xfrm rot="5400000">
                  <a:off x="8532360" y="4103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rot="5400000">
                  <a:off x="8379720" y="4103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8" name=""/>
              <p:cNvSpPr/>
              <p:nvPr/>
            </p:nvSpPr>
            <p:spPr>
              <a:xfrm flipH="1">
                <a:off x="7871760" y="398952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"/>
            <p:cNvSpPr/>
            <p:nvPr/>
          </p:nvSpPr>
          <p:spPr>
            <a:xfrm>
              <a:off x="6472080" y="35067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805520" y="47005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250920" y="2709720"/>
            <a:ext cx="7921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ón carbonato: CO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. Todos los enlaces C-O son equival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627280" y="476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ructuras reso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395280" y="380880"/>
            <a:ext cx="82803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cribir la/s estructura/s de Lewis del anión perclorato, ClO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24000" y="907920"/>
            <a:ext cx="74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Cl es el átomo central, los O son los átomos periférico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324000" y="1484280"/>
          <a:ext cx="4465440" cy="27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446544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7" name=""/>
          <p:cNvGraphicFramePr/>
          <p:nvPr/>
        </p:nvGraphicFramePr>
        <p:xfrm>
          <a:off x="324000" y="4437000"/>
          <a:ext cx="2016000" cy="140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4437000"/>
                    <a:ext cx="2016000" cy="14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9" name=""/>
          <p:cNvGraphicFramePr/>
          <p:nvPr/>
        </p:nvGraphicFramePr>
        <p:xfrm>
          <a:off x="3276720" y="4640400"/>
          <a:ext cx="5616360" cy="1236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4640400"/>
                    <a:ext cx="561636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1" name=""/>
          <p:cNvGraphicFramePr/>
          <p:nvPr/>
        </p:nvGraphicFramePr>
        <p:xfrm>
          <a:off x="2484360" y="4941720"/>
          <a:ext cx="676440" cy="44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84360" y="4941720"/>
                    <a:ext cx="67644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"/>
          <p:cNvSpPr/>
          <p:nvPr/>
        </p:nvSpPr>
        <p:spPr>
          <a:xfrm>
            <a:off x="3203640" y="623736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RMAS RESONANTE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50920" y="1757520"/>
            <a:ext cx="8569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azufre forma compuestos donde queda rodeado por un número mayor a ocho electrones. Ejemplo: Hexafluoruro de azufre, SF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un S con seis enlaces doce electrones en la capa de valencia. No cumple la “regla del octe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50920" y="3152880"/>
            <a:ext cx="85690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N y el P pertenecen al mismo grupo igual nº electrones de valencia, 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F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y PF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n isoelectrónicas igual estructura de Lewi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n embargo, el fósforo forma además el Pentafluoruro de fósforo, PF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un P con cinco enlaces: diez electrones en la capa de valencia.  No cumple la “regla del octe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250920" y="4933800"/>
            <a:ext cx="4135320" cy="186084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4643280" y="4933800"/>
            <a:ext cx="4176720" cy="187992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755640" y="981000"/>
            <a:ext cx="77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ructuras de Lewis de moléculas hipervalentes (octetos expandi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764720" y="189000"/>
            <a:ext cx="56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ciones de la regla del oct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596880" y="552600"/>
            <a:ext cx="793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ructuras de Lewis de moléculas con átomos con octetos incompletos (hipovalen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1280" y="1413000"/>
            <a:ext cx="78483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B (y todos los elementos de su grupo), 1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2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p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solo tiene 3 electrones de valencia. Solo tiene 3 electrones para compartir.  Caso trifluoruro de Boro: B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3360" y="393372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B solo está rodeado por 6 e y no por 8. Tiene la posibilidad de aceptar 2e de un par solitario de otro átomo, de uno de los F, del N del amoniaco...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2268360" y="2565360"/>
            <a:ext cx="4824720" cy="104292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5075280" y="5013360"/>
            <a:ext cx="2376360" cy="162540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3"/>
          <a:stretch/>
        </p:blipFill>
        <p:spPr>
          <a:xfrm>
            <a:off x="1187280" y="5046840"/>
            <a:ext cx="2951280" cy="164916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40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250920" y="33336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ro 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080600" y="1609560"/>
            <a:ext cx="2024280" cy="459720"/>
            <a:chOff x="4080600" y="1609560"/>
            <a:chExt cx="2024280" cy="459720"/>
          </a:xfrm>
        </p:grpSpPr>
        <p:sp>
          <p:nvSpPr>
            <p:cNvPr id="519" name=""/>
            <p:cNvSpPr/>
            <p:nvPr/>
          </p:nvSpPr>
          <p:spPr>
            <a:xfrm>
              <a:off x="4080600" y="1609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704560" y="1609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817160" y="160956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21160" y="18381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08560" y="18381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1939320" y="1268280"/>
            <a:ext cx="1629000" cy="1194840"/>
            <a:chOff x="1939320" y="1268280"/>
            <a:chExt cx="1629000" cy="1194840"/>
          </a:xfrm>
        </p:grpSpPr>
        <p:sp>
          <p:nvSpPr>
            <p:cNvPr id="525" name=""/>
            <p:cNvSpPr/>
            <p:nvPr/>
          </p:nvSpPr>
          <p:spPr>
            <a:xfrm>
              <a:off x="2270520" y="1268280"/>
              <a:ext cx="129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e – 2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939320" y="1609560"/>
              <a:ext cx="162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H – 2x1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974960" y="2028600"/>
              <a:ext cx="152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89800" y="2003400"/>
              <a:ext cx="57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478080" y="1609560"/>
            <a:ext cx="87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4290840" y="1685880"/>
            <a:ext cx="1574640" cy="317520"/>
            <a:chOff x="4290840" y="1685880"/>
            <a:chExt cx="1574640" cy="317520"/>
          </a:xfrm>
        </p:grpSpPr>
        <p:sp>
          <p:nvSpPr>
            <p:cNvPr id="531" name=""/>
            <p:cNvSpPr/>
            <p:nvPr/>
          </p:nvSpPr>
          <p:spPr>
            <a:xfrm>
              <a:off x="4290840" y="1685880"/>
              <a:ext cx="685800" cy="304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179680" y="1698480"/>
              <a:ext cx="685800" cy="304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3" name="" descr=""/>
          <p:cNvPicPr/>
          <p:nvPr/>
        </p:nvPicPr>
        <p:blipFill>
          <a:blip r:embed="rId1"/>
          <a:srcRect l="0" t="46253" r="0" b="16252"/>
          <a:stretch/>
        </p:blipFill>
        <p:spPr>
          <a:xfrm>
            <a:off x="6300720" y="1484280"/>
            <a:ext cx="2484360" cy="69840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250920" y="299736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s con electrones imp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1622520" y="3862440"/>
            <a:ext cx="1523880" cy="1194840"/>
            <a:chOff x="1622520" y="3862440"/>
            <a:chExt cx="1523880" cy="1194840"/>
          </a:xfrm>
        </p:grpSpPr>
        <p:sp>
          <p:nvSpPr>
            <p:cNvPr id="536" name=""/>
            <p:cNvSpPr/>
            <p:nvPr/>
          </p:nvSpPr>
          <p:spPr>
            <a:xfrm>
              <a:off x="2001960" y="3862440"/>
              <a:ext cx="113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 – 5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985040" y="4203720"/>
              <a:ext cx="115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 – 6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622520" y="462276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391480" y="4597560"/>
              <a:ext cx="74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480960" y="42037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3854880" y="4206960"/>
            <a:ext cx="1271160" cy="466560"/>
            <a:chOff x="3854880" y="4206960"/>
            <a:chExt cx="1271160" cy="466560"/>
          </a:xfrm>
        </p:grpSpPr>
        <p:sp>
          <p:nvSpPr>
            <p:cNvPr id="542" name=""/>
            <p:cNvSpPr/>
            <p:nvPr/>
          </p:nvSpPr>
          <p:spPr>
            <a:xfrm>
              <a:off x="3854880" y="42069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707720" y="42084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4213080" y="4392360"/>
              <a:ext cx="539640" cy="88920"/>
              <a:chOff x="4213080" y="4392360"/>
              <a:chExt cx="539640" cy="88920"/>
            </a:xfrm>
          </p:grpSpPr>
          <p:sp>
            <p:nvSpPr>
              <p:cNvPr id="545" name=""/>
              <p:cNvSpPr/>
              <p:nvPr/>
            </p:nvSpPr>
            <p:spPr>
              <a:xfrm>
                <a:off x="4219200" y="439236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213080" y="448128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4795200" y="4216320"/>
              <a:ext cx="228600" cy="76320"/>
              <a:chOff x="4795200" y="4216320"/>
              <a:chExt cx="228600" cy="76320"/>
            </a:xfrm>
          </p:grpSpPr>
          <p:sp>
            <p:nvSpPr>
              <p:cNvPr id="548" name=""/>
              <p:cNvSpPr/>
              <p:nvPr/>
            </p:nvSpPr>
            <p:spPr>
              <a:xfrm rot="5400000">
                <a:off x="4947480" y="42163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5400000">
                <a:off x="4794840" y="42163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 rot="5400000">
              <a:off x="4046400" y="4597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4795200" y="4559400"/>
              <a:ext cx="228600" cy="75960"/>
              <a:chOff x="4795200" y="4559400"/>
              <a:chExt cx="228600" cy="75960"/>
            </a:xfrm>
          </p:grpSpPr>
          <p:sp>
            <p:nvSpPr>
              <p:cNvPr id="552" name=""/>
              <p:cNvSpPr/>
              <p:nvPr/>
            </p:nvSpPr>
            <p:spPr>
              <a:xfrm rot="5400000">
                <a:off x="4947480" y="45590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5400000">
                <a:off x="4795200" y="4559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3931560" y="4216320"/>
              <a:ext cx="228600" cy="76320"/>
              <a:chOff x="3931560" y="4216320"/>
              <a:chExt cx="228600" cy="76320"/>
            </a:xfrm>
          </p:grpSpPr>
          <p:sp>
            <p:nvSpPr>
              <p:cNvPr id="555" name=""/>
              <p:cNvSpPr/>
              <p:nvPr/>
            </p:nvSpPr>
            <p:spPr>
              <a:xfrm rot="5400000">
                <a:off x="4083840" y="42163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5400000">
                <a:off x="3931200" y="42163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7" name=""/>
          <p:cNvSpPr/>
          <p:nvPr/>
        </p:nvSpPr>
        <p:spPr>
          <a:xfrm>
            <a:off x="3743280" y="4076640"/>
            <a:ext cx="60948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24000" y="515772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imposible escribir una estructura electrónica que satisfaga las reglas de Lew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324000" y="1631880"/>
            <a:ext cx="3671640" cy="2565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186120" y="981000"/>
            <a:ext cx="49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itud de los enlaces coval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44360" y="5205240"/>
            <a:ext cx="5364360" cy="770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ple enlace &lt; Doble enlace &lt; Enlace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5580000" y="1316160"/>
          <a:ext cx="3457800" cy="542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80000" y="1316160"/>
                    <a:ext cx="3457800" cy="54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"/>
          <p:cNvSpPr/>
          <p:nvPr/>
        </p:nvSpPr>
        <p:spPr>
          <a:xfrm>
            <a:off x="2773440" y="2602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piedades del en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395280" y="33336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ías de enl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Por definición corresponde a la cantidad de calor necesaria para romper el enlace en una molécu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1000440" y="2697120"/>
            <a:ext cx="5593680" cy="511920"/>
            <a:chOff x="1000440" y="2697120"/>
            <a:chExt cx="5593680" cy="511920"/>
          </a:xfrm>
        </p:grpSpPr>
        <p:sp>
          <p:nvSpPr>
            <p:cNvPr id="567" name=""/>
            <p:cNvSpPr/>
            <p:nvPr/>
          </p:nvSpPr>
          <p:spPr>
            <a:xfrm>
              <a:off x="1000440" y="2698920"/>
              <a:ext cx="766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 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636280" y="2698920"/>
              <a:ext cx="70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757160" y="292752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258720" y="26989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655440" y="2698920"/>
              <a:ext cx="70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407840" y="2697120"/>
              <a:ext cx="218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436.4 k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1039320" y="3298680"/>
            <a:ext cx="5592960" cy="511560"/>
            <a:chOff x="1039320" y="3298680"/>
            <a:chExt cx="5592960" cy="511560"/>
          </a:xfrm>
        </p:grpSpPr>
        <p:sp>
          <p:nvSpPr>
            <p:cNvPr id="574" name=""/>
            <p:cNvSpPr/>
            <p:nvPr/>
          </p:nvSpPr>
          <p:spPr>
            <a:xfrm>
              <a:off x="1039320" y="3300120"/>
              <a:ext cx="83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 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675160" y="3300120"/>
              <a:ext cx="77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795320" y="352872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296880" y="33001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94320" y="3300120"/>
              <a:ext cx="77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446000" y="3298680"/>
              <a:ext cx="218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242.7 k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925200" y="3900600"/>
            <a:ext cx="5707080" cy="511560"/>
            <a:chOff x="925200" y="3900600"/>
            <a:chExt cx="5707080" cy="511560"/>
          </a:xfrm>
        </p:grpSpPr>
        <p:sp>
          <p:nvSpPr>
            <p:cNvPr id="581" name=""/>
            <p:cNvSpPr/>
            <p:nvPr/>
          </p:nvSpPr>
          <p:spPr>
            <a:xfrm>
              <a:off x="925200" y="3902040"/>
              <a:ext cx="953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674440" y="3902040"/>
              <a:ext cx="70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795320" y="413064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296880" y="39020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694320" y="3902040"/>
              <a:ext cx="77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446000" y="3900600"/>
              <a:ext cx="218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431.9 k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1096200" y="4502160"/>
            <a:ext cx="5542920" cy="511560"/>
            <a:chOff x="1096200" y="4502160"/>
            <a:chExt cx="5542920" cy="511560"/>
          </a:xfrm>
        </p:grpSpPr>
        <p:sp>
          <p:nvSpPr>
            <p:cNvPr id="588" name=""/>
            <p:cNvSpPr/>
            <p:nvPr/>
          </p:nvSpPr>
          <p:spPr>
            <a:xfrm>
              <a:off x="1096200" y="4503600"/>
              <a:ext cx="78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 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680200" y="4503600"/>
              <a:ext cx="721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802160" y="47322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303720" y="45036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699360" y="4503600"/>
              <a:ext cx="721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452840" y="4502160"/>
              <a:ext cx="218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498.7 k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6965280" y="4516560"/>
            <a:ext cx="1205640" cy="469800"/>
            <a:chOff x="6965280" y="4516560"/>
            <a:chExt cx="1205640" cy="469800"/>
          </a:xfrm>
        </p:grpSpPr>
        <p:sp>
          <p:nvSpPr>
            <p:cNvPr id="595" name=""/>
            <p:cNvSpPr/>
            <p:nvPr/>
          </p:nvSpPr>
          <p:spPr>
            <a:xfrm>
              <a:off x="6965280" y="45244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7046280" y="4516560"/>
              <a:ext cx="228600" cy="469800"/>
              <a:chOff x="7046280" y="4516560"/>
              <a:chExt cx="228600" cy="469800"/>
            </a:xfrm>
          </p:grpSpPr>
          <p:grpSp>
            <p:nvGrpSpPr>
              <p:cNvPr id="597" name=""/>
              <p:cNvGrpSpPr/>
              <p:nvPr/>
            </p:nvGrpSpPr>
            <p:grpSpPr>
              <a:xfrm>
                <a:off x="7046280" y="4516560"/>
                <a:ext cx="228600" cy="75960"/>
                <a:chOff x="7046280" y="4516560"/>
                <a:chExt cx="228600" cy="75960"/>
              </a:xfrm>
            </p:grpSpPr>
            <p:sp>
              <p:nvSpPr>
                <p:cNvPr id="598" name=""/>
                <p:cNvSpPr/>
                <p:nvPr/>
              </p:nvSpPr>
              <p:spPr>
                <a:xfrm rot="5400000">
                  <a:off x="7198560" y="45162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rot="5400000">
                  <a:off x="7046280" y="45165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7046280" y="4910040"/>
                <a:ext cx="228600" cy="76320"/>
                <a:chOff x="7046280" y="4910040"/>
                <a:chExt cx="228600" cy="76320"/>
              </a:xfrm>
            </p:grpSpPr>
            <p:sp>
              <p:nvSpPr>
                <p:cNvPr id="601" name=""/>
                <p:cNvSpPr/>
                <p:nvPr/>
              </p:nvSpPr>
              <p:spPr>
                <a:xfrm rot="5400000">
                  <a:off x="7198560" y="49100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rot="5400000">
                  <a:off x="7045920" y="49100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3" name=""/>
            <p:cNvGrpSpPr/>
            <p:nvPr/>
          </p:nvGrpSpPr>
          <p:grpSpPr>
            <a:xfrm>
              <a:off x="7370280" y="4516560"/>
              <a:ext cx="800640" cy="469800"/>
              <a:chOff x="7370280" y="4516560"/>
              <a:chExt cx="800640" cy="469800"/>
            </a:xfrm>
          </p:grpSpPr>
          <p:sp>
            <p:nvSpPr>
              <p:cNvPr id="604" name=""/>
              <p:cNvSpPr/>
              <p:nvPr/>
            </p:nvSpPr>
            <p:spPr>
              <a:xfrm flipH="1">
                <a:off x="7752600" y="452412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5" name=""/>
              <p:cNvGrpSpPr/>
              <p:nvPr/>
            </p:nvGrpSpPr>
            <p:grpSpPr>
              <a:xfrm>
                <a:off x="7861320" y="4516560"/>
                <a:ext cx="228600" cy="469800"/>
                <a:chOff x="7861320" y="4516560"/>
                <a:chExt cx="228600" cy="469800"/>
              </a:xfrm>
            </p:grpSpPr>
            <p:grpSp>
              <p:nvGrpSpPr>
                <p:cNvPr id="606" name=""/>
                <p:cNvGrpSpPr/>
                <p:nvPr/>
              </p:nvGrpSpPr>
              <p:grpSpPr>
                <a:xfrm>
                  <a:off x="7861320" y="4516560"/>
                  <a:ext cx="228600" cy="75960"/>
                  <a:chOff x="7861320" y="4516560"/>
                  <a:chExt cx="228600" cy="75960"/>
                </a:xfrm>
              </p:grpSpPr>
              <p:sp>
                <p:nvSpPr>
                  <p:cNvPr id="607" name=""/>
                  <p:cNvSpPr/>
                  <p:nvPr/>
                </p:nvSpPr>
                <p:spPr>
                  <a:xfrm flipH="1" rot="16200000">
                    <a:off x="7861320" y="451620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flipH="1" rot="16200000">
                    <a:off x="8013600" y="4516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9" name=""/>
                <p:cNvGrpSpPr/>
                <p:nvPr/>
              </p:nvGrpSpPr>
              <p:grpSpPr>
                <a:xfrm>
                  <a:off x="7861320" y="4910040"/>
                  <a:ext cx="228600" cy="76320"/>
                  <a:chOff x="7861320" y="4910040"/>
                  <a:chExt cx="228600" cy="76320"/>
                </a:xfrm>
              </p:grpSpPr>
              <p:sp>
                <p:nvSpPr>
                  <p:cNvPr id="610" name=""/>
                  <p:cNvSpPr/>
                  <p:nvPr/>
                </p:nvSpPr>
                <p:spPr>
                  <a:xfrm flipH="1" rot="16200000">
                    <a:off x="7861320" y="491004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flipH="1" rot="16200000">
                    <a:off x="8013240" y="491004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12" name=""/>
              <p:cNvGrpSpPr/>
              <p:nvPr/>
            </p:nvGrpSpPr>
            <p:grpSpPr>
              <a:xfrm>
                <a:off x="7370280" y="4713120"/>
                <a:ext cx="380880" cy="75960"/>
                <a:chOff x="7370280" y="4713120"/>
                <a:chExt cx="380880" cy="75960"/>
              </a:xfrm>
            </p:grpSpPr>
            <p:sp>
              <p:nvSpPr>
                <p:cNvPr id="613" name=""/>
                <p:cNvSpPr/>
                <p:nvPr/>
              </p:nvSpPr>
              <p:spPr>
                <a:xfrm flipH="1">
                  <a:off x="7370280" y="471312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H="1">
                  <a:off x="7370280" y="478908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15" name=""/>
          <p:cNvGrpSpPr/>
          <p:nvPr/>
        </p:nvGrpSpPr>
        <p:grpSpPr>
          <a:xfrm>
            <a:off x="1117800" y="5129280"/>
            <a:ext cx="5525640" cy="511560"/>
            <a:chOff x="1117800" y="5129280"/>
            <a:chExt cx="5525640" cy="511560"/>
          </a:xfrm>
        </p:grpSpPr>
        <p:sp>
          <p:nvSpPr>
            <p:cNvPr id="616" name=""/>
            <p:cNvSpPr/>
            <p:nvPr/>
          </p:nvSpPr>
          <p:spPr>
            <a:xfrm>
              <a:off x="1117800" y="5130720"/>
              <a:ext cx="766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 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685600" y="5130720"/>
              <a:ext cx="70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806480" y="53593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308040" y="51307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705120" y="5130720"/>
              <a:ext cx="70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457160" y="5129280"/>
              <a:ext cx="218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941.4 k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7016760" y="5130720"/>
            <a:ext cx="1153080" cy="461160"/>
            <a:chOff x="7016760" y="5130720"/>
            <a:chExt cx="1153080" cy="461160"/>
          </a:xfrm>
        </p:grpSpPr>
        <p:sp>
          <p:nvSpPr>
            <p:cNvPr id="623" name=""/>
            <p:cNvSpPr/>
            <p:nvPr/>
          </p:nvSpPr>
          <p:spPr>
            <a:xfrm>
              <a:off x="7045920" y="5132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769520" y="5130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083440" y="52452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083440" y="53974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016760" y="524520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016760" y="53974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397640" y="528300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397640" y="535932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397640" y="543564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4219200" y="1844640"/>
            <a:ext cx="333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ía de enlac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"/>
          <p:cNvGrpSpPr/>
          <p:nvPr/>
        </p:nvGrpSpPr>
        <p:grpSpPr>
          <a:xfrm>
            <a:off x="1647720" y="1878120"/>
            <a:ext cx="5508720" cy="511560"/>
            <a:chOff x="1647720" y="1878120"/>
            <a:chExt cx="5508720" cy="511560"/>
          </a:xfrm>
        </p:grpSpPr>
        <p:sp>
          <p:nvSpPr>
            <p:cNvPr id="634" name=""/>
            <p:cNvSpPr/>
            <p:nvPr/>
          </p:nvSpPr>
          <p:spPr>
            <a:xfrm>
              <a:off x="1647720" y="1879560"/>
              <a:ext cx="1003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452760" y="1879560"/>
              <a:ext cx="70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73640" y="210816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016520" y="18795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323960" y="1879560"/>
              <a:ext cx="941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H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224680" y="1878120"/>
              <a:ext cx="193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502 k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1748880" y="2489040"/>
            <a:ext cx="5402520" cy="511560"/>
            <a:chOff x="1748880" y="2489040"/>
            <a:chExt cx="5402520" cy="511560"/>
          </a:xfrm>
        </p:grpSpPr>
        <p:sp>
          <p:nvSpPr>
            <p:cNvPr id="641" name=""/>
            <p:cNvSpPr/>
            <p:nvPr/>
          </p:nvSpPr>
          <p:spPr>
            <a:xfrm>
              <a:off x="1748880" y="2490480"/>
              <a:ext cx="904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448080" y="2490480"/>
              <a:ext cx="70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568600" y="27190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011480" y="24904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335840" y="2490480"/>
              <a:ext cx="721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219640" y="2489040"/>
              <a:ext cx="193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427 k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1042200" y="3490920"/>
            <a:ext cx="6768360" cy="876960"/>
            <a:chOff x="1042200" y="3490920"/>
            <a:chExt cx="6768360" cy="876960"/>
          </a:xfrm>
        </p:grpSpPr>
        <p:sp>
          <p:nvSpPr>
            <p:cNvPr id="648" name=""/>
            <p:cNvSpPr/>
            <p:nvPr/>
          </p:nvSpPr>
          <p:spPr>
            <a:xfrm>
              <a:off x="1042200" y="3682800"/>
              <a:ext cx="398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nergía promedio del OH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9" name=""/>
            <p:cNvGrpSpPr/>
            <p:nvPr/>
          </p:nvGrpSpPr>
          <p:grpSpPr>
            <a:xfrm>
              <a:off x="5007240" y="3490920"/>
              <a:ext cx="1544760" cy="876960"/>
              <a:chOff x="5007240" y="3490920"/>
              <a:chExt cx="1544760" cy="876960"/>
            </a:xfrm>
          </p:grpSpPr>
          <p:sp>
            <p:nvSpPr>
              <p:cNvPr id="650" name=""/>
              <p:cNvSpPr/>
              <p:nvPr/>
            </p:nvSpPr>
            <p:spPr>
              <a:xfrm>
                <a:off x="5007240" y="3490920"/>
                <a:ext cx="1544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02 + 42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020920" y="3908160"/>
                <a:ext cx="1447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594400" y="3908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>
              <a:off x="6468480" y="3679920"/>
              <a:ext cx="134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464 k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1236600" y="235080"/>
            <a:ext cx="67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ía de enlace para moléculas poliató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24000" y="165240"/>
          <a:ext cx="5111640" cy="369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65240"/>
                    <a:ext cx="5111640" cy="369540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035760" y="1700280"/>
            <a:ext cx="2639880" cy="48956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5796000" y="115920"/>
            <a:ext cx="3157560" cy="13136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mbios en la densidad electrónica entre dos átomos de hidrógeno a medida que se acercan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4292640"/>
            <a:ext cx="5184720" cy="20822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La teoría  de enlace-valencia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l enlace se forma po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mpartición de pares de electrone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que se genera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l producir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uper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osición de orbitales atómico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que contienen un electr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ó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 cada u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5" name=""/>
          <p:cNvGraphicFramePr/>
          <p:nvPr/>
        </p:nvGraphicFramePr>
        <p:xfrm>
          <a:off x="900000" y="189000"/>
          <a:ext cx="7426440" cy="58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89000"/>
                    <a:ext cx="742644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"/>
          <p:cNvSpPr/>
          <p:nvPr/>
        </p:nvSpPr>
        <p:spPr>
          <a:xfrm>
            <a:off x="1908000" y="6111720"/>
            <a:ext cx="559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ía de en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lace Sencillo &lt; Enlace Doble &lt; Enlace Tri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1209600" y="1530360"/>
            <a:ext cx="7034400" cy="35694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cala de Electronegatividad de Paul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= 0,102 (D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/kJ mol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0,5(E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+E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BB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 = energía media del enlace simple entre los átomos del subíndi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estandariza a 4 para el 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2843280" y="2602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laridad del en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79280" y="982800"/>
            <a:ext cx="87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una molécula formada por elementos diferentes, éstos poseen diferente electronegatividad, lo que conduce a una compartición desigual de los electrones.  Esta característica da lugar a la formación de un enlace po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1" name=""/>
          <p:cNvGraphicFramePr/>
          <p:nvPr/>
        </p:nvGraphicFramePr>
        <p:xfrm>
          <a:off x="4699080" y="2719440"/>
          <a:ext cx="3024000" cy="20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9080" y="2719440"/>
                    <a:ext cx="3024000" cy="20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3" name=""/>
          <p:cNvGraphicFramePr/>
          <p:nvPr/>
        </p:nvGraphicFramePr>
        <p:xfrm>
          <a:off x="468360" y="2205000"/>
          <a:ext cx="1987560" cy="208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2205000"/>
                    <a:ext cx="198756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5" name=""/>
          <p:cNvSpPr/>
          <p:nvPr/>
        </p:nvSpPr>
        <p:spPr>
          <a:xfrm>
            <a:off x="6786720" y="2071800"/>
            <a:ext cx="224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ta electronega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114720" y="2071800"/>
            <a:ext cx="23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ediana electronega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22560" y="4437000"/>
            <a:ext cx="224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én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ega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445000" y="48448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30000">
                <a:solidFill>
                  <a:srgbClr val="3333cc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694200" y="479736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4360" y="5014800"/>
            <a:ext cx="11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083280" y="523080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28720" y="5300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     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187280" y="551664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5100120" y="5303880"/>
            <a:ext cx="134532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 Q x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68200" y="6093000"/>
            <a:ext cx="169560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la 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093400" y="6093000"/>
            <a:ext cx="384732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la distancia entre las car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114240" y="6093000"/>
            <a:ext cx="267768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3.34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3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979640" y="260280"/>
            <a:ext cx="49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MENTO DIPOLAR DE EN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2057400" y="923760"/>
          <a:ext cx="4870440" cy="39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923760"/>
                    <a:ext cx="4870440" cy="395316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81" name=""/>
          <p:cNvSpPr/>
          <p:nvPr/>
        </p:nvSpPr>
        <p:spPr>
          <a:xfrm>
            <a:off x="2266920" y="5300640"/>
            <a:ext cx="251316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mento dipolar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3733920" y="2602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0880" y="836640"/>
            <a:ext cx="84391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longitud de enlace en HCl es 1.27Å. (a) Calcular µ si las cargas de H y Cl son +1 y -1. (b) El valor exp. es µ (H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= 1.08 D, ¿qué magnitud de carga, en unidades d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n los átomos de H y Cl darían lugar a este µ?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.60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33520" y="32068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3520" y="43498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1692360" y="3241800"/>
          <a:ext cx="5867280" cy="9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3241800"/>
                    <a:ext cx="5867280" cy="92556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88" name=""/>
          <p:cNvGraphicFramePr/>
          <p:nvPr/>
        </p:nvGraphicFramePr>
        <p:xfrm>
          <a:off x="2149560" y="4460760"/>
          <a:ext cx="4952880" cy="148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49560" y="4460760"/>
                    <a:ext cx="4952880" cy="148932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3354840" y="23508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lace i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1619280" y="1338120"/>
          <a:ext cx="4103640" cy="17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338120"/>
                    <a:ext cx="410364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3" name=""/>
          <p:cNvSpPr/>
          <p:nvPr/>
        </p:nvSpPr>
        <p:spPr>
          <a:xfrm>
            <a:off x="1629000" y="1014480"/>
            <a:ext cx="884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352960" y="1914480"/>
            <a:ext cx="12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737320" y="1878120"/>
            <a:ext cx="1250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182840" y="30430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[H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910040" y="30430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[N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1547640" y="3573360"/>
          <a:ext cx="4762800" cy="16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3573360"/>
                    <a:ext cx="476280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0" name=""/>
          <p:cNvSpPr/>
          <p:nvPr/>
        </p:nvSpPr>
        <p:spPr>
          <a:xfrm>
            <a:off x="395280" y="551808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ía de red cristali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Uo) es la energía que se requiere para separar completamente un mol de un compuesto sólido en sus iones gaseos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1" name=""/>
          <p:cNvGrpSpPr/>
          <p:nvPr/>
        </p:nvGrpSpPr>
        <p:grpSpPr>
          <a:xfrm>
            <a:off x="1205280" y="2486160"/>
            <a:ext cx="1572480" cy="801000"/>
            <a:chOff x="1205280" y="2486160"/>
            <a:chExt cx="1572480" cy="801000"/>
          </a:xfrm>
        </p:grpSpPr>
        <p:sp>
          <p:nvSpPr>
            <p:cNvPr id="702" name=""/>
            <p:cNvSpPr/>
            <p:nvPr/>
          </p:nvSpPr>
          <p:spPr>
            <a:xfrm>
              <a:off x="1205280" y="2665440"/>
              <a:ext cx="88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 = 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1958760" y="2486160"/>
              <a:ext cx="819000" cy="801000"/>
              <a:chOff x="1958760" y="2486160"/>
              <a:chExt cx="819000" cy="801000"/>
            </a:xfrm>
          </p:grpSpPr>
          <p:sp>
            <p:nvSpPr>
              <p:cNvPr id="704" name=""/>
              <p:cNvSpPr/>
              <p:nvPr/>
            </p:nvSpPr>
            <p:spPr>
              <a:xfrm>
                <a:off x="1958760" y="2486160"/>
                <a:ext cx="819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062080" y="2903400"/>
                <a:ext cx="609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176560" y="28274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7" name=""/>
          <p:cNvSpPr/>
          <p:nvPr/>
        </p:nvSpPr>
        <p:spPr>
          <a:xfrm>
            <a:off x="3997800" y="2333520"/>
            <a:ext cx="2941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la carga del ca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996720" y="2790720"/>
            <a:ext cx="2847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la carga del an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065840" y="3247920"/>
            <a:ext cx="417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es la distancia entre ambos 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79280" y="1197000"/>
            <a:ext cx="8820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ía de red cristali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depende de la magnitud de la interacción entre los 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116000" y="198900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un par de 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24000" y="380700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l sólido los iones se ordenan unos con otros para lograr la mínima energ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228600" y="152280"/>
            <a:ext cx="868680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 el sólido los iones se ordenan unos con otros para lograr la mínima energía.  Para un sólido hipotético unidimensional la energía V es más negativa que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/d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1981080" y="1039680"/>
          <a:ext cx="5281560" cy="31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039680"/>
                    <a:ext cx="5281560" cy="31100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16" name=""/>
          <p:cNvSpPr/>
          <p:nvPr/>
        </p:nvSpPr>
        <p:spPr>
          <a:xfrm>
            <a:off x="228600" y="441180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demuestra que la energía necesaria para separar los iones de un mol de sólido iónic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idimensional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ra dar los iones gaseosos queda dada por la expres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3"/>
          <a:stretch/>
        </p:blipFill>
        <p:spPr>
          <a:xfrm>
            <a:off x="324000" y="5632560"/>
            <a:ext cx="4752720" cy="71100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/>
          <p:nvPr/>
        </p:nvSpPr>
        <p:spPr>
          <a:xfrm>
            <a:off x="5292720" y="5589720"/>
            <a:ext cx="360036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= Constante de Made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 = Número de Avogad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z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cargas de 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1692360" y="4365720"/>
            <a:ext cx="5761080" cy="119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energía es directamente proporcional a la carga de los iones, e inversamente proporcional a la distancia entre el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478880" y="107784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925800" y="110016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ía de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1875600" y="1712880"/>
            <a:ext cx="889200" cy="916920"/>
            <a:chOff x="1875600" y="1712880"/>
            <a:chExt cx="889200" cy="916920"/>
          </a:xfrm>
        </p:grpSpPr>
        <p:sp>
          <p:nvSpPr>
            <p:cNvPr id="723" name=""/>
            <p:cNvSpPr/>
            <p:nvPr/>
          </p:nvSpPr>
          <p:spPr>
            <a:xfrm>
              <a:off x="1875600" y="1712880"/>
              <a:ext cx="889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g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898280" y="217008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g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1894680" y="3008160"/>
            <a:ext cx="703440" cy="916920"/>
            <a:chOff x="1894680" y="3008160"/>
            <a:chExt cx="703440" cy="916920"/>
          </a:xfrm>
        </p:grpSpPr>
        <p:sp>
          <p:nvSpPr>
            <p:cNvPr id="726" name=""/>
            <p:cNvSpPr/>
            <p:nvPr/>
          </p:nvSpPr>
          <p:spPr>
            <a:xfrm>
              <a:off x="1951920" y="300816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894680" y="3465360"/>
              <a:ext cx="70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4644720" y="1712880"/>
            <a:ext cx="857520" cy="916920"/>
            <a:chOff x="4644720" y="1712880"/>
            <a:chExt cx="857520" cy="916920"/>
          </a:xfrm>
        </p:grpSpPr>
        <p:sp>
          <p:nvSpPr>
            <p:cNvPr id="729" name=""/>
            <p:cNvSpPr/>
            <p:nvPr/>
          </p:nvSpPr>
          <p:spPr>
            <a:xfrm>
              <a:off x="4644720" y="171288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95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644720" y="217008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393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4679640" y="3008160"/>
            <a:ext cx="857520" cy="916920"/>
            <a:chOff x="4679640" y="3008160"/>
            <a:chExt cx="857520" cy="916920"/>
          </a:xfrm>
        </p:grpSpPr>
        <p:sp>
          <p:nvSpPr>
            <p:cNvPr id="732" name=""/>
            <p:cNvSpPr/>
            <p:nvPr/>
          </p:nvSpPr>
          <p:spPr>
            <a:xfrm>
              <a:off x="4679640" y="300816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03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755600" y="346536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5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6453000" y="1712880"/>
            <a:ext cx="1398960" cy="916920"/>
            <a:chOff x="6453000" y="1712880"/>
            <a:chExt cx="1398960" cy="916920"/>
          </a:xfrm>
        </p:grpSpPr>
        <p:sp>
          <p:nvSpPr>
            <p:cNvPr id="735" name=""/>
            <p:cNvSpPr/>
            <p:nvPr/>
          </p:nvSpPr>
          <p:spPr>
            <a:xfrm>
              <a:off x="6453000" y="171288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= +2,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465600" y="217008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Q= +2,-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7" name=""/>
          <p:cNvSpPr/>
          <p:nvPr/>
        </p:nvSpPr>
        <p:spPr>
          <a:xfrm>
            <a:off x="6380640" y="3201840"/>
            <a:ext cx="14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 F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r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380880" y="260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iclo de Born-Hab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nos permite visualizar los factores individuales que afectan la magnitud de la energía de red cristali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1403280" y="1033560"/>
          <a:ext cx="6553440" cy="556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033560"/>
                    <a:ext cx="6553440" cy="55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03640" y="260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Regla del octe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1125360"/>
            <a:ext cx="83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uando se comparten electrones cada uno de lo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átomos adquiere una configuración electrónica de gas noble (capa cerrada) con un octeto completo de electr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23040" y="2422440"/>
            <a:ext cx="7256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estructura: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:H       H-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95640" y="2349360"/>
            <a:ext cx="2273040" cy="54792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868320" y="3575160"/>
            <a:ext cx="444600" cy="473760"/>
            <a:chOff x="868320" y="3575160"/>
            <a:chExt cx="444600" cy="473760"/>
          </a:xfrm>
        </p:grpSpPr>
        <p:sp>
          <p:nvSpPr>
            <p:cNvPr id="57" name=""/>
            <p:cNvSpPr/>
            <p:nvPr/>
          </p:nvSpPr>
          <p:spPr>
            <a:xfrm>
              <a:off x="914400" y="35892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868320" y="3701880"/>
              <a:ext cx="76320" cy="228600"/>
              <a:chOff x="868320" y="3701880"/>
              <a:chExt cx="76320" cy="228600"/>
            </a:xfrm>
          </p:grpSpPr>
          <p:sp>
            <p:nvSpPr>
              <p:cNvPr id="59" name=""/>
              <p:cNvSpPr/>
              <p:nvPr/>
            </p:nvSpPr>
            <p:spPr>
              <a:xfrm>
                <a:off x="868320" y="37018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68320" y="38545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1236600" y="37018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969480" y="3575160"/>
              <a:ext cx="228600" cy="75960"/>
              <a:chOff x="969480" y="3575160"/>
              <a:chExt cx="228600" cy="75960"/>
            </a:xfrm>
          </p:grpSpPr>
          <p:sp>
            <p:nvSpPr>
              <p:cNvPr id="63" name=""/>
              <p:cNvSpPr/>
              <p:nvPr/>
            </p:nvSpPr>
            <p:spPr>
              <a:xfrm rot="5400000">
                <a:off x="1121760" y="35748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5400000">
                <a:off x="969480" y="35751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969480" y="3968640"/>
              <a:ext cx="228600" cy="76320"/>
              <a:chOff x="969480" y="3968640"/>
              <a:chExt cx="228600" cy="76320"/>
            </a:xfrm>
          </p:grpSpPr>
          <p:sp>
            <p:nvSpPr>
              <p:cNvPr id="66" name=""/>
              <p:cNvSpPr/>
              <p:nvPr/>
            </p:nvSpPr>
            <p:spPr>
              <a:xfrm rot="5400000">
                <a:off x="1121760" y="39686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5400000">
                <a:off x="969120" y="39686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" name=""/>
          <p:cNvGrpSpPr/>
          <p:nvPr/>
        </p:nvGrpSpPr>
        <p:grpSpPr>
          <a:xfrm>
            <a:off x="1558800" y="3575160"/>
            <a:ext cx="1038240" cy="473760"/>
            <a:chOff x="1558800" y="3575160"/>
            <a:chExt cx="1038240" cy="473760"/>
          </a:xfrm>
        </p:grpSpPr>
        <p:grpSp>
          <p:nvGrpSpPr>
            <p:cNvPr id="69" name=""/>
            <p:cNvGrpSpPr/>
            <p:nvPr/>
          </p:nvGrpSpPr>
          <p:grpSpPr>
            <a:xfrm>
              <a:off x="2165400" y="3575160"/>
              <a:ext cx="431640" cy="473760"/>
              <a:chOff x="2165400" y="3575160"/>
              <a:chExt cx="431640" cy="473760"/>
            </a:xfrm>
          </p:grpSpPr>
          <p:sp>
            <p:nvSpPr>
              <p:cNvPr id="70" name=""/>
              <p:cNvSpPr/>
              <p:nvPr/>
            </p:nvSpPr>
            <p:spPr>
              <a:xfrm>
                <a:off x="2198880" y="35892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2521080" y="3701880"/>
                <a:ext cx="75960" cy="227880"/>
                <a:chOff x="2521080" y="3701880"/>
                <a:chExt cx="75960" cy="22788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2521080" y="37018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521080" y="385416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2165400" y="38541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2253960" y="3575160"/>
                <a:ext cx="228600" cy="75960"/>
                <a:chOff x="2253960" y="3575160"/>
                <a:chExt cx="228600" cy="75960"/>
              </a:xfrm>
            </p:grpSpPr>
            <p:sp>
              <p:nvSpPr>
                <p:cNvPr id="76" name=""/>
                <p:cNvSpPr/>
                <p:nvPr/>
              </p:nvSpPr>
              <p:spPr>
                <a:xfrm rot="5400000">
                  <a:off x="2406240" y="35748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rot="5400000">
                  <a:off x="2253960" y="35751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2253960" y="3968640"/>
                <a:ext cx="228600" cy="75600"/>
                <a:chOff x="2253960" y="3968640"/>
                <a:chExt cx="228600" cy="75600"/>
              </a:xfrm>
            </p:grpSpPr>
            <p:sp>
              <p:nvSpPr>
                <p:cNvPr id="79" name=""/>
                <p:cNvSpPr/>
                <p:nvPr/>
              </p:nvSpPr>
              <p:spPr>
                <a:xfrm rot="5400000">
                  <a:off x="2406600" y="396828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rot="5400000">
                  <a:off x="2253960" y="396828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" name=""/>
            <p:cNvSpPr/>
            <p:nvPr/>
          </p:nvSpPr>
          <p:spPr>
            <a:xfrm>
              <a:off x="1558800" y="35812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755640" y="3486240"/>
            <a:ext cx="685800" cy="1158120"/>
            <a:chOff x="755640" y="3486240"/>
            <a:chExt cx="685800" cy="1158120"/>
          </a:xfrm>
        </p:grpSpPr>
        <p:sp>
          <p:nvSpPr>
            <p:cNvPr id="83" name=""/>
            <p:cNvSpPr/>
            <p:nvPr/>
          </p:nvSpPr>
          <p:spPr>
            <a:xfrm>
              <a:off x="755640" y="348624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0000" y="4184640"/>
              <a:ext cx="57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7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038320" y="3486240"/>
            <a:ext cx="685800" cy="1158120"/>
            <a:chOff x="2038320" y="3486240"/>
            <a:chExt cx="685800" cy="1158120"/>
          </a:xfrm>
        </p:grpSpPr>
        <p:sp>
          <p:nvSpPr>
            <p:cNvPr id="86" name=""/>
            <p:cNvSpPr/>
            <p:nvPr/>
          </p:nvSpPr>
          <p:spPr>
            <a:xfrm>
              <a:off x="2038320" y="348624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92680" y="4184640"/>
              <a:ext cx="57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7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2825640" y="3803760"/>
            <a:ext cx="7621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828960" y="3575160"/>
            <a:ext cx="799920" cy="473760"/>
            <a:chOff x="3828960" y="3575160"/>
            <a:chExt cx="799920" cy="473760"/>
          </a:xfrm>
        </p:grpSpPr>
        <p:grpSp>
          <p:nvGrpSpPr>
            <p:cNvPr id="90" name=""/>
            <p:cNvGrpSpPr/>
            <p:nvPr/>
          </p:nvGrpSpPr>
          <p:grpSpPr>
            <a:xfrm>
              <a:off x="3828960" y="3575160"/>
              <a:ext cx="444600" cy="473760"/>
              <a:chOff x="3828960" y="3575160"/>
              <a:chExt cx="444600" cy="473760"/>
            </a:xfrm>
          </p:grpSpPr>
          <p:sp>
            <p:nvSpPr>
              <p:cNvPr id="91" name=""/>
              <p:cNvSpPr/>
              <p:nvPr/>
            </p:nvSpPr>
            <p:spPr>
              <a:xfrm>
                <a:off x="3875040" y="35892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" name=""/>
              <p:cNvGrpSpPr/>
              <p:nvPr/>
            </p:nvGrpSpPr>
            <p:grpSpPr>
              <a:xfrm>
                <a:off x="3828960" y="3701880"/>
                <a:ext cx="76320" cy="228600"/>
                <a:chOff x="3828960" y="3701880"/>
                <a:chExt cx="76320" cy="22860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828960" y="37018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828960" y="38545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" name=""/>
              <p:cNvSpPr/>
              <p:nvPr/>
            </p:nvSpPr>
            <p:spPr>
              <a:xfrm>
                <a:off x="4197240" y="37018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3930120" y="3575160"/>
                <a:ext cx="228600" cy="75960"/>
                <a:chOff x="3930120" y="3575160"/>
                <a:chExt cx="228600" cy="75960"/>
              </a:xfrm>
            </p:grpSpPr>
            <p:sp>
              <p:nvSpPr>
                <p:cNvPr id="97" name=""/>
                <p:cNvSpPr/>
                <p:nvPr/>
              </p:nvSpPr>
              <p:spPr>
                <a:xfrm rot="5400000">
                  <a:off x="4082400" y="35748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rot="5400000">
                  <a:off x="3930120" y="35751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3930120" y="3968640"/>
                <a:ext cx="228600" cy="76320"/>
                <a:chOff x="3930120" y="3968640"/>
                <a:chExt cx="228600" cy="76320"/>
              </a:xfrm>
            </p:grpSpPr>
            <p:sp>
              <p:nvSpPr>
                <p:cNvPr id="100" name=""/>
                <p:cNvSpPr/>
                <p:nvPr/>
              </p:nvSpPr>
              <p:spPr>
                <a:xfrm rot="5400000">
                  <a:off x="4082400" y="3968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rot="5400000">
                  <a:off x="3929760" y="3968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" name=""/>
            <p:cNvGrpSpPr/>
            <p:nvPr/>
          </p:nvGrpSpPr>
          <p:grpSpPr>
            <a:xfrm>
              <a:off x="4197240" y="3575160"/>
              <a:ext cx="431640" cy="473760"/>
              <a:chOff x="4197240" y="3575160"/>
              <a:chExt cx="431640" cy="473760"/>
            </a:xfrm>
          </p:grpSpPr>
          <p:sp>
            <p:nvSpPr>
              <p:cNvPr id="103" name=""/>
              <p:cNvSpPr/>
              <p:nvPr/>
            </p:nvSpPr>
            <p:spPr>
              <a:xfrm>
                <a:off x="4230720" y="35892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" name=""/>
              <p:cNvGrpSpPr/>
              <p:nvPr/>
            </p:nvGrpSpPr>
            <p:grpSpPr>
              <a:xfrm>
                <a:off x="4552920" y="3701880"/>
                <a:ext cx="75960" cy="227880"/>
                <a:chOff x="4552920" y="3701880"/>
                <a:chExt cx="75960" cy="22788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4552920" y="37018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552920" y="385416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" name=""/>
              <p:cNvSpPr/>
              <p:nvPr/>
            </p:nvSpPr>
            <p:spPr>
              <a:xfrm>
                <a:off x="4197240" y="38541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" name=""/>
              <p:cNvGrpSpPr/>
              <p:nvPr/>
            </p:nvGrpSpPr>
            <p:grpSpPr>
              <a:xfrm>
                <a:off x="4285800" y="3575160"/>
                <a:ext cx="228600" cy="75960"/>
                <a:chOff x="4285800" y="3575160"/>
                <a:chExt cx="228600" cy="75960"/>
              </a:xfrm>
            </p:grpSpPr>
            <p:sp>
              <p:nvSpPr>
                <p:cNvPr id="109" name=""/>
                <p:cNvSpPr/>
                <p:nvPr/>
              </p:nvSpPr>
              <p:spPr>
                <a:xfrm rot="5400000">
                  <a:off x="4438080" y="35748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rot="5400000">
                  <a:off x="4285800" y="35751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4285800" y="3968640"/>
                <a:ext cx="228600" cy="75600"/>
                <a:chOff x="4285800" y="3968640"/>
                <a:chExt cx="228600" cy="75600"/>
              </a:xfrm>
            </p:grpSpPr>
            <p:sp>
              <p:nvSpPr>
                <p:cNvPr id="112" name=""/>
                <p:cNvSpPr/>
                <p:nvPr/>
              </p:nvSpPr>
              <p:spPr>
                <a:xfrm rot="5400000">
                  <a:off x="4438440" y="396828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rot="5400000">
                  <a:off x="4285800" y="396828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4" name=""/>
          <p:cNvGrpSpPr/>
          <p:nvPr/>
        </p:nvGrpSpPr>
        <p:grpSpPr>
          <a:xfrm>
            <a:off x="3664080" y="3498840"/>
            <a:ext cx="685800" cy="1158120"/>
            <a:chOff x="3664080" y="3498840"/>
            <a:chExt cx="685800" cy="1158120"/>
          </a:xfrm>
        </p:grpSpPr>
        <p:sp>
          <p:nvSpPr>
            <p:cNvPr id="115" name=""/>
            <p:cNvSpPr/>
            <p:nvPr/>
          </p:nvSpPr>
          <p:spPr>
            <a:xfrm>
              <a:off x="3664080" y="349884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18440" y="4197240"/>
              <a:ext cx="57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172040" y="3498840"/>
            <a:ext cx="685800" cy="1158120"/>
            <a:chOff x="4172040" y="3498840"/>
            <a:chExt cx="685800" cy="1158120"/>
          </a:xfrm>
        </p:grpSpPr>
        <p:sp>
          <p:nvSpPr>
            <p:cNvPr id="118" name=""/>
            <p:cNvSpPr/>
            <p:nvPr/>
          </p:nvSpPr>
          <p:spPr>
            <a:xfrm>
              <a:off x="4172040" y="349884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26400" y="4197240"/>
              <a:ext cx="57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5078880" y="4976640"/>
            <a:ext cx="3515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ructura de Lewis para 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141960" y="3573360"/>
            <a:ext cx="1237680" cy="475560"/>
            <a:chOff x="6141960" y="3573360"/>
            <a:chExt cx="1237680" cy="475560"/>
          </a:xfrm>
        </p:grpSpPr>
        <p:grpSp>
          <p:nvGrpSpPr>
            <p:cNvPr id="122" name=""/>
            <p:cNvGrpSpPr/>
            <p:nvPr/>
          </p:nvGrpSpPr>
          <p:grpSpPr>
            <a:xfrm>
              <a:off x="6141960" y="3573360"/>
              <a:ext cx="412560" cy="474120"/>
              <a:chOff x="6141960" y="3573360"/>
              <a:chExt cx="412560" cy="474120"/>
            </a:xfrm>
          </p:grpSpPr>
          <p:sp>
            <p:nvSpPr>
              <p:cNvPr id="123" name=""/>
              <p:cNvSpPr/>
              <p:nvPr/>
            </p:nvSpPr>
            <p:spPr>
              <a:xfrm>
                <a:off x="6188040" y="358776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6141960" y="3700440"/>
                <a:ext cx="75960" cy="228600"/>
                <a:chOff x="6141960" y="3700440"/>
                <a:chExt cx="75960" cy="2286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6141960" y="37004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141960" y="38530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6243120" y="3573360"/>
                <a:ext cx="228600" cy="76320"/>
                <a:chOff x="6243120" y="3573360"/>
                <a:chExt cx="228600" cy="76320"/>
              </a:xfrm>
            </p:grpSpPr>
            <p:sp>
              <p:nvSpPr>
                <p:cNvPr id="128" name=""/>
                <p:cNvSpPr/>
                <p:nvPr/>
              </p:nvSpPr>
              <p:spPr>
                <a:xfrm rot="5400000">
                  <a:off x="6395400" y="35733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5400000">
                  <a:off x="6242760" y="35733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6243120" y="3967200"/>
                <a:ext cx="228600" cy="75960"/>
                <a:chOff x="6243120" y="3967200"/>
                <a:chExt cx="228600" cy="75960"/>
              </a:xfrm>
            </p:grpSpPr>
            <p:sp>
              <p:nvSpPr>
                <p:cNvPr id="131" name=""/>
                <p:cNvSpPr/>
                <p:nvPr/>
              </p:nvSpPr>
              <p:spPr>
                <a:xfrm rot="5400000">
                  <a:off x="6395400" y="39668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rot="5400000">
                  <a:off x="6243120" y="39672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6981480" y="3574800"/>
              <a:ext cx="398160" cy="474120"/>
              <a:chOff x="6981480" y="3574800"/>
              <a:chExt cx="398160" cy="474120"/>
            </a:xfrm>
          </p:grpSpPr>
          <p:sp>
            <p:nvSpPr>
              <p:cNvPr id="134" name=""/>
              <p:cNvSpPr/>
              <p:nvPr/>
            </p:nvSpPr>
            <p:spPr>
              <a:xfrm>
                <a:off x="6981480" y="35892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7303680" y="3701880"/>
                <a:ext cx="75960" cy="228600"/>
                <a:chOff x="7303680" y="3701880"/>
                <a:chExt cx="75960" cy="2286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303680" y="37018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303680" y="38545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7037280" y="3574800"/>
                <a:ext cx="227880" cy="76320"/>
                <a:chOff x="7037280" y="3574800"/>
                <a:chExt cx="227880" cy="76320"/>
              </a:xfrm>
            </p:grpSpPr>
            <p:sp>
              <p:nvSpPr>
                <p:cNvPr id="139" name=""/>
                <p:cNvSpPr/>
                <p:nvPr/>
              </p:nvSpPr>
              <p:spPr>
                <a:xfrm rot="5400000">
                  <a:off x="7188840" y="35748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rot="5400000">
                  <a:off x="7036920" y="35751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7037280" y="3968640"/>
                <a:ext cx="227880" cy="76320"/>
                <a:chOff x="7037280" y="3968640"/>
                <a:chExt cx="227880" cy="76320"/>
              </a:xfrm>
            </p:grpSpPr>
            <p:sp>
              <p:nvSpPr>
                <p:cNvPr id="142" name=""/>
                <p:cNvSpPr/>
                <p:nvPr/>
              </p:nvSpPr>
              <p:spPr>
                <a:xfrm rot="5400000">
                  <a:off x="7188840" y="3968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rot="5400000">
                  <a:off x="7036920" y="39690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4" name=""/>
            <p:cNvSpPr/>
            <p:nvPr/>
          </p:nvSpPr>
          <p:spPr>
            <a:xfrm>
              <a:off x="6540480" y="3809880"/>
              <a:ext cx="4572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365800" y="3876480"/>
            <a:ext cx="2821680" cy="851040"/>
            <a:chOff x="5365800" y="3876480"/>
            <a:chExt cx="2821680" cy="851040"/>
          </a:xfrm>
        </p:grpSpPr>
        <p:sp>
          <p:nvSpPr>
            <p:cNvPr id="146" name=""/>
            <p:cNvSpPr/>
            <p:nvPr/>
          </p:nvSpPr>
          <p:spPr>
            <a:xfrm>
              <a:off x="5365800" y="4359240"/>
              <a:ext cx="282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Enlace covalente si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762600" y="3876480"/>
              <a:ext cx="0" cy="5331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"/>
          <p:cNvGrpSpPr/>
          <p:nvPr/>
        </p:nvGrpSpPr>
        <p:grpSpPr>
          <a:xfrm>
            <a:off x="395280" y="5478480"/>
            <a:ext cx="1594080" cy="1049760"/>
            <a:chOff x="395280" y="5478480"/>
            <a:chExt cx="1594080" cy="1049760"/>
          </a:xfrm>
        </p:grpSpPr>
        <p:sp>
          <p:nvSpPr>
            <p:cNvPr id="742" name=""/>
            <p:cNvSpPr/>
            <p:nvPr/>
          </p:nvSpPr>
          <p:spPr>
            <a:xfrm>
              <a:off x="395280" y="5478480"/>
              <a:ext cx="132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val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86000" y="6129360"/>
              <a:ext cx="150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parte e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1919160" y="5516640"/>
            <a:ext cx="4308120" cy="936360"/>
            <a:chOff x="1919160" y="5516640"/>
            <a:chExt cx="4308120" cy="936360"/>
          </a:xfrm>
        </p:grpSpPr>
        <p:sp>
          <p:nvSpPr>
            <p:cNvPr id="745" name=""/>
            <p:cNvSpPr/>
            <p:nvPr/>
          </p:nvSpPr>
          <p:spPr>
            <a:xfrm>
              <a:off x="3357000" y="5516640"/>
              <a:ext cx="199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valente Pol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935800" y="6054120"/>
              <a:ext cx="329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ferencia parcial de e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919160" y="5986440"/>
              <a:ext cx="120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7088760" y="54370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727680" y="6014880"/>
            <a:ext cx="19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encia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789520" y="59212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1476360" y="4638600"/>
            <a:ext cx="6019560" cy="446040"/>
            <a:chOff x="1476360" y="4638600"/>
            <a:chExt cx="6019560" cy="446040"/>
          </a:xfrm>
        </p:grpSpPr>
        <p:sp>
          <p:nvSpPr>
            <p:cNvPr id="752" name=""/>
            <p:cNvSpPr/>
            <p:nvPr/>
          </p:nvSpPr>
          <p:spPr>
            <a:xfrm>
              <a:off x="1476360" y="5084640"/>
              <a:ext cx="6019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018520" y="4638600"/>
              <a:ext cx="524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                  Electronegatividad                     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1420920" y="260280"/>
            <a:ext cx="635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ificación de los enlaces por electronega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738600" y="144000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253200" y="144000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po de en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224240" y="2048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583320" y="204804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al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087800" y="2523960"/>
            <a:ext cx="59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17320" y="252396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831120" y="2979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&lt; y &lt;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259680" y="298116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alente P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rcRect l="0" t="2087" r="0" b="0"/>
          <a:stretch/>
        </p:blipFill>
        <p:spPr>
          <a:xfrm>
            <a:off x="136440" y="782640"/>
            <a:ext cx="293688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43760" y="333360"/>
            <a:ext cx="74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oble enl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os átomos comparten dos pares de electr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1052640"/>
            <a:ext cx="74167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jemplo: O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:  1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2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6 e de valencia, debe adquirir 2 y compartir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411280" y="2205000"/>
            <a:ext cx="3745080" cy="6192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43040" y="3716280"/>
            <a:ext cx="741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iple enl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os átomos comparten tres pares de electr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6720" y="4365720"/>
            <a:ext cx="7344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jemplo: N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:  1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2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5 e de valencia, debe adquirir 3 compartir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340000" y="5481720"/>
            <a:ext cx="4103640" cy="6523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461600" y="3032280"/>
            <a:ext cx="57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re los dos átomos de O hay </a:t>
            </a:r>
            <a:r>
              <a:rPr b="1" i="1" lang="es-ES_tradnl" sz="2000" spc="-1" strike="noStrike">
                <a:solidFill>
                  <a:srgbClr val="3333cc"/>
                </a:solidFill>
                <a:latin typeface="Arial"/>
              </a:rPr>
              <a:t>un enlace dobl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58000" y="6272280"/>
            <a:ext cx="556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re los dos átomos de N hay </a:t>
            </a:r>
            <a:r>
              <a:rPr b="1" i="1" lang="es-ES_tradnl" sz="2000" spc="-1" strike="noStrike">
                <a:solidFill>
                  <a:srgbClr val="3333cc"/>
                </a:solidFill>
                <a:latin typeface="Arial"/>
              </a:rPr>
              <a:t>un enlace tri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11080" y="2276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8000" y="55897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771640" y="404640"/>
            <a:ext cx="37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oléculas poliató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1052640"/>
            <a:ext cx="84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jemplo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scribir las estructuras de Lewis de las moléculas formadas por la combinación binaria de F con H, O, N y 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91628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ectrones de valencia de F = 7  debe compartir 1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ectró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por lo tanto forma solo un enl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8080" y="2708280"/>
            <a:ext cx="531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: 1 e de valencia; debe compartir 1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ectró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313000" y="3124080"/>
            <a:ext cx="3887640" cy="592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98160" y="3789360"/>
            <a:ext cx="71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: 1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2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:6 e de valencia, debe compartir dos electr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266920" y="4221000"/>
            <a:ext cx="4824360" cy="555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8560" y="32130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8560" y="429264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2520" y="5048280"/>
            <a:ext cx="70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: 1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2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5 e de valencia, debe compartir tres electr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338560" y="5567400"/>
            <a:ext cx="4824360" cy="10587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10200" y="58770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42000" y="323064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H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8960" y="4327560"/>
            <a:ext cx="616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OF</a:t>
            </a:r>
            <a:r>
              <a:rPr b="1" lang="es-ES_tradnl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42280" y="5877000"/>
            <a:ext cx="60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NF</a:t>
            </a:r>
            <a:r>
              <a:rPr b="1" lang="es-ES_tradnl" sz="20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50920" y="33336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: 1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2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;4 e de valencia, debe compartir cuatro electr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1360" y="13032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26480" y="1268280"/>
            <a:ext cx="60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CF</a:t>
            </a:r>
            <a:r>
              <a:rPr b="1" lang="es-ES_tradnl" sz="2000" spc="-1" strike="noStrike" baseline="-25000">
                <a:solidFill>
                  <a:srgbClr val="ff33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195640" y="836640"/>
            <a:ext cx="4392360" cy="13748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16000" y="2349360"/>
            <a:ext cx="87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observa que en general se forman tantos enlaces como sean necesarios para que el átomo quede rodeado por una capa de ocho electr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3429000"/>
            <a:ext cx="8713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n embargo, el amoníaco, N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 reacciona con un protón, H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para formar el ión amonio, N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981080" y="4365720"/>
            <a:ext cx="4535640" cy="14857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948360" y="487836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NH</a:t>
            </a:r>
            <a:r>
              <a:rPr b="1" lang="es-ES_tradnl" sz="2000" spc="-1" strike="noStrike" baseline="-25000">
                <a:solidFill>
                  <a:srgbClr val="ff3300"/>
                </a:solidFill>
                <a:latin typeface="Arial"/>
              </a:rPr>
              <a:t>4</a:t>
            </a:r>
            <a:r>
              <a:rPr b="1" lang="es-ES_tradnl" sz="20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6237360"/>
            <a:ext cx="799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os casos hacen necesario introducir el concepto de 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carga form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24000" y="1130400"/>
            <a:ext cx="849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arga formal de un át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úmero de electrones de valencia en el átomo libre (número del grupo al que pertenece)  - número de electrones solitarios sobre el átomo - número de enlaces del áto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3075120"/>
            <a:ext cx="849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ga formal sobre el H = 1 – 0 - 1 = 0.  Carga formal sobre el N = 5 – 0 – 4 = +1.  La estructura de Lewis debe incluir las cargas formales.  De tal manera que la estructura de Lewis correcta para el amoniaco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948120" y="4441680"/>
            <a:ext cx="163188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08000" y="189000"/>
            <a:ext cx="89647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mplos:  a)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H ; b)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 átomo central de una estructura (con enlaces covalentes) debe ser el átomo más electropositivo.  Los átomos de H ocupan siempre posiciones termin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8000" y="1557360"/>
            <a:ext cx="8964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)  El átomo central es el carbono, 4 enl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 oxígeno, con dos enlaces, debe estar unido al átomo central y a un hidrógen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s otros tres hidrógenos forman con el átomo central el resto de los cuatro enla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8000" y="3875040"/>
            <a:ext cx="8964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)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ay dos átomos de C que deben ser tomados como los dos centr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o de ellos debe ser una estructura -CH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omo en el ejercicio anterior.  Se dispone de 3 átomos para este grupo, C, O, H con 5 pares de electrones (3 de C, 6 de O y 1 de H). La unión mediante enlace entre el O y el H llevaría al incumplimiento de la regla del C o del O.  La existencia de un doble enlace C=O es la solu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92720" y="6021360"/>
            <a:ext cx="40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s cargas formales son todas ce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1368360" cy="9334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95280" y="5602320"/>
            <a:ext cx="3816360" cy="10476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843280" y="3213000"/>
            <a:ext cx="40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s cargas formales son todas ce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50920" y="1197000"/>
            <a:ext cx="81532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-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tar numero total de electrones de valencia =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e</a:t>
            </a:r>
            <a:r>
              <a:rPr b="0" lang="es-ES" sz="2000" spc="-1" strike="noStrike" baseline="-30000">
                <a:solidFill>
                  <a:srgbClr val="ff0000"/>
                </a:solidFill>
                <a:latin typeface="Arial"/>
                <a:ea typeface="Times New Roman"/>
              </a:rPr>
              <a:t>valenc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380880"/>
            <a:ext cx="8137440" cy="398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GLAS PARA ESCRIBIR UNA ESTRUCTURA DE LEWI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0480" y="5805360"/>
            <a:ext cx="79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.-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pletar la estructura con las cargas formales de cada áto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6440" y="5229360"/>
            <a:ext cx="851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.-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pletar con  electrones las capas de valencia de todos los áto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2200" y="3828960"/>
            <a:ext cx="849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-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bujar estructura y situar dos electrones por cada enlace. Coloque el elemento menos electronegativo al centro.  En caso necesario se deben poner enlaces dobles o triples hasta completar el número total de enla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2746440"/>
            <a:ext cx="849600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.-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diferencia (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s-ES" sz="2000" spc="-1" strike="noStrike" baseline="-25000">
                <a:solidFill>
                  <a:srgbClr val="ff0000"/>
                </a:solidFill>
                <a:latin typeface="Arial"/>
              </a:rPr>
              <a:t>octetos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 - e</a:t>
            </a:r>
            <a:r>
              <a:rPr b="0" lang="es-ES" sz="2000" spc="-1" strike="noStrike" baseline="-25000">
                <a:solidFill>
                  <a:srgbClr val="ff0000"/>
                </a:solidFill>
                <a:latin typeface="Arial"/>
              </a:rPr>
              <a:t>valenc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nos da el número de electrones compartidos,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s-ES" sz="2000" spc="-1" strike="noStrike" baseline="-25000">
                <a:solidFill>
                  <a:srgbClr val="ff0000"/>
                </a:solidFill>
                <a:latin typeface="Arial"/>
              </a:rPr>
              <a:t>compartid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que al dividirlo por 2 nos entrega el número de enlaces,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s-ES" sz="2000" spc="-1" strike="noStrike" baseline="-25000">
                <a:solidFill>
                  <a:srgbClr val="ff0000"/>
                </a:solidFill>
                <a:latin typeface="Arial"/>
              </a:rPr>
              <a:t>enlac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que deben exist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1666800"/>
            <a:ext cx="8496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-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ar número de electrones necesarios para formar octetos de electrones en todos los átomos excepto los átomos de hidrógeno (solo dos electrones) =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s-ES" sz="2000" spc="-1" strike="noStrike" baseline="-25000">
                <a:solidFill>
                  <a:srgbClr val="ff0000"/>
                </a:solidFill>
                <a:latin typeface="Arial"/>
              </a:rPr>
              <a:t>oct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2:14:45Z</dcterms:created>
  <dc:creator>Stephanie Manzur Andreu</dc:creator>
  <dc:description/>
  <dc:language>en-US</dc:language>
  <cp:lastModifiedBy>Dpto. Cs. de los Materiales</cp:lastModifiedBy>
  <dcterms:modified xsi:type="dcterms:W3CDTF">2007-08-20T23:39:03Z</dcterms:modified>
  <cp:revision>84</cp:revision>
  <dc:subject/>
  <dc:title>Presentación de PowerPoint</dc:title>
</cp:coreProperties>
</file>