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689-5D7C-4A9B-91B1-87CCE4CF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C76-6897-4F78-A32B-1D181988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DD6-80A5-466C-A3C7-59ADC8D4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46E-BC6B-47CC-9F8C-1552B233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993-3911-473B-A201-C99547B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B32-E763-4FFC-B44E-16882F42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917-ACBA-4162-8210-54B6CDF5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E71-B547-485F-9ACF-8E9FABF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B5C-29FB-47C5-BB30-F2C521CF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CD0-5585-4FD4-8E73-57620F5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99D-FC5D-4181-8C18-7F1FE08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CC-A682-4E54-BA9F-6764358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F64-6058-432F-AB64-05F592AF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S QUÍMICOS I:  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20" y="1125360"/>
            <a:ext cx="83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urre cuando dos o más átomos comparten uno o más par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¿Por qué compartirían electrones dos áto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6720" cy="265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9440" y="3286080"/>
            <a:ext cx="4103640" cy="1977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ergía potencial del sistema será menor cuand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a muy pequeña o ambas sean pequeñas simultáneamente.  Esto es en la regió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nt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s núcleos, cuando se comparten electron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4080"/>
            <a:ext cx="856908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artición de electrones por dos núcleos es la responsable por la formación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6120" y="152280"/>
            <a:ext cx="563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ba la estructura de Lewis para el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79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4 – Dibujar la molécula. El C es menos electronegativo, pongámos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280" y="655560"/>
            <a:ext cx="75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1 – Contar los e- de valencia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y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carga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1120" y="130320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+ (3 x 6) + 2 = 24 electrones d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17352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2  -Determinar el número de electrones necesarios para formar los octe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2384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 8 electrones  +  (O) 3 x 8 electrones = 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144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3  -Determinar el número de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2479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2 – 24 = 8 electrone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0200" y="32479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/2 = 4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98280" y="4425840"/>
            <a:ext cx="2018520" cy="1272600"/>
            <a:chOff x="3698280" y="4425840"/>
            <a:chExt cx="2018520" cy="1272600"/>
          </a:xfrm>
        </p:grpSpPr>
        <p:sp>
          <p:nvSpPr>
            <p:cNvPr id="209" name=""/>
            <p:cNvSpPr/>
            <p:nvPr/>
          </p:nvSpPr>
          <p:spPr>
            <a:xfrm>
              <a:off x="36982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784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84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704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12740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976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456876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0600" y="4425840"/>
            <a:ext cx="2018520" cy="1272600"/>
            <a:chOff x="1110600" y="4425840"/>
            <a:chExt cx="2018520" cy="1272600"/>
          </a:xfrm>
        </p:grpSpPr>
        <p:sp>
          <p:nvSpPr>
            <p:cNvPr id="217" name=""/>
            <p:cNvSpPr/>
            <p:nvPr/>
          </p:nvSpPr>
          <p:spPr>
            <a:xfrm>
              <a:off x="11106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016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108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936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3972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208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81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13120" y="4425840"/>
            <a:ext cx="2018520" cy="1272600"/>
            <a:chOff x="6513120" y="4425840"/>
            <a:chExt cx="2018520" cy="1272600"/>
          </a:xfrm>
        </p:grpSpPr>
        <p:sp>
          <p:nvSpPr>
            <p:cNvPr id="225" name=""/>
            <p:cNvSpPr/>
            <p:nvPr/>
          </p:nvSpPr>
          <p:spPr>
            <a:xfrm>
              <a:off x="65131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268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33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188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4224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3424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344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425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5335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335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137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41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396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417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5433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4208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272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840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5  -Completar 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627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6  -Agregar cargas for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23120" y="152280"/>
            <a:ext cx="53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estructuras para el 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8120" y="971640"/>
            <a:ext cx="2422440" cy="398880"/>
            <a:chOff x="1068120" y="971640"/>
            <a:chExt cx="2422440" cy="398880"/>
          </a:xfrm>
        </p:grpSpPr>
        <p:sp>
          <p:nvSpPr>
            <p:cNvPr id="269" name=""/>
            <p:cNvSpPr/>
            <p:nvPr/>
          </p:nvSpPr>
          <p:spPr>
            <a:xfrm>
              <a:off x="10681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282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5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71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5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9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62520" y="692280"/>
            <a:ext cx="1740600" cy="945000"/>
            <a:chOff x="5762520" y="692280"/>
            <a:chExt cx="1740600" cy="945000"/>
          </a:xfrm>
        </p:grpSpPr>
        <p:sp>
          <p:nvSpPr>
            <p:cNvPr id="277" name=""/>
            <p:cNvSpPr/>
            <p:nvPr/>
          </p:nvSpPr>
          <p:spPr>
            <a:xfrm>
              <a:off x="5764320" y="69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364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44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2520" y="1238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140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4160" y="9241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04160" y="12412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75400" y="2173320"/>
            <a:ext cx="2457360" cy="459720"/>
            <a:chOff x="1175400" y="2173320"/>
            <a:chExt cx="2457360" cy="459720"/>
          </a:xfrm>
        </p:grpSpPr>
        <p:sp>
          <p:nvSpPr>
            <p:cNvPr id="285" name=""/>
            <p:cNvSpPr/>
            <p:nvPr/>
          </p:nvSpPr>
          <p:spPr>
            <a:xfrm>
              <a:off x="117540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436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4400" y="2173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244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3000" y="24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0160" y="2401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935360" y="2173320"/>
              <a:ext cx="227880" cy="75960"/>
              <a:chOff x="1935360" y="2173320"/>
              <a:chExt cx="227880" cy="7596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20872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19350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21160" y="2173320"/>
              <a:ext cx="227880" cy="75960"/>
              <a:chOff x="2621160" y="2173320"/>
              <a:chExt cx="227880" cy="75960"/>
            </a:xfrm>
          </p:grpSpPr>
          <p:sp>
            <p:nvSpPr>
              <p:cNvPr id="295" name=""/>
              <p:cNvSpPr/>
              <p:nvPr/>
            </p:nvSpPr>
            <p:spPr>
              <a:xfrm rot="5400000">
                <a:off x="27730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400000">
                <a:off x="26208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201760" y="2363760"/>
              <a:ext cx="380520" cy="75960"/>
              <a:chOff x="2201760" y="2363760"/>
              <a:chExt cx="380520" cy="7596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1760" y="23637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1760" y="243972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1792440" y="1695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8240" y="1695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64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63760" y="2252520"/>
            <a:ext cx="1143000" cy="304920"/>
            <a:chOff x="1463760" y="2252520"/>
            <a:chExt cx="1143000" cy="304920"/>
          </a:xfrm>
        </p:grpSpPr>
        <p:sp>
          <p:nvSpPr>
            <p:cNvPr id="304" name=""/>
            <p:cNvSpPr/>
            <p:nvPr/>
          </p:nvSpPr>
          <p:spPr>
            <a:xfrm>
              <a:off x="14637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49560" y="2252520"/>
            <a:ext cx="1143000" cy="304920"/>
            <a:chOff x="2149560" y="2252520"/>
            <a:chExt cx="1143000" cy="304920"/>
          </a:xfrm>
        </p:grpSpPr>
        <p:sp>
          <p:nvSpPr>
            <p:cNvPr id="308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53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650560" y="1911240"/>
            <a:ext cx="1779480" cy="1005840"/>
            <a:chOff x="5650560" y="1911240"/>
            <a:chExt cx="1779480" cy="1005840"/>
          </a:xfrm>
        </p:grpSpPr>
        <p:grpSp>
          <p:nvGrpSpPr>
            <p:cNvPr id="311" name=""/>
            <p:cNvGrpSpPr/>
            <p:nvPr/>
          </p:nvGrpSpPr>
          <p:grpSpPr>
            <a:xfrm>
              <a:off x="7108920" y="2190600"/>
              <a:ext cx="228600" cy="76320"/>
              <a:chOff x="7108920" y="2190600"/>
              <a:chExt cx="228600" cy="763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7108920" y="219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7261200" y="2190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652360" y="191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1680" y="21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1720" y="2190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0560" y="24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8720" y="2393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1480" y="219060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1480" y="25077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7280" y="2457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08920" y="2571480"/>
              <a:ext cx="228600" cy="76320"/>
              <a:chOff x="7108920" y="2571480"/>
              <a:chExt cx="228600" cy="76320"/>
            </a:xfrm>
          </p:grpSpPr>
          <p:sp>
            <p:nvSpPr>
              <p:cNvPr id="323" name=""/>
              <p:cNvSpPr/>
              <p:nvPr/>
            </p:nvSpPr>
            <p:spPr>
              <a:xfrm rot="16200000">
                <a:off x="710892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6200000">
                <a:off x="7261200" y="2571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308640" y="224964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927760" y="1982880"/>
            <a:ext cx="1206000" cy="838080"/>
            <a:chOff x="5927760" y="1982880"/>
            <a:chExt cx="1206000" cy="838080"/>
          </a:xfrm>
        </p:grpSpPr>
        <p:sp>
          <p:nvSpPr>
            <p:cNvPr id="327" name=""/>
            <p:cNvSpPr/>
            <p:nvPr/>
          </p:nvSpPr>
          <p:spPr>
            <a:xfrm>
              <a:off x="5927760" y="198288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27760" y="236376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600" y="217332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94440" y="2170080"/>
            <a:ext cx="457200" cy="533520"/>
            <a:chOff x="6994440" y="2170080"/>
            <a:chExt cx="457200" cy="533520"/>
          </a:xfrm>
        </p:grpSpPr>
        <p:sp>
          <p:nvSpPr>
            <p:cNvPr id="331" name=""/>
            <p:cNvSpPr/>
            <p:nvPr/>
          </p:nvSpPr>
          <p:spPr>
            <a:xfrm>
              <a:off x="6994440" y="2170080"/>
              <a:ext cx="457200" cy="15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4440" y="2550960"/>
              <a:ext cx="457200" cy="15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224964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676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4880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2924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structuras de Lewis con elementos cuya carga es elevada, son menos comunes que aquellas con una carga pequeñ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37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estructura de Lewis, los átomos cuya carga es negativa, por lo general se colocan con los elementos más electroneg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840" y="4581360"/>
            <a:ext cx="56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uál es la estructura correcta para el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73800" y="5286240"/>
            <a:ext cx="2457360" cy="953280"/>
            <a:chOff x="973800" y="5286240"/>
            <a:chExt cx="2457360" cy="953280"/>
          </a:xfrm>
        </p:grpSpPr>
        <p:grpSp>
          <p:nvGrpSpPr>
            <p:cNvPr id="340" name=""/>
            <p:cNvGrpSpPr/>
            <p:nvPr/>
          </p:nvGrpSpPr>
          <p:grpSpPr>
            <a:xfrm>
              <a:off x="973800" y="5779800"/>
              <a:ext cx="2457360" cy="459720"/>
              <a:chOff x="973800" y="5779800"/>
              <a:chExt cx="2457360" cy="45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97380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276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800" y="5779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3084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400" y="6008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98560" y="6008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733760" y="5779800"/>
                <a:ext cx="227880" cy="75960"/>
                <a:chOff x="1733760" y="5779800"/>
                <a:chExt cx="227880" cy="75960"/>
              </a:xfrm>
            </p:grpSpPr>
            <p:sp>
              <p:nvSpPr>
                <p:cNvPr id="348" name=""/>
                <p:cNvSpPr/>
                <p:nvPr/>
              </p:nvSpPr>
              <p:spPr>
                <a:xfrm rot="5400000">
                  <a:off x="18856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400000">
                  <a:off x="17334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19560" y="5779800"/>
                <a:ext cx="227880" cy="75960"/>
                <a:chOff x="2419560" y="5779800"/>
                <a:chExt cx="22788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 rot="5400000">
                  <a:off x="25714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24192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00160" y="5970240"/>
                <a:ext cx="380520" cy="75960"/>
                <a:chOff x="2000160" y="5970240"/>
                <a:chExt cx="380520" cy="7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00160" y="597024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00160" y="6046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590840" y="5286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528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56840" y="5241960"/>
            <a:ext cx="1779480" cy="1145520"/>
            <a:chOff x="5856840" y="5241960"/>
            <a:chExt cx="1779480" cy="1145520"/>
          </a:xfrm>
        </p:grpSpPr>
        <p:grpSp>
          <p:nvGrpSpPr>
            <p:cNvPr id="359" name=""/>
            <p:cNvGrpSpPr/>
            <p:nvPr/>
          </p:nvGrpSpPr>
          <p:grpSpPr>
            <a:xfrm>
              <a:off x="5856840" y="5381640"/>
              <a:ext cx="1779480" cy="1005840"/>
              <a:chOff x="5856840" y="5381640"/>
              <a:chExt cx="1779480" cy="10058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315200" y="5661000"/>
                <a:ext cx="228600" cy="76320"/>
                <a:chOff x="7315200" y="5661000"/>
                <a:chExt cx="228600" cy="76320"/>
              </a:xfrm>
            </p:grpSpPr>
            <p:sp>
              <p:nvSpPr>
                <p:cNvPr id="361" name=""/>
                <p:cNvSpPr/>
                <p:nvPr/>
              </p:nvSpPr>
              <p:spPr>
                <a:xfrm rot="16200000">
                  <a:off x="7315200" y="5661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467480" y="5661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5858640" y="538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796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000" y="5661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6840" y="592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5000" y="58640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7760" y="566100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197760" y="59781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83560" y="592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15200" y="6041880"/>
                <a:ext cx="228600" cy="76320"/>
                <a:chOff x="7315200" y="6041880"/>
                <a:chExt cx="228600" cy="76320"/>
              </a:xfrm>
            </p:grpSpPr>
            <p:sp>
              <p:nvSpPr>
                <p:cNvPr id="372" name=""/>
                <p:cNvSpPr/>
                <p:nvPr/>
              </p:nvSpPr>
              <p:spPr>
                <a:xfrm rot="16200000">
                  <a:off x="7315200" y="604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200000">
                  <a:off x="7467480" y="6041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659340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5544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26080" y="5013360"/>
            <a:ext cx="23623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1386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reson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rre cuando se requiere más de una estructura de Lewis para representar una molécula, ya que una sola no da cuenta de su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880" y="3506760"/>
            <a:ext cx="2448360" cy="1475640"/>
            <a:chOff x="191880" y="3506760"/>
            <a:chExt cx="2448360" cy="1475640"/>
          </a:xfrm>
        </p:grpSpPr>
        <p:grpSp>
          <p:nvGrpSpPr>
            <p:cNvPr id="381" name=""/>
            <p:cNvGrpSpPr/>
            <p:nvPr/>
          </p:nvGrpSpPr>
          <p:grpSpPr>
            <a:xfrm>
              <a:off x="380880" y="3684600"/>
              <a:ext cx="2044800" cy="1297800"/>
              <a:chOff x="380880" y="3684600"/>
              <a:chExt cx="2044800" cy="1297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93120" y="3709800"/>
                <a:ext cx="2018520" cy="1272600"/>
                <a:chOff x="393120" y="3709800"/>
                <a:chExt cx="2018520" cy="12726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26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933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818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4124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793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35072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094840" y="3684600"/>
                <a:ext cx="228600" cy="76320"/>
                <a:chOff x="2094840" y="3684600"/>
                <a:chExt cx="22860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22471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20944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49360" y="3824280"/>
                <a:ext cx="76320" cy="228600"/>
                <a:chOff x="2349360" y="3824280"/>
                <a:chExt cx="76320" cy="228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349360" y="38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49360" y="3976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094840" y="4103640"/>
                <a:ext cx="228600" cy="76320"/>
                <a:chOff x="2094840" y="4103640"/>
                <a:chExt cx="228600" cy="76320"/>
              </a:xfrm>
            </p:grpSpPr>
            <p:sp>
              <p:nvSpPr>
                <p:cNvPr id="397" name=""/>
                <p:cNvSpPr/>
                <p:nvPr/>
              </p:nvSpPr>
              <p:spPr>
                <a:xfrm rot="5400000">
                  <a:off x="22471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0944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155600" y="4637160"/>
                <a:ext cx="75960" cy="228600"/>
                <a:chOff x="1155600" y="4637160"/>
                <a:chExt cx="75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15560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5560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536480" y="4637160"/>
                <a:ext cx="76320" cy="228600"/>
                <a:chOff x="1536480" y="4637160"/>
                <a:chExt cx="76320" cy="228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3648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3648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9800" y="3684600"/>
                <a:ext cx="228600" cy="76320"/>
                <a:chOff x="469800" y="3684600"/>
                <a:chExt cx="228600" cy="76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6200000">
                  <a:off x="46980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6200000">
                  <a:off x="621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880" y="3823920"/>
                <a:ext cx="75960" cy="228600"/>
                <a:chOff x="380880" y="3823920"/>
                <a:chExt cx="75960" cy="228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0800000">
                  <a:off x="380520" y="397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rot="10800000">
                  <a:off x="380520" y="3823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69800" y="4103640"/>
                <a:ext cx="228600" cy="76320"/>
                <a:chOff x="469800" y="4103640"/>
                <a:chExt cx="228600" cy="763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rot="16200000">
                  <a:off x="46980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6200000">
                  <a:off x="621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V="1">
                <a:off x="142236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918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572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55360" y="3506760"/>
            <a:ext cx="2234520" cy="1653480"/>
            <a:chOff x="3555360" y="3506760"/>
            <a:chExt cx="2234520" cy="1653480"/>
          </a:xfrm>
        </p:grpSpPr>
        <p:grpSp>
          <p:nvGrpSpPr>
            <p:cNvPr id="418" name=""/>
            <p:cNvGrpSpPr/>
            <p:nvPr/>
          </p:nvGrpSpPr>
          <p:grpSpPr>
            <a:xfrm>
              <a:off x="3555360" y="3684600"/>
              <a:ext cx="2032560" cy="1297800"/>
              <a:chOff x="3555360" y="3684600"/>
              <a:chExt cx="2032560" cy="12978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431960" y="4890960"/>
                <a:ext cx="228600" cy="76320"/>
                <a:chOff x="4431960" y="4890960"/>
                <a:chExt cx="228600" cy="7632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458424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443160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555360" y="3709800"/>
                <a:ext cx="2018520" cy="1272600"/>
                <a:chOff x="3555360" y="3709800"/>
                <a:chExt cx="2018520" cy="1272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553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5492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1555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4412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90384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19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56408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257440" y="3684600"/>
                <a:ext cx="228600" cy="76320"/>
                <a:chOff x="5257440" y="3684600"/>
                <a:chExt cx="228600" cy="76320"/>
              </a:xfrm>
            </p:grpSpPr>
            <p:sp>
              <p:nvSpPr>
                <p:cNvPr id="431" name=""/>
                <p:cNvSpPr/>
                <p:nvPr/>
              </p:nvSpPr>
              <p:spPr>
                <a:xfrm rot="5400000">
                  <a:off x="54097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5400000">
                  <a:off x="52570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11960" y="3824280"/>
                <a:ext cx="75960" cy="228600"/>
                <a:chOff x="5511960" y="3824280"/>
                <a:chExt cx="75960" cy="228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1196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1196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57440" y="4103640"/>
                <a:ext cx="228600" cy="76320"/>
                <a:chOff x="5257440" y="4103640"/>
                <a:chExt cx="228600" cy="76320"/>
              </a:xfrm>
            </p:grpSpPr>
            <p:sp>
              <p:nvSpPr>
                <p:cNvPr id="437" name=""/>
                <p:cNvSpPr/>
                <p:nvPr/>
              </p:nvSpPr>
              <p:spPr>
                <a:xfrm rot="5400000">
                  <a:off x="54097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5400000">
                  <a:off x="52570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317840" y="4637160"/>
                <a:ext cx="76320" cy="228600"/>
                <a:chOff x="4317840" y="4637160"/>
                <a:chExt cx="76320" cy="228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31784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1784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99080" y="4637160"/>
                <a:ext cx="75960" cy="228600"/>
                <a:chOff x="4699080" y="4637160"/>
                <a:chExt cx="75960" cy="228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9908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32040" y="3684600"/>
                <a:ext cx="228600" cy="76320"/>
                <a:chOff x="3632040" y="3684600"/>
                <a:chExt cx="228600" cy="7632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16200000">
                  <a:off x="363204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6200000">
                  <a:off x="378396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32040" y="4103640"/>
                <a:ext cx="228600" cy="76320"/>
                <a:chOff x="3632040" y="4103640"/>
                <a:chExt cx="228600" cy="7632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rot="16200000">
                  <a:off x="363204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6200000">
                  <a:off x="378396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391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50692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2080" y="3506760"/>
            <a:ext cx="2213280" cy="1653480"/>
            <a:chOff x="6472080" y="3506760"/>
            <a:chExt cx="2213280" cy="1653480"/>
          </a:xfrm>
        </p:grpSpPr>
        <p:grpSp>
          <p:nvGrpSpPr>
            <p:cNvPr id="455" name=""/>
            <p:cNvGrpSpPr/>
            <p:nvPr/>
          </p:nvGrpSpPr>
          <p:grpSpPr>
            <a:xfrm>
              <a:off x="6652800" y="3684600"/>
              <a:ext cx="2032560" cy="1297800"/>
              <a:chOff x="6652800" y="3684600"/>
              <a:chExt cx="2032560" cy="1297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580160" y="4890960"/>
                <a:ext cx="228600" cy="76320"/>
                <a:chOff x="7580160" y="4890960"/>
                <a:chExt cx="228600" cy="763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6200000">
                  <a:off x="758016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6200000">
                  <a:off x="773208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66840" y="3709800"/>
                <a:ext cx="2018520" cy="1272600"/>
                <a:chOff x="6666840" y="3709800"/>
                <a:chExt cx="2018520" cy="12726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82670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74854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66668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74782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787968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04160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67664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54680" y="3684600"/>
                <a:ext cx="228600" cy="76320"/>
                <a:chOff x="6754680" y="3684600"/>
                <a:chExt cx="228600" cy="76320"/>
              </a:xfrm>
            </p:grpSpPr>
            <p:sp>
              <p:nvSpPr>
                <p:cNvPr id="468" name=""/>
                <p:cNvSpPr/>
                <p:nvPr/>
              </p:nvSpPr>
              <p:spPr>
                <a:xfrm flipH="1" rot="16200000">
                  <a:off x="675468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6200000">
                  <a:off x="690660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652800" y="3824280"/>
                <a:ext cx="75960" cy="228600"/>
                <a:chOff x="6652800" y="3824280"/>
                <a:chExt cx="75960" cy="2286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665244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65244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54680" y="4103640"/>
                <a:ext cx="228600" cy="76320"/>
                <a:chOff x="6754680" y="4103640"/>
                <a:chExt cx="228600" cy="76320"/>
              </a:xfrm>
            </p:grpSpPr>
            <p:sp>
              <p:nvSpPr>
                <p:cNvPr id="474" name=""/>
                <p:cNvSpPr/>
                <p:nvPr/>
              </p:nvSpPr>
              <p:spPr>
                <a:xfrm flipH="1" rot="16200000">
                  <a:off x="675468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6200000">
                  <a:off x="690660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846560" y="4637160"/>
                <a:ext cx="76320" cy="228600"/>
                <a:chOff x="7846560" y="4637160"/>
                <a:chExt cx="76320" cy="22860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784656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784656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465680" y="4637160"/>
                <a:ext cx="75960" cy="228600"/>
                <a:chOff x="7465680" y="4637160"/>
                <a:chExt cx="75960" cy="2286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746532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746532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8380080" y="3684600"/>
                <a:ext cx="228600" cy="76320"/>
                <a:chOff x="8380080" y="3684600"/>
                <a:chExt cx="228600" cy="76320"/>
              </a:xfrm>
            </p:grpSpPr>
            <p:sp>
              <p:nvSpPr>
                <p:cNvPr id="483" name=""/>
                <p:cNvSpPr/>
                <p:nvPr/>
              </p:nvSpPr>
              <p:spPr>
                <a:xfrm rot="5400000">
                  <a:off x="853236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5400000">
                  <a:off x="8379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380080" y="4103640"/>
                <a:ext cx="228600" cy="76320"/>
                <a:chOff x="8380080" y="4103640"/>
                <a:chExt cx="228600" cy="7632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853236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8379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flipH="1">
                <a:off x="787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4720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552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50920" y="270972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s res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380880"/>
            <a:ext cx="8280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ribir la/s estructura/s de Lewis del anión perclorato, Cl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907920"/>
            <a:ext cx="74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l es el átomo central, los O son los átomos perifé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24000" y="1484280"/>
          <a:ext cx="446544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4654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324000" y="4437000"/>
          <a:ext cx="201600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437000"/>
                    <a:ext cx="20160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276720" y="4640400"/>
          <a:ext cx="561636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40400"/>
                    <a:ext cx="56163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84360" y="4941720"/>
          <a:ext cx="67644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941720"/>
                    <a:ext cx="676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203640" y="623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S RESON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757520"/>
            <a:ext cx="85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zufre forma compuestos donde queda rodeado por un número mayor a ocho electrones. Ejemplo: Hexafluoruro de azufre, S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S con seis enlaces doce electrones en la capa de valencia.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3152880"/>
            <a:ext cx="856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 y el P pertenecen al mismo grupo igual nº electrones de valencia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oelectrónicas igual estructura de Lew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el fósforo forma además el Pentafluoruro de fósforo,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 con cinco enlaces: diez electrones en la capa de valencia. 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4933800"/>
            <a:ext cx="4135320" cy="1860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43280" y="4933800"/>
            <a:ext cx="4176720" cy="1879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55640" y="981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hipervalentes (octetos expand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4720" y="18900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 de la regla del oc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96880" y="552600"/>
            <a:ext cx="79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con átomos con octetos incompletos (hipoval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413000"/>
            <a:ext cx="78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(y todos los elementos de su grupo),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lo tiene 3 electrones de valencia. Solo tiene 3 electrones para compartir.  Caso trifluoruro de Boro: B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3360" y="3933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solo está rodeado por 6 e y no por 8. Tiene la posibilidad de aceptar 2e de un par solitario de otro átomo, de uno de los F, del N del amoniaco...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824720" cy="10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075280" y="5013360"/>
            <a:ext cx="2376360" cy="1625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187280" y="5046840"/>
            <a:ext cx="2951280" cy="164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080600" y="1609560"/>
            <a:ext cx="2024280" cy="459720"/>
            <a:chOff x="4080600" y="1609560"/>
            <a:chExt cx="2024280" cy="459720"/>
          </a:xfrm>
        </p:grpSpPr>
        <p:sp>
          <p:nvSpPr>
            <p:cNvPr id="519" name=""/>
            <p:cNvSpPr/>
            <p:nvPr/>
          </p:nvSpPr>
          <p:spPr>
            <a:xfrm>
              <a:off x="408060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456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7160" y="1609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11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85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39320" y="1268280"/>
            <a:ext cx="1629000" cy="1194840"/>
            <a:chOff x="1939320" y="1268280"/>
            <a:chExt cx="1629000" cy="1194840"/>
          </a:xfrm>
        </p:grpSpPr>
        <p:sp>
          <p:nvSpPr>
            <p:cNvPr id="525" name=""/>
            <p:cNvSpPr/>
            <p:nvPr/>
          </p:nvSpPr>
          <p:spPr>
            <a:xfrm>
              <a:off x="2270520" y="1268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 – 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9320" y="16095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H – 2x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4960" y="202860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9800" y="2003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78080" y="160956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90840" y="1685880"/>
            <a:ext cx="1574640" cy="317520"/>
            <a:chOff x="4290840" y="1685880"/>
            <a:chExt cx="1574640" cy="317520"/>
          </a:xfrm>
        </p:grpSpPr>
        <p:sp>
          <p:nvSpPr>
            <p:cNvPr id="531" name=""/>
            <p:cNvSpPr/>
            <p:nvPr/>
          </p:nvSpPr>
          <p:spPr>
            <a:xfrm>
              <a:off x="4290840" y="1685880"/>
              <a:ext cx="6858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9680" y="1698480"/>
              <a:ext cx="6858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1"/>
          <a:srcRect l="0" t="46253" r="0" b="16252"/>
          <a:stretch/>
        </p:blipFill>
        <p:spPr>
          <a:xfrm>
            <a:off x="6300720" y="1484280"/>
            <a:ext cx="2484360" cy="698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29973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con electrone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22520" y="3862440"/>
            <a:ext cx="1523880" cy="1194840"/>
            <a:chOff x="1622520" y="3862440"/>
            <a:chExt cx="1523880" cy="1194840"/>
          </a:xfrm>
        </p:grpSpPr>
        <p:sp>
          <p:nvSpPr>
            <p:cNvPr id="536" name=""/>
            <p:cNvSpPr/>
            <p:nvPr/>
          </p:nvSpPr>
          <p:spPr>
            <a:xfrm>
              <a:off x="2001960" y="386244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– 5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5040" y="420372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22520" y="46227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91480" y="459756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80960" y="420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54880" y="4206960"/>
            <a:ext cx="1271160" cy="466560"/>
            <a:chOff x="3854880" y="4206960"/>
            <a:chExt cx="1271160" cy="466560"/>
          </a:xfrm>
        </p:grpSpPr>
        <p:sp>
          <p:nvSpPr>
            <p:cNvPr id="542" name=""/>
            <p:cNvSpPr/>
            <p:nvPr/>
          </p:nvSpPr>
          <p:spPr>
            <a:xfrm>
              <a:off x="3854880" y="4206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7720" y="420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213080" y="4392360"/>
              <a:ext cx="539640" cy="88920"/>
              <a:chOff x="4213080" y="4392360"/>
              <a:chExt cx="539640" cy="88920"/>
            </a:xfrm>
          </p:grpSpPr>
          <p:sp>
            <p:nvSpPr>
              <p:cNvPr id="545" name=""/>
              <p:cNvSpPr/>
              <p:nvPr/>
            </p:nvSpPr>
            <p:spPr>
              <a:xfrm>
                <a:off x="4219200" y="43923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13080" y="4481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95200" y="4216320"/>
              <a:ext cx="228600" cy="76320"/>
              <a:chOff x="4795200" y="4216320"/>
              <a:chExt cx="228600" cy="763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494748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479484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5400000">
              <a:off x="4046400" y="459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795200" y="4559400"/>
              <a:ext cx="228600" cy="75960"/>
              <a:chOff x="4795200" y="4559400"/>
              <a:chExt cx="228600" cy="7596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4947480" y="4559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4795200" y="455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931560" y="4216320"/>
              <a:ext cx="228600" cy="76320"/>
              <a:chOff x="3931560" y="4216320"/>
              <a:chExt cx="228600" cy="76320"/>
            </a:xfrm>
          </p:grpSpPr>
          <p:sp>
            <p:nvSpPr>
              <p:cNvPr id="555" name=""/>
              <p:cNvSpPr/>
              <p:nvPr/>
            </p:nvSpPr>
            <p:spPr>
              <a:xfrm rot="5400000">
                <a:off x="408384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393120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3743280" y="407664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1577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mposible escribir una estructura electrónica que satisfaga las reglas de Lew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3671640" cy="2565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6120" y="9810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 de los enlaces co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360" y="5205240"/>
            <a:ext cx="5364360" cy="770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 enlace &lt; Doble enlace &lt; Enlace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580000" y="1316160"/>
          <a:ext cx="345780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316160"/>
                    <a:ext cx="3457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77344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s de en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Por definición corresponde a la cantidad de calor necesaria para romper el enlace en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000440" y="2697120"/>
            <a:ext cx="5593680" cy="511920"/>
            <a:chOff x="1000440" y="2697120"/>
            <a:chExt cx="5593680" cy="511920"/>
          </a:xfrm>
        </p:grpSpPr>
        <p:sp>
          <p:nvSpPr>
            <p:cNvPr id="567" name=""/>
            <p:cNvSpPr/>
            <p:nvPr/>
          </p:nvSpPr>
          <p:spPr>
            <a:xfrm>
              <a:off x="1000440" y="26989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628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7160" y="2927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8720" y="269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544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7840" y="269712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6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39320" y="3298680"/>
            <a:ext cx="5592960" cy="511560"/>
            <a:chOff x="1039320" y="3298680"/>
            <a:chExt cx="5592960" cy="511560"/>
          </a:xfrm>
        </p:grpSpPr>
        <p:sp>
          <p:nvSpPr>
            <p:cNvPr id="574" name=""/>
            <p:cNvSpPr/>
            <p:nvPr/>
          </p:nvSpPr>
          <p:spPr>
            <a:xfrm>
              <a:off x="1039320" y="3300120"/>
              <a:ext cx="83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516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3528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96880" y="3300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9432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46000" y="32986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42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25200" y="3900600"/>
            <a:ext cx="5707080" cy="511560"/>
            <a:chOff x="925200" y="3900600"/>
            <a:chExt cx="5707080" cy="511560"/>
          </a:xfrm>
        </p:grpSpPr>
        <p:sp>
          <p:nvSpPr>
            <p:cNvPr id="581" name=""/>
            <p:cNvSpPr/>
            <p:nvPr/>
          </p:nvSpPr>
          <p:spPr>
            <a:xfrm>
              <a:off x="925200" y="3902040"/>
              <a:ext cx="95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440" y="390204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5320" y="4130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6880" y="3902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94320" y="390204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6000" y="390060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1.9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096200" y="4502160"/>
            <a:ext cx="5542920" cy="511560"/>
            <a:chOff x="1096200" y="4502160"/>
            <a:chExt cx="5542920" cy="511560"/>
          </a:xfrm>
        </p:grpSpPr>
        <p:sp>
          <p:nvSpPr>
            <p:cNvPr id="588" name=""/>
            <p:cNvSpPr/>
            <p:nvPr/>
          </p:nvSpPr>
          <p:spPr>
            <a:xfrm>
              <a:off x="1096200" y="450360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020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2160" y="4732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3720" y="4503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9936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2840" y="450216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98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65280" y="4516560"/>
            <a:ext cx="1205640" cy="469800"/>
            <a:chOff x="6965280" y="4516560"/>
            <a:chExt cx="1205640" cy="469800"/>
          </a:xfrm>
        </p:grpSpPr>
        <p:sp>
          <p:nvSpPr>
            <p:cNvPr id="595" name=""/>
            <p:cNvSpPr/>
            <p:nvPr/>
          </p:nvSpPr>
          <p:spPr>
            <a:xfrm>
              <a:off x="6965280" y="4524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046280" y="4516560"/>
              <a:ext cx="228600" cy="469800"/>
              <a:chOff x="7046280" y="4516560"/>
              <a:chExt cx="228600" cy="469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046280" y="4516560"/>
                <a:ext cx="228600" cy="75960"/>
                <a:chOff x="7046280" y="4516560"/>
                <a:chExt cx="228600" cy="75960"/>
              </a:xfrm>
            </p:grpSpPr>
            <p:sp>
              <p:nvSpPr>
                <p:cNvPr id="598" name=""/>
                <p:cNvSpPr/>
                <p:nvPr/>
              </p:nvSpPr>
              <p:spPr>
                <a:xfrm rot="5400000">
                  <a:off x="7198560" y="451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5400000">
                  <a:off x="7046280" y="4516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46280" y="4910040"/>
                <a:ext cx="228600" cy="76320"/>
                <a:chOff x="7046280" y="4910040"/>
                <a:chExt cx="228600" cy="76320"/>
              </a:xfrm>
            </p:grpSpPr>
            <p:sp>
              <p:nvSpPr>
                <p:cNvPr id="601" name=""/>
                <p:cNvSpPr/>
                <p:nvPr/>
              </p:nvSpPr>
              <p:spPr>
                <a:xfrm rot="5400000">
                  <a:off x="7198560" y="4910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7045920" y="4910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370280" y="4516560"/>
              <a:ext cx="800640" cy="469800"/>
              <a:chOff x="7370280" y="4516560"/>
              <a:chExt cx="800640" cy="4698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752600" y="4524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861320" y="4516560"/>
                <a:ext cx="228600" cy="469800"/>
                <a:chOff x="7861320" y="4516560"/>
                <a:chExt cx="228600" cy="469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7861320" y="4516560"/>
                  <a:ext cx="228600" cy="75960"/>
                  <a:chOff x="7861320" y="4516560"/>
                  <a:chExt cx="228600" cy="75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6200000">
                    <a:off x="7861320" y="45162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6200000">
                    <a:off x="8013600" y="4516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61320" y="4910040"/>
                  <a:ext cx="228600" cy="76320"/>
                  <a:chOff x="7861320" y="4910040"/>
                  <a:chExt cx="228600" cy="76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6200000">
                    <a:off x="7861320" y="49100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6200000">
                    <a:off x="8013240" y="491004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7370280" y="4713120"/>
                <a:ext cx="380880" cy="75960"/>
                <a:chOff x="7370280" y="4713120"/>
                <a:chExt cx="380880" cy="7596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370280" y="4713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370280" y="4789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1117800" y="5129280"/>
            <a:ext cx="5525640" cy="511560"/>
            <a:chOff x="1117800" y="5129280"/>
            <a:chExt cx="5525640" cy="511560"/>
          </a:xfrm>
        </p:grpSpPr>
        <p:sp>
          <p:nvSpPr>
            <p:cNvPr id="616" name=""/>
            <p:cNvSpPr/>
            <p:nvPr/>
          </p:nvSpPr>
          <p:spPr>
            <a:xfrm>
              <a:off x="1117800" y="51307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8560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06480" y="53593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08040" y="513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0512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57160" y="51292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941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16760" y="5130720"/>
            <a:ext cx="1153080" cy="461160"/>
            <a:chOff x="7016760" y="5130720"/>
            <a:chExt cx="1153080" cy="461160"/>
          </a:xfrm>
        </p:grpSpPr>
        <p:sp>
          <p:nvSpPr>
            <p:cNvPr id="623" name=""/>
            <p:cNvSpPr/>
            <p:nvPr/>
          </p:nvSpPr>
          <p:spPr>
            <a:xfrm>
              <a:off x="7045920" y="513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69520" y="513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3440" y="5245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83440" y="5397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16760" y="524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6760" y="5397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7640" y="5283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7640" y="53593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7640" y="54356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219200" y="1844640"/>
            <a:ext cx="333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647720" y="1878120"/>
            <a:ext cx="5508720" cy="511560"/>
            <a:chOff x="1647720" y="1878120"/>
            <a:chExt cx="5508720" cy="511560"/>
          </a:xfrm>
        </p:grpSpPr>
        <p:sp>
          <p:nvSpPr>
            <p:cNvPr id="634" name=""/>
            <p:cNvSpPr/>
            <p:nvPr/>
          </p:nvSpPr>
          <p:spPr>
            <a:xfrm>
              <a:off x="1647720" y="1879560"/>
              <a:ext cx="100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52760" y="187956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3640" y="2108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16520" y="18795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3960" y="1879560"/>
              <a:ext cx="94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4680" y="187812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502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748880" y="2489040"/>
            <a:ext cx="5402520" cy="511560"/>
            <a:chOff x="1748880" y="2489040"/>
            <a:chExt cx="5402520" cy="511560"/>
          </a:xfrm>
        </p:grpSpPr>
        <p:sp>
          <p:nvSpPr>
            <p:cNvPr id="641" name=""/>
            <p:cNvSpPr/>
            <p:nvPr/>
          </p:nvSpPr>
          <p:spPr>
            <a:xfrm>
              <a:off x="1748880" y="249048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49048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8600" y="2719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1480" y="2490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35840" y="249048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48904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2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42200" y="3490920"/>
            <a:ext cx="6768360" cy="876960"/>
            <a:chOff x="1042200" y="3490920"/>
            <a:chExt cx="6768360" cy="876960"/>
          </a:xfrm>
        </p:grpSpPr>
        <p:sp>
          <p:nvSpPr>
            <p:cNvPr id="648" name=""/>
            <p:cNvSpPr/>
            <p:nvPr/>
          </p:nvSpPr>
          <p:spPr>
            <a:xfrm>
              <a:off x="1042200" y="3682800"/>
              <a:ext cx="39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ía promedio del 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007240" y="3490920"/>
              <a:ext cx="1544760" cy="876960"/>
              <a:chOff x="5007240" y="3490920"/>
              <a:chExt cx="1544760" cy="876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007240" y="3490920"/>
                <a:ext cx="154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2 + 4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20920" y="390816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94400" y="3908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468480" y="36799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46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36600" y="235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 para 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65240"/>
          <a:ext cx="5111640" cy="36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5240"/>
                    <a:ext cx="5111640" cy="3695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35760" y="1700280"/>
            <a:ext cx="2639880" cy="48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796000" y="115920"/>
            <a:ext cx="3157560" cy="131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bios en la densidad electrónica entre dos átomos de hidrógeno a medida que se acerc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5184720" cy="208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La teoría  de enlace-valenci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nlace se forma 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tición de pares de electron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se gener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producir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ición de orbitales atómic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que contienen un elect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 cada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900000" y="189000"/>
          <a:ext cx="742644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7426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908000" y="6111720"/>
            <a:ext cx="55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ce Sencillo &lt; Enlace Doble &lt;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209600" y="1530360"/>
            <a:ext cx="7034400" cy="356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ala de Electronegatividad de Pau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0,102 (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kJ mo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0,5(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= energía media del enlace simple entre los átomos del subínd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ndariza a 4 para 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4328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aridad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9280" y="9828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una molécula formada por elementos diferentes, éstos poseen diferente electronegatividad, lo que conduce a una compartición desigual de los electrones.  Esta característica da lugar a la formación de un enlace po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699080" y="2719440"/>
          <a:ext cx="3024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2719440"/>
                    <a:ext cx="3024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468360" y="2205000"/>
          <a:ext cx="19875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05000"/>
                    <a:ext cx="19875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786720" y="2071800"/>
            <a:ext cx="22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4720" y="20718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dian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2560" y="4437000"/>
            <a:ext cx="224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é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45000" y="484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4200" y="4797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4360" y="50148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52308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87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7280" y="5516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100120" y="5303880"/>
            <a:ext cx="1345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Q x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200" y="6093000"/>
            <a:ext cx="1695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3400" y="6093000"/>
            <a:ext cx="3847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distancia entre las c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14240" y="6093000"/>
            <a:ext cx="267768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3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602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057400" y="923760"/>
          <a:ext cx="487044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23760"/>
                    <a:ext cx="4870440" cy="3953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266920" y="5300640"/>
            <a:ext cx="25131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733920" y="2602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836640"/>
            <a:ext cx="843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ongitud de enlace en HCl es 1.27Å. (a) Calcular µ si las cargas de H y Cl son +1 y -1. (b) El valor exp. es µ (H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.08 D, ¿qué magnitud de carga, en unidad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los átomos de H y Cl darían lugar a este µ?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6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20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434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3241800"/>
          <a:ext cx="5867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41800"/>
                    <a:ext cx="5867280" cy="925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49560" y="4460760"/>
          <a:ext cx="495288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4460760"/>
                    <a:ext cx="4952880" cy="14893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354840" y="235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19280" y="1338120"/>
          <a:ext cx="41036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38120"/>
                    <a:ext cx="41036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1629000" y="1014480"/>
            <a:ext cx="88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2960" y="19144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7320" y="1878120"/>
            <a:ext cx="1250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828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H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100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547640" y="3573360"/>
          <a:ext cx="4762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4762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95280" y="5518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o) es la energía que se requiere para separar completamente un mol de un compuesto sólido en sus ion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1205280" y="2486160"/>
            <a:ext cx="1572480" cy="801000"/>
            <a:chOff x="1205280" y="2486160"/>
            <a:chExt cx="1572480" cy="801000"/>
          </a:xfrm>
        </p:grpSpPr>
        <p:sp>
          <p:nvSpPr>
            <p:cNvPr id="702" name=""/>
            <p:cNvSpPr/>
            <p:nvPr/>
          </p:nvSpPr>
          <p:spPr>
            <a:xfrm>
              <a:off x="1205280" y="266544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58760" y="2486160"/>
              <a:ext cx="819000" cy="801000"/>
              <a:chOff x="1958760" y="2486160"/>
              <a:chExt cx="819000" cy="8010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58760" y="2486160"/>
                <a:ext cx="819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062080" y="29034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6560" y="28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997800" y="2333520"/>
            <a:ext cx="294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ca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96720" y="2790720"/>
            <a:ext cx="284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a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5840" y="32479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es la distancia entre ambos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1197000"/>
            <a:ext cx="882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pende de la magnitud de la interacción entre los 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1989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par de 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000" y="380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sólido los iones se ordenan unos con otros para lograr la mínima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28600" y="152280"/>
            <a:ext cx="8686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sólido los iones se ordenan unos con otros para lograr la mínima energía.  Para un sólido hipotético unidimensional la energía V es más negativa qu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81080" y="1039680"/>
          <a:ext cx="528156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39680"/>
                    <a:ext cx="5281560" cy="311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44118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muestra que la energía necesaria para separar los iones de un mol de sólido ión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dimension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ar los iones gaseosos queda dada por la expre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324000" y="5632560"/>
            <a:ext cx="4752720" cy="711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292720" y="5589720"/>
            <a:ext cx="3600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Constante de Mad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 = Número de Avog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argas de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92360" y="4365720"/>
            <a:ext cx="57610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ergía es directamente proporcional a la carga de los iones, e inversamente proporcional a la distancia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78880" y="10778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25800" y="11001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75600" y="1712880"/>
            <a:ext cx="889200" cy="916920"/>
            <a:chOff x="1875600" y="1712880"/>
            <a:chExt cx="889200" cy="916920"/>
          </a:xfrm>
        </p:grpSpPr>
        <p:sp>
          <p:nvSpPr>
            <p:cNvPr id="723" name=""/>
            <p:cNvSpPr/>
            <p:nvPr/>
          </p:nvSpPr>
          <p:spPr>
            <a:xfrm>
              <a:off x="1875600" y="17128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8280" y="21700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894680" y="3008160"/>
            <a:ext cx="703440" cy="916920"/>
            <a:chOff x="1894680" y="3008160"/>
            <a:chExt cx="703440" cy="916920"/>
          </a:xfrm>
        </p:grpSpPr>
        <p:sp>
          <p:nvSpPr>
            <p:cNvPr id="726" name=""/>
            <p:cNvSpPr/>
            <p:nvPr/>
          </p:nvSpPr>
          <p:spPr>
            <a:xfrm>
              <a:off x="1951920" y="3008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4680" y="346536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44720" y="1712880"/>
            <a:ext cx="857520" cy="916920"/>
            <a:chOff x="4644720" y="1712880"/>
            <a:chExt cx="857520" cy="916920"/>
          </a:xfrm>
        </p:grpSpPr>
        <p:sp>
          <p:nvSpPr>
            <p:cNvPr id="729" name=""/>
            <p:cNvSpPr/>
            <p:nvPr/>
          </p:nvSpPr>
          <p:spPr>
            <a:xfrm>
              <a:off x="4644720" y="1712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9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4720" y="217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9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679640" y="3008160"/>
            <a:ext cx="857520" cy="916920"/>
            <a:chOff x="4679640" y="3008160"/>
            <a:chExt cx="857520" cy="916920"/>
          </a:xfrm>
        </p:grpSpPr>
        <p:sp>
          <p:nvSpPr>
            <p:cNvPr id="732" name=""/>
            <p:cNvSpPr/>
            <p:nvPr/>
          </p:nvSpPr>
          <p:spPr>
            <a:xfrm>
              <a:off x="4679640" y="300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55600" y="34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453000" y="1712880"/>
            <a:ext cx="1398960" cy="916920"/>
            <a:chOff x="6453000" y="1712880"/>
            <a:chExt cx="1398960" cy="916920"/>
          </a:xfrm>
        </p:grpSpPr>
        <p:sp>
          <p:nvSpPr>
            <p:cNvPr id="735" name=""/>
            <p:cNvSpPr/>
            <p:nvPr/>
          </p:nvSpPr>
          <p:spPr>
            <a:xfrm>
              <a:off x="6453000" y="1712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= +2,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65600" y="21700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= +2,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380640" y="3201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r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808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Born-Hab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s permite visualizar los factores individuales que afectan la magnitud de la energía de red cristal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403280" y="1033560"/>
          <a:ext cx="6553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33560"/>
                    <a:ext cx="6553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364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gla del oct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ando se comparten electrones cada uno d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tomos adquiere una configuración electrónica de gas noble (capa cerrada) con un octeto completo de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3040" y="2422440"/>
            <a:ext cx="72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estructura: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:H       H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2273040" cy="547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68320" y="3575160"/>
            <a:ext cx="444600" cy="473760"/>
            <a:chOff x="868320" y="3575160"/>
            <a:chExt cx="444600" cy="473760"/>
          </a:xfrm>
        </p:grpSpPr>
        <p:sp>
          <p:nvSpPr>
            <p:cNvPr id="57" name=""/>
            <p:cNvSpPr/>
            <p:nvPr/>
          </p:nvSpPr>
          <p:spPr>
            <a:xfrm>
              <a:off x="914400" y="358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868320" y="3701880"/>
              <a:ext cx="76320" cy="228600"/>
              <a:chOff x="868320" y="3701880"/>
              <a:chExt cx="76320" cy="228600"/>
            </a:xfrm>
          </p:grpSpPr>
          <p:sp>
            <p:nvSpPr>
              <p:cNvPr id="59" name=""/>
              <p:cNvSpPr/>
              <p:nvPr/>
            </p:nvSpPr>
            <p:spPr>
              <a:xfrm>
                <a:off x="86832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8320" y="3854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36600" y="3701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69480" y="3575160"/>
              <a:ext cx="228600" cy="75960"/>
              <a:chOff x="969480" y="3575160"/>
              <a:chExt cx="228600" cy="7596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1121760" y="3574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969480" y="35751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69480" y="3968640"/>
              <a:ext cx="228600" cy="76320"/>
              <a:chOff x="969480" y="3968640"/>
              <a:chExt cx="228600" cy="76320"/>
            </a:xfrm>
          </p:grpSpPr>
          <p:sp>
            <p:nvSpPr>
              <p:cNvPr id="66" name=""/>
              <p:cNvSpPr/>
              <p:nvPr/>
            </p:nvSpPr>
            <p:spPr>
              <a:xfrm rot="5400000">
                <a:off x="1121760" y="3968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969120" y="3968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558800" y="3575160"/>
            <a:ext cx="1038240" cy="473760"/>
            <a:chOff x="1558800" y="3575160"/>
            <a:chExt cx="1038240" cy="473760"/>
          </a:xfrm>
        </p:grpSpPr>
        <p:grpSp>
          <p:nvGrpSpPr>
            <p:cNvPr id="69" name=""/>
            <p:cNvGrpSpPr/>
            <p:nvPr/>
          </p:nvGrpSpPr>
          <p:grpSpPr>
            <a:xfrm>
              <a:off x="2165400" y="3575160"/>
              <a:ext cx="431640" cy="473760"/>
              <a:chOff x="2165400" y="3575160"/>
              <a:chExt cx="431640" cy="473760"/>
            </a:xfrm>
          </p:grpSpPr>
          <p:sp>
            <p:nvSpPr>
              <p:cNvPr id="70" name=""/>
              <p:cNvSpPr/>
              <p:nvPr/>
            </p:nvSpPr>
            <p:spPr>
              <a:xfrm>
                <a:off x="21988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521080" y="3701880"/>
                <a:ext cx="75960" cy="227880"/>
                <a:chOff x="2521080" y="3701880"/>
                <a:chExt cx="75960" cy="22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2108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2108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16540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253960" y="3575160"/>
                <a:ext cx="228600" cy="75960"/>
                <a:chOff x="2253960" y="3575160"/>
                <a:chExt cx="228600" cy="75960"/>
              </a:xfrm>
            </p:grpSpPr>
            <p:sp>
              <p:nvSpPr>
                <p:cNvPr id="76" name=""/>
                <p:cNvSpPr/>
                <p:nvPr/>
              </p:nvSpPr>
              <p:spPr>
                <a:xfrm rot="5400000">
                  <a:off x="240624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5400000">
                  <a:off x="225396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253960" y="3968640"/>
                <a:ext cx="228600" cy="75600"/>
                <a:chOff x="2253960" y="3968640"/>
                <a:chExt cx="228600" cy="75600"/>
              </a:xfrm>
            </p:grpSpPr>
            <p:sp>
              <p:nvSpPr>
                <p:cNvPr id="79" name=""/>
                <p:cNvSpPr/>
                <p:nvPr/>
              </p:nvSpPr>
              <p:spPr>
                <a:xfrm rot="5400000">
                  <a:off x="240660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5400000">
                  <a:off x="225396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55880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486240"/>
            <a:ext cx="685800" cy="1158120"/>
            <a:chOff x="755640" y="3486240"/>
            <a:chExt cx="685800" cy="1158120"/>
          </a:xfrm>
        </p:grpSpPr>
        <p:sp>
          <p:nvSpPr>
            <p:cNvPr id="83" name=""/>
            <p:cNvSpPr/>
            <p:nvPr/>
          </p:nvSpPr>
          <p:spPr>
            <a:xfrm>
              <a:off x="75564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00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038320" y="3486240"/>
            <a:ext cx="685800" cy="1158120"/>
            <a:chOff x="2038320" y="3486240"/>
            <a:chExt cx="685800" cy="1158120"/>
          </a:xfrm>
        </p:grpSpPr>
        <p:sp>
          <p:nvSpPr>
            <p:cNvPr id="86" name=""/>
            <p:cNvSpPr/>
            <p:nvPr/>
          </p:nvSpPr>
          <p:spPr>
            <a:xfrm>
              <a:off x="203832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268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25640" y="38037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28960" y="3575160"/>
            <a:ext cx="799920" cy="473760"/>
            <a:chOff x="3828960" y="3575160"/>
            <a:chExt cx="799920" cy="473760"/>
          </a:xfrm>
        </p:grpSpPr>
        <p:grpSp>
          <p:nvGrpSpPr>
            <p:cNvPr id="90" name=""/>
            <p:cNvGrpSpPr/>
            <p:nvPr/>
          </p:nvGrpSpPr>
          <p:grpSpPr>
            <a:xfrm>
              <a:off x="3828960" y="3575160"/>
              <a:ext cx="444600" cy="473760"/>
              <a:chOff x="3828960" y="3575160"/>
              <a:chExt cx="444600" cy="473760"/>
            </a:xfrm>
          </p:grpSpPr>
          <p:sp>
            <p:nvSpPr>
              <p:cNvPr id="91" name=""/>
              <p:cNvSpPr/>
              <p:nvPr/>
            </p:nvSpPr>
            <p:spPr>
              <a:xfrm>
                <a:off x="387504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828960" y="3701880"/>
                <a:ext cx="76320" cy="228600"/>
                <a:chOff x="3828960" y="3701880"/>
                <a:chExt cx="7632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28960" y="370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28960" y="3854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19724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0120" y="3575160"/>
                <a:ext cx="228600" cy="75960"/>
                <a:chOff x="3930120" y="3575160"/>
                <a:chExt cx="228600" cy="7596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408240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00000">
                  <a:off x="393012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930120" y="3968640"/>
                <a:ext cx="228600" cy="76320"/>
                <a:chOff x="3930120" y="3968640"/>
                <a:chExt cx="22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4082400" y="3968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392976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197240" y="3575160"/>
              <a:ext cx="431640" cy="473760"/>
              <a:chOff x="4197240" y="3575160"/>
              <a:chExt cx="431640" cy="473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23072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552920" y="3701880"/>
                <a:ext cx="75960" cy="227880"/>
                <a:chOff x="4552920" y="3701880"/>
                <a:chExt cx="75960" cy="22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5292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5292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19724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285800" y="3575160"/>
                <a:ext cx="228600" cy="75960"/>
                <a:chOff x="4285800" y="3575160"/>
                <a:chExt cx="228600" cy="75960"/>
              </a:xfrm>
            </p:grpSpPr>
            <p:sp>
              <p:nvSpPr>
                <p:cNvPr id="109" name=""/>
                <p:cNvSpPr/>
                <p:nvPr/>
              </p:nvSpPr>
              <p:spPr>
                <a:xfrm rot="5400000">
                  <a:off x="443808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400000">
                  <a:off x="428580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85800" y="3968640"/>
                <a:ext cx="228600" cy="75600"/>
                <a:chOff x="4285800" y="3968640"/>
                <a:chExt cx="228600" cy="75600"/>
              </a:xfrm>
            </p:grpSpPr>
            <p:sp>
              <p:nvSpPr>
                <p:cNvPr id="112" name=""/>
                <p:cNvSpPr/>
                <p:nvPr/>
              </p:nvSpPr>
              <p:spPr>
                <a:xfrm rot="5400000">
                  <a:off x="443844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428580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"/>
          <p:cNvGrpSpPr/>
          <p:nvPr/>
        </p:nvGrpSpPr>
        <p:grpSpPr>
          <a:xfrm>
            <a:off x="3664080" y="3498840"/>
            <a:ext cx="685800" cy="1158120"/>
            <a:chOff x="3664080" y="3498840"/>
            <a:chExt cx="685800" cy="1158120"/>
          </a:xfrm>
        </p:grpSpPr>
        <p:sp>
          <p:nvSpPr>
            <p:cNvPr id="115" name=""/>
            <p:cNvSpPr/>
            <p:nvPr/>
          </p:nvSpPr>
          <p:spPr>
            <a:xfrm>
              <a:off x="366408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844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72040" y="3498840"/>
            <a:ext cx="685800" cy="1158120"/>
            <a:chOff x="4172040" y="3498840"/>
            <a:chExt cx="685800" cy="1158120"/>
          </a:xfrm>
        </p:grpSpPr>
        <p:sp>
          <p:nvSpPr>
            <p:cNvPr id="118" name=""/>
            <p:cNvSpPr/>
            <p:nvPr/>
          </p:nvSpPr>
          <p:spPr>
            <a:xfrm>
              <a:off x="417204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640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8880" y="4976640"/>
            <a:ext cx="35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ctura de Lewis para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960" y="3573360"/>
            <a:ext cx="1237680" cy="475560"/>
            <a:chOff x="6141960" y="3573360"/>
            <a:chExt cx="1237680" cy="475560"/>
          </a:xfrm>
        </p:grpSpPr>
        <p:grpSp>
          <p:nvGrpSpPr>
            <p:cNvPr id="122" name=""/>
            <p:cNvGrpSpPr/>
            <p:nvPr/>
          </p:nvGrpSpPr>
          <p:grpSpPr>
            <a:xfrm>
              <a:off x="6141960" y="3573360"/>
              <a:ext cx="412560" cy="474120"/>
              <a:chOff x="6141960" y="3573360"/>
              <a:chExt cx="412560" cy="474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88040" y="3587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141960" y="3700440"/>
                <a:ext cx="75960" cy="228600"/>
                <a:chOff x="6141960" y="3700440"/>
                <a:chExt cx="7596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141960" y="3700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41960" y="385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3120" y="3573360"/>
                <a:ext cx="228600" cy="76320"/>
                <a:chOff x="6243120" y="3573360"/>
                <a:chExt cx="228600" cy="76320"/>
              </a:xfrm>
            </p:grpSpPr>
            <p:sp>
              <p:nvSpPr>
                <p:cNvPr id="128" name=""/>
                <p:cNvSpPr/>
                <p:nvPr/>
              </p:nvSpPr>
              <p:spPr>
                <a:xfrm rot="5400000">
                  <a:off x="6395400" y="3573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6242760" y="3573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243120" y="3967200"/>
                <a:ext cx="228600" cy="75960"/>
                <a:chOff x="6243120" y="3967200"/>
                <a:chExt cx="228600" cy="75960"/>
              </a:xfrm>
            </p:grpSpPr>
            <p:sp>
              <p:nvSpPr>
                <p:cNvPr id="131" name=""/>
                <p:cNvSpPr/>
                <p:nvPr/>
              </p:nvSpPr>
              <p:spPr>
                <a:xfrm rot="5400000">
                  <a:off x="6395400" y="3966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5400000">
                  <a:off x="6243120" y="3967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981480" y="3574800"/>
              <a:ext cx="398160" cy="474120"/>
              <a:chOff x="6981480" y="3574800"/>
              <a:chExt cx="398160" cy="474120"/>
            </a:xfrm>
          </p:grpSpPr>
          <p:sp>
            <p:nvSpPr>
              <p:cNvPr id="134" name=""/>
              <p:cNvSpPr/>
              <p:nvPr/>
            </p:nvSpPr>
            <p:spPr>
              <a:xfrm>
                <a:off x="69814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303680" y="3701880"/>
                <a:ext cx="75960" cy="228600"/>
                <a:chOff x="7303680" y="3701880"/>
                <a:chExt cx="75960" cy="228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303680" y="3701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03680" y="3854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037280" y="3574800"/>
                <a:ext cx="227880" cy="76320"/>
                <a:chOff x="7037280" y="3574800"/>
                <a:chExt cx="227880" cy="76320"/>
              </a:xfrm>
            </p:grpSpPr>
            <p:sp>
              <p:nvSpPr>
                <p:cNvPr id="139" name=""/>
                <p:cNvSpPr/>
                <p:nvPr/>
              </p:nvSpPr>
              <p:spPr>
                <a:xfrm rot="5400000">
                  <a:off x="7188840" y="3574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5400000">
                  <a:off x="7036920" y="3575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037280" y="3968640"/>
                <a:ext cx="227880" cy="76320"/>
                <a:chOff x="7037280" y="3968640"/>
                <a:chExt cx="227880" cy="7632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718884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400000">
                  <a:off x="7036920" y="39690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6540480" y="38098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5800" y="3876480"/>
            <a:ext cx="2821680" cy="851040"/>
            <a:chOff x="5365800" y="3876480"/>
            <a:chExt cx="2821680" cy="851040"/>
          </a:xfrm>
        </p:grpSpPr>
        <p:sp>
          <p:nvSpPr>
            <p:cNvPr id="146" name=""/>
            <p:cNvSpPr/>
            <p:nvPr/>
          </p:nvSpPr>
          <p:spPr>
            <a:xfrm>
              <a:off x="5365800" y="43592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lace covalente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762600" y="387648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95280" y="5478480"/>
            <a:ext cx="1594080" cy="1049760"/>
            <a:chOff x="395280" y="5478480"/>
            <a:chExt cx="1594080" cy="1049760"/>
          </a:xfrm>
        </p:grpSpPr>
        <p:sp>
          <p:nvSpPr>
            <p:cNvPr id="742" name=""/>
            <p:cNvSpPr/>
            <p:nvPr/>
          </p:nvSpPr>
          <p:spPr>
            <a:xfrm>
              <a:off x="395280" y="5478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000" y="6129360"/>
              <a:ext cx="15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t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919160" y="5516640"/>
            <a:ext cx="4308120" cy="936360"/>
            <a:chOff x="1919160" y="5516640"/>
            <a:chExt cx="4308120" cy="936360"/>
          </a:xfrm>
        </p:grpSpPr>
        <p:sp>
          <p:nvSpPr>
            <p:cNvPr id="745" name=""/>
            <p:cNvSpPr/>
            <p:nvPr/>
          </p:nvSpPr>
          <p:spPr>
            <a:xfrm>
              <a:off x="3357000" y="551664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 Po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5800" y="6054120"/>
              <a:ext cx="32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erencia parcial d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19160" y="5986440"/>
              <a:ext cx="12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088760" y="5437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7680" y="601488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89520" y="5921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76360" y="4638600"/>
            <a:ext cx="6019560" cy="446040"/>
            <a:chOff x="1476360" y="4638600"/>
            <a:chExt cx="6019560" cy="446040"/>
          </a:xfrm>
        </p:grpSpPr>
        <p:sp>
          <p:nvSpPr>
            <p:cNvPr id="752" name=""/>
            <p:cNvSpPr/>
            <p:nvPr/>
          </p:nvSpPr>
          <p:spPr>
            <a:xfrm>
              <a:off x="1476360" y="508464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18520" y="4638600"/>
              <a:ext cx="52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                 Electronegatividad                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420920" y="26028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ón de los enlaces por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1440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0" y="1440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24240" y="204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83320" y="2048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87800" y="252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7320" y="252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31120" y="2979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&lt; y &lt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59680" y="29811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0" t="2087" r="0" b="0"/>
          <a:stretch/>
        </p:blipFill>
        <p:spPr>
          <a:xfrm>
            <a:off x="136440" y="782640"/>
            <a:ext cx="29368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43760" y="333360"/>
            <a:ext cx="74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b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do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6 e de valencia, debe adquirir 2 y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374508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3040" y="37162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p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tre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" y="4365720"/>
            <a:ext cx="73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N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5 e de valencia, debe adquirir 3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40000" y="5481720"/>
            <a:ext cx="4103640" cy="65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1600" y="303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O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do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58000" y="62722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N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1080" y="2276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0" y="5589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1640" y="4046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cribir las estructuras de Lewis de las moléculas formadas por la combinación binaria de F con H, O, N y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ctrones de valencia de F = 7 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r lo tanto forma solo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080" y="2708280"/>
            <a:ext cx="53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: 1 e de valencia;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13000" y="3124080"/>
            <a:ext cx="3887640" cy="59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8160" y="378936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:6 e de valencia, debe compartir do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6920" y="4221000"/>
            <a:ext cx="4824360" cy="55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8560" y="3213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560" y="429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520" y="504828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5 e de valencia, debe compartir tre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38560" y="5567400"/>
            <a:ext cx="4824360" cy="105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0200" y="5877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3230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8960" y="4327560"/>
            <a:ext cx="61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587700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;4 e de valencia, debe compartir cuatro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360" y="1303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6480" y="126828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39236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000" y="2349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serva que en general se forman tantos enlaces como sean necesarios para que el átomo quede rodeado por una capa de ocho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871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embargo, el amoníac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 reacciona con un protón,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formar el ión amoni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1080" y="4365720"/>
            <a:ext cx="4535640" cy="1485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8360" y="4878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237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asos hacen necesario introducir el concepto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rga form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13040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ga formal de un át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electrones de valencia en el átomo libre (número del grupo al que pertenece)  - número de electrones solitarios sobre el átomo - número de enlaces del át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075120"/>
            <a:ext cx="849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a formal sobre el H = 1 – 0 - 1 = 0.  Carga formal sobre el N = 5 – 0 – 4 = +1.  La estructura de Lewis debe incluir las cargas formales.  De tal manera que la estructura de Lewis correcta para el amonia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8120" y="4441680"/>
            <a:ext cx="1631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89000"/>
            <a:ext cx="8964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  a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; b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átomo central de una estructura (con enlaces covalentes) debe ser el átomo más electropositivo.  Los átomos de H ocupan siempre posiciones term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557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El átomo central es el carbono, 4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xígeno, con dos enlaces, debe estar unido al átomo central y a un hidróge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otros tres hidrógenos forman con el átomo central el resto de los cuatro en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875040"/>
            <a:ext cx="896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y dos átomos de C que deben ser tomados como los dos cent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o de ellos debe ser una estructura -C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en el ejercicio anterior.  Se dispone de 3 átomos para este grupo, C, O, H con 5 pares de electrones (3 de C, 6 de O y 1 de H). La unión mediante enlace entre el O y el H llevaría al incumplimiento de la regla del C o del O.  La existencia de un doble enlace C=O es la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2720" y="60213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368360" cy="93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5602320"/>
            <a:ext cx="3816360" cy="104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3213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197000"/>
            <a:ext cx="8153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-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 numero total de electrones de valencia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80880"/>
            <a:ext cx="8137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LAS PARA ESCRIBIR UNA ESTRUCTURA DE LEW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480" y="580536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la estructura con las cargas formales de cada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440" y="5229360"/>
            <a:ext cx="85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con  electrones las capas de valencia de todos los át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38289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r estructura y situar dos electrones por cada enlace. Coloque el elemento menos electronegativo al centro.  En caso necesario se deben poner enlaces dobles o triples hasta completar el número total de en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46440"/>
            <a:ext cx="849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- 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nos da el número de electrones compartido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compart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al dividirlo por 2 nos entrega el número de enlace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enlac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eben exis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66680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r número de electrones necesarios para formar octetos de electrones en todos los átomos excepto los átomos de hidrógeno (solo dos electrones)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20T23:39:03Z</dcterms:modified>
  <cp:revision>84</cp:revision>
  <dc:subject/>
  <dc:title>Presentación de PowerPoint</dc:title>
</cp:coreProperties>
</file>