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33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39.jpeg" ContentType="image/jpeg"/>
  <Override PartName="/ppt/media/image9.png" ContentType="image/png"/>
  <Override PartName="/ppt/media/image1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2.png" ContentType="image/png"/>
  <Override PartName="/ppt/media/image2.png" ContentType="image/png"/>
  <Override PartName="/ppt/media/image25.jpeg" ContentType="image/jpeg"/>
  <Override PartName="/ppt/media/image30.png" ContentType="image/png"/>
  <Override PartName="/ppt/media/image3.jpeg" ContentType="image/jpeg"/>
  <Override PartName="/ppt/media/image15.png" ContentType="image/png"/>
  <Override PartName="/ppt/media/image31.png" ContentType="image/png"/>
  <Override PartName="/ppt/media/image1.png" ContentType="image/png"/>
  <Override PartName="/ppt/media/image24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A22AC-A8FD-4102-846C-ADE2A092F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D7E1E-78D8-45B4-BF32-811E35DCC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73D02-BD48-4916-A6F3-B8974126E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86450-7D17-4765-A895-B539613D7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48737-82E1-47C8-8638-FDF36BDF6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46EAE-9CDC-4558-8956-1E2E85D8B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EEEEA-BFDD-40FA-B917-69B0A3F41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6A35B-4D13-4F9E-87DB-FA5B2877C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25492-4845-4833-B550-C2F260A38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042EB-E9C5-4C39-9726-6D10A018C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2ABC6-4F64-4B3F-B3CE-5B582AEF3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2C792-1016-4F49-803F-87BBAE74B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343EE-CAAD-4E66-97A8-3630B42117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8.png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3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5.pn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476280"/>
            <a:ext cx="720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LACES QUÍMICOS I:  CONCEPTOS BÁS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71520" y="1125360"/>
            <a:ext cx="8304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lace covalen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curre cuando dos o más átomos comparten uno o más pares de electr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1989000"/>
            <a:ext cx="72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¿Por qué compartirían electrones dos átomo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95280" y="2781360"/>
            <a:ext cx="4176720" cy="26542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4789440" y="3286080"/>
            <a:ext cx="4103640" cy="197784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La energía potencial del sistema será menor cuando </a:t>
            </a:r>
            <a:r>
              <a:rPr b="1" lang="es-E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r</a:t>
            </a:r>
            <a:r>
              <a:rPr b="1" lang="es-ES" sz="2000" spc="-1" strike="noStrike" baseline="-30000">
                <a:solidFill>
                  <a:srgbClr val="0000ff"/>
                </a:solidFill>
                <a:latin typeface="Arial"/>
                <a:ea typeface="Times New Roman"/>
              </a:rPr>
              <a:t>a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o </a:t>
            </a:r>
            <a:r>
              <a:rPr b="1" lang="es-E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r</a:t>
            </a:r>
            <a:r>
              <a:rPr b="1" lang="es-ES" sz="2000" spc="-1" strike="noStrike" baseline="-30000">
                <a:solidFill>
                  <a:srgbClr val="0000ff"/>
                </a:solidFill>
                <a:latin typeface="Arial"/>
                <a:ea typeface="Times New Roman"/>
              </a:rPr>
              <a:t>b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sea muy pequeña o ambas sean pequeñas simultáneamente.  Esto es en la región </a:t>
            </a:r>
            <a:r>
              <a:rPr b="1" lang="es-E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entre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los núcleos, cuando se comparten electrones.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5734080"/>
            <a:ext cx="8569080" cy="825480"/>
          </a:xfrm>
          <a:prstGeom prst="rect">
            <a:avLst/>
          </a:prstGeom>
          <a:solidFill>
            <a:srgbClr val="99cc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a compartición de electrones por dos núcleos es la responsable por la formación del enla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1806120" y="152280"/>
            <a:ext cx="5639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scriba la estructura de Lewis para el (C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50920" y="3679920"/>
            <a:ext cx="864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so 4 – Dibujar la molécula. El C es menos electronegativo, pongámoslo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al centr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88280" y="655560"/>
            <a:ext cx="751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so 1 – Contar los e- de valencia  C - 4 (2s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y O - 6 (2s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2 carga – 2e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221120" y="1303200"/>
            <a:ext cx="494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 + (3 x 6) + 2 = 24 electrones de val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52360" y="1735200"/>
            <a:ext cx="806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aso 2  -Determinar el número de electrones necesarios para formar los octeto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260360" y="2384280"/>
            <a:ext cx="540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C)  8 electrones  +  (O) 3 x 8 electrones = 32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50920" y="2814480"/>
            <a:ext cx="504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aso 3  -Determinar el número de enla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258920" y="3247920"/>
            <a:ext cx="42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32 – 24 = 8 electrones comparti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010200" y="3247920"/>
            <a:ext cx="191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8/2 = 4 enla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3698280" y="4425840"/>
            <a:ext cx="2018520" cy="1272600"/>
            <a:chOff x="3698280" y="4425840"/>
            <a:chExt cx="2018520" cy="1272600"/>
          </a:xfrm>
        </p:grpSpPr>
        <p:sp>
          <p:nvSpPr>
            <p:cNvPr id="209" name=""/>
            <p:cNvSpPr/>
            <p:nvPr/>
          </p:nvSpPr>
          <p:spPr>
            <a:xfrm>
              <a:off x="3698280" y="442584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497840" y="44258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298480" y="442584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487040" y="523872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3" name=""/>
          <p:cNvSpPr/>
          <p:nvPr/>
        </p:nvSpPr>
        <p:spPr>
          <a:xfrm>
            <a:off x="4127400" y="4641840"/>
            <a:ext cx="3621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919760" y="4641840"/>
            <a:ext cx="3618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138560" y="4568760"/>
            <a:ext cx="3621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1110600" y="4425840"/>
            <a:ext cx="2018520" cy="1272600"/>
            <a:chOff x="1110600" y="4425840"/>
            <a:chExt cx="2018520" cy="1272600"/>
          </a:xfrm>
        </p:grpSpPr>
        <p:sp>
          <p:nvSpPr>
            <p:cNvPr id="217" name=""/>
            <p:cNvSpPr/>
            <p:nvPr/>
          </p:nvSpPr>
          <p:spPr>
            <a:xfrm>
              <a:off x="1110600" y="442584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910160" y="44258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710800" y="442584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899360" y="523872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1" name=""/>
          <p:cNvSpPr/>
          <p:nvPr/>
        </p:nvSpPr>
        <p:spPr>
          <a:xfrm>
            <a:off x="1539720" y="4641840"/>
            <a:ext cx="3621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332080" y="4641840"/>
            <a:ext cx="3618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340000" y="4581360"/>
            <a:ext cx="3618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6513120" y="4425840"/>
            <a:ext cx="2018520" cy="1272600"/>
            <a:chOff x="6513120" y="4425840"/>
            <a:chExt cx="2018520" cy="1272600"/>
          </a:xfrm>
        </p:grpSpPr>
        <p:sp>
          <p:nvSpPr>
            <p:cNvPr id="225" name=""/>
            <p:cNvSpPr/>
            <p:nvPr/>
          </p:nvSpPr>
          <p:spPr>
            <a:xfrm>
              <a:off x="6513120" y="442584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312680" y="44258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8113320" y="442584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301880" y="523872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9" name=""/>
          <p:cNvSpPr/>
          <p:nvPr/>
        </p:nvSpPr>
        <p:spPr>
          <a:xfrm>
            <a:off x="6942240" y="4641840"/>
            <a:ext cx="3618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734240" y="4641840"/>
            <a:ext cx="3621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716360" y="4930920"/>
            <a:ext cx="0" cy="287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453440" y="4930920"/>
            <a:ext cx="0" cy="287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524720" y="4930920"/>
            <a:ext cx="0" cy="287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124000" y="4930920"/>
            <a:ext cx="0" cy="287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971640" y="440064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763640" y="522936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195640" y="52182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580000" y="440064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52182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524720" y="52182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372360" y="442584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8388360" y="440064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356000" y="52182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716360" y="52182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700360" y="454356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00720" y="533556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908000" y="533556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516720" y="413712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516720" y="454356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8101080" y="413712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8101080" y="454356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92720" y="454356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291280" y="413712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116000" y="454356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708360" y="413712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708360" y="454356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116000" y="411156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700360" y="413712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411280" y="539604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898560" y="417204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932360" y="543384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724360" y="420840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227640" y="424512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8532720" y="424512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50920" y="5840280"/>
            <a:ext cx="367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aso 5  -Completar octe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24000" y="6272280"/>
            <a:ext cx="40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aso 6  -Agregar cargas form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1923120" y="152280"/>
            <a:ext cx="5380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ibles estructuras para el  (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1068120" y="971640"/>
            <a:ext cx="2422440" cy="398880"/>
            <a:chOff x="1068120" y="971640"/>
            <a:chExt cx="2422440" cy="398880"/>
          </a:xfrm>
        </p:grpSpPr>
        <p:sp>
          <p:nvSpPr>
            <p:cNvPr id="269" name=""/>
            <p:cNvSpPr/>
            <p:nvPr/>
          </p:nvSpPr>
          <p:spPr>
            <a:xfrm>
              <a:off x="1068120" y="97164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747800" y="97164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28200" y="971640"/>
              <a:ext cx="37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125520" y="97164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397160" y="1152720"/>
              <a:ext cx="380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095560" y="1152720"/>
              <a:ext cx="380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793960" y="1152720"/>
              <a:ext cx="380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6" name=""/>
          <p:cNvGrpSpPr/>
          <p:nvPr/>
        </p:nvGrpSpPr>
        <p:grpSpPr>
          <a:xfrm>
            <a:off x="5762520" y="692280"/>
            <a:ext cx="1740600" cy="945000"/>
            <a:chOff x="5762520" y="692280"/>
            <a:chExt cx="1740600" cy="945000"/>
          </a:xfrm>
        </p:grpSpPr>
        <p:sp>
          <p:nvSpPr>
            <p:cNvPr id="277" name=""/>
            <p:cNvSpPr/>
            <p:nvPr/>
          </p:nvSpPr>
          <p:spPr>
            <a:xfrm>
              <a:off x="5764320" y="69228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443640" y="97164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7124400" y="971640"/>
              <a:ext cx="37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762520" y="123840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791400" y="1152720"/>
              <a:ext cx="380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104160" y="924120"/>
              <a:ext cx="38088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flipV="1">
              <a:off x="6104160" y="1241280"/>
              <a:ext cx="38088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1175400" y="2173320"/>
            <a:ext cx="2457360" cy="459720"/>
            <a:chOff x="1175400" y="2173320"/>
            <a:chExt cx="2457360" cy="459720"/>
          </a:xfrm>
        </p:grpSpPr>
        <p:sp>
          <p:nvSpPr>
            <p:cNvPr id="285" name=""/>
            <p:cNvSpPr/>
            <p:nvPr/>
          </p:nvSpPr>
          <p:spPr>
            <a:xfrm>
              <a:off x="1175400" y="21733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854360" y="21733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534400" y="217332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232440" y="21733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503000" y="2401920"/>
              <a:ext cx="380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900160" y="2401920"/>
              <a:ext cx="380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1" name=""/>
            <p:cNvGrpSpPr/>
            <p:nvPr/>
          </p:nvGrpSpPr>
          <p:grpSpPr>
            <a:xfrm>
              <a:off x="1935360" y="2173320"/>
              <a:ext cx="227880" cy="75960"/>
              <a:chOff x="1935360" y="2173320"/>
              <a:chExt cx="227880" cy="75960"/>
            </a:xfrm>
          </p:grpSpPr>
          <p:sp>
            <p:nvSpPr>
              <p:cNvPr id="292" name=""/>
              <p:cNvSpPr/>
              <p:nvPr/>
            </p:nvSpPr>
            <p:spPr>
              <a:xfrm rot="5400000">
                <a:off x="2087280" y="217332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5400000">
                <a:off x="1935000" y="2173320"/>
                <a:ext cx="75960" cy="75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4" name=""/>
            <p:cNvGrpSpPr/>
            <p:nvPr/>
          </p:nvGrpSpPr>
          <p:grpSpPr>
            <a:xfrm>
              <a:off x="2621160" y="2173320"/>
              <a:ext cx="227880" cy="75960"/>
              <a:chOff x="2621160" y="2173320"/>
              <a:chExt cx="227880" cy="75960"/>
            </a:xfrm>
          </p:grpSpPr>
          <p:sp>
            <p:nvSpPr>
              <p:cNvPr id="295" name=""/>
              <p:cNvSpPr/>
              <p:nvPr/>
            </p:nvSpPr>
            <p:spPr>
              <a:xfrm rot="5400000">
                <a:off x="2773080" y="217332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5400000">
                <a:off x="2620800" y="2173320"/>
                <a:ext cx="75960" cy="75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7" name=""/>
            <p:cNvGrpSpPr/>
            <p:nvPr/>
          </p:nvGrpSpPr>
          <p:grpSpPr>
            <a:xfrm>
              <a:off x="2201760" y="2363760"/>
              <a:ext cx="380520" cy="75960"/>
              <a:chOff x="2201760" y="2363760"/>
              <a:chExt cx="380520" cy="75960"/>
            </a:xfrm>
          </p:grpSpPr>
          <p:sp>
            <p:nvSpPr>
              <p:cNvPr id="298" name=""/>
              <p:cNvSpPr/>
              <p:nvPr/>
            </p:nvSpPr>
            <p:spPr>
              <a:xfrm>
                <a:off x="2201760" y="2363760"/>
                <a:ext cx="3805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2201760" y="2439720"/>
                <a:ext cx="3805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00" name=""/>
          <p:cNvSpPr/>
          <p:nvPr/>
        </p:nvSpPr>
        <p:spPr>
          <a:xfrm>
            <a:off x="1792440" y="169560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478240" y="169560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806480" y="2111400"/>
            <a:ext cx="457200" cy="228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3" name=""/>
          <p:cNvGrpSpPr/>
          <p:nvPr/>
        </p:nvGrpSpPr>
        <p:grpSpPr>
          <a:xfrm>
            <a:off x="1463760" y="2252520"/>
            <a:ext cx="1143000" cy="304920"/>
            <a:chOff x="1463760" y="2252520"/>
            <a:chExt cx="1143000" cy="304920"/>
          </a:xfrm>
        </p:grpSpPr>
        <p:sp>
          <p:nvSpPr>
            <p:cNvPr id="304" name=""/>
            <p:cNvSpPr/>
            <p:nvPr/>
          </p:nvSpPr>
          <p:spPr>
            <a:xfrm>
              <a:off x="1463760" y="2252520"/>
              <a:ext cx="457200" cy="30492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149560" y="2252520"/>
              <a:ext cx="457200" cy="30492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6" name=""/>
          <p:cNvSpPr/>
          <p:nvPr/>
        </p:nvSpPr>
        <p:spPr>
          <a:xfrm>
            <a:off x="2492280" y="2111400"/>
            <a:ext cx="457200" cy="228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7" name=""/>
          <p:cNvGrpSpPr/>
          <p:nvPr/>
        </p:nvGrpSpPr>
        <p:grpSpPr>
          <a:xfrm>
            <a:off x="2149560" y="2252520"/>
            <a:ext cx="1143000" cy="304920"/>
            <a:chOff x="2149560" y="2252520"/>
            <a:chExt cx="1143000" cy="304920"/>
          </a:xfrm>
        </p:grpSpPr>
        <p:sp>
          <p:nvSpPr>
            <p:cNvPr id="308" name=""/>
            <p:cNvSpPr/>
            <p:nvPr/>
          </p:nvSpPr>
          <p:spPr>
            <a:xfrm>
              <a:off x="2149560" y="2252520"/>
              <a:ext cx="457200" cy="30492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835360" y="2252520"/>
              <a:ext cx="457200" cy="30492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0" name=""/>
          <p:cNvGrpSpPr/>
          <p:nvPr/>
        </p:nvGrpSpPr>
        <p:grpSpPr>
          <a:xfrm>
            <a:off x="5650560" y="1911240"/>
            <a:ext cx="1779480" cy="1005840"/>
            <a:chOff x="5650560" y="1911240"/>
            <a:chExt cx="1779480" cy="1005840"/>
          </a:xfrm>
        </p:grpSpPr>
        <p:grpSp>
          <p:nvGrpSpPr>
            <p:cNvPr id="311" name=""/>
            <p:cNvGrpSpPr/>
            <p:nvPr/>
          </p:nvGrpSpPr>
          <p:grpSpPr>
            <a:xfrm>
              <a:off x="7108920" y="2190600"/>
              <a:ext cx="228600" cy="76320"/>
              <a:chOff x="7108920" y="2190600"/>
              <a:chExt cx="228600" cy="76320"/>
            </a:xfrm>
          </p:grpSpPr>
          <p:sp>
            <p:nvSpPr>
              <p:cNvPr id="312" name=""/>
              <p:cNvSpPr/>
              <p:nvPr/>
            </p:nvSpPr>
            <p:spPr>
              <a:xfrm rot="16200000">
                <a:off x="7108920" y="219060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16200000">
                <a:off x="7261200" y="2190600"/>
                <a:ext cx="7632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4" name=""/>
            <p:cNvSpPr/>
            <p:nvPr/>
          </p:nvSpPr>
          <p:spPr>
            <a:xfrm>
              <a:off x="5652360" y="19112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331680" y="21906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011720" y="219060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5650560" y="245736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678720" y="2393640"/>
              <a:ext cx="380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991480" y="2190600"/>
              <a:ext cx="38088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5991480" y="2507760"/>
              <a:ext cx="38088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677280" y="2457360"/>
              <a:ext cx="380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2" name=""/>
            <p:cNvGrpSpPr/>
            <p:nvPr/>
          </p:nvGrpSpPr>
          <p:grpSpPr>
            <a:xfrm>
              <a:off x="7108920" y="2571480"/>
              <a:ext cx="228600" cy="76320"/>
              <a:chOff x="7108920" y="2571480"/>
              <a:chExt cx="228600" cy="76320"/>
            </a:xfrm>
          </p:grpSpPr>
          <p:sp>
            <p:nvSpPr>
              <p:cNvPr id="323" name=""/>
              <p:cNvSpPr/>
              <p:nvPr/>
            </p:nvSpPr>
            <p:spPr>
              <a:xfrm rot="16200000">
                <a:off x="7108920" y="257148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16200000">
                <a:off x="7261200" y="2571480"/>
                <a:ext cx="7632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5" name=""/>
          <p:cNvSpPr/>
          <p:nvPr/>
        </p:nvSpPr>
        <p:spPr>
          <a:xfrm>
            <a:off x="6308640" y="2249640"/>
            <a:ext cx="457200" cy="3808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5927760" y="1982880"/>
            <a:ext cx="1206000" cy="838080"/>
            <a:chOff x="5927760" y="1982880"/>
            <a:chExt cx="1206000" cy="838080"/>
          </a:xfrm>
        </p:grpSpPr>
        <p:sp>
          <p:nvSpPr>
            <p:cNvPr id="327" name=""/>
            <p:cNvSpPr/>
            <p:nvPr/>
          </p:nvSpPr>
          <p:spPr>
            <a:xfrm>
              <a:off x="5927760" y="1982880"/>
              <a:ext cx="533160" cy="45720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27760" y="2363760"/>
              <a:ext cx="533160" cy="45720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6600600" y="2173320"/>
              <a:ext cx="533160" cy="45720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0" name=""/>
          <p:cNvGrpSpPr/>
          <p:nvPr/>
        </p:nvGrpSpPr>
        <p:grpSpPr>
          <a:xfrm>
            <a:off x="6994440" y="2170080"/>
            <a:ext cx="457200" cy="533520"/>
            <a:chOff x="6994440" y="2170080"/>
            <a:chExt cx="457200" cy="533520"/>
          </a:xfrm>
        </p:grpSpPr>
        <p:sp>
          <p:nvSpPr>
            <p:cNvPr id="331" name=""/>
            <p:cNvSpPr/>
            <p:nvPr/>
          </p:nvSpPr>
          <p:spPr>
            <a:xfrm>
              <a:off x="6994440" y="2170080"/>
              <a:ext cx="457200" cy="15228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994440" y="2550960"/>
              <a:ext cx="457200" cy="15264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3" name=""/>
          <p:cNvSpPr/>
          <p:nvPr/>
        </p:nvSpPr>
        <p:spPr>
          <a:xfrm>
            <a:off x="6588000" y="2249640"/>
            <a:ext cx="533520" cy="3808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386760" y="17762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7048800" y="17762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79280" y="2924280"/>
            <a:ext cx="842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s estructuras de Lewis con elementos cuya carga es elevada, son menos comunes que aquellas con una carga pequeñ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79280" y="3716280"/>
            <a:ext cx="8353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 la estructura de Lewis, los átomos cuya carga es negativa, por lo general se colocan con los elementos más electronegativ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896840" y="4581360"/>
            <a:ext cx="56808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¿Cuál es la estructura correcta para el C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9" name=""/>
          <p:cNvGrpSpPr/>
          <p:nvPr/>
        </p:nvGrpSpPr>
        <p:grpSpPr>
          <a:xfrm>
            <a:off x="973800" y="5286240"/>
            <a:ext cx="2457360" cy="953280"/>
            <a:chOff x="973800" y="5286240"/>
            <a:chExt cx="2457360" cy="953280"/>
          </a:xfrm>
        </p:grpSpPr>
        <p:grpSp>
          <p:nvGrpSpPr>
            <p:cNvPr id="340" name=""/>
            <p:cNvGrpSpPr/>
            <p:nvPr/>
          </p:nvGrpSpPr>
          <p:grpSpPr>
            <a:xfrm>
              <a:off x="973800" y="5779800"/>
              <a:ext cx="2457360" cy="459720"/>
              <a:chOff x="973800" y="5779800"/>
              <a:chExt cx="2457360" cy="459720"/>
            </a:xfrm>
          </p:grpSpPr>
          <p:sp>
            <p:nvSpPr>
              <p:cNvPr id="341" name=""/>
              <p:cNvSpPr/>
              <p:nvPr/>
            </p:nvSpPr>
            <p:spPr>
              <a:xfrm>
                <a:off x="973800" y="577980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1652760" y="577980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2332800" y="5779800"/>
                <a:ext cx="418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3030840" y="577980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1301400" y="6008400"/>
                <a:ext cx="380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2698560" y="6008400"/>
                <a:ext cx="3805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47" name=""/>
              <p:cNvGrpSpPr/>
              <p:nvPr/>
            </p:nvGrpSpPr>
            <p:grpSpPr>
              <a:xfrm>
                <a:off x="1733760" y="5779800"/>
                <a:ext cx="227880" cy="75960"/>
                <a:chOff x="1733760" y="5779800"/>
                <a:chExt cx="227880" cy="75960"/>
              </a:xfrm>
            </p:grpSpPr>
            <p:sp>
              <p:nvSpPr>
                <p:cNvPr id="348" name=""/>
                <p:cNvSpPr/>
                <p:nvPr/>
              </p:nvSpPr>
              <p:spPr>
                <a:xfrm rot="5400000">
                  <a:off x="1885680" y="577980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 rot="5400000">
                  <a:off x="1733400" y="5779800"/>
                  <a:ext cx="75960" cy="75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0" name=""/>
              <p:cNvGrpSpPr/>
              <p:nvPr/>
            </p:nvGrpSpPr>
            <p:grpSpPr>
              <a:xfrm>
                <a:off x="2419560" y="5779800"/>
                <a:ext cx="227880" cy="75960"/>
                <a:chOff x="2419560" y="5779800"/>
                <a:chExt cx="227880" cy="75960"/>
              </a:xfrm>
            </p:grpSpPr>
            <p:sp>
              <p:nvSpPr>
                <p:cNvPr id="351" name=""/>
                <p:cNvSpPr/>
                <p:nvPr/>
              </p:nvSpPr>
              <p:spPr>
                <a:xfrm rot="5400000">
                  <a:off x="2571480" y="577980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 rot="5400000">
                  <a:off x="2419200" y="5779800"/>
                  <a:ext cx="75960" cy="75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3" name=""/>
              <p:cNvGrpSpPr/>
              <p:nvPr/>
            </p:nvGrpSpPr>
            <p:grpSpPr>
              <a:xfrm>
                <a:off x="2000160" y="5970240"/>
                <a:ext cx="380520" cy="75960"/>
                <a:chOff x="2000160" y="5970240"/>
                <a:chExt cx="380520" cy="75960"/>
              </a:xfrm>
            </p:grpSpPr>
            <p:sp>
              <p:nvSpPr>
                <p:cNvPr id="354" name=""/>
                <p:cNvSpPr/>
                <p:nvPr/>
              </p:nvSpPr>
              <p:spPr>
                <a:xfrm>
                  <a:off x="2000160" y="5970240"/>
                  <a:ext cx="3805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2000160" y="6046200"/>
                  <a:ext cx="3805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56" name=""/>
            <p:cNvSpPr/>
            <p:nvPr/>
          </p:nvSpPr>
          <p:spPr>
            <a:xfrm>
              <a:off x="1590840" y="528624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2276640" y="5286240"/>
              <a:ext cx="52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8" name=""/>
          <p:cNvGrpSpPr/>
          <p:nvPr/>
        </p:nvGrpSpPr>
        <p:grpSpPr>
          <a:xfrm>
            <a:off x="5856840" y="5241960"/>
            <a:ext cx="1779480" cy="1145520"/>
            <a:chOff x="5856840" y="5241960"/>
            <a:chExt cx="1779480" cy="1145520"/>
          </a:xfrm>
        </p:grpSpPr>
        <p:grpSp>
          <p:nvGrpSpPr>
            <p:cNvPr id="359" name=""/>
            <p:cNvGrpSpPr/>
            <p:nvPr/>
          </p:nvGrpSpPr>
          <p:grpSpPr>
            <a:xfrm>
              <a:off x="5856840" y="5381640"/>
              <a:ext cx="1779480" cy="1005840"/>
              <a:chOff x="5856840" y="5381640"/>
              <a:chExt cx="1779480" cy="1005840"/>
            </a:xfrm>
          </p:grpSpPr>
          <p:grpSp>
            <p:nvGrpSpPr>
              <p:cNvPr id="360" name=""/>
              <p:cNvGrpSpPr/>
              <p:nvPr/>
            </p:nvGrpSpPr>
            <p:grpSpPr>
              <a:xfrm>
                <a:off x="7315200" y="5661000"/>
                <a:ext cx="228600" cy="76320"/>
                <a:chOff x="7315200" y="5661000"/>
                <a:chExt cx="228600" cy="76320"/>
              </a:xfrm>
            </p:grpSpPr>
            <p:sp>
              <p:nvSpPr>
                <p:cNvPr id="361" name=""/>
                <p:cNvSpPr/>
                <p:nvPr/>
              </p:nvSpPr>
              <p:spPr>
                <a:xfrm rot="16200000">
                  <a:off x="7315200" y="566100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 rot="16200000">
                  <a:off x="7467480" y="566100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63" name=""/>
              <p:cNvSpPr/>
              <p:nvPr/>
            </p:nvSpPr>
            <p:spPr>
              <a:xfrm>
                <a:off x="5858640" y="538164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6537960" y="566100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7218000" y="5661000"/>
                <a:ext cx="418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5856840" y="592776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6885000" y="5864040"/>
                <a:ext cx="380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6197760" y="5661000"/>
                <a:ext cx="38088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 flipV="1">
                <a:off x="6197760" y="5978160"/>
                <a:ext cx="38088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6883560" y="5927760"/>
                <a:ext cx="380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71" name=""/>
              <p:cNvGrpSpPr/>
              <p:nvPr/>
            </p:nvGrpSpPr>
            <p:grpSpPr>
              <a:xfrm>
                <a:off x="7315200" y="6041880"/>
                <a:ext cx="228600" cy="76320"/>
                <a:chOff x="7315200" y="6041880"/>
                <a:chExt cx="228600" cy="76320"/>
              </a:xfrm>
            </p:grpSpPr>
            <p:sp>
              <p:nvSpPr>
                <p:cNvPr id="372" name=""/>
                <p:cNvSpPr/>
                <p:nvPr/>
              </p:nvSpPr>
              <p:spPr>
                <a:xfrm rot="16200000">
                  <a:off x="7315200" y="604188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 rot="16200000">
                  <a:off x="7467480" y="604188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74" name=""/>
            <p:cNvSpPr/>
            <p:nvPr/>
          </p:nvSpPr>
          <p:spPr>
            <a:xfrm>
              <a:off x="6593400" y="52419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7255440" y="52419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6" name=""/>
          <p:cNvSpPr/>
          <p:nvPr/>
        </p:nvSpPr>
        <p:spPr>
          <a:xfrm>
            <a:off x="5626080" y="5013360"/>
            <a:ext cx="2362320" cy="16765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/>
          <p:nvPr/>
        </p:nvSpPr>
        <p:spPr>
          <a:xfrm>
            <a:off x="228600" y="138600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a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estructura resonant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urre cuando se requiere más de una estructura de Lewis para representar una molécula, ya que una sola no da cuenta de sus propiedad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2476440" y="4421160"/>
            <a:ext cx="990720" cy="144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638680" y="4421160"/>
            <a:ext cx="990720" cy="144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0" name=""/>
          <p:cNvGrpSpPr/>
          <p:nvPr/>
        </p:nvGrpSpPr>
        <p:grpSpPr>
          <a:xfrm>
            <a:off x="191880" y="3506760"/>
            <a:ext cx="2448360" cy="1475640"/>
            <a:chOff x="191880" y="3506760"/>
            <a:chExt cx="2448360" cy="1475640"/>
          </a:xfrm>
        </p:grpSpPr>
        <p:grpSp>
          <p:nvGrpSpPr>
            <p:cNvPr id="381" name=""/>
            <p:cNvGrpSpPr/>
            <p:nvPr/>
          </p:nvGrpSpPr>
          <p:grpSpPr>
            <a:xfrm>
              <a:off x="380880" y="3684600"/>
              <a:ext cx="2044800" cy="1297800"/>
              <a:chOff x="380880" y="3684600"/>
              <a:chExt cx="2044800" cy="1297800"/>
            </a:xfrm>
          </p:grpSpPr>
          <p:grpSp>
            <p:nvGrpSpPr>
              <p:cNvPr id="382" name=""/>
              <p:cNvGrpSpPr/>
              <p:nvPr/>
            </p:nvGrpSpPr>
            <p:grpSpPr>
              <a:xfrm>
                <a:off x="393120" y="3709800"/>
                <a:ext cx="2018520" cy="1272600"/>
                <a:chOff x="393120" y="3709800"/>
                <a:chExt cx="2018520" cy="1272600"/>
              </a:xfrm>
            </p:grpSpPr>
            <p:sp>
              <p:nvSpPr>
                <p:cNvPr id="383" name=""/>
                <p:cNvSpPr/>
                <p:nvPr/>
              </p:nvSpPr>
              <p:spPr>
                <a:xfrm>
                  <a:off x="393120" y="3709800"/>
                  <a:ext cx="418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>
                  <a:off x="1192680" y="3709800"/>
                  <a:ext cx="400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>
                  <a:off x="1993320" y="3709800"/>
                  <a:ext cx="418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1181880" y="4522680"/>
                  <a:ext cx="418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87" name=""/>
              <p:cNvSpPr/>
              <p:nvPr/>
            </p:nvSpPr>
            <p:spPr>
              <a:xfrm>
                <a:off x="741240" y="3936960"/>
                <a:ext cx="457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1579320" y="3936960"/>
                <a:ext cx="457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 flipV="1">
                <a:off x="1350720" y="4103640"/>
                <a:ext cx="0" cy="457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90" name=""/>
              <p:cNvGrpSpPr/>
              <p:nvPr/>
            </p:nvGrpSpPr>
            <p:grpSpPr>
              <a:xfrm>
                <a:off x="2094840" y="3684600"/>
                <a:ext cx="228600" cy="76320"/>
                <a:chOff x="2094840" y="3684600"/>
                <a:chExt cx="228600" cy="76320"/>
              </a:xfrm>
            </p:grpSpPr>
            <p:sp>
              <p:nvSpPr>
                <p:cNvPr id="391" name=""/>
                <p:cNvSpPr/>
                <p:nvPr/>
              </p:nvSpPr>
              <p:spPr>
                <a:xfrm rot="5400000">
                  <a:off x="2247120" y="368460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 rot="5400000">
                  <a:off x="2094480" y="368460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3" name=""/>
              <p:cNvGrpSpPr/>
              <p:nvPr/>
            </p:nvGrpSpPr>
            <p:grpSpPr>
              <a:xfrm>
                <a:off x="2349360" y="3824280"/>
                <a:ext cx="76320" cy="228600"/>
                <a:chOff x="2349360" y="3824280"/>
                <a:chExt cx="76320" cy="228600"/>
              </a:xfrm>
            </p:grpSpPr>
            <p:sp>
              <p:nvSpPr>
                <p:cNvPr id="394" name=""/>
                <p:cNvSpPr/>
                <p:nvPr/>
              </p:nvSpPr>
              <p:spPr>
                <a:xfrm>
                  <a:off x="2349360" y="382428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5" name=""/>
                <p:cNvSpPr/>
                <p:nvPr/>
              </p:nvSpPr>
              <p:spPr>
                <a:xfrm>
                  <a:off x="2349360" y="397692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6" name=""/>
              <p:cNvGrpSpPr/>
              <p:nvPr/>
            </p:nvGrpSpPr>
            <p:grpSpPr>
              <a:xfrm>
                <a:off x="2094840" y="4103640"/>
                <a:ext cx="228600" cy="76320"/>
                <a:chOff x="2094840" y="4103640"/>
                <a:chExt cx="228600" cy="76320"/>
              </a:xfrm>
            </p:grpSpPr>
            <p:sp>
              <p:nvSpPr>
                <p:cNvPr id="397" name=""/>
                <p:cNvSpPr/>
                <p:nvPr/>
              </p:nvSpPr>
              <p:spPr>
                <a:xfrm rot="5400000">
                  <a:off x="2247120" y="410364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 rot="5400000">
                  <a:off x="2094480" y="410364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9" name=""/>
              <p:cNvGrpSpPr/>
              <p:nvPr/>
            </p:nvGrpSpPr>
            <p:grpSpPr>
              <a:xfrm>
                <a:off x="1155600" y="4637160"/>
                <a:ext cx="75960" cy="228600"/>
                <a:chOff x="1155600" y="4637160"/>
                <a:chExt cx="75960" cy="228600"/>
              </a:xfrm>
            </p:grpSpPr>
            <p:sp>
              <p:nvSpPr>
                <p:cNvPr id="400" name=""/>
                <p:cNvSpPr/>
                <p:nvPr/>
              </p:nvSpPr>
              <p:spPr>
                <a:xfrm>
                  <a:off x="1155600" y="463716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1" name=""/>
                <p:cNvSpPr/>
                <p:nvPr/>
              </p:nvSpPr>
              <p:spPr>
                <a:xfrm>
                  <a:off x="1155600" y="478980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2" name=""/>
              <p:cNvGrpSpPr/>
              <p:nvPr/>
            </p:nvGrpSpPr>
            <p:grpSpPr>
              <a:xfrm>
                <a:off x="1536480" y="4637160"/>
                <a:ext cx="76320" cy="228600"/>
                <a:chOff x="1536480" y="4637160"/>
                <a:chExt cx="76320" cy="228600"/>
              </a:xfrm>
            </p:grpSpPr>
            <p:sp>
              <p:nvSpPr>
                <p:cNvPr id="403" name=""/>
                <p:cNvSpPr/>
                <p:nvPr/>
              </p:nvSpPr>
              <p:spPr>
                <a:xfrm>
                  <a:off x="1536480" y="463716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>
                  <a:off x="1536480" y="478980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5" name=""/>
              <p:cNvGrpSpPr/>
              <p:nvPr/>
            </p:nvGrpSpPr>
            <p:grpSpPr>
              <a:xfrm>
                <a:off x="469800" y="3684600"/>
                <a:ext cx="228600" cy="76320"/>
                <a:chOff x="469800" y="3684600"/>
                <a:chExt cx="228600" cy="76320"/>
              </a:xfrm>
            </p:grpSpPr>
            <p:sp>
              <p:nvSpPr>
                <p:cNvPr id="406" name=""/>
                <p:cNvSpPr/>
                <p:nvPr/>
              </p:nvSpPr>
              <p:spPr>
                <a:xfrm flipH="1" rot="16200000">
                  <a:off x="469800" y="368460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 flipH="1" rot="16200000">
                  <a:off x="621720" y="368460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8" name=""/>
              <p:cNvGrpSpPr/>
              <p:nvPr/>
            </p:nvGrpSpPr>
            <p:grpSpPr>
              <a:xfrm>
                <a:off x="380880" y="3823920"/>
                <a:ext cx="75960" cy="228600"/>
                <a:chOff x="380880" y="3823920"/>
                <a:chExt cx="75960" cy="228600"/>
              </a:xfrm>
            </p:grpSpPr>
            <p:sp>
              <p:nvSpPr>
                <p:cNvPr id="409" name=""/>
                <p:cNvSpPr/>
                <p:nvPr/>
              </p:nvSpPr>
              <p:spPr>
                <a:xfrm flipH="1" rot="10800000">
                  <a:off x="380520" y="397620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 flipH="1" rot="10800000">
                  <a:off x="380520" y="382392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1" name=""/>
              <p:cNvGrpSpPr/>
              <p:nvPr/>
            </p:nvGrpSpPr>
            <p:grpSpPr>
              <a:xfrm>
                <a:off x="469800" y="4103640"/>
                <a:ext cx="228600" cy="76320"/>
                <a:chOff x="469800" y="4103640"/>
                <a:chExt cx="228600" cy="76320"/>
              </a:xfrm>
            </p:grpSpPr>
            <p:sp>
              <p:nvSpPr>
                <p:cNvPr id="412" name=""/>
                <p:cNvSpPr/>
                <p:nvPr/>
              </p:nvSpPr>
              <p:spPr>
                <a:xfrm flipH="1" rot="16200000">
                  <a:off x="469800" y="410364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 flipH="1" rot="16200000">
                  <a:off x="621720" y="410364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14" name=""/>
              <p:cNvSpPr/>
              <p:nvPr/>
            </p:nvSpPr>
            <p:spPr>
              <a:xfrm flipV="1">
                <a:off x="1422360" y="4103640"/>
                <a:ext cx="0" cy="457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15" name=""/>
            <p:cNvSpPr/>
            <p:nvPr/>
          </p:nvSpPr>
          <p:spPr>
            <a:xfrm>
              <a:off x="191880" y="350676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2357280" y="350676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7" name=""/>
          <p:cNvGrpSpPr/>
          <p:nvPr/>
        </p:nvGrpSpPr>
        <p:grpSpPr>
          <a:xfrm>
            <a:off x="3555360" y="3506760"/>
            <a:ext cx="2234520" cy="1653480"/>
            <a:chOff x="3555360" y="3506760"/>
            <a:chExt cx="2234520" cy="1653480"/>
          </a:xfrm>
        </p:grpSpPr>
        <p:grpSp>
          <p:nvGrpSpPr>
            <p:cNvPr id="418" name=""/>
            <p:cNvGrpSpPr/>
            <p:nvPr/>
          </p:nvGrpSpPr>
          <p:grpSpPr>
            <a:xfrm>
              <a:off x="3555360" y="3684600"/>
              <a:ext cx="2032560" cy="1297800"/>
              <a:chOff x="3555360" y="3684600"/>
              <a:chExt cx="2032560" cy="1297800"/>
            </a:xfrm>
          </p:grpSpPr>
          <p:grpSp>
            <p:nvGrpSpPr>
              <p:cNvPr id="419" name=""/>
              <p:cNvGrpSpPr/>
              <p:nvPr/>
            </p:nvGrpSpPr>
            <p:grpSpPr>
              <a:xfrm>
                <a:off x="4431960" y="4890960"/>
                <a:ext cx="228600" cy="76320"/>
                <a:chOff x="4431960" y="4890960"/>
                <a:chExt cx="228600" cy="76320"/>
              </a:xfrm>
            </p:grpSpPr>
            <p:sp>
              <p:nvSpPr>
                <p:cNvPr id="420" name=""/>
                <p:cNvSpPr/>
                <p:nvPr/>
              </p:nvSpPr>
              <p:spPr>
                <a:xfrm rot="5400000">
                  <a:off x="4584240" y="489096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1" name=""/>
                <p:cNvSpPr/>
                <p:nvPr/>
              </p:nvSpPr>
              <p:spPr>
                <a:xfrm rot="5400000">
                  <a:off x="4431600" y="489096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2" name=""/>
              <p:cNvGrpSpPr/>
              <p:nvPr/>
            </p:nvGrpSpPr>
            <p:grpSpPr>
              <a:xfrm>
                <a:off x="3555360" y="3709800"/>
                <a:ext cx="2018520" cy="1272600"/>
                <a:chOff x="3555360" y="3709800"/>
                <a:chExt cx="2018520" cy="1272600"/>
              </a:xfrm>
            </p:grpSpPr>
            <p:sp>
              <p:nvSpPr>
                <p:cNvPr id="423" name=""/>
                <p:cNvSpPr/>
                <p:nvPr/>
              </p:nvSpPr>
              <p:spPr>
                <a:xfrm>
                  <a:off x="3555360" y="3709800"/>
                  <a:ext cx="418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4" name=""/>
                <p:cNvSpPr/>
                <p:nvPr/>
              </p:nvSpPr>
              <p:spPr>
                <a:xfrm>
                  <a:off x="4354920" y="3709800"/>
                  <a:ext cx="400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5" name=""/>
                <p:cNvSpPr/>
                <p:nvPr/>
              </p:nvSpPr>
              <p:spPr>
                <a:xfrm>
                  <a:off x="5155560" y="3709800"/>
                  <a:ext cx="418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6" name=""/>
                <p:cNvSpPr/>
                <p:nvPr/>
              </p:nvSpPr>
              <p:spPr>
                <a:xfrm>
                  <a:off x="4344120" y="4522680"/>
                  <a:ext cx="418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27" name=""/>
              <p:cNvSpPr/>
              <p:nvPr/>
            </p:nvSpPr>
            <p:spPr>
              <a:xfrm>
                <a:off x="3903840" y="3911400"/>
                <a:ext cx="457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4741920" y="3936960"/>
                <a:ext cx="457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 flipV="1">
                <a:off x="4564080" y="4103640"/>
                <a:ext cx="0" cy="457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30" name=""/>
              <p:cNvGrpSpPr/>
              <p:nvPr/>
            </p:nvGrpSpPr>
            <p:grpSpPr>
              <a:xfrm>
                <a:off x="5257440" y="3684600"/>
                <a:ext cx="228600" cy="76320"/>
                <a:chOff x="5257440" y="3684600"/>
                <a:chExt cx="228600" cy="76320"/>
              </a:xfrm>
            </p:grpSpPr>
            <p:sp>
              <p:nvSpPr>
                <p:cNvPr id="431" name=""/>
                <p:cNvSpPr/>
                <p:nvPr/>
              </p:nvSpPr>
              <p:spPr>
                <a:xfrm rot="5400000">
                  <a:off x="5409720" y="368460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2" name=""/>
                <p:cNvSpPr/>
                <p:nvPr/>
              </p:nvSpPr>
              <p:spPr>
                <a:xfrm rot="5400000">
                  <a:off x="5257080" y="368460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3" name=""/>
              <p:cNvGrpSpPr/>
              <p:nvPr/>
            </p:nvGrpSpPr>
            <p:grpSpPr>
              <a:xfrm>
                <a:off x="5511960" y="3824280"/>
                <a:ext cx="75960" cy="228600"/>
                <a:chOff x="5511960" y="3824280"/>
                <a:chExt cx="75960" cy="228600"/>
              </a:xfrm>
            </p:grpSpPr>
            <p:sp>
              <p:nvSpPr>
                <p:cNvPr id="434" name=""/>
                <p:cNvSpPr/>
                <p:nvPr/>
              </p:nvSpPr>
              <p:spPr>
                <a:xfrm>
                  <a:off x="5511960" y="382428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>
                  <a:off x="5511960" y="397692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6" name=""/>
              <p:cNvGrpSpPr/>
              <p:nvPr/>
            </p:nvGrpSpPr>
            <p:grpSpPr>
              <a:xfrm>
                <a:off x="5257440" y="4103640"/>
                <a:ext cx="228600" cy="76320"/>
                <a:chOff x="5257440" y="4103640"/>
                <a:chExt cx="228600" cy="76320"/>
              </a:xfrm>
            </p:grpSpPr>
            <p:sp>
              <p:nvSpPr>
                <p:cNvPr id="437" name=""/>
                <p:cNvSpPr/>
                <p:nvPr/>
              </p:nvSpPr>
              <p:spPr>
                <a:xfrm rot="5400000">
                  <a:off x="5409720" y="410364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8" name=""/>
                <p:cNvSpPr/>
                <p:nvPr/>
              </p:nvSpPr>
              <p:spPr>
                <a:xfrm rot="5400000">
                  <a:off x="5257080" y="410364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9" name=""/>
              <p:cNvGrpSpPr/>
              <p:nvPr/>
            </p:nvGrpSpPr>
            <p:grpSpPr>
              <a:xfrm>
                <a:off x="4317840" y="4637160"/>
                <a:ext cx="76320" cy="228600"/>
                <a:chOff x="4317840" y="4637160"/>
                <a:chExt cx="76320" cy="228600"/>
              </a:xfrm>
            </p:grpSpPr>
            <p:sp>
              <p:nvSpPr>
                <p:cNvPr id="440" name=""/>
                <p:cNvSpPr/>
                <p:nvPr/>
              </p:nvSpPr>
              <p:spPr>
                <a:xfrm>
                  <a:off x="4317840" y="463716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1" name=""/>
                <p:cNvSpPr/>
                <p:nvPr/>
              </p:nvSpPr>
              <p:spPr>
                <a:xfrm>
                  <a:off x="4317840" y="478980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2" name=""/>
              <p:cNvGrpSpPr/>
              <p:nvPr/>
            </p:nvGrpSpPr>
            <p:grpSpPr>
              <a:xfrm>
                <a:off x="4699080" y="4637160"/>
                <a:ext cx="75960" cy="228600"/>
                <a:chOff x="4699080" y="4637160"/>
                <a:chExt cx="75960" cy="228600"/>
              </a:xfrm>
            </p:grpSpPr>
            <p:sp>
              <p:nvSpPr>
                <p:cNvPr id="443" name=""/>
                <p:cNvSpPr/>
                <p:nvPr/>
              </p:nvSpPr>
              <p:spPr>
                <a:xfrm>
                  <a:off x="4699080" y="463716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4" name=""/>
                <p:cNvSpPr/>
                <p:nvPr/>
              </p:nvSpPr>
              <p:spPr>
                <a:xfrm>
                  <a:off x="4699080" y="478980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5" name=""/>
              <p:cNvGrpSpPr/>
              <p:nvPr/>
            </p:nvGrpSpPr>
            <p:grpSpPr>
              <a:xfrm>
                <a:off x="3632040" y="3684600"/>
                <a:ext cx="228600" cy="76320"/>
                <a:chOff x="3632040" y="3684600"/>
                <a:chExt cx="228600" cy="76320"/>
              </a:xfrm>
            </p:grpSpPr>
            <p:sp>
              <p:nvSpPr>
                <p:cNvPr id="446" name=""/>
                <p:cNvSpPr/>
                <p:nvPr/>
              </p:nvSpPr>
              <p:spPr>
                <a:xfrm flipH="1" rot="16200000">
                  <a:off x="3632040" y="368460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7" name=""/>
                <p:cNvSpPr/>
                <p:nvPr/>
              </p:nvSpPr>
              <p:spPr>
                <a:xfrm flipH="1" rot="16200000">
                  <a:off x="3783960" y="368460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8" name=""/>
              <p:cNvGrpSpPr/>
              <p:nvPr/>
            </p:nvGrpSpPr>
            <p:grpSpPr>
              <a:xfrm>
                <a:off x="3632040" y="4103640"/>
                <a:ext cx="228600" cy="76320"/>
                <a:chOff x="3632040" y="4103640"/>
                <a:chExt cx="228600" cy="76320"/>
              </a:xfrm>
            </p:grpSpPr>
            <p:sp>
              <p:nvSpPr>
                <p:cNvPr id="449" name=""/>
                <p:cNvSpPr/>
                <p:nvPr/>
              </p:nvSpPr>
              <p:spPr>
                <a:xfrm flipH="1" rot="16200000">
                  <a:off x="3632040" y="410364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0" name=""/>
                <p:cNvSpPr/>
                <p:nvPr/>
              </p:nvSpPr>
              <p:spPr>
                <a:xfrm flipH="1" rot="16200000">
                  <a:off x="3783960" y="410364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51" name=""/>
              <p:cNvSpPr/>
              <p:nvPr/>
            </p:nvSpPr>
            <p:spPr>
              <a:xfrm>
                <a:off x="3911760" y="3989520"/>
                <a:ext cx="457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2" name=""/>
            <p:cNvSpPr/>
            <p:nvPr/>
          </p:nvSpPr>
          <p:spPr>
            <a:xfrm>
              <a:off x="5506920" y="350676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4662360" y="470052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4" name=""/>
          <p:cNvGrpSpPr/>
          <p:nvPr/>
        </p:nvGrpSpPr>
        <p:grpSpPr>
          <a:xfrm>
            <a:off x="6472080" y="3506760"/>
            <a:ext cx="2213280" cy="1653480"/>
            <a:chOff x="6472080" y="3506760"/>
            <a:chExt cx="2213280" cy="1653480"/>
          </a:xfrm>
        </p:grpSpPr>
        <p:grpSp>
          <p:nvGrpSpPr>
            <p:cNvPr id="455" name=""/>
            <p:cNvGrpSpPr/>
            <p:nvPr/>
          </p:nvGrpSpPr>
          <p:grpSpPr>
            <a:xfrm>
              <a:off x="6652800" y="3684600"/>
              <a:ext cx="2032560" cy="1297800"/>
              <a:chOff x="6652800" y="3684600"/>
              <a:chExt cx="2032560" cy="1297800"/>
            </a:xfrm>
          </p:grpSpPr>
          <p:grpSp>
            <p:nvGrpSpPr>
              <p:cNvPr id="456" name=""/>
              <p:cNvGrpSpPr/>
              <p:nvPr/>
            </p:nvGrpSpPr>
            <p:grpSpPr>
              <a:xfrm>
                <a:off x="7580160" y="4890960"/>
                <a:ext cx="228600" cy="76320"/>
                <a:chOff x="7580160" y="4890960"/>
                <a:chExt cx="228600" cy="76320"/>
              </a:xfrm>
            </p:grpSpPr>
            <p:sp>
              <p:nvSpPr>
                <p:cNvPr id="457" name=""/>
                <p:cNvSpPr/>
                <p:nvPr/>
              </p:nvSpPr>
              <p:spPr>
                <a:xfrm flipH="1" rot="16200000">
                  <a:off x="7580160" y="489096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8" name=""/>
                <p:cNvSpPr/>
                <p:nvPr/>
              </p:nvSpPr>
              <p:spPr>
                <a:xfrm flipH="1" rot="16200000">
                  <a:off x="7732080" y="489096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9" name=""/>
              <p:cNvGrpSpPr/>
              <p:nvPr/>
            </p:nvGrpSpPr>
            <p:grpSpPr>
              <a:xfrm>
                <a:off x="6666840" y="3709800"/>
                <a:ext cx="2018520" cy="1272600"/>
                <a:chOff x="6666840" y="3709800"/>
                <a:chExt cx="2018520" cy="1272600"/>
              </a:xfrm>
            </p:grpSpPr>
            <p:sp>
              <p:nvSpPr>
                <p:cNvPr id="460" name=""/>
                <p:cNvSpPr/>
                <p:nvPr/>
              </p:nvSpPr>
              <p:spPr>
                <a:xfrm flipH="1">
                  <a:off x="8267040" y="3709800"/>
                  <a:ext cx="418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1" name=""/>
                <p:cNvSpPr/>
                <p:nvPr/>
              </p:nvSpPr>
              <p:spPr>
                <a:xfrm flipH="1">
                  <a:off x="7485480" y="3709800"/>
                  <a:ext cx="400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2" name=""/>
                <p:cNvSpPr/>
                <p:nvPr/>
              </p:nvSpPr>
              <p:spPr>
                <a:xfrm flipH="1">
                  <a:off x="6666840" y="3709800"/>
                  <a:ext cx="418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3" name=""/>
                <p:cNvSpPr/>
                <p:nvPr/>
              </p:nvSpPr>
              <p:spPr>
                <a:xfrm flipH="1">
                  <a:off x="7478280" y="4522680"/>
                  <a:ext cx="418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64" name=""/>
              <p:cNvSpPr/>
              <p:nvPr/>
            </p:nvSpPr>
            <p:spPr>
              <a:xfrm flipH="1">
                <a:off x="7879680" y="3911400"/>
                <a:ext cx="457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7041600" y="3936960"/>
                <a:ext cx="457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V="1">
                <a:off x="7676640" y="4103640"/>
                <a:ext cx="0" cy="457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67" name=""/>
              <p:cNvGrpSpPr/>
              <p:nvPr/>
            </p:nvGrpSpPr>
            <p:grpSpPr>
              <a:xfrm>
                <a:off x="6754680" y="3684600"/>
                <a:ext cx="228600" cy="76320"/>
                <a:chOff x="6754680" y="3684600"/>
                <a:chExt cx="228600" cy="76320"/>
              </a:xfrm>
            </p:grpSpPr>
            <p:sp>
              <p:nvSpPr>
                <p:cNvPr id="468" name=""/>
                <p:cNvSpPr/>
                <p:nvPr/>
              </p:nvSpPr>
              <p:spPr>
                <a:xfrm flipH="1" rot="16200000">
                  <a:off x="6754680" y="368460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 flipH="1" rot="16200000">
                  <a:off x="6906600" y="368460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0" name=""/>
              <p:cNvGrpSpPr/>
              <p:nvPr/>
            </p:nvGrpSpPr>
            <p:grpSpPr>
              <a:xfrm>
                <a:off x="6652800" y="3824280"/>
                <a:ext cx="75960" cy="228600"/>
                <a:chOff x="6652800" y="3824280"/>
                <a:chExt cx="75960" cy="228600"/>
              </a:xfrm>
            </p:grpSpPr>
            <p:sp>
              <p:nvSpPr>
                <p:cNvPr id="471" name=""/>
                <p:cNvSpPr/>
                <p:nvPr/>
              </p:nvSpPr>
              <p:spPr>
                <a:xfrm flipH="1">
                  <a:off x="6652440" y="382428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2" name=""/>
                <p:cNvSpPr/>
                <p:nvPr/>
              </p:nvSpPr>
              <p:spPr>
                <a:xfrm flipH="1">
                  <a:off x="6652440" y="397692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3" name=""/>
              <p:cNvGrpSpPr/>
              <p:nvPr/>
            </p:nvGrpSpPr>
            <p:grpSpPr>
              <a:xfrm>
                <a:off x="6754680" y="4103640"/>
                <a:ext cx="228600" cy="76320"/>
                <a:chOff x="6754680" y="4103640"/>
                <a:chExt cx="228600" cy="76320"/>
              </a:xfrm>
            </p:grpSpPr>
            <p:sp>
              <p:nvSpPr>
                <p:cNvPr id="474" name=""/>
                <p:cNvSpPr/>
                <p:nvPr/>
              </p:nvSpPr>
              <p:spPr>
                <a:xfrm flipH="1" rot="16200000">
                  <a:off x="6754680" y="410364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5" name=""/>
                <p:cNvSpPr/>
                <p:nvPr/>
              </p:nvSpPr>
              <p:spPr>
                <a:xfrm flipH="1" rot="16200000">
                  <a:off x="6906600" y="410364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6" name=""/>
              <p:cNvGrpSpPr/>
              <p:nvPr/>
            </p:nvGrpSpPr>
            <p:grpSpPr>
              <a:xfrm>
                <a:off x="7846560" y="4637160"/>
                <a:ext cx="76320" cy="228600"/>
                <a:chOff x="7846560" y="4637160"/>
                <a:chExt cx="76320" cy="228600"/>
              </a:xfrm>
            </p:grpSpPr>
            <p:sp>
              <p:nvSpPr>
                <p:cNvPr id="477" name=""/>
                <p:cNvSpPr/>
                <p:nvPr/>
              </p:nvSpPr>
              <p:spPr>
                <a:xfrm flipH="1">
                  <a:off x="7846560" y="463716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8" name=""/>
                <p:cNvSpPr/>
                <p:nvPr/>
              </p:nvSpPr>
              <p:spPr>
                <a:xfrm flipH="1">
                  <a:off x="7846560" y="478980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9" name=""/>
              <p:cNvGrpSpPr/>
              <p:nvPr/>
            </p:nvGrpSpPr>
            <p:grpSpPr>
              <a:xfrm>
                <a:off x="7465680" y="4637160"/>
                <a:ext cx="75960" cy="228600"/>
                <a:chOff x="7465680" y="4637160"/>
                <a:chExt cx="75960" cy="228600"/>
              </a:xfrm>
            </p:grpSpPr>
            <p:sp>
              <p:nvSpPr>
                <p:cNvPr id="480" name=""/>
                <p:cNvSpPr/>
                <p:nvPr/>
              </p:nvSpPr>
              <p:spPr>
                <a:xfrm flipH="1">
                  <a:off x="7465320" y="463716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1" name=""/>
                <p:cNvSpPr/>
                <p:nvPr/>
              </p:nvSpPr>
              <p:spPr>
                <a:xfrm flipH="1">
                  <a:off x="7465320" y="478980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2" name=""/>
              <p:cNvGrpSpPr/>
              <p:nvPr/>
            </p:nvGrpSpPr>
            <p:grpSpPr>
              <a:xfrm>
                <a:off x="8380080" y="3684600"/>
                <a:ext cx="228600" cy="76320"/>
                <a:chOff x="8380080" y="3684600"/>
                <a:chExt cx="228600" cy="76320"/>
              </a:xfrm>
            </p:grpSpPr>
            <p:sp>
              <p:nvSpPr>
                <p:cNvPr id="483" name=""/>
                <p:cNvSpPr/>
                <p:nvPr/>
              </p:nvSpPr>
              <p:spPr>
                <a:xfrm rot="5400000">
                  <a:off x="8532360" y="368460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4" name=""/>
                <p:cNvSpPr/>
                <p:nvPr/>
              </p:nvSpPr>
              <p:spPr>
                <a:xfrm rot="5400000">
                  <a:off x="8379720" y="368460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5" name=""/>
              <p:cNvGrpSpPr/>
              <p:nvPr/>
            </p:nvGrpSpPr>
            <p:grpSpPr>
              <a:xfrm>
                <a:off x="8380080" y="4103640"/>
                <a:ext cx="228600" cy="76320"/>
                <a:chOff x="8380080" y="4103640"/>
                <a:chExt cx="228600" cy="76320"/>
              </a:xfrm>
            </p:grpSpPr>
            <p:sp>
              <p:nvSpPr>
                <p:cNvPr id="486" name=""/>
                <p:cNvSpPr/>
                <p:nvPr/>
              </p:nvSpPr>
              <p:spPr>
                <a:xfrm rot="5400000">
                  <a:off x="8532360" y="410364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7" name=""/>
                <p:cNvSpPr/>
                <p:nvPr/>
              </p:nvSpPr>
              <p:spPr>
                <a:xfrm rot="5400000">
                  <a:off x="8379720" y="410364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88" name=""/>
              <p:cNvSpPr/>
              <p:nvPr/>
            </p:nvSpPr>
            <p:spPr>
              <a:xfrm flipH="1">
                <a:off x="7871760" y="3989520"/>
                <a:ext cx="457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9" name=""/>
            <p:cNvSpPr/>
            <p:nvPr/>
          </p:nvSpPr>
          <p:spPr>
            <a:xfrm>
              <a:off x="6472080" y="350676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7805520" y="470052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1" name=""/>
          <p:cNvSpPr/>
          <p:nvPr/>
        </p:nvSpPr>
        <p:spPr>
          <a:xfrm>
            <a:off x="250920" y="2709720"/>
            <a:ext cx="79214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Ión carbonato: CO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s-ES_tradnl" sz="20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. Todos los enlaces C-O son equivalent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2627280" y="47628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structuras resona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1" dur="indefinite" restart="never" nodeType="tmRoot">
          <p:childTnLst>
            <p:seq>
              <p:cTn id="562" dur="indefinite" nodeType="mainSeq">
                <p:childTnLst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"/>
          <p:cNvSpPr/>
          <p:nvPr/>
        </p:nvSpPr>
        <p:spPr>
          <a:xfrm>
            <a:off x="395280" y="380880"/>
            <a:ext cx="8280360" cy="4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jemplo: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scribir la/s estructura/s de Lewis del anión perclorato, ClO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4</a:t>
            </a:r>
            <a:r>
              <a:rPr b="0" lang="es-ES" sz="20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324000" y="907920"/>
            <a:ext cx="74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l Cl es el átomo central, los O son los átomos periférico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5" name=""/>
          <p:cNvGraphicFramePr/>
          <p:nvPr/>
        </p:nvGraphicFramePr>
        <p:xfrm>
          <a:off x="324000" y="1484280"/>
          <a:ext cx="4465440" cy="270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484280"/>
                    <a:ext cx="4465440" cy="270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7" name=""/>
          <p:cNvGraphicFramePr/>
          <p:nvPr/>
        </p:nvGraphicFramePr>
        <p:xfrm>
          <a:off x="324000" y="4437000"/>
          <a:ext cx="2016000" cy="1408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4000" y="4437000"/>
                    <a:ext cx="2016000" cy="14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9" name=""/>
          <p:cNvGraphicFramePr/>
          <p:nvPr/>
        </p:nvGraphicFramePr>
        <p:xfrm>
          <a:off x="3276720" y="4640400"/>
          <a:ext cx="5616360" cy="1236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0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276720" y="4640400"/>
                    <a:ext cx="5616360" cy="123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1" name=""/>
          <p:cNvGraphicFramePr/>
          <p:nvPr/>
        </p:nvGraphicFramePr>
        <p:xfrm>
          <a:off x="2484360" y="4941720"/>
          <a:ext cx="676440" cy="443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0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484360" y="4941720"/>
                    <a:ext cx="676440" cy="44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3" name=""/>
          <p:cNvSpPr/>
          <p:nvPr/>
        </p:nvSpPr>
        <p:spPr>
          <a:xfrm>
            <a:off x="3203640" y="6237360"/>
            <a:ext cx="32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FORMAS RESONANTES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1" dur="indefinite" restart="never" nodeType="tmRoot">
          <p:childTnLst>
            <p:seq>
              <p:cTn id="592" dur="indefinite" nodeType="mainSeq">
                <p:childTnLst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/>
          <p:nvPr/>
        </p:nvSpPr>
        <p:spPr>
          <a:xfrm>
            <a:off x="250920" y="1757520"/>
            <a:ext cx="856908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l azufre forma compuestos donde queda rodeado por un número mayor a ocho electrones. Ejemplo: Hexafluoruro de azufre, SF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6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un S con seis enlaces doce electrones en la capa de valencia. No cumple la “regla del octet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o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250920" y="3152880"/>
            <a:ext cx="8569080" cy="17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l N y el P pertenecen al mismo grupo igual nº electrones de valencia, 5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NF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y PF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3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on isoelectrónicas igual estructura de Lewi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in embargo, el fósforo forma además el Pentafluoruro de fósforo, PF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5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un P con cinco enlaces: diez electrones en la capa de valencia.  No cumple la “regla del octet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o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6" name="" descr=""/>
          <p:cNvPicPr/>
          <p:nvPr/>
        </p:nvPicPr>
        <p:blipFill>
          <a:blip r:embed="rId1"/>
          <a:stretch/>
        </p:blipFill>
        <p:spPr>
          <a:xfrm>
            <a:off x="250920" y="4933800"/>
            <a:ext cx="4135320" cy="1860840"/>
          </a:xfrm>
          <a:prstGeom prst="rect">
            <a:avLst/>
          </a:prstGeom>
          <a:ln w="0">
            <a:noFill/>
          </a:ln>
        </p:spPr>
      </p:pic>
      <p:pic>
        <p:nvPicPr>
          <p:cNvPr id="507" name="" descr=""/>
          <p:cNvPicPr/>
          <p:nvPr/>
        </p:nvPicPr>
        <p:blipFill>
          <a:blip r:embed="rId2"/>
          <a:stretch/>
        </p:blipFill>
        <p:spPr>
          <a:xfrm>
            <a:off x="4643280" y="4933800"/>
            <a:ext cx="4176720" cy="1879920"/>
          </a:xfrm>
          <a:prstGeom prst="rect">
            <a:avLst/>
          </a:prstGeom>
          <a:ln w="0">
            <a:noFill/>
          </a:ln>
        </p:spPr>
      </p:pic>
      <p:sp>
        <p:nvSpPr>
          <p:cNvPr id="508" name=""/>
          <p:cNvSpPr/>
          <p:nvPr/>
        </p:nvSpPr>
        <p:spPr>
          <a:xfrm>
            <a:off x="755640" y="981000"/>
            <a:ext cx="770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structuras de Lewis de moléculas hipervalentes (octetos expandido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1764720" y="189000"/>
            <a:ext cx="560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cepciones de la regla del octe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"/>
          <p:cNvSpPr/>
          <p:nvPr/>
        </p:nvSpPr>
        <p:spPr>
          <a:xfrm>
            <a:off x="596880" y="552600"/>
            <a:ext cx="7935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structuras de Lewis de moléculas con átomos con octetos incompletos (hipovalent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11280" y="1413000"/>
            <a:ext cx="784836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l B (y todos los elementos de su grupo), 1s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2s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2p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, solo tiene 3 electrones de valencia. Solo tiene 3 electrones para compartir.  Caso trifluoruro de Boro: B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603360" y="3933720"/>
            <a:ext cx="8001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l B solo está rodeado por 6 e y no por 8. Tiene la posibilidad de aceptar 2e de un par solitario de otro átomo, de uno de los F, del N del amoniaco...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3" name="" descr=""/>
          <p:cNvPicPr/>
          <p:nvPr/>
        </p:nvPicPr>
        <p:blipFill>
          <a:blip r:embed="rId1"/>
          <a:stretch/>
        </p:blipFill>
        <p:spPr>
          <a:xfrm>
            <a:off x="2268360" y="2565360"/>
            <a:ext cx="4824720" cy="1042920"/>
          </a:xfrm>
          <a:prstGeom prst="rect">
            <a:avLst/>
          </a:prstGeom>
          <a:ln w="0">
            <a:noFill/>
          </a:ln>
        </p:spPr>
      </p:pic>
      <p:pic>
        <p:nvPicPr>
          <p:cNvPr id="514" name="" descr=""/>
          <p:cNvPicPr/>
          <p:nvPr/>
        </p:nvPicPr>
        <p:blipFill>
          <a:blip r:embed="rId2"/>
          <a:stretch/>
        </p:blipFill>
        <p:spPr>
          <a:xfrm>
            <a:off x="5075280" y="5013360"/>
            <a:ext cx="2376360" cy="1625400"/>
          </a:xfrm>
          <a:prstGeom prst="rect">
            <a:avLst/>
          </a:prstGeom>
          <a:ln w="0">
            <a:noFill/>
          </a:ln>
        </p:spPr>
      </p:pic>
      <p:pic>
        <p:nvPicPr>
          <p:cNvPr id="515" name="" descr=""/>
          <p:cNvPicPr/>
          <p:nvPr/>
        </p:nvPicPr>
        <p:blipFill>
          <a:blip r:embed="rId3"/>
          <a:stretch/>
        </p:blipFill>
        <p:spPr>
          <a:xfrm>
            <a:off x="1187280" y="5046840"/>
            <a:ext cx="2951280" cy="1649160"/>
          </a:xfrm>
          <a:prstGeom prst="rect">
            <a:avLst/>
          </a:prstGeom>
          <a:ln w="0">
            <a:noFill/>
          </a:ln>
        </p:spPr>
      </p:pic>
      <p:pic>
        <p:nvPicPr>
          <p:cNvPr id="516" name="" descr=""/>
          <p:cNvPicPr/>
          <p:nvPr/>
        </p:nvPicPr>
        <p:blipFill>
          <a:blip r:embed="rId4"/>
          <a:stretch/>
        </p:blipFill>
        <p:spPr>
          <a:xfrm>
            <a:off x="4427640" y="5734080"/>
            <a:ext cx="4046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"/>
          <p:cNvSpPr/>
          <p:nvPr/>
        </p:nvSpPr>
        <p:spPr>
          <a:xfrm>
            <a:off x="250920" y="333360"/>
            <a:ext cx="23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ro ejemp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8" name=""/>
          <p:cNvGrpSpPr/>
          <p:nvPr/>
        </p:nvGrpSpPr>
        <p:grpSpPr>
          <a:xfrm>
            <a:off x="4080600" y="1609560"/>
            <a:ext cx="2024280" cy="459720"/>
            <a:chOff x="4080600" y="1609560"/>
            <a:chExt cx="2024280" cy="459720"/>
          </a:xfrm>
        </p:grpSpPr>
        <p:sp>
          <p:nvSpPr>
            <p:cNvPr id="519" name=""/>
            <p:cNvSpPr/>
            <p:nvPr/>
          </p:nvSpPr>
          <p:spPr>
            <a:xfrm>
              <a:off x="4080600" y="160956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5704560" y="160956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817160" y="1609560"/>
              <a:ext cx="55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B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4421160" y="183816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308560" y="183816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4" name=""/>
          <p:cNvGrpSpPr/>
          <p:nvPr/>
        </p:nvGrpSpPr>
        <p:grpSpPr>
          <a:xfrm>
            <a:off x="1939320" y="1268280"/>
            <a:ext cx="1629000" cy="1194840"/>
            <a:chOff x="1939320" y="1268280"/>
            <a:chExt cx="1629000" cy="1194840"/>
          </a:xfrm>
        </p:grpSpPr>
        <p:sp>
          <p:nvSpPr>
            <p:cNvPr id="525" name=""/>
            <p:cNvSpPr/>
            <p:nvPr/>
          </p:nvSpPr>
          <p:spPr>
            <a:xfrm>
              <a:off x="2270520" y="1268280"/>
              <a:ext cx="1290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Be – 2e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939320" y="1609560"/>
              <a:ext cx="1628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H – 2x1e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1974960" y="2028600"/>
              <a:ext cx="1524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2989800" y="2003400"/>
              <a:ext cx="578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4e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9" name=""/>
          <p:cNvSpPr/>
          <p:nvPr/>
        </p:nvSpPr>
        <p:spPr>
          <a:xfrm>
            <a:off x="478080" y="1609560"/>
            <a:ext cx="871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0" name=""/>
          <p:cNvGrpSpPr/>
          <p:nvPr/>
        </p:nvGrpSpPr>
        <p:grpSpPr>
          <a:xfrm>
            <a:off x="4290840" y="1685880"/>
            <a:ext cx="1574640" cy="317520"/>
            <a:chOff x="4290840" y="1685880"/>
            <a:chExt cx="1574640" cy="317520"/>
          </a:xfrm>
        </p:grpSpPr>
        <p:sp>
          <p:nvSpPr>
            <p:cNvPr id="531" name=""/>
            <p:cNvSpPr/>
            <p:nvPr/>
          </p:nvSpPr>
          <p:spPr>
            <a:xfrm>
              <a:off x="4290840" y="1685880"/>
              <a:ext cx="685800" cy="30456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5179680" y="1698480"/>
              <a:ext cx="685800" cy="30492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33" name="" descr=""/>
          <p:cNvPicPr/>
          <p:nvPr/>
        </p:nvPicPr>
        <p:blipFill>
          <a:blip r:embed="rId1"/>
          <a:srcRect l="0" t="46253" r="0" b="16252"/>
          <a:stretch/>
        </p:blipFill>
        <p:spPr>
          <a:xfrm>
            <a:off x="6300720" y="1484280"/>
            <a:ext cx="2484360" cy="698400"/>
          </a:xfrm>
          <a:prstGeom prst="rect">
            <a:avLst/>
          </a:prstGeom>
          <a:ln w="0">
            <a:noFill/>
          </a:ln>
        </p:spPr>
      </p:pic>
      <p:sp>
        <p:nvSpPr>
          <p:cNvPr id="534" name=""/>
          <p:cNvSpPr/>
          <p:nvPr/>
        </p:nvSpPr>
        <p:spPr>
          <a:xfrm>
            <a:off x="250920" y="2997360"/>
            <a:ext cx="54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ructuras con electrones impa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5" name=""/>
          <p:cNvGrpSpPr/>
          <p:nvPr/>
        </p:nvGrpSpPr>
        <p:grpSpPr>
          <a:xfrm>
            <a:off x="1622520" y="3862440"/>
            <a:ext cx="1523880" cy="1194840"/>
            <a:chOff x="1622520" y="3862440"/>
            <a:chExt cx="1523880" cy="1194840"/>
          </a:xfrm>
        </p:grpSpPr>
        <p:sp>
          <p:nvSpPr>
            <p:cNvPr id="536" name=""/>
            <p:cNvSpPr/>
            <p:nvPr/>
          </p:nvSpPr>
          <p:spPr>
            <a:xfrm>
              <a:off x="2001960" y="3862440"/>
              <a:ext cx="1137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N – 5e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1985040" y="4203720"/>
              <a:ext cx="1155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O – 6e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1622520" y="4622760"/>
              <a:ext cx="1523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2391480" y="4597560"/>
              <a:ext cx="747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1e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0" name=""/>
          <p:cNvSpPr/>
          <p:nvPr/>
        </p:nvSpPr>
        <p:spPr>
          <a:xfrm>
            <a:off x="480960" y="420372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1" name=""/>
          <p:cNvGrpSpPr/>
          <p:nvPr/>
        </p:nvGrpSpPr>
        <p:grpSpPr>
          <a:xfrm>
            <a:off x="3854880" y="4206960"/>
            <a:ext cx="1271160" cy="466560"/>
            <a:chOff x="3854880" y="4206960"/>
            <a:chExt cx="1271160" cy="466560"/>
          </a:xfrm>
        </p:grpSpPr>
        <p:sp>
          <p:nvSpPr>
            <p:cNvPr id="542" name=""/>
            <p:cNvSpPr/>
            <p:nvPr/>
          </p:nvSpPr>
          <p:spPr>
            <a:xfrm>
              <a:off x="3854880" y="420696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4707720" y="420840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4" name=""/>
            <p:cNvGrpSpPr/>
            <p:nvPr/>
          </p:nvGrpSpPr>
          <p:grpSpPr>
            <a:xfrm>
              <a:off x="4213080" y="4392360"/>
              <a:ext cx="539640" cy="88920"/>
              <a:chOff x="4213080" y="4392360"/>
              <a:chExt cx="539640" cy="88920"/>
            </a:xfrm>
          </p:grpSpPr>
          <p:sp>
            <p:nvSpPr>
              <p:cNvPr id="545" name=""/>
              <p:cNvSpPr/>
              <p:nvPr/>
            </p:nvSpPr>
            <p:spPr>
              <a:xfrm>
                <a:off x="4219200" y="4392360"/>
                <a:ext cx="5335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4213080" y="4481280"/>
                <a:ext cx="5331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7" name=""/>
            <p:cNvGrpSpPr/>
            <p:nvPr/>
          </p:nvGrpSpPr>
          <p:grpSpPr>
            <a:xfrm>
              <a:off x="4795200" y="4216320"/>
              <a:ext cx="228600" cy="76320"/>
              <a:chOff x="4795200" y="4216320"/>
              <a:chExt cx="228600" cy="76320"/>
            </a:xfrm>
          </p:grpSpPr>
          <p:sp>
            <p:nvSpPr>
              <p:cNvPr id="548" name=""/>
              <p:cNvSpPr/>
              <p:nvPr/>
            </p:nvSpPr>
            <p:spPr>
              <a:xfrm rot="5400000">
                <a:off x="4947480" y="421632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 rot="5400000">
                <a:off x="4794840" y="4216320"/>
                <a:ext cx="7632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0" name=""/>
            <p:cNvSpPr/>
            <p:nvPr/>
          </p:nvSpPr>
          <p:spPr>
            <a:xfrm rot="5400000">
              <a:off x="4046400" y="459720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1" name=""/>
            <p:cNvGrpSpPr/>
            <p:nvPr/>
          </p:nvGrpSpPr>
          <p:grpSpPr>
            <a:xfrm>
              <a:off x="4795200" y="4559400"/>
              <a:ext cx="228600" cy="75960"/>
              <a:chOff x="4795200" y="4559400"/>
              <a:chExt cx="228600" cy="75960"/>
            </a:xfrm>
          </p:grpSpPr>
          <p:sp>
            <p:nvSpPr>
              <p:cNvPr id="552" name=""/>
              <p:cNvSpPr/>
              <p:nvPr/>
            </p:nvSpPr>
            <p:spPr>
              <a:xfrm rot="5400000">
                <a:off x="4947480" y="4559040"/>
                <a:ext cx="7596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 rot="5400000">
                <a:off x="4795200" y="455940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4" name=""/>
            <p:cNvGrpSpPr/>
            <p:nvPr/>
          </p:nvGrpSpPr>
          <p:grpSpPr>
            <a:xfrm>
              <a:off x="3931560" y="4216320"/>
              <a:ext cx="228600" cy="76320"/>
              <a:chOff x="3931560" y="4216320"/>
              <a:chExt cx="228600" cy="76320"/>
            </a:xfrm>
          </p:grpSpPr>
          <p:sp>
            <p:nvSpPr>
              <p:cNvPr id="555" name=""/>
              <p:cNvSpPr/>
              <p:nvPr/>
            </p:nvSpPr>
            <p:spPr>
              <a:xfrm rot="5400000">
                <a:off x="4083840" y="421632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 rot="5400000">
                <a:off x="3931200" y="4216320"/>
                <a:ext cx="7632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57" name=""/>
          <p:cNvSpPr/>
          <p:nvPr/>
        </p:nvSpPr>
        <p:spPr>
          <a:xfrm>
            <a:off x="3743280" y="4076640"/>
            <a:ext cx="609480" cy="6858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24000" y="5157720"/>
            <a:ext cx="8351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s imposible escribir una estructura electrónica que satisfaga las reglas de Lewi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1" dur="indefinite" restart="never" nodeType="tmRoot">
          <p:childTnLst>
            <p:seq>
              <p:cTn id="662" dur="indefinite" nodeType="mainSeq">
                <p:childTnLst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0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9" name="" descr=""/>
          <p:cNvPicPr/>
          <p:nvPr/>
        </p:nvPicPr>
        <p:blipFill>
          <a:blip r:embed="rId1"/>
          <a:stretch/>
        </p:blipFill>
        <p:spPr>
          <a:xfrm>
            <a:off x="324000" y="1631880"/>
            <a:ext cx="3671640" cy="2565360"/>
          </a:xfrm>
          <a:prstGeom prst="rect">
            <a:avLst/>
          </a:prstGeom>
          <a:ln w="0">
            <a:noFill/>
          </a:ln>
        </p:spPr>
      </p:pic>
      <p:sp>
        <p:nvSpPr>
          <p:cNvPr id="560" name=""/>
          <p:cNvSpPr/>
          <p:nvPr/>
        </p:nvSpPr>
        <p:spPr>
          <a:xfrm>
            <a:off x="186120" y="981000"/>
            <a:ext cx="492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ngitud de los enlaces coval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144360" y="5205240"/>
            <a:ext cx="5364360" cy="7707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ngitu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iple enlace &lt; Doble enlace &lt; Enlace si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2" name=""/>
          <p:cNvGraphicFramePr/>
          <p:nvPr/>
        </p:nvGraphicFramePr>
        <p:xfrm>
          <a:off x="5580000" y="1316160"/>
          <a:ext cx="3457800" cy="5429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6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580000" y="1316160"/>
                    <a:ext cx="3457800" cy="542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4" name=""/>
          <p:cNvSpPr/>
          <p:nvPr/>
        </p:nvSpPr>
        <p:spPr>
          <a:xfrm>
            <a:off x="2773440" y="260280"/>
            <a:ext cx="37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ropiedades del enl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9" dur="indefinite" restart="never" nodeType="tmRoot">
          <p:childTnLst>
            <p:seq>
              <p:cTn id="710" dur="indefinite" nodeType="mainSeq">
                <p:childTnLst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"/>
          <p:cNvSpPr/>
          <p:nvPr/>
        </p:nvSpPr>
        <p:spPr>
          <a:xfrm>
            <a:off x="395280" y="333360"/>
            <a:ext cx="806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ergías de enla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 Por definición corresponde a la cantidad de calor necesaria para romper el enlace en una molécul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6" name=""/>
          <p:cNvGrpSpPr/>
          <p:nvPr/>
        </p:nvGrpSpPr>
        <p:grpSpPr>
          <a:xfrm>
            <a:off x="1000440" y="2697120"/>
            <a:ext cx="5593680" cy="511920"/>
            <a:chOff x="1000440" y="2697120"/>
            <a:chExt cx="5593680" cy="511920"/>
          </a:xfrm>
        </p:grpSpPr>
        <p:sp>
          <p:nvSpPr>
            <p:cNvPr id="567" name=""/>
            <p:cNvSpPr/>
            <p:nvPr/>
          </p:nvSpPr>
          <p:spPr>
            <a:xfrm>
              <a:off x="1000440" y="2698920"/>
              <a:ext cx="766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2 (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636280" y="2698920"/>
              <a:ext cx="7034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H 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1757160" y="2927520"/>
              <a:ext cx="761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3258720" y="269892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655440" y="2698920"/>
              <a:ext cx="7034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H 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4407840" y="2697120"/>
              <a:ext cx="2186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= 436.4 k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3" name=""/>
          <p:cNvGrpSpPr/>
          <p:nvPr/>
        </p:nvGrpSpPr>
        <p:grpSpPr>
          <a:xfrm>
            <a:off x="1039320" y="3298680"/>
            <a:ext cx="5592960" cy="511560"/>
            <a:chOff x="1039320" y="3298680"/>
            <a:chExt cx="5592960" cy="511560"/>
          </a:xfrm>
        </p:grpSpPr>
        <p:sp>
          <p:nvSpPr>
            <p:cNvPr id="574" name=""/>
            <p:cNvSpPr/>
            <p:nvPr/>
          </p:nvSpPr>
          <p:spPr>
            <a:xfrm>
              <a:off x="1039320" y="3300120"/>
              <a:ext cx="833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l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2 (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2675160" y="3300120"/>
              <a:ext cx="770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l 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795320" y="3528720"/>
              <a:ext cx="761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3296880" y="330012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94320" y="3300120"/>
              <a:ext cx="770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l 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4446000" y="3298680"/>
              <a:ext cx="2186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= 242.7 k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0" name=""/>
          <p:cNvGrpSpPr/>
          <p:nvPr/>
        </p:nvGrpSpPr>
        <p:grpSpPr>
          <a:xfrm>
            <a:off x="925200" y="3900600"/>
            <a:ext cx="5707080" cy="511560"/>
            <a:chOff x="925200" y="3900600"/>
            <a:chExt cx="5707080" cy="511560"/>
          </a:xfrm>
        </p:grpSpPr>
        <p:sp>
          <p:nvSpPr>
            <p:cNvPr id="581" name=""/>
            <p:cNvSpPr/>
            <p:nvPr/>
          </p:nvSpPr>
          <p:spPr>
            <a:xfrm>
              <a:off x="925200" y="3902040"/>
              <a:ext cx="9532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HCl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 (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2674440" y="3902040"/>
              <a:ext cx="7034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H 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1795320" y="4130640"/>
              <a:ext cx="761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296880" y="390204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3694320" y="3902040"/>
              <a:ext cx="770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l 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4446000" y="3900600"/>
              <a:ext cx="2186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= 431.9 k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7" name=""/>
          <p:cNvGrpSpPr/>
          <p:nvPr/>
        </p:nvGrpSpPr>
        <p:grpSpPr>
          <a:xfrm>
            <a:off x="1096200" y="4502160"/>
            <a:ext cx="5542920" cy="511560"/>
            <a:chOff x="1096200" y="4502160"/>
            <a:chExt cx="5542920" cy="511560"/>
          </a:xfrm>
        </p:grpSpPr>
        <p:sp>
          <p:nvSpPr>
            <p:cNvPr id="588" name=""/>
            <p:cNvSpPr/>
            <p:nvPr/>
          </p:nvSpPr>
          <p:spPr>
            <a:xfrm>
              <a:off x="1096200" y="4503600"/>
              <a:ext cx="784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2 (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2680200" y="4503600"/>
              <a:ext cx="7214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O 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1802160" y="4732200"/>
              <a:ext cx="761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303720" y="450360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3699360" y="4503600"/>
              <a:ext cx="7214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O 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452840" y="4502160"/>
              <a:ext cx="2186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= 498.7 k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4" name=""/>
          <p:cNvGrpSpPr/>
          <p:nvPr/>
        </p:nvGrpSpPr>
        <p:grpSpPr>
          <a:xfrm>
            <a:off x="6965280" y="4516560"/>
            <a:ext cx="1205640" cy="469800"/>
            <a:chOff x="6965280" y="4516560"/>
            <a:chExt cx="1205640" cy="469800"/>
          </a:xfrm>
        </p:grpSpPr>
        <p:sp>
          <p:nvSpPr>
            <p:cNvPr id="595" name=""/>
            <p:cNvSpPr/>
            <p:nvPr/>
          </p:nvSpPr>
          <p:spPr>
            <a:xfrm>
              <a:off x="6965280" y="452448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6" name=""/>
            <p:cNvGrpSpPr/>
            <p:nvPr/>
          </p:nvGrpSpPr>
          <p:grpSpPr>
            <a:xfrm>
              <a:off x="7046280" y="4516560"/>
              <a:ext cx="228600" cy="469800"/>
              <a:chOff x="7046280" y="4516560"/>
              <a:chExt cx="228600" cy="469800"/>
            </a:xfrm>
          </p:grpSpPr>
          <p:grpSp>
            <p:nvGrpSpPr>
              <p:cNvPr id="597" name=""/>
              <p:cNvGrpSpPr/>
              <p:nvPr/>
            </p:nvGrpSpPr>
            <p:grpSpPr>
              <a:xfrm>
                <a:off x="7046280" y="4516560"/>
                <a:ext cx="228600" cy="75960"/>
                <a:chOff x="7046280" y="4516560"/>
                <a:chExt cx="228600" cy="75960"/>
              </a:xfrm>
            </p:grpSpPr>
            <p:sp>
              <p:nvSpPr>
                <p:cNvPr id="598" name=""/>
                <p:cNvSpPr/>
                <p:nvPr/>
              </p:nvSpPr>
              <p:spPr>
                <a:xfrm rot="5400000">
                  <a:off x="7198560" y="451620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9" name=""/>
                <p:cNvSpPr/>
                <p:nvPr/>
              </p:nvSpPr>
              <p:spPr>
                <a:xfrm rot="5400000">
                  <a:off x="7046280" y="451656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0" name=""/>
              <p:cNvGrpSpPr/>
              <p:nvPr/>
            </p:nvGrpSpPr>
            <p:grpSpPr>
              <a:xfrm>
                <a:off x="7046280" y="4910040"/>
                <a:ext cx="228600" cy="76320"/>
                <a:chOff x="7046280" y="4910040"/>
                <a:chExt cx="228600" cy="76320"/>
              </a:xfrm>
            </p:grpSpPr>
            <p:sp>
              <p:nvSpPr>
                <p:cNvPr id="601" name=""/>
                <p:cNvSpPr/>
                <p:nvPr/>
              </p:nvSpPr>
              <p:spPr>
                <a:xfrm rot="5400000">
                  <a:off x="7198560" y="491004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2" name=""/>
                <p:cNvSpPr/>
                <p:nvPr/>
              </p:nvSpPr>
              <p:spPr>
                <a:xfrm rot="5400000">
                  <a:off x="7045920" y="491004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03" name=""/>
            <p:cNvGrpSpPr/>
            <p:nvPr/>
          </p:nvGrpSpPr>
          <p:grpSpPr>
            <a:xfrm>
              <a:off x="7370280" y="4516560"/>
              <a:ext cx="800640" cy="469800"/>
              <a:chOff x="7370280" y="4516560"/>
              <a:chExt cx="800640" cy="469800"/>
            </a:xfrm>
          </p:grpSpPr>
          <p:sp>
            <p:nvSpPr>
              <p:cNvPr id="604" name=""/>
              <p:cNvSpPr/>
              <p:nvPr/>
            </p:nvSpPr>
            <p:spPr>
              <a:xfrm flipH="1">
                <a:off x="7752600" y="4524120"/>
                <a:ext cx="418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05" name=""/>
              <p:cNvGrpSpPr/>
              <p:nvPr/>
            </p:nvGrpSpPr>
            <p:grpSpPr>
              <a:xfrm>
                <a:off x="7861320" y="4516560"/>
                <a:ext cx="228600" cy="469800"/>
                <a:chOff x="7861320" y="4516560"/>
                <a:chExt cx="228600" cy="469800"/>
              </a:xfrm>
            </p:grpSpPr>
            <p:grpSp>
              <p:nvGrpSpPr>
                <p:cNvPr id="606" name=""/>
                <p:cNvGrpSpPr/>
                <p:nvPr/>
              </p:nvGrpSpPr>
              <p:grpSpPr>
                <a:xfrm>
                  <a:off x="7861320" y="4516560"/>
                  <a:ext cx="228600" cy="75960"/>
                  <a:chOff x="7861320" y="4516560"/>
                  <a:chExt cx="228600" cy="75960"/>
                </a:xfrm>
              </p:grpSpPr>
              <p:sp>
                <p:nvSpPr>
                  <p:cNvPr id="607" name=""/>
                  <p:cNvSpPr/>
                  <p:nvPr/>
                </p:nvSpPr>
                <p:spPr>
                  <a:xfrm flipH="1" rot="16200000">
                    <a:off x="7861320" y="4516200"/>
                    <a:ext cx="75960" cy="763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8" name=""/>
                  <p:cNvSpPr/>
                  <p:nvPr/>
                </p:nvSpPr>
                <p:spPr>
                  <a:xfrm flipH="1" rot="16200000">
                    <a:off x="8013600" y="4516560"/>
                    <a:ext cx="75960" cy="759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09" name=""/>
                <p:cNvGrpSpPr/>
                <p:nvPr/>
              </p:nvGrpSpPr>
              <p:grpSpPr>
                <a:xfrm>
                  <a:off x="7861320" y="4910040"/>
                  <a:ext cx="228600" cy="76320"/>
                  <a:chOff x="7861320" y="4910040"/>
                  <a:chExt cx="228600" cy="76320"/>
                </a:xfrm>
              </p:grpSpPr>
              <p:sp>
                <p:nvSpPr>
                  <p:cNvPr id="610" name=""/>
                  <p:cNvSpPr/>
                  <p:nvPr/>
                </p:nvSpPr>
                <p:spPr>
                  <a:xfrm flipH="1" rot="16200000">
                    <a:off x="7861320" y="4910040"/>
                    <a:ext cx="76320" cy="763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1" name=""/>
                  <p:cNvSpPr/>
                  <p:nvPr/>
                </p:nvSpPr>
                <p:spPr>
                  <a:xfrm flipH="1" rot="16200000">
                    <a:off x="8013240" y="4910040"/>
                    <a:ext cx="76320" cy="759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612" name=""/>
              <p:cNvGrpSpPr/>
              <p:nvPr/>
            </p:nvGrpSpPr>
            <p:grpSpPr>
              <a:xfrm>
                <a:off x="7370280" y="4713120"/>
                <a:ext cx="380880" cy="75960"/>
                <a:chOff x="7370280" y="4713120"/>
                <a:chExt cx="380880" cy="75960"/>
              </a:xfrm>
            </p:grpSpPr>
            <p:sp>
              <p:nvSpPr>
                <p:cNvPr id="613" name=""/>
                <p:cNvSpPr/>
                <p:nvPr/>
              </p:nvSpPr>
              <p:spPr>
                <a:xfrm flipH="1">
                  <a:off x="7370280" y="4713120"/>
                  <a:ext cx="3808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4" name=""/>
                <p:cNvSpPr/>
                <p:nvPr/>
              </p:nvSpPr>
              <p:spPr>
                <a:xfrm flipH="1">
                  <a:off x="7370280" y="4789080"/>
                  <a:ext cx="3808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615" name=""/>
          <p:cNvGrpSpPr/>
          <p:nvPr/>
        </p:nvGrpSpPr>
        <p:grpSpPr>
          <a:xfrm>
            <a:off x="1117800" y="5129280"/>
            <a:ext cx="5525640" cy="511560"/>
            <a:chOff x="1117800" y="5129280"/>
            <a:chExt cx="5525640" cy="511560"/>
          </a:xfrm>
        </p:grpSpPr>
        <p:sp>
          <p:nvSpPr>
            <p:cNvPr id="616" name=""/>
            <p:cNvSpPr/>
            <p:nvPr/>
          </p:nvSpPr>
          <p:spPr>
            <a:xfrm>
              <a:off x="1117800" y="5130720"/>
              <a:ext cx="766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2 (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2685600" y="5130720"/>
              <a:ext cx="7034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N 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806480" y="5359320"/>
              <a:ext cx="762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3308040" y="513072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3705120" y="5130720"/>
              <a:ext cx="7034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N 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4457160" y="5129280"/>
              <a:ext cx="2186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= 941.4 k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2" name=""/>
          <p:cNvGrpSpPr/>
          <p:nvPr/>
        </p:nvGrpSpPr>
        <p:grpSpPr>
          <a:xfrm>
            <a:off x="7016760" y="5130720"/>
            <a:ext cx="1153080" cy="461160"/>
            <a:chOff x="7016760" y="5130720"/>
            <a:chExt cx="1153080" cy="461160"/>
          </a:xfrm>
        </p:grpSpPr>
        <p:sp>
          <p:nvSpPr>
            <p:cNvPr id="623" name=""/>
            <p:cNvSpPr/>
            <p:nvPr/>
          </p:nvSpPr>
          <p:spPr>
            <a:xfrm>
              <a:off x="7045920" y="513216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7769520" y="51307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8083440" y="5245200"/>
              <a:ext cx="7632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8083440" y="539748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7016760" y="5245200"/>
              <a:ext cx="7596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7016760" y="5397480"/>
              <a:ext cx="7596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7397640" y="5283000"/>
              <a:ext cx="419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7397640" y="5359320"/>
              <a:ext cx="419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7397640" y="5435640"/>
              <a:ext cx="419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2" name=""/>
          <p:cNvSpPr/>
          <p:nvPr/>
        </p:nvSpPr>
        <p:spPr>
          <a:xfrm>
            <a:off x="4219200" y="1844640"/>
            <a:ext cx="3337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ergía de enlace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X-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7" dur="indefinite" restart="never" nodeType="tmRoot">
          <p:childTnLst>
            <p:seq>
              <p:cTn id="728" dur="indefinite" nodeType="mainSeq">
                <p:childTnLst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3" name=""/>
          <p:cNvGrpSpPr/>
          <p:nvPr/>
        </p:nvGrpSpPr>
        <p:grpSpPr>
          <a:xfrm>
            <a:off x="1647720" y="1878120"/>
            <a:ext cx="5508720" cy="511560"/>
            <a:chOff x="1647720" y="1878120"/>
            <a:chExt cx="5508720" cy="511560"/>
          </a:xfrm>
        </p:grpSpPr>
        <p:sp>
          <p:nvSpPr>
            <p:cNvPr id="634" name=""/>
            <p:cNvSpPr/>
            <p:nvPr/>
          </p:nvSpPr>
          <p:spPr>
            <a:xfrm>
              <a:off x="1647720" y="1879560"/>
              <a:ext cx="10036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 (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3452760" y="1879560"/>
              <a:ext cx="7034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H 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73640" y="2108160"/>
              <a:ext cx="761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4016520" y="187956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4323960" y="1879560"/>
              <a:ext cx="941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OH 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5224680" y="1878120"/>
              <a:ext cx="193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= 502 k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1748880" y="2489040"/>
            <a:ext cx="5402520" cy="511560"/>
            <a:chOff x="1748880" y="2489040"/>
            <a:chExt cx="5402520" cy="511560"/>
          </a:xfrm>
        </p:grpSpPr>
        <p:sp>
          <p:nvSpPr>
            <p:cNvPr id="641" name=""/>
            <p:cNvSpPr/>
            <p:nvPr/>
          </p:nvSpPr>
          <p:spPr>
            <a:xfrm>
              <a:off x="1748880" y="2490480"/>
              <a:ext cx="9046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O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 (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3448080" y="2490480"/>
              <a:ext cx="7034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H 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2568600" y="2719080"/>
              <a:ext cx="762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4011480" y="249048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4335840" y="2490480"/>
              <a:ext cx="7214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O 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219640" y="2489040"/>
              <a:ext cx="193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= 427 k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7" name=""/>
          <p:cNvGrpSpPr/>
          <p:nvPr/>
        </p:nvGrpSpPr>
        <p:grpSpPr>
          <a:xfrm>
            <a:off x="1042200" y="3490920"/>
            <a:ext cx="6768360" cy="876960"/>
            <a:chOff x="1042200" y="3490920"/>
            <a:chExt cx="6768360" cy="876960"/>
          </a:xfrm>
        </p:grpSpPr>
        <p:sp>
          <p:nvSpPr>
            <p:cNvPr id="648" name=""/>
            <p:cNvSpPr/>
            <p:nvPr/>
          </p:nvSpPr>
          <p:spPr>
            <a:xfrm>
              <a:off x="1042200" y="3682800"/>
              <a:ext cx="3984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nergía promedio del OH =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49" name=""/>
            <p:cNvGrpSpPr/>
            <p:nvPr/>
          </p:nvGrpSpPr>
          <p:grpSpPr>
            <a:xfrm>
              <a:off x="5007240" y="3490920"/>
              <a:ext cx="1544760" cy="876960"/>
              <a:chOff x="5007240" y="3490920"/>
              <a:chExt cx="1544760" cy="876960"/>
            </a:xfrm>
          </p:grpSpPr>
          <p:sp>
            <p:nvSpPr>
              <p:cNvPr id="650" name=""/>
              <p:cNvSpPr/>
              <p:nvPr/>
            </p:nvSpPr>
            <p:spPr>
              <a:xfrm>
                <a:off x="5007240" y="3490920"/>
                <a:ext cx="1544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502 + 427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5020920" y="3908160"/>
                <a:ext cx="1447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5594400" y="390816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3" name=""/>
            <p:cNvSpPr/>
            <p:nvPr/>
          </p:nvSpPr>
          <p:spPr>
            <a:xfrm>
              <a:off x="6468480" y="3679920"/>
              <a:ext cx="134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= 464 k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4" name=""/>
          <p:cNvSpPr/>
          <p:nvPr/>
        </p:nvSpPr>
        <p:spPr>
          <a:xfrm>
            <a:off x="1236600" y="235080"/>
            <a:ext cx="67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ergía de enlace para moléculas poliatóm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1" dur="indefinite" restart="never" nodeType="tmRoot">
          <p:childTnLst>
            <p:seq>
              <p:cTn id="762" dur="indefinite" nodeType="mainSeq">
                <p:childTnLst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324000" y="165240"/>
          <a:ext cx="5111640" cy="369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65240"/>
                    <a:ext cx="5111640" cy="3695400"/>
                  </a:xfrm>
                  <a:prstGeom prst="rect">
                    <a:avLst/>
                  </a:prstGeom>
                  <a:ln w="38160">
                    <a:solidFill>
                      <a:srgbClr val="0000ff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6035760" y="1700280"/>
            <a:ext cx="2639880" cy="489564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5796000" y="115920"/>
            <a:ext cx="3157560" cy="131364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ambios en la densidad electrónica entre dos átomos de hidrógeno a medida que se acercan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000" y="4292640"/>
            <a:ext cx="5184720" cy="208224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Arial"/>
                <a:ea typeface="Arial"/>
              </a:rPr>
              <a:t>La teoría  de enlace-valencia.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El enlace se forma por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la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compartición de pares de electrones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que se generan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al producirse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la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super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posición de orbitales atómicos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que contienen un electr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ó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n cada un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5" name=""/>
          <p:cNvGraphicFramePr/>
          <p:nvPr/>
        </p:nvGraphicFramePr>
        <p:xfrm>
          <a:off x="900000" y="189000"/>
          <a:ext cx="7426440" cy="584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189000"/>
                    <a:ext cx="7426440" cy="584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7" name=""/>
          <p:cNvSpPr/>
          <p:nvPr/>
        </p:nvSpPr>
        <p:spPr>
          <a:xfrm>
            <a:off x="1908000" y="6111720"/>
            <a:ext cx="5599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ergía de enl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lace Sencillo &lt; Enlace Doble &lt; Enlace Tri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9" dur="indefinite" restart="never" nodeType="tmRoot">
          <p:childTnLst>
            <p:seq>
              <p:cTn id="780" dur="indefinite" nodeType="mainSeq">
                <p:childTnLst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"/>
          <p:cNvSpPr/>
          <p:nvPr/>
        </p:nvSpPr>
        <p:spPr>
          <a:xfrm>
            <a:off x="1209600" y="1530360"/>
            <a:ext cx="7034400" cy="356940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Escala de Electronegatividad de Pauling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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-X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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= 0,102 (D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AB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/kJ mol</a:t>
            </a:r>
            <a:r>
              <a:rPr b="0" lang="es-ES" sz="20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s-ES" sz="2000" spc="-1" strike="noStrike" baseline="30000">
                <a:solidFill>
                  <a:srgbClr val="000000"/>
                </a:solidFill>
                <a:latin typeface="Arial"/>
              </a:rPr>
              <a:t>1/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Symbol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AB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E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AB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- 0,5(E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AA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+E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BB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Symbol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Symbol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 = energía media del enlace simple entre los átomos del subíndic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Symbol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e estandariza a 4 para el F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"/>
          <p:cNvSpPr/>
          <p:nvPr/>
        </p:nvSpPr>
        <p:spPr>
          <a:xfrm>
            <a:off x="2843280" y="260280"/>
            <a:ext cx="32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olaridad del enl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179280" y="982800"/>
            <a:ext cx="8748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n una molécula formada por elementos diferentes, éstos poseen diferente electronegatividad, lo que conduce a una compartición desigual de los electrones.  Esta característica da lugar a la formación de un enlace pola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61" name=""/>
          <p:cNvGraphicFramePr/>
          <p:nvPr/>
        </p:nvGraphicFramePr>
        <p:xfrm>
          <a:off x="4699080" y="2719440"/>
          <a:ext cx="3024000" cy="200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9080" y="2719440"/>
                    <a:ext cx="3024000" cy="200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3" name=""/>
          <p:cNvGraphicFramePr/>
          <p:nvPr/>
        </p:nvGraphicFramePr>
        <p:xfrm>
          <a:off x="468360" y="2205000"/>
          <a:ext cx="1987560" cy="208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6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8360" y="2205000"/>
                    <a:ext cx="1987560" cy="208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5" name=""/>
          <p:cNvSpPr/>
          <p:nvPr/>
        </p:nvSpPr>
        <p:spPr>
          <a:xfrm>
            <a:off x="6786720" y="2071800"/>
            <a:ext cx="2249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ta electronegativ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3114720" y="2071800"/>
            <a:ext cx="237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Mediana electronegativ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322560" y="4437000"/>
            <a:ext cx="2248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ént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ectronegativ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5445000" y="484488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</a:t>
            </a:r>
            <a:r>
              <a:rPr b="0" lang="en-US" sz="2400" spc="-1" strike="noStrike" baseline="30000">
                <a:solidFill>
                  <a:srgbClr val="3333cc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6694200" y="4797360"/>
            <a:ext cx="3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</a:t>
            </a:r>
            <a:r>
              <a:rPr b="0" lang="en-US" sz="2400" spc="-1" strike="noStrike" baseline="30000">
                <a:solidFill>
                  <a:srgbClr val="ff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5724360" y="5014800"/>
            <a:ext cx="115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H     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6083280" y="5230800"/>
            <a:ext cx="360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828720" y="5300640"/>
            <a:ext cx="11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H      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187280" y="5516640"/>
            <a:ext cx="360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5" dur="indefinite" restart="never" nodeType="tmRoot">
          <p:childTnLst>
            <p:seq>
              <p:cTn id="786" dur="indefinite" nodeType="mainSeq">
                <p:childTnLst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"/>
          <p:cNvSpPr/>
          <p:nvPr/>
        </p:nvSpPr>
        <p:spPr>
          <a:xfrm>
            <a:off x="5100120" y="5303880"/>
            <a:ext cx="1345320" cy="39888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=  Q x 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268200" y="6093000"/>
            <a:ext cx="1695600" cy="39888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s la carg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2093400" y="6093000"/>
            <a:ext cx="3847320" cy="39888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s la distancia entre las carg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6114240" y="6093000"/>
            <a:ext cx="2677680" cy="39888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 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3.34 x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-3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 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1979640" y="260280"/>
            <a:ext cx="493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OMENTO DIPOLAR DE ENL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79" name=""/>
          <p:cNvGraphicFramePr/>
          <p:nvPr/>
        </p:nvGraphicFramePr>
        <p:xfrm>
          <a:off x="2057400" y="923760"/>
          <a:ext cx="4870440" cy="395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923760"/>
                    <a:ext cx="4870440" cy="3953160"/>
                  </a:xfrm>
                  <a:prstGeom prst="rect">
                    <a:avLst/>
                  </a:prstGeom>
                  <a:ln w="38160">
                    <a:solidFill>
                      <a:srgbClr val="0000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681" name=""/>
          <p:cNvSpPr/>
          <p:nvPr/>
        </p:nvSpPr>
        <p:spPr>
          <a:xfrm>
            <a:off x="2266920" y="5300640"/>
            <a:ext cx="2513160" cy="39888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omento dipolar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1" dur="indefinite" restart="never" nodeType="tmRoot">
          <p:childTnLst>
            <p:seq>
              <p:cTn id="832" dur="indefinite" nodeType="mainSeq">
                <p:childTnLst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"/>
          <p:cNvSpPr/>
          <p:nvPr/>
        </p:nvSpPr>
        <p:spPr>
          <a:xfrm>
            <a:off x="3733920" y="26028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380880" y="836640"/>
            <a:ext cx="843912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 longitud de enlace en HCl es 1.27Å. (a) Calcular µ si las cargas de H y Cl son +1 y -1. (b) El valor exp. es µ (HCl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) = 1.08 D, ¿qué magnitud de carga, en unidades d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en los átomos de H y Cl darían lugar a este µ?.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.60x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-19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533520" y="320688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a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533520" y="434988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b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6" name=""/>
          <p:cNvGraphicFramePr/>
          <p:nvPr/>
        </p:nvGraphicFramePr>
        <p:xfrm>
          <a:off x="1692360" y="3241800"/>
          <a:ext cx="5867280" cy="925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2360" y="3241800"/>
                    <a:ext cx="5867280" cy="925560"/>
                  </a:xfrm>
                  <a:prstGeom prst="rect">
                    <a:avLst/>
                  </a:prstGeom>
                  <a:ln w="38160">
                    <a:solidFill>
                      <a:srgbClr val="0000ff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688" name=""/>
          <p:cNvGraphicFramePr/>
          <p:nvPr/>
        </p:nvGraphicFramePr>
        <p:xfrm>
          <a:off x="2149560" y="4460760"/>
          <a:ext cx="4952880" cy="1489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49560" y="4460760"/>
                    <a:ext cx="4952880" cy="1489320"/>
                  </a:xfrm>
                  <a:prstGeom prst="rect">
                    <a:avLst/>
                  </a:prstGeom>
                  <a:ln w="38160">
                    <a:solidFill>
                      <a:srgbClr val="0000ff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7" dur="indefinite" restart="never" nodeType="tmRoot">
          <p:childTnLst>
            <p:seq>
              <p:cTn id="858" dur="indefinite" nodeType="mainSeq">
                <p:childTnLst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"/>
          <p:cNvSpPr/>
          <p:nvPr/>
        </p:nvSpPr>
        <p:spPr>
          <a:xfrm>
            <a:off x="3354840" y="235080"/>
            <a:ext cx="214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lace ión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1619280" y="1338120"/>
          <a:ext cx="4103640" cy="1704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9280" y="1338120"/>
                    <a:ext cx="4103640" cy="170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3" name=""/>
          <p:cNvSpPr/>
          <p:nvPr/>
        </p:nvSpPr>
        <p:spPr>
          <a:xfrm>
            <a:off x="1629000" y="1014480"/>
            <a:ext cx="8848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s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s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2352960" y="1914480"/>
            <a:ext cx="125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s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s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5737320" y="1878120"/>
            <a:ext cx="12506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s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s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4182840" y="3043080"/>
            <a:ext cx="74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[He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4910040" y="3043080"/>
            <a:ext cx="74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[Ne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8" name=""/>
          <p:cNvGraphicFramePr/>
          <p:nvPr/>
        </p:nvGraphicFramePr>
        <p:xfrm>
          <a:off x="1547640" y="3573360"/>
          <a:ext cx="4762800" cy="1676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3573360"/>
                    <a:ext cx="4762800" cy="167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0" name=""/>
          <p:cNvSpPr/>
          <p:nvPr/>
        </p:nvSpPr>
        <p:spPr>
          <a:xfrm>
            <a:off x="395280" y="5518080"/>
            <a:ext cx="8424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ergía de red cristalin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Uo) es la energía que se requiere para separar completamente un mol de un compuesto sólido en sus iones gaseos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5" dur="indefinite" restart="never" nodeType="tmRoot">
          <p:childTnLst>
            <p:seq>
              <p:cTn id="876" dur="indefinite" nodeType="mainSeq">
                <p:childTnLst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9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9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9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00" fill="hold">
                      <p:stCondLst>
                        <p:cond delay="indefinite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9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9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1" name=""/>
          <p:cNvGrpSpPr/>
          <p:nvPr/>
        </p:nvGrpSpPr>
        <p:grpSpPr>
          <a:xfrm>
            <a:off x="1205280" y="2486160"/>
            <a:ext cx="1572480" cy="801000"/>
            <a:chOff x="1205280" y="2486160"/>
            <a:chExt cx="1572480" cy="801000"/>
          </a:xfrm>
        </p:grpSpPr>
        <p:sp>
          <p:nvSpPr>
            <p:cNvPr id="702" name=""/>
            <p:cNvSpPr/>
            <p:nvPr/>
          </p:nvSpPr>
          <p:spPr>
            <a:xfrm>
              <a:off x="1205280" y="2665440"/>
              <a:ext cx="884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 = 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3" name=""/>
            <p:cNvGrpSpPr/>
            <p:nvPr/>
          </p:nvGrpSpPr>
          <p:grpSpPr>
            <a:xfrm>
              <a:off x="1958760" y="2486160"/>
              <a:ext cx="819000" cy="801000"/>
              <a:chOff x="1958760" y="2486160"/>
              <a:chExt cx="819000" cy="801000"/>
            </a:xfrm>
          </p:grpSpPr>
          <p:sp>
            <p:nvSpPr>
              <p:cNvPr id="704" name=""/>
              <p:cNvSpPr/>
              <p:nvPr/>
            </p:nvSpPr>
            <p:spPr>
              <a:xfrm>
                <a:off x="1958760" y="2486160"/>
                <a:ext cx="8190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Arial"/>
                  </a:rPr>
                  <a:t>Q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Arial"/>
                  </a:rPr>
                  <a:t>+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Arial"/>
                  </a:rPr>
                  <a:t>Q</a:t>
                </a:r>
                <a:r>
                  <a:rPr b="0" i="1" lang="en-US" sz="2400" spc="-1" strike="noStrike" baseline="-25000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2062080" y="2903400"/>
                <a:ext cx="6094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2176560" y="282744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07" name=""/>
          <p:cNvSpPr/>
          <p:nvPr/>
        </p:nvSpPr>
        <p:spPr>
          <a:xfrm>
            <a:off x="3997800" y="2333520"/>
            <a:ext cx="2941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s la carga del cat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3996720" y="2790720"/>
            <a:ext cx="2847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s la carga del an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4065840" y="3247920"/>
            <a:ext cx="417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 es la distancia entre ambos 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179280" y="1197000"/>
            <a:ext cx="88203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ergía de red cristalin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U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depende de la magnitud de la interacción entre los ion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1116000" y="1989000"/>
            <a:ext cx="273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ara un par de ion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324000" y="3807000"/>
            <a:ext cx="856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n el sólido los iones se ordenan unos con otros para lograr la mínima energí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4" dur="indefinite" restart="never" nodeType="tmRoot">
          <p:childTnLst>
            <p:seq>
              <p:cTn id="915" dur="indefinite" nodeType="mainSeq">
                <p:childTnLst>
                  <p:par>
                    <p:cTn id="916" fill="hold">
                      <p:stCondLst>
                        <p:cond delay="indefinite"/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fill="hold">
                      <p:stCondLst>
                        <p:cond delay="indefinite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"/>
          <p:cNvSpPr/>
          <p:nvPr/>
        </p:nvSpPr>
        <p:spPr>
          <a:xfrm>
            <a:off x="228600" y="152280"/>
            <a:ext cx="8686800" cy="69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n el sólido los iones se ordenan unos con otros para lograr la mínima energía.  Para un sólido hipotético unidimensional la energía V es más negativa que e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/d</a:t>
            </a:r>
            <a:r>
              <a:rPr b="0" lang="en-US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14" name=""/>
          <p:cNvGraphicFramePr/>
          <p:nvPr/>
        </p:nvGraphicFramePr>
        <p:xfrm>
          <a:off x="1981080" y="1039680"/>
          <a:ext cx="5281560" cy="3110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1039680"/>
                    <a:ext cx="5281560" cy="3110040"/>
                  </a:xfrm>
                  <a:prstGeom prst="rect">
                    <a:avLst/>
                  </a:prstGeom>
                  <a:ln w="38160">
                    <a:solidFill>
                      <a:srgbClr val="0000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16" name=""/>
          <p:cNvSpPr/>
          <p:nvPr/>
        </p:nvSpPr>
        <p:spPr>
          <a:xfrm>
            <a:off x="228600" y="4411800"/>
            <a:ext cx="8686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e demuestra que la energía necesaria para separar los iones de un mol de sólido iónico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tridimensional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ara dar los iones gaseosos queda dada por la expresió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7" name="" descr=""/>
          <p:cNvPicPr/>
          <p:nvPr/>
        </p:nvPicPr>
        <p:blipFill>
          <a:blip r:embed="rId3"/>
          <a:stretch/>
        </p:blipFill>
        <p:spPr>
          <a:xfrm>
            <a:off x="324000" y="5632560"/>
            <a:ext cx="4752720" cy="711000"/>
          </a:xfrm>
          <a:prstGeom prst="rect">
            <a:avLst/>
          </a:prstGeom>
          <a:ln w="0">
            <a:noFill/>
          </a:ln>
        </p:spPr>
      </p:pic>
      <p:sp>
        <p:nvSpPr>
          <p:cNvPr id="718" name=""/>
          <p:cNvSpPr/>
          <p:nvPr/>
        </p:nvSpPr>
        <p:spPr>
          <a:xfrm>
            <a:off x="5292720" y="5589720"/>
            <a:ext cx="3600360" cy="10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 = Constante de Madel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N = Número de Avogad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y z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= cargas de 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4" dur="indefinite" restart="never" nodeType="tmRoot">
          <p:childTnLst>
            <p:seq>
              <p:cTn id="945" dur="indefinite" nodeType="mainSeq">
                <p:childTnLst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"/>
          <p:cNvSpPr/>
          <p:nvPr/>
        </p:nvSpPr>
        <p:spPr>
          <a:xfrm>
            <a:off x="1692360" y="4365720"/>
            <a:ext cx="5761080" cy="11912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energía es directamente proporcional a la carga de los iones, e inversamente proporcional a la distancia entre ell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1478880" y="1077840"/>
            <a:ext cx="185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es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3925800" y="1100160"/>
            <a:ext cx="229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ergía de 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2" name=""/>
          <p:cNvGrpSpPr/>
          <p:nvPr/>
        </p:nvGrpSpPr>
        <p:grpSpPr>
          <a:xfrm>
            <a:off x="1875600" y="1712880"/>
            <a:ext cx="889200" cy="916920"/>
            <a:chOff x="1875600" y="1712880"/>
            <a:chExt cx="889200" cy="916920"/>
          </a:xfrm>
        </p:grpSpPr>
        <p:sp>
          <p:nvSpPr>
            <p:cNvPr id="723" name=""/>
            <p:cNvSpPr/>
            <p:nvPr/>
          </p:nvSpPr>
          <p:spPr>
            <a:xfrm>
              <a:off x="1875600" y="1712880"/>
              <a:ext cx="889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gF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1898280" y="2170080"/>
              <a:ext cx="842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g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5" name=""/>
          <p:cNvGrpSpPr/>
          <p:nvPr/>
        </p:nvGrpSpPr>
        <p:grpSpPr>
          <a:xfrm>
            <a:off x="1894680" y="3008160"/>
            <a:ext cx="703440" cy="916920"/>
            <a:chOff x="1894680" y="3008160"/>
            <a:chExt cx="703440" cy="916920"/>
          </a:xfrm>
        </p:grpSpPr>
        <p:sp>
          <p:nvSpPr>
            <p:cNvPr id="726" name=""/>
            <p:cNvSpPr/>
            <p:nvPr/>
          </p:nvSpPr>
          <p:spPr>
            <a:xfrm>
              <a:off x="1951920" y="3008160"/>
              <a:ext cx="60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i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1894680" y="3465360"/>
              <a:ext cx="703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iC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8" name=""/>
          <p:cNvGrpSpPr/>
          <p:nvPr/>
        </p:nvGrpSpPr>
        <p:grpSpPr>
          <a:xfrm>
            <a:off x="4644720" y="1712880"/>
            <a:ext cx="857520" cy="916920"/>
            <a:chOff x="4644720" y="1712880"/>
            <a:chExt cx="857520" cy="916920"/>
          </a:xfrm>
        </p:grpSpPr>
        <p:sp>
          <p:nvSpPr>
            <p:cNvPr id="729" name=""/>
            <p:cNvSpPr/>
            <p:nvPr/>
          </p:nvSpPr>
          <p:spPr>
            <a:xfrm>
              <a:off x="4644720" y="1712880"/>
              <a:ext cx="857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95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4644720" y="2170080"/>
              <a:ext cx="857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393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1" name=""/>
          <p:cNvGrpSpPr/>
          <p:nvPr/>
        </p:nvGrpSpPr>
        <p:grpSpPr>
          <a:xfrm>
            <a:off x="4679640" y="3008160"/>
            <a:ext cx="857520" cy="916920"/>
            <a:chOff x="4679640" y="3008160"/>
            <a:chExt cx="857520" cy="916920"/>
          </a:xfrm>
        </p:grpSpPr>
        <p:sp>
          <p:nvSpPr>
            <p:cNvPr id="732" name=""/>
            <p:cNvSpPr/>
            <p:nvPr/>
          </p:nvSpPr>
          <p:spPr>
            <a:xfrm>
              <a:off x="4679640" y="3008160"/>
              <a:ext cx="857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103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755600" y="3465360"/>
              <a:ext cx="68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85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4" name=""/>
          <p:cNvGrpSpPr/>
          <p:nvPr/>
        </p:nvGrpSpPr>
        <p:grpSpPr>
          <a:xfrm>
            <a:off x="6453000" y="1712880"/>
            <a:ext cx="1398960" cy="916920"/>
            <a:chOff x="6453000" y="1712880"/>
            <a:chExt cx="1398960" cy="916920"/>
          </a:xfrm>
        </p:grpSpPr>
        <p:sp>
          <p:nvSpPr>
            <p:cNvPr id="735" name=""/>
            <p:cNvSpPr/>
            <p:nvPr/>
          </p:nvSpPr>
          <p:spPr>
            <a:xfrm>
              <a:off x="6453000" y="1712880"/>
              <a:ext cx="138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Q= +2,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6465600" y="2170080"/>
              <a:ext cx="138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Q= +2,-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7" name=""/>
          <p:cNvSpPr/>
          <p:nvPr/>
        </p:nvSpPr>
        <p:spPr>
          <a:xfrm>
            <a:off x="6380640" y="3201840"/>
            <a:ext cx="149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r F</a:t>
            </a:r>
            <a:r>
              <a:rPr b="0" lang="en-US" sz="2400" spc="-1" strike="noStrike" baseline="30000">
                <a:solidFill>
                  <a:srgbClr val="ff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lt; r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fill="hold">
                      <p:stCondLst>
                        <p:cond delay="indefinite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2" fill="hold">
                      <p:stCondLst>
                        <p:cond delay="indefinite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0" fill="hold">
                      <p:stCondLst>
                        <p:cond delay="indefinite"/>
                      </p:stCondLst>
                      <p:childTnLst>
                        <p:par>
                          <p:cTn id="991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"/>
          <p:cNvSpPr/>
          <p:nvPr/>
        </p:nvSpPr>
        <p:spPr>
          <a:xfrm>
            <a:off x="380880" y="26028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l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iclo de Born-Haber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nos permite visualizar los factores individuales que afectan la magnitud de la energía de red cristalin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9" name=""/>
          <p:cNvGraphicFramePr/>
          <p:nvPr/>
        </p:nvGraphicFramePr>
        <p:xfrm>
          <a:off x="1403280" y="1033560"/>
          <a:ext cx="6553440" cy="5564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033560"/>
                    <a:ext cx="6553440" cy="556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203640" y="26028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Arial"/>
              </a:rPr>
              <a:t>Regla del octe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68360" y="1125360"/>
            <a:ext cx="8351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uando se comparten electrones cada uno de los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átomos adquiere una configuración electrónica de gas noble (capa cerrada) con un octeto completo de electron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23040" y="2422440"/>
            <a:ext cx="72565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estructura:   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H:H       H-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195640" y="2349360"/>
            <a:ext cx="2273040" cy="547920"/>
          </a:xfrm>
          <a:prstGeom prst="rect">
            <a:avLst/>
          </a:prstGeom>
          <a:ln w="0">
            <a:noFill/>
          </a:ln>
        </p:spPr>
      </p:pic>
      <p:grpSp>
        <p:nvGrpSpPr>
          <p:cNvPr id="56" name=""/>
          <p:cNvGrpSpPr/>
          <p:nvPr/>
        </p:nvGrpSpPr>
        <p:grpSpPr>
          <a:xfrm>
            <a:off x="868320" y="3575160"/>
            <a:ext cx="444600" cy="473760"/>
            <a:chOff x="868320" y="3575160"/>
            <a:chExt cx="444600" cy="473760"/>
          </a:xfrm>
        </p:grpSpPr>
        <p:sp>
          <p:nvSpPr>
            <p:cNvPr id="57" name=""/>
            <p:cNvSpPr/>
            <p:nvPr/>
          </p:nvSpPr>
          <p:spPr>
            <a:xfrm>
              <a:off x="914400" y="358920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" name=""/>
            <p:cNvGrpSpPr/>
            <p:nvPr/>
          </p:nvGrpSpPr>
          <p:grpSpPr>
            <a:xfrm>
              <a:off x="868320" y="3701880"/>
              <a:ext cx="76320" cy="228600"/>
              <a:chOff x="868320" y="3701880"/>
              <a:chExt cx="76320" cy="228600"/>
            </a:xfrm>
          </p:grpSpPr>
          <p:sp>
            <p:nvSpPr>
              <p:cNvPr id="59" name=""/>
              <p:cNvSpPr/>
              <p:nvPr/>
            </p:nvSpPr>
            <p:spPr>
              <a:xfrm>
                <a:off x="868320" y="370188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868320" y="3854520"/>
                <a:ext cx="7632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" name=""/>
            <p:cNvSpPr/>
            <p:nvPr/>
          </p:nvSpPr>
          <p:spPr>
            <a:xfrm>
              <a:off x="1236600" y="370188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" name=""/>
            <p:cNvGrpSpPr/>
            <p:nvPr/>
          </p:nvGrpSpPr>
          <p:grpSpPr>
            <a:xfrm>
              <a:off x="969480" y="3575160"/>
              <a:ext cx="228600" cy="75960"/>
              <a:chOff x="969480" y="3575160"/>
              <a:chExt cx="228600" cy="75960"/>
            </a:xfrm>
          </p:grpSpPr>
          <p:sp>
            <p:nvSpPr>
              <p:cNvPr id="63" name=""/>
              <p:cNvSpPr/>
              <p:nvPr/>
            </p:nvSpPr>
            <p:spPr>
              <a:xfrm rot="5400000">
                <a:off x="1121760" y="3574800"/>
                <a:ext cx="7596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5400000">
                <a:off x="969480" y="357516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969480" y="3968640"/>
              <a:ext cx="228600" cy="76320"/>
              <a:chOff x="969480" y="3968640"/>
              <a:chExt cx="228600" cy="76320"/>
            </a:xfrm>
          </p:grpSpPr>
          <p:sp>
            <p:nvSpPr>
              <p:cNvPr id="66" name=""/>
              <p:cNvSpPr/>
              <p:nvPr/>
            </p:nvSpPr>
            <p:spPr>
              <a:xfrm rot="5400000">
                <a:off x="1121760" y="396864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5400000">
                <a:off x="969120" y="3968640"/>
                <a:ext cx="7632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8" name=""/>
          <p:cNvGrpSpPr/>
          <p:nvPr/>
        </p:nvGrpSpPr>
        <p:grpSpPr>
          <a:xfrm>
            <a:off x="1558800" y="3575160"/>
            <a:ext cx="1038240" cy="473760"/>
            <a:chOff x="1558800" y="3575160"/>
            <a:chExt cx="1038240" cy="473760"/>
          </a:xfrm>
        </p:grpSpPr>
        <p:grpSp>
          <p:nvGrpSpPr>
            <p:cNvPr id="69" name=""/>
            <p:cNvGrpSpPr/>
            <p:nvPr/>
          </p:nvGrpSpPr>
          <p:grpSpPr>
            <a:xfrm>
              <a:off x="2165400" y="3575160"/>
              <a:ext cx="431640" cy="473760"/>
              <a:chOff x="2165400" y="3575160"/>
              <a:chExt cx="431640" cy="473760"/>
            </a:xfrm>
          </p:grpSpPr>
          <p:sp>
            <p:nvSpPr>
              <p:cNvPr id="70" name=""/>
              <p:cNvSpPr/>
              <p:nvPr/>
            </p:nvSpPr>
            <p:spPr>
              <a:xfrm>
                <a:off x="2198880" y="3589200"/>
                <a:ext cx="366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1" name=""/>
              <p:cNvGrpSpPr/>
              <p:nvPr/>
            </p:nvGrpSpPr>
            <p:grpSpPr>
              <a:xfrm>
                <a:off x="2521080" y="3701880"/>
                <a:ext cx="75960" cy="227880"/>
                <a:chOff x="2521080" y="3701880"/>
                <a:chExt cx="75960" cy="227880"/>
              </a:xfrm>
            </p:grpSpPr>
            <p:sp>
              <p:nvSpPr>
                <p:cNvPr id="72" name=""/>
                <p:cNvSpPr/>
                <p:nvPr/>
              </p:nvSpPr>
              <p:spPr>
                <a:xfrm>
                  <a:off x="2521080" y="370188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"/>
                <p:cNvSpPr/>
                <p:nvPr/>
              </p:nvSpPr>
              <p:spPr>
                <a:xfrm>
                  <a:off x="2521080" y="3854160"/>
                  <a:ext cx="75960" cy="75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4" name=""/>
              <p:cNvSpPr/>
              <p:nvPr/>
            </p:nvSpPr>
            <p:spPr>
              <a:xfrm>
                <a:off x="2165400" y="3854160"/>
                <a:ext cx="7632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5" name=""/>
              <p:cNvGrpSpPr/>
              <p:nvPr/>
            </p:nvGrpSpPr>
            <p:grpSpPr>
              <a:xfrm>
                <a:off x="2253960" y="3575160"/>
                <a:ext cx="228600" cy="75960"/>
                <a:chOff x="2253960" y="3575160"/>
                <a:chExt cx="228600" cy="75960"/>
              </a:xfrm>
            </p:grpSpPr>
            <p:sp>
              <p:nvSpPr>
                <p:cNvPr id="76" name=""/>
                <p:cNvSpPr/>
                <p:nvPr/>
              </p:nvSpPr>
              <p:spPr>
                <a:xfrm rot="5400000">
                  <a:off x="2406240" y="357480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 rot="5400000">
                  <a:off x="2253960" y="357516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" name=""/>
              <p:cNvGrpSpPr/>
              <p:nvPr/>
            </p:nvGrpSpPr>
            <p:grpSpPr>
              <a:xfrm>
                <a:off x="2253960" y="3968640"/>
                <a:ext cx="228600" cy="75600"/>
                <a:chOff x="2253960" y="3968640"/>
                <a:chExt cx="228600" cy="75600"/>
              </a:xfrm>
            </p:grpSpPr>
            <p:sp>
              <p:nvSpPr>
                <p:cNvPr id="79" name=""/>
                <p:cNvSpPr/>
                <p:nvPr/>
              </p:nvSpPr>
              <p:spPr>
                <a:xfrm rot="5400000">
                  <a:off x="2406600" y="3968280"/>
                  <a:ext cx="7560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" name=""/>
                <p:cNvSpPr/>
                <p:nvPr/>
              </p:nvSpPr>
              <p:spPr>
                <a:xfrm rot="5400000">
                  <a:off x="2253960" y="3968280"/>
                  <a:ext cx="7560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1" name=""/>
            <p:cNvSpPr/>
            <p:nvPr/>
          </p:nvSpPr>
          <p:spPr>
            <a:xfrm>
              <a:off x="1558800" y="358128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755640" y="3486240"/>
            <a:ext cx="685800" cy="1158120"/>
            <a:chOff x="755640" y="3486240"/>
            <a:chExt cx="685800" cy="1158120"/>
          </a:xfrm>
        </p:grpSpPr>
        <p:sp>
          <p:nvSpPr>
            <p:cNvPr id="83" name=""/>
            <p:cNvSpPr/>
            <p:nvPr/>
          </p:nvSpPr>
          <p:spPr>
            <a:xfrm>
              <a:off x="755640" y="3486240"/>
              <a:ext cx="685800" cy="68580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810000" y="4184640"/>
              <a:ext cx="578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7e</a:t>
              </a:r>
              <a:r>
                <a:rPr b="0" lang="en-US" sz="2400" spc="-1" strike="noStrike" baseline="30000">
                  <a:solidFill>
                    <a:srgbClr val="ff0000"/>
                  </a:solidFill>
                  <a:latin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" name=""/>
          <p:cNvGrpSpPr/>
          <p:nvPr/>
        </p:nvGrpSpPr>
        <p:grpSpPr>
          <a:xfrm>
            <a:off x="2038320" y="3486240"/>
            <a:ext cx="685800" cy="1158120"/>
            <a:chOff x="2038320" y="3486240"/>
            <a:chExt cx="685800" cy="1158120"/>
          </a:xfrm>
        </p:grpSpPr>
        <p:sp>
          <p:nvSpPr>
            <p:cNvPr id="86" name=""/>
            <p:cNvSpPr/>
            <p:nvPr/>
          </p:nvSpPr>
          <p:spPr>
            <a:xfrm>
              <a:off x="2038320" y="3486240"/>
              <a:ext cx="685800" cy="68580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092680" y="4184640"/>
              <a:ext cx="578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7e</a:t>
              </a:r>
              <a:r>
                <a:rPr b="0" lang="en-US" sz="2400" spc="-1" strike="noStrike" baseline="30000">
                  <a:solidFill>
                    <a:srgbClr val="ff0000"/>
                  </a:solidFill>
                  <a:latin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" name=""/>
          <p:cNvSpPr/>
          <p:nvPr/>
        </p:nvSpPr>
        <p:spPr>
          <a:xfrm>
            <a:off x="2825640" y="3803760"/>
            <a:ext cx="76212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3828960" y="3575160"/>
            <a:ext cx="799920" cy="473760"/>
            <a:chOff x="3828960" y="3575160"/>
            <a:chExt cx="799920" cy="473760"/>
          </a:xfrm>
        </p:grpSpPr>
        <p:grpSp>
          <p:nvGrpSpPr>
            <p:cNvPr id="90" name=""/>
            <p:cNvGrpSpPr/>
            <p:nvPr/>
          </p:nvGrpSpPr>
          <p:grpSpPr>
            <a:xfrm>
              <a:off x="3828960" y="3575160"/>
              <a:ext cx="444600" cy="473760"/>
              <a:chOff x="3828960" y="3575160"/>
              <a:chExt cx="444600" cy="473760"/>
            </a:xfrm>
          </p:grpSpPr>
          <p:sp>
            <p:nvSpPr>
              <p:cNvPr id="91" name=""/>
              <p:cNvSpPr/>
              <p:nvPr/>
            </p:nvSpPr>
            <p:spPr>
              <a:xfrm>
                <a:off x="3875040" y="3589200"/>
                <a:ext cx="366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2" name=""/>
              <p:cNvGrpSpPr/>
              <p:nvPr/>
            </p:nvGrpSpPr>
            <p:grpSpPr>
              <a:xfrm>
                <a:off x="3828960" y="3701880"/>
                <a:ext cx="76320" cy="228600"/>
                <a:chOff x="3828960" y="3701880"/>
                <a:chExt cx="76320" cy="228600"/>
              </a:xfrm>
            </p:grpSpPr>
            <p:sp>
              <p:nvSpPr>
                <p:cNvPr id="93" name=""/>
                <p:cNvSpPr/>
                <p:nvPr/>
              </p:nvSpPr>
              <p:spPr>
                <a:xfrm>
                  <a:off x="3828960" y="370188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3828960" y="385452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5" name=""/>
              <p:cNvSpPr/>
              <p:nvPr/>
            </p:nvSpPr>
            <p:spPr>
              <a:xfrm>
                <a:off x="4197240" y="370188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6" name=""/>
              <p:cNvGrpSpPr/>
              <p:nvPr/>
            </p:nvGrpSpPr>
            <p:grpSpPr>
              <a:xfrm>
                <a:off x="3930120" y="3575160"/>
                <a:ext cx="228600" cy="75960"/>
                <a:chOff x="3930120" y="3575160"/>
                <a:chExt cx="228600" cy="75960"/>
              </a:xfrm>
            </p:grpSpPr>
            <p:sp>
              <p:nvSpPr>
                <p:cNvPr id="97" name=""/>
                <p:cNvSpPr/>
                <p:nvPr/>
              </p:nvSpPr>
              <p:spPr>
                <a:xfrm rot="5400000">
                  <a:off x="4082400" y="357480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 rot="5400000">
                  <a:off x="3930120" y="357516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" name=""/>
              <p:cNvGrpSpPr/>
              <p:nvPr/>
            </p:nvGrpSpPr>
            <p:grpSpPr>
              <a:xfrm>
                <a:off x="3930120" y="3968640"/>
                <a:ext cx="228600" cy="76320"/>
                <a:chOff x="3930120" y="3968640"/>
                <a:chExt cx="228600" cy="76320"/>
              </a:xfrm>
            </p:grpSpPr>
            <p:sp>
              <p:nvSpPr>
                <p:cNvPr id="100" name=""/>
                <p:cNvSpPr/>
                <p:nvPr/>
              </p:nvSpPr>
              <p:spPr>
                <a:xfrm rot="5400000">
                  <a:off x="4082400" y="396864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 rot="5400000">
                  <a:off x="3929760" y="396864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2" name=""/>
            <p:cNvGrpSpPr/>
            <p:nvPr/>
          </p:nvGrpSpPr>
          <p:grpSpPr>
            <a:xfrm>
              <a:off x="4197240" y="3575160"/>
              <a:ext cx="431640" cy="473760"/>
              <a:chOff x="4197240" y="3575160"/>
              <a:chExt cx="431640" cy="473760"/>
            </a:xfrm>
          </p:grpSpPr>
          <p:sp>
            <p:nvSpPr>
              <p:cNvPr id="103" name=""/>
              <p:cNvSpPr/>
              <p:nvPr/>
            </p:nvSpPr>
            <p:spPr>
              <a:xfrm>
                <a:off x="4230720" y="3589200"/>
                <a:ext cx="366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4" name=""/>
              <p:cNvGrpSpPr/>
              <p:nvPr/>
            </p:nvGrpSpPr>
            <p:grpSpPr>
              <a:xfrm>
                <a:off x="4552920" y="3701880"/>
                <a:ext cx="75960" cy="227880"/>
                <a:chOff x="4552920" y="3701880"/>
                <a:chExt cx="75960" cy="227880"/>
              </a:xfrm>
            </p:grpSpPr>
            <p:sp>
              <p:nvSpPr>
                <p:cNvPr id="105" name=""/>
                <p:cNvSpPr/>
                <p:nvPr/>
              </p:nvSpPr>
              <p:spPr>
                <a:xfrm>
                  <a:off x="4552920" y="370188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4552920" y="3854160"/>
                  <a:ext cx="75960" cy="75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7" name=""/>
              <p:cNvSpPr/>
              <p:nvPr/>
            </p:nvSpPr>
            <p:spPr>
              <a:xfrm>
                <a:off x="4197240" y="3854160"/>
                <a:ext cx="7632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8" name=""/>
              <p:cNvGrpSpPr/>
              <p:nvPr/>
            </p:nvGrpSpPr>
            <p:grpSpPr>
              <a:xfrm>
                <a:off x="4285800" y="3575160"/>
                <a:ext cx="228600" cy="75960"/>
                <a:chOff x="4285800" y="3575160"/>
                <a:chExt cx="228600" cy="75960"/>
              </a:xfrm>
            </p:grpSpPr>
            <p:sp>
              <p:nvSpPr>
                <p:cNvPr id="109" name=""/>
                <p:cNvSpPr/>
                <p:nvPr/>
              </p:nvSpPr>
              <p:spPr>
                <a:xfrm rot="5400000">
                  <a:off x="4438080" y="357480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 rot="5400000">
                  <a:off x="4285800" y="357516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" name=""/>
              <p:cNvGrpSpPr/>
              <p:nvPr/>
            </p:nvGrpSpPr>
            <p:grpSpPr>
              <a:xfrm>
                <a:off x="4285800" y="3968640"/>
                <a:ext cx="228600" cy="75600"/>
                <a:chOff x="4285800" y="3968640"/>
                <a:chExt cx="228600" cy="75600"/>
              </a:xfrm>
            </p:grpSpPr>
            <p:sp>
              <p:nvSpPr>
                <p:cNvPr id="112" name=""/>
                <p:cNvSpPr/>
                <p:nvPr/>
              </p:nvSpPr>
              <p:spPr>
                <a:xfrm rot="5400000">
                  <a:off x="4438440" y="3968280"/>
                  <a:ext cx="7560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 rot="5400000">
                  <a:off x="4285800" y="3968280"/>
                  <a:ext cx="7560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14" name=""/>
          <p:cNvGrpSpPr/>
          <p:nvPr/>
        </p:nvGrpSpPr>
        <p:grpSpPr>
          <a:xfrm>
            <a:off x="3664080" y="3498840"/>
            <a:ext cx="685800" cy="1158120"/>
            <a:chOff x="3664080" y="3498840"/>
            <a:chExt cx="685800" cy="1158120"/>
          </a:xfrm>
        </p:grpSpPr>
        <p:sp>
          <p:nvSpPr>
            <p:cNvPr id="115" name=""/>
            <p:cNvSpPr/>
            <p:nvPr/>
          </p:nvSpPr>
          <p:spPr>
            <a:xfrm>
              <a:off x="3664080" y="3498840"/>
              <a:ext cx="685800" cy="68580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18440" y="4197240"/>
              <a:ext cx="578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8e</a:t>
              </a:r>
              <a:r>
                <a:rPr b="0" lang="en-US" sz="2400" spc="-1" strike="noStrike" baseline="30000">
                  <a:solidFill>
                    <a:srgbClr val="ff0000"/>
                  </a:solidFill>
                  <a:latin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4172040" y="3498840"/>
            <a:ext cx="685800" cy="1158120"/>
            <a:chOff x="4172040" y="3498840"/>
            <a:chExt cx="685800" cy="1158120"/>
          </a:xfrm>
        </p:grpSpPr>
        <p:sp>
          <p:nvSpPr>
            <p:cNvPr id="118" name=""/>
            <p:cNvSpPr/>
            <p:nvPr/>
          </p:nvSpPr>
          <p:spPr>
            <a:xfrm>
              <a:off x="4172040" y="3498840"/>
              <a:ext cx="685800" cy="68580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226400" y="4197240"/>
              <a:ext cx="578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8e</a:t>
              </a:r>
              <a:r>
                <a:rPr b="0" lang="en-US" sz="2400" spc="-1" strike="noStrike" baseline="30000">
                  <a:solidFill>
                    <a:srgbClr val="ff0000"/>
                  </a:solidFill>
                  <a:latin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5078880" y="4976640"/>
            <a:ext cx="3515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structura de Lewis para F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6141960" y="3573360"/>
            <a:ext cx="1237680" cy="475560"/>
            <a:chOff x="6141960" y="3573360"/>
            <a:chExt cx="1237680" cy="475560"/>
          </a:xfrm>
        </p:grpSpPr>
        <p:grpSp>
          <p:nvGrpSpPr>
            <p:cNvPr id="122" name=""/>
            <p:cNvGrpSpPr/>
            <p:nvPr/>
          </p:nvGrpSpPr>
          <p:grpSpPr>
            <a:xfrm>
              <a:off x="6141960" y="3573360"/>
              <a:ext cx="412560" cy="474120"/>
              <a:chOff x="6141960" y="3573360"/>
              <a:chExt cx="412560" cy="474120"/>
            </a:xfrm>
          </p:grpSpPr>
          <p:sp>
            <p:nvSpPr>
              <p:cNvPr id="123" name=""/>
              <p:cNvSpPr/>
              <p:nvPr/>
            </p:nvSpPr>
            <p:spPr>
              <a:xfrm>
                <a:off x="6188040" y="3587760"/>
                <a:ext cx="366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4" name=""/>
              <p:cNvGrpSpPr/>
              <p:nvPr/>
            </p:nvGrpSpPr>
            <p:grpSpPr>
              <a:xfrm>
                <a:off x="6141960" y="3700440"/>
                <a:ext cx="75960" cy="228600"/>
                <a:chOff x="6141960" y="3700440"/>
                <a:chExt cx="75960" cy="22860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6141960" y="370044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6141960" y="385308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7" name=""/>
              <p:cNvGrpSpPr/>
              <p:nvPr/>
            </p:nvGrpSpPr>
            <p:grpSpPr>
              <a:xfrm>
                <a:off x="6243120" y="3573360"/>
                <a:ext cx="228600" cy="76320"/>
                <a:chOff x="6243120" y="3573360"/>
                <a:chExt cx="228600" cy="76320"/>
              </a:xfrm>
            </p:grpSpPr>
            <p:sp>
              <p:nvSpPr>
                <p:cNvPr id="128" name=""/>
                <p:cNvSpPr/>
                <p:nvPr/>
              </p:nvSpPr>
              <p:spPr>
                <a:xfrm rot="5400000">
                  <a:off x="6395400" y="357336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 rot="5400000">
                  <a:off x="6242760" y="357336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0" name=""/>
              <p:cNvGrpSpPr/>
              <p:nvPr/>
            </p:nvGrpSpPr>
            <p:grpSpPr>
              <a:xfrm>
                <a:off x="6243120" y="3967200"/>
                <a:ext cx="228600" cy="75960"/>
                <a:chOff x="6243120" y="3967200"/>
                <a:chExt cx="228600" cy="75960"/>
              </a:xfrm>
            </p:grpSpPr>
            <p:sp>
              <p:nvSpPr>
                <p:cNvPr id="131" name=""/>
                <p:cNvSpPr/>
                <p:nvPr/>
              </p:nvSpPr>
              <p:spPr>
                <a:xfrm rot="5400000">
                  <a:off x="6395400" y="396684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 rot="5400000">
                  <a:off x="6243120" y="396720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3" name=""/>
            <p:cNvGrpSpPr/>
            <p:nvPr/>
          </p:nvGrpSpPr>
          <p:grpSpPr>
            <a:xfrm>
              <a:off x="6981480" y="3574800"/>
              <a:ext cx="398160" cy="474120"/>
              <a:chOff x="6981480" y="3574800"/>
              <a:chExt cx="398160" cy="474120"/>
            </a:xfrm>
          </p:grpSpPr>
          <p:sp>
            <p:nvSpPr>
              <p:cNvPr id="134" name=""/>
              <p:cNvSpPr/>
              <p:nvPr/>
            </p:nvSpPr>
            <p:spPr>
              <a:xfrm>
                <a:off x="6981480" y="3589200"/>
                <a:ext cx="366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7303680" y="3701880"/>
                <a:ext cx="75960" cy="228600"/>
                <a:chOff x="7303680" y="3701880"/>
                <a:chExt cx="75960" cy="22860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7303680" y="370188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7303680" y="385452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" name=""/>
              <p:cNvGrpSpPr/>
              <p:nvPr/>
            </p:nvGrpSpPr>
            <p:grpSpPr>
              <a:xfrm>
                <a:off x="7037280" y="3574800"/>
                <a:ext cx="227880" cy="76320"/>
                <a:chOff x="7037280" y="3574800"/>
                <a:chExt cx="227880" cy="76320"/>
              </a:xfrm>
            </p:grpSpPr>
            <p:sp>
              <p:nvSpPr>
                <p:cNvPr id="139" name=""/>
                <p:cNvSpPr/>
                <p:nvPr/>
              </p:nvSpPr>
              <p:spPr>
                <a:xfrm rot="5400000">
                  <a:off x="7188840" y="357480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 rot="5400000">
                  <a:off x="7036920" y="3575160"/>
                  <a:ext cx="76320" cy="75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" name=""/>
              <p:cNvGrpSpPr/>
              <p:nvPr/>
            </p:nvGrpSpPr>
            <p:grpSpPr>
              <a:xfrm>
                <a:off x="7037280" y="3968640"/>
                <a:ext cx="227880" cy="76320"/>
                <a:chOff x="7037280" y="3968640"/>
                <a:chExt cx="227880" cy="76320"/>
              </a:xfrm>
            </p:grpSpPr>
            <p:sp>
              <p:nvSpPr>
                <p:cNvPr id="142" name=""/>
                <p:cNvSpPr/>
                <p:nvPr/>
              </p:nvSpPr>
              <p:spPr>
                <a:xfrm rot="5400000">
                  <a:off x="7188840" y="396864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rot="5400000">
                  <a:off x="7036920" y="3969000"/>
                  <a:ext cx="76320" cy="75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44" name=""/>
            <p:cNvSpPr/>
            <p:nvPr/>
          </p:nvSpPr>
          <p:spPr>
            <a:xfrm>
              <a:off x="6540480" y="3809880"/>
              <a:ext cx="45720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5365800" y="3876480"/>
            <a:ext cx="2821680" cy="851040"/>
            <a:chOff x="5365800" y="3876480"/>
            <a:chExt cx="2821680" cy="851040"/>
          </a:xfrm>
        </p:grpSpPr>
        <p:sp>
          <p:nvSpPr>
            <p:cNvPr id="146" name=""/>
            <p:cNvSpPr/>
            <p:nvPr/>
          </p:nvSpPr>
          <p:spPr>
            <a:xfrm>
              <a:off x="5365800" y="4359240"/>
              <a:ext cx="2821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Enlace covalente simp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V="1">
              <a:off x="6762600" y="3876480"/>
              <a:ext cx="0" cy="53316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1" name=""/>
          <p:cNvGrpSpPr/>
          <p:nvPr/>
        </p:nvGrpSpPr>
        <p:grpSpPr>
          <a:xfrm>
            <a:off x="395280" y="5478480"/>
            <a:ext cx="1594080" cy="1049760"/>
            <a:chOff x="395280" y="5478480"/>
            <a:chExt cx="1594080" cy="1049760"/>
          </a:xfrm>
        </p:grpSpPr>
        <p:sp>
          <p:nvSpPr>
            <p:cNvPr id="742" name=""/>
            <p:cNvSpPr/>
            <p:nvPr/>
          </p:nvSpPr>
          <p:spPr>
            <a:xfrm>
              <a:off x="395280" y="5478480"/>
              <a:ext cx="1328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ovalen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486000" y="6129360"/>
              <a:ext cx="1503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omparte e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4" name=""/>
          <p:cNvGrpSpPr/>
          <p:nvPr/>
        </p:nvGrpSpPr>
        <p:grpSpPr>
          <a:xfrm>
            <a:off x="1919160" y="5516640"/>
            <a:ext cx="4308120" cy="936360"/>
            <a:chOff x="1919160" y="5516640"/>
            <a:chExt cx="4308120" cy="936360"/>
          </a:xfrm>
        </p:grpSpPr>
        <p:sp>
          <p:nvSpPr>
            <p:cNvPr id="745" name=""/>
            <p:cNvSpPr/>
            <p:nvPr/>
          </p:nvSpPr>
          <p:spPr>
            <a:xfrm>
              <a:off x="3357000" y="5516640"/>
              <a:ext cx="1992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ovalente Pola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935800" y="6054120"/>
              <a:ext cx="3291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ransferencia parcial de e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1919160" y="5986440"/>
              <a:ext cx="1204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8" name=""/>
          <p:cNvSpPr/>
          <p:nvPr/>
        </p:nvSpPr>
        <p:spPr>
          <a:xfrm>
            <a:off x="7088760" y="5437080"/>
            <a:ext cx="86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ón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6727680" y="6014880"/>
            <a:ext cx="191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ferencia e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5789520" y="592128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1" name=""/>
          <p:cNvGrpSpPr/>
          <p:nvPr/>
        </p:nvGrpSpPr>
        <p:grpSpPr>
          <a:xfrm>
            <a:off x="1476360" y="4638600"/>
            <a:ext cx="6019560" cy="446040"/>
            <a:chOff x="1476360" y="4638600"/>
            <a:chExt cx="6019560" cy="446040"/>
          </a:xfrm>
        </p:grpSpPr>
        <p:sp>
          <p:nvSpPr>
            <p:cNvPr id="752" name=""/>
            <p:cNvSpPr/>
            <p:nvPr/>
          </p:nvSpPr>
          <p:spPr>
            <a:xfrm>
              <a:off x="1476360" y="5084640"/>
              <a:ext cx="6019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018520" y="4638600"/>
              <a:ext cx="5244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-                  Electronegatividad                     +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4" name=""/>
          <p:cNvSpPr/>
          <p:nvPr/>
        </p:nvSpPr>
        <p:spPr>
          <a:xfrm>
            <a:off x="1420920" y="260280"/>
            <a:ext cx="635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asificación de los enlaces por electronegativ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3738600" y="1440000"/>
            <a:ext cx="132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er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6253200" y="1440000"/>
            <a:ext cx="185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po de enl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4224240" y="20480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6583320" y="2048040"/>
            <a:ext cx="132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val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4087800" y="2523960"/>
            <a:ext cx="59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6817320" y="2523960"/>
            <a:ext cx="86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ón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3831120" y="2979720"/>
            <a:ext cx="110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 &lt; y &lt;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6259680" y="2981160"/>
            <a:ext cx="199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valente Po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3" name="" descr=""/>
          <p:cNvPicPr/>
          <p:nvPr/>
        </p:nvPicPr>
        <p:blipFill>
          <a:blip r:embed="rId1"/>
          <a:srcRect l="0" t="2087" r="0" b="0"/>
          <a:stretch/>
        </p:blipFill>
        <p:spPr>
          <a:xfrm>
            <a:off x="136440" y="782640"/>
            <a:ext cx="2936880" cy="372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2" dur="indefinite" restart="never" nodeType="tmRoot">
          <p:childTnLst>
            <p:seq>
              <p:cTn id="1003" dur="indefinite" nodeType="mainSeq">
                <p:childTnLst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8" fill="hold">
                      <p:stCondLst>
                        <p:cond delay="indefinite"/>
                      </p:stCondLst>
                      <p:childTnLst>
                        <p:par>
                          <p:cTn id="1009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0" fill="hold">
                      <p:stCondLst>
                        <p:cond delay="indefinite"/>
                      </p:stCondLst>
                      <p:childTnLst>
                        <p:par>
                          <p:cTn id="1021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fill="hold">
                      <p:stCondLst>
                        <p:cond delay="indefinite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2" fill="hold">
                      <p:stCondLst>
                        <p:cond delay="indefinite"/>
                      </p:stCondLst>
                      <p:childTnLst>
                        <p:par>
                          <p:cTn id="1033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fill="hold">
                      <p:stCondLst>
                        <p:cond delay="indefinite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4" fill="hold">
                      <p:stCondLst>
                        <p:cond delay="indefinite"/>
                      </p:stCondLst>
                      <p:childTnLst>
                        <p:par>
                          <p:cTn id="1045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fill="hold">
                      <p:stCondLst>
                        <p:cond delay="indefinite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6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8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743760" y="333360"/>
            <a:ext cx="741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Doble enla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dos átomos comparten dos pares de electr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95280" y="1052640"/>
            <a:ext cx="741672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Ejemplo: O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O:  1s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2s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2p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  6 e de valencia, debe adquirir 2 y compartirl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2411280" y="2205000"/>
            <a:ext cx="3745080" cy="61920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743040" y="3716280"/>
            <a:ext cx="741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riple enla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dos átomos comparten tres pares de electr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96720" y="4365720"/>
            <a:ext cx="734400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Ejemplo: N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N:  1s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2s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2p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  5 e de valencia, debe adquirir 3 compartirl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2340000" y="5481720"/>
            <a:ext cx="4103640" cy="65232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1461600" y="3032280"/>
            <a:ext cx="570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ntre los dos átomos de O hay </a:t>
            </a:r>
            <a:r>
              <a:rPr b="1" i="1" lang="es-ES_tradnl" sz="2000" spc="-1" strike="noStrike">
                <a:solidFill>
                  <a:srgbClr val="3333cc"/>
                </a:solidFill>
                <a:latin typeface="Arial"/>
              </a:rPr>
              <a:t>un enlace doble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458000" y="6272280"/>
            <a:ext cx="556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ntre los dos átomos de N hay </a:t>
            </a:r>
            <a:r>
              <a:rPr b="1" i="1" lang="es-ES_tradnl" sz="2000" spc="-1" strike="noStrike">
                <a:solidFill>
                  <a:srgbClr val="3333cc"/>
                </a:solidFill>
                <a:latin typeface="Arial"/>
              </a:rPr>
              <a:t>un enlace tri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811080" y="2276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structu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38000" y="55897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structu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2771640" y="404640"/>
            <a:ext cx="374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oléculas poliatóm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24000" y="1052640"/>
            <a:ext cx="849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Ejemplo: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Escribir las estructuras de Lewis de las moléculas formadas por la combinación binaria de F con H, O, N y 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24000" y="1916280"/>
            <a:ext cx="8353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lectrones de valencia de F = 7  debe compartir 1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lectrón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, por lo tanto forma solo un enlac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88080" y="2708280"/>
            <a:ext cx="531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H: 1 e de valencia; debe compartir 1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lectrón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2313000" y="3124080"/>
            <a:ext cx="3887640" cy="59220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398160" y="3789360"/>
            <a:ext cx="715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O: 1s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2s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2p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:6 e de valencia, debe compartir dos electron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2266920" y="4221000"/>
            <a:ext cx="4824360" cy="55584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8560" y="3213000"/>
            <a:ext cx="134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structu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8560" y="4292640"/>
            <a:ext cx="134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structu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52520" y="5048280"/>
            <a:ext cx="708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N: 1s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2s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2p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5 e de valencia, debe compartir tres electron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3"/>
          <a:stretch/>
        </p:blipFill>
        <p:spPr>
          <a:xfrm>
            <a:off x="2338560" y="5567400"/>
            <a:ext cx="4824360" cy="105876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610200" y="5877000"/>
            <a:ext cx="134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structu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642000" y="3230640"/>
            <a:ext cx="5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3300"/>
                </a:solidFill>
                <a:latin typeface="Arial"/>
              </a:rPr>
              <a:t>H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428960" y="4327560"/>
            <a:ext cx="616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3300"/>
                </a:solidFill>
                <a:latin typeface="Arial"/>
              </a:rPr>
              <a:t>OF</a:t>
            </a:r>
            <a:r>
              <a:rPr b="1" lang="es-ES_tradnl" sz="2000" spc="-1" strike="noStrike" baseline="-25000">
                <a:solidFill>
                  <a:srgbClr val="ff33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442280" y="5877000"/>
            <a:ext cx="603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3300"/>
                </a:solidFill>
                <a:latin typeface="Arial"/>
              </a:rPr>
              <a:t>NF</a:t>
            </a:r>
            <a:r>
              <a:rPr b="1" lang="es-ES_tradnl" sz="2000" spc="-1" strike="noStrike" baseline="-25000">
                <a:solidFill>
                  <a:srgbClr val="ff33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250920" y="333360"/>
            <a:ext cx="770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: 1s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2s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2p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;4 e de valencia, debe compartir cuatro electr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51360" y="1303200"/>
            <a:ext cx="134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structu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026480" y="1268280"/>
            <a:ext cx="603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3300"/>
                </a:solidFill>
                <a:latin typeface="Arial"/>
              </a:rPr>
              <a:t>CF</a:t>
            </a:r>
            <a:r>
              <a:rPr b="1" lang="es-ES_tradnl" sz="2000" spc="-1" strike="noStrike" baseline="-25000">
                <a:solidFill>
                  <a:srgbClr val="ff33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2195640" y="836640"/>
            <a:ext cx="4392360" cy="137484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216000" y="2349360"/>
            <a:ext cx="8748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 observa que en general se forman tantos enlaces como sean necesarios para que el átomo quede rodeado por una capa de ocho electron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50920" y="3429000"/>
            <a:ext cx="871380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in embargo, el amoníaco, NH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,  reacciona con un protón, H</a:t>
            </a:r>
            <a:r>
              <a:rPr b="0" lang="es-E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, para formar el ión amonio, NH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s-E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981080" y="4365720"/>
            <a:ext cx="4535640" cy="148572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6948360" y="4878360"/>
            <a:ext cx="792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3300"/>
                </a:solidFill>
                <a:latin typeface="Arial"/>
              </a:rPr>
              <a:t>NH</a:t>
            </a:r>
            <a:r>
              <a:rPr b="1" lang="es-ES_tradnl" sz="2000" spc="-1" strike="noStrike" baseline="-25000">
                <a:solidFill>
                  <a:srgbClr val="ff3300"/>
                </a:solidFill>
                <a:latin typeface="Arial"/>
              </a:rPr>
              <a:t>4</a:t>
            </a:r>
            <a:r>
              <a:rPr b="1" lang="es-ES_tradnl" sz="2000" spc="-1" strike="noStrike" baseline="30000">
                <a:solidFill>
                  <a:srgbClr val="ff33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24000" y="6237360"/>
            <a:ext cx="7991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stos casos hacen necesario introducir el concepto de </a:t>
            </a:r>
            <a:r>
              <a:rPr b="1" lang="es-ES" sz="2000" spc="-1" strike="noStrike">
                <a:solidFill>
                  <a:srgbClr val="ff3300"/>
                </a:solidFill>
                <a:latin typeface="Arial"/>
              </a:rPr>
              <a:t>carga formal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324000" y="1130400"/>
            <a:ext cx="8496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Carga formal de un átom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Número de electrones de valencia en el átomo libre (número del grupo al que pertenece)  - número de electrones solitarios sobre el átomo - número de enlaces del áto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24000" y="3075120"/>
            <a:ext cx="8493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rga formal sobre el H = 1 – 0 - 1 = 0.  Carga formal sobre el N = 5 – 0 – 4 = +1.  La estructura de Lewis debe incluir las cargas formales.  De tal manera que la estructura de Lewis correcta para el amoniaco 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3948120" y="4441680"/>
            <a:ext cx="1631880" cy="13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108000" y="189000"/>
            <a:ext cx="8964720" cy="12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jemplos:  a) C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H ; b) C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H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l átomo central de una estructura (con enlaces covalentes) debe ser el átomo más electropositivo.  Los átomos de H ocupan siempre posiciones terminal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08000" y="1557360"/>
            <a:ext cx="89647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)  El átomo central es el carbono, 4 enla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l oxígeno, con dos enlaces, debe estar unido al átomo central y a un hidrógeno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 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os otros tres hidrógenos forman con el átomo central el resto de los cuatro enlac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08000" y="3875040"/>
            <a:ext cx="8964720" cy="16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b)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Hay dos átomos de C que deben ser tomados como los dos central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Uno de ellos debe ser una estructura -CH</a:t>
            </a:r>
            <a:r>
              <a:rPr b="0" lang="es-ES_tradnl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como en el ejercicio anterior.  Se dispone de 3 átomos para este grupo, C, O, H con 5 pares de electrones (3 de C, 6 de O y 1 de H). La unión mediante enlace entre el O y el H llevaría al incumplimiento de la regla del C o del O.  La existencia de un doble enlace C=O es la solución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392720" y="6021360"/>
            <a:ext cx="40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as cargas formales son todas cer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1042920" y="2781360"/>
            <a:ext cx="1368360" cy="93348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395280" y="5602320"/>
            <a:ext cx="3816360" cy="104760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2843280" y="3213000"/>
            <a:ext cx="406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as cargas formales son todas cer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250920" y="1197000"/>
            <a:ext cx="8153280" cy="4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1.-   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ontar numero total de electrones de valencia = </a:t>
            </a:r>
            <a:r>
              <a:rPr b="0" lang="es-E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e</a:t>
            </a:r>
            <a:r>
              <a:rPr b="0" lang="es-ES" sz="2000" spc="-1" strike="noStrike" baseline="-30000">
                <a:solidFill>
                  <a:srgbClr val="ff0000"/>
                </a:solidFill>
                <a:latin typeface="Arial"/>
                <a:ea typeface="Times New Roman"/>
              </a:rPr>
              <a:t>valencia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95280" y="380880"/>
            <a:ext cx="8137440" cy="3988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REGLAS PARA ESCRIBIR UNA ESTRUCTURA DE LEWI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30480" y="5805360"/>
            <a:ext cx="792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6.-  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ompletar la estructura con las cargas formales de cada átom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16440" y="5229360"/>
            <a:ext cx="851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5.-  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ompletar con  electrones las capas de valencia de todos los átom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22200" y="3828960"/>
            <a:ext cx="8496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4.-  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ibujar estructura y situar dos electrones por cada enlace. Coloque el elemento menos electronegativo al centro.  En caso necesario se deben poner enlaces dobles o triples hasta completar el número total de enlac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24000" y="2746440"/>
            <a:ext cx="8496000" cy="11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3.-  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 diferencia (</a:t>
            </a:r>
            <a:r>
              <a:rPr b="0" lang="es-ES" sz="20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0" lang="es-ES" sz="2000" spc="-1" strike="noStrike" baseline="-25000">
                <a:solidFill>
                  <a:srgbClr val="ff0000"/>
                </a:solidFill>
                <a:latin typeface="Arial"/>
              </a:rPr>
              <a:t>octetos</a:t>
            </a:r>
            <a:r>
              <a:rPr b="0" lang="es-ES" sz="2000" spc="-1" strike="noStrike">
                <a:solidFill>
                  <a:srgbClr val="ff0000"/>
                </a:solidFill>
                <a:latin typeface="Arial"/>
              </a:rPr>
              <a:t> - e</a:t>
            </a:r>
            <a:r>
              <a:rPr b="0" lang="es-ES" sz="2000" spc="-1" strike="noStrike" baseline="-25000">
                <a:solidFill>
                  <a:srgbClr val="ff0000"/>
                </a:solidFill>
                <a:latin typeface="Arial"/>
              </a:rPr>
              <a:t>valencia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) nos da el número de electrones compartidos, </a:t>
            </a:r>
            <a:r>
              <a:rPr b="0" lang="es-ES" sz="20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0" lang="es-ES" sz="2000" spc="-1" strike="noStrike" baseline="-25000">
                <a:solidFill>
                  <a:srgbClr val="ff0000"/>
                </a:solidFill>
                <a:latin typeface="Arial"/>
              </a:rPr>
              <a:t>compartido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que al dividirlo por 2 nos entrega el número de enlaces, </a:t>
            </a:r>
            <a:r>
              <a:rPr b="0" lang="es-ES" sz="20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0" lang="es-ES" sz="2000" spc="-1" strike="noStrike" baseline="-25000">
                <a:solidFill>
                  <a:srgbClr val="ff0000"/>
                </a:solidFill>
                <a:latin typeface="Arial"/>
              </a:rPr>
              <a:t>enlace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que deben existi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24000" y="1666800"/>
            <a:ext cx="849600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.-  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ontar número de electrones necesarios para formar octetos de electrones en todos los átomos excepto los átomos de hidrógeno (solo dos electrones) = </a:t>
            </a:r>
            <a:r>
              <a:rPr b="0" lang="es-ES" sz="20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0" lang="es-ES" sz="2000" spc="-1" strike="noStrike" baseline="-25000">
                <a:solidFill>
                  <a:srgbClr val="ff0000"/>
                </a:solidFill>
                <a:latin typeface="Arial"/>
              </a:rPr>
              <a:t>octe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6T02:14:45Z</dcterms:created>
  <dc:creator>Stephanie Manzur Andreu</dc:creator>
  <dc:description/>
  <dc:language>en-US</dc:language>
  <cp:lastModifiedBy>Dpto. Cs. de los Materiales</cp:lastModifiedBy>
  <dcterms:modified xsi:type="dcterms:W3CDTF">2007-08-20T23:39:03Z</dcterms:modified>
  <cp:revision>84</cp:revision>
  <dc:subject/>
  <dc:title>Presentación de PowerPoint</dc:title>
</cp:coreProperties>
</file>