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0.jpeg" ContentType="image/jpeg"/>
  <Override PartName="/ppt/media/image5.png" ContentType="image/png"/>
  <Override PartName="/ppt/media/image9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1DB6-C7A6-4137-9A69-6B75B498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4E95-B153-45D2-A4CD-55BC8A77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7844-DD1F-4AA6-85EA-69790362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3191-A529-4A6D-B375-D21F0D1FA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B661-1863-4E03-94F7-96222A93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5B01-C3D9-411E-A221-41228472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C1E8-101E-4E93-93C2-4442406D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1F5C-900A-4289-B1F9-470336DB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F3A6-4304-4C1B-A0B6-A354AA9D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718A-495D-4F06-AFDB-32EB6C9D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E71C-C9B9-42B1-9A64-721D902C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4801-A216-4C5F-AF6B-F0D25EF7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7AAC-C15C-482B-B287-63515ECE0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8000" y="914400"/>
          <a:ext cx="6400800" cy="53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914400"/>
                    <a:ext cx="6400800" cy="538488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2124000" y="228600"/>
            <a:ext cx="47005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PIEDADES PERIOD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32720" y="1981080"/>
            <a:ext cx="2286000" cy="16185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ME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NO ME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SEMIME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rcRect l="0" t="1829" r="0" b="0"/>
          <a:stretch/>
        </p:blipFill>
        <p:spPr>
          <a:xfrm>
            <a:off x="1066680" y="925560"/>
            <a:ext cx="6782040" cy="5856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738800" y="115920"/>
            <a:ext cx="579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ción de la afinidad electrónica con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úmero atómico (H – 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24000" y="22860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ectronegatividad, X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dencia de un determinado átomo a atraer un par de electrones compartido en un enl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19640" y="165276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Escala estandarizada a X(F)=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8000" y="3352680"/>
            <a:ext cx="30481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cala de Mulliken:  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   I +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Arial"/>
              </a:rPr>
              <a:t>ae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3733920"/>
            <a:ext cx="762120" cy="1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0" t="3780" r="0" b="0"/>
          <a:stretch/>
        </p:blipFill>
        <p:spPr>
          <a:xfrm>
            <a:off x="3276720" y="2060640"/>
            <a:ext cx="56512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95280" y="73332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elementos con bajos potenciales de ionización y bajas afinidades electrónicas son electropositivos y tienen carácter metá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22096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elementos con altos potenciales de ionización y altas afinidades electrónicas son electronegativos y tienen carácter no metá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37576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Flúor es el elemento más electronegativo de la tabla perió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483876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Francio es el elemento más electropositivo de la tabla perió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68360" y="797040"/>
            <a:ext cx="8280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adio Covalent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la mitad de la distancia internuclear en las moléculas diatómicas gaseosas de los elementos no metálicos: 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Cl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adio metálic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la mitad de la distancia internuclear entre dos átomos en la red metál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924360" y="2290680"/>
          <a:ext cx="4895640" cy="44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290680"/>
                    <a:ext cx="4895640" cy="445140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843200" y="228600"/>
            <a:ext cx="54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adios Atómicos (Volúmenes atóm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09480" y="2276640"/>
          <a:ext cx="2613240" cy="446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276640"/>
                    <a:ext cx="2613240" cy="44654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rcRect l="2333" t="2329" r="0" b="0"/>
          <a:stretch/>
        </p:blipFill>
        <p:spPr>
          <a:xfrm>
            <a:off x="1447920" y="304920"/>
            <a:ext cx="6391080" cy="6400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435840" y="76320"/>
            <a:ext cx="278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mento del radio ató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6200000">
            <a:off x="-5760" y="3595680"/>
            <a:ext cx="278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mento del radio ató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0" t="1974" r="0" b="4506"/>
          <a:stretch/>
        </p:blipFill>
        <p:spPr>
          <a:xfrm>
            <a:off x="768240" y="692280"/>
            <a:ext cx="7620120" cy="6127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290600" y="76320"/>
            <a:ext cx="71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ción de radios atómicos con radios ió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rcRect l="0" t="32005" r="0" b="30005"/>
          <a:stretch/>
        </p:blipFill>
        <p:spPr>
          <a:xfrm>
            <a:off x="220680" y="1197000"/>
            <a:ext cx="8599320" cy="2305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22200" y="4653000"/>
            <a:ext cx="84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t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empre 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ás pequeñ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e el átomo a partir del cual se form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empre 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ás gran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e el átomo a partir del cual se form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132000" y="115920"/>
            <a:ext cx="304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dio Ión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679320"/>
            <a:ext cx="882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elementos pueden perder o ganar electrones para formar iones positivos (cationes) o iones negativos (aniones).  El radio de un catión es siempre menor que el átomo que lo genera, mientras que el ión negativo tendrá siempre un radio may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066680" y="2637000"/>
          <a:ext cx="716292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637000"/>
                    <a:ext cx="716292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686160" y="2060640"/>
            <a:ext cx="268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                 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+  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08720" y="205740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  +   e                  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20760" y="2276640"/>
            <a:ext cx="687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04000" y="2273400"/>
            <a:ext cx="687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535040" y="1652760"/>
          <a:ext cx="607392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652760"/>
                    <a:ext cx="6073920" cy="45194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1143000" y="449280"/>
            <a:ext cx="7010280" cy="7038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ARIACIÓN DE LAS PROPIEDADES PERIÓDICAS EN EL SISTEMA PERIÓDI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16040" y="135000"/>
            <a:ext cx="598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ciones electrónicas de cationes y an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3240" y="99864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 [Ne]3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78920" y="99864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[N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3600" y="156996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  [Ar]4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14120" y="156996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[A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9000" y="214164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   [Ne]3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59120" y="2141640"/>
            <a:ext cx="11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[N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54600" y="1179360"/>
            <a:ext cx="4038480" cy="1313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átomos ceden electrones de modo que los cationes adquieren la configuración electrónica de un gas no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63000" y="3087720"/>
            <a:ext cx="8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 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22200" y="308772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[H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71640" y="3710160"/>
            <a:ext cx="154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 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3662280"/>
            <a:ext cx="31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or  [N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70920" y="433224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 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4284720"/>
            <a:ext cx="344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[N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71640" y="4954680"/>
            <a:ext cx="15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 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4906800"/>
            <a:ext cx="344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[N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3382920"/>
            <a:ext cx="3429000" cy="1618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átomos aceptan electrones de modo que los aniones adquieren la configuración electrónica de un gas no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33560" y="495360"/>
            <a:ext cx="352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elementos represen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5896080"/>
            <a:ext cx="820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y 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n todo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soelectrónic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 el Ne. Poseen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sma configuración electrón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e el 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43080" y="4428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energía de ioniz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 la energía mínima (kJ/mol) requerida para remover un electrón de un átomo gaseoso en su estado nat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09480" y="1967040"/>
            <a:ext cx="3333960" cy="510120"/>
            <a:chOff x="609480" y="1967040"/>
            <a:chExt cx="3333960" cy="510120"/>
          </a:xfrm>
        </p:grpSpPr>
        <p:sp>
          <p:nvSpPr>
            <p:cNvPr id="66" name=""/>
            <p:cNvSpPr/>
            <p:nvPr/>
          </p:nvSpPr>
          <p:spPr>
            <a:xfrm>
              <a:off x="609480" y="1967040"/>
              <a:ext cx="3333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X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20960" y="22654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33520" y="2787480"/>
            <a:ext cx="3657600" cy="510120"/>
            <a:chOff x="533520" y="2787480"/>
            <a:chExt cx="3657600" cy="510120"/>
          </a:xfrm>
        </p:grpSpPr>
        <p:sp>
          <p:nvSpPr>
            <p:cNvPr id="69" name=""/>
            <p:cNvSpPr/>
            <p:nvPr/>
          </p:nvSpPr>
          <p:spPr>
            <a:xfrm>
              <a:off x="533520" y="2787480"/>
              <a:ext cx="3657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6920" y="3090960"/>
              <a:ext cx="668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09480" y="3592440"/>
            <a:ext cx="3581640" cy="510120"/>
            <a:chOff x="609480" y="3592440"/>
            <a:chExt cx="3581640" cy="510120"/>
          </a:xfrm>
        </p:grpSpPr>
        <p:sp>
          <p:nvSpPr>
            <p:cNvPr id="72" name=""/>
            <p:cNvSpPr/>
            <p:nvPr/>
          </p:nvSpPr>
          <p:spPr>
            <a:xfrm>
              <a:off x="609480" y="3592440"/>
              <a:ext cx="3581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3+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23920" y="3895560"/>
              <a:ext cx="65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415400" y="1996920"/>
            <a:ext cx="446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imera energía de io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16480" y="2817720"/>
            <a:ext cx="459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gunda energía de io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4320" y="3622680"/>
            <a:ext cx="4379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rcera energía de io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27520" y="4498920"/>
            <a:ext cx="1431360" cy="510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52440" y="533520"/>
            <a:ext cx="8437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rga nuclear efecti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ecti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es la “carga positiva” que siente un electr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403640" y="3770280"/>
            <a:ext cx="604440" cy="2707560"/>
            <a:chOff x="1403640" y="3770280"/>
            <a:chExt cx="604440" cy="2707560"/>
          </a:xfrm>
        </p:grpSpPr>
        <p:sp>
          <p:nvSpPr>
            <p:cNvPr id="80" name=""/>
            <p:cNvSpPr/>
            <p:nvPr/>
          </p:nvSpPr>
          <p:spPr>
            <a:xfrm>
              <a:off x="1437840" y="377028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03640" y="454644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64840" y="5281560"/>
              <a:ext cx="45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90040" y="6018120"/>
              <a:ext cx="45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432520" y="3770280"/>
            <a:ext cx="519120" cy="2707560"/>
            <a:chOff x="2432520" y="3770280"/>
            <a:chExt cx="519120" cy="2707560"/>
          </a:xfrm>
        </p:grpSpPr>
        <p:sp>
          <p:nvSpPr>
            <p:cNvPr id="85" name=""/>
            <p:cNvSpPr/>
            <p:nvPr/>
          </p:nvSpPr>
          <p:spPr>
            <a:xfrm>
              <a:off x="2432520" y="37702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432520" y="45450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32520" y="52815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32520" y="60181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591360" y="3770280"/>
            <a:ext cx="519120" cy="2707560"/>
            <a:chOff x="3591360" y="3770280"/>
            <a:chExt cx="519120" cy="2707560"/>
          </a:xfrm>
        </p:grpSpPr>
        <p:sp>
          <p:nvSpPr>
            <p:cNvPr id="90" name=""/>
            <p:cNvSpPr/>
            <p:nvPr/>
          </p:nvSpPr>
          <p:spPr>
            <a:xfrm>
              <a:off x="3591360" y="37702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91360" y="45450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91360" y="52815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91360" y="60181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627800" y="3770280"/>
            <a:ext cx="349920" cy="2707560"/>
            <a:chOff x="4627800" y="3770280"/>
            <a:chExt cx="349920" cy="2707560"/>
          </a:xfrm>
        </p:grpSpPr>
        <p:sp>
          <p:nvSpPr>
            <p:cNvPr id="95" name=""/>
            <p:cNvSpPr/>
            <p:nvPr/>
          </p:nvSpPr>
          <p:spPr>
            <a:xfrm>
              <a:off x="4627800" y="3770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27800" y="4545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27800" y="528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27800" y="601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090480" y="3770280"/>
            <a:ext cx="688320" cy="2707560"/>
            <a:chOff x="6090480" y="3770280"/>
            <a:chExt cx="688320" cy="2707560"/>
          </a:xfrm>
        </p:grpSpPr>
        <p:sp>
          <p:nvSpPr>
            <p:cNvPr id="100" name=""/>
            <p:cNvSpPr/>
            <p:nvPr/>
          </p:nvSpPr>
          <p:spPr>
            <a:xfrm>
              <a:off x="6090480" y="377028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8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90480" y="45450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90480" y="528156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4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90480" y="601812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508120" y="3084480"/>
            <a:ext cx="4753080" cy="511920"/>
            <a:chOff x="2508120" y="3084480"/>
            <a:chExt cx="4753080" cy="511920"/>
          </a:xfrm>
        </p:grpSpPr>
        <p:sp>
          <p:nvSpPr>
            <p:cNvPr id="105" name=""/>
            <p:cNvSpPr/>
            <p:nvPr/>
          </p:nvSpPr>
          <p:spPr>
            <a:xfrm>
              <a:off x="4549680" y="3086280"/>
              <a:ext cx="977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Z</a:t>
              </a:r>
              <a:r>
                <a:rPr b="0" lang="en-US" sz="2400" spc="-1" strike="noStrike" u="sng" baseline="-25000">
                  <a:solidFill>
                    <a:srgbClr val="000000"/>
                  </a:solidFill>
                  <a:uFillTx/>
                  <a:latin typeface="Arial"/>
                </a:rPr>
                <a:t>efecti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31520" y="30844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08120" y="30862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73160" y="308448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Radio (p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20560" y="1600200"/>
            <a:ext cx="1969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ecti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Z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04400" y="1600200"/>
            <a:ext cx="63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Z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nstante de apantallamient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6280" y="2286000"/>
            <a:ext cx="711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ecti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 – número de electrones internos  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0" t="2197" r="0" b="0"/>
          <a:stretch/>
        </p:blipFill>
        <p:spPr>
          <a:xfrm>
            <a:off x="304920" y="1103400"/>
            <a:ext cx="8534160" cy="5297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615320" y="12700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leno n=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23280" y="17017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leno n=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58320" y="26161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leno n=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47440" y="300996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leno n=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06440" y="322740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leno n=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29920" y="192240"/>
            <a:ext cx="637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ción de la primera energía de ion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 el número at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9640" y="16668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dencia general en la primera energía de io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042920" y="1003320"/>
            <a:ext cx="7796160" cy="396720"/>
            <a:chOff x="1042920" y="1003320"/>
            <a:chExt cx="7796160" cy="396720"/>
          </a:xfrm>
        </p:grpSpPr>
        <p:sp>
          <p:nvSpPr>
            <p:cNvPr id="121" name=""/>
            <p:cNvSpPr/>
            <p:nvPr/>
          </p:nvSpPr>
          <p:spPr>
            <a:xfrm>
              <a:off x="1042920" y="1336320"/>
              <a:ext cx="7796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18880" y="1003320"/>
              <a:ext cx="177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54080" y="837000"/>
            <a:ext cx="417600" cy="5502600"/>
            <a:chOff x="154080" y="837000"/>
            <a:chExt cx="417600" cy="5502600"/>
          </a:xfrm>
        </p:grpSpPr>
        <p:sp>
          <p:nvSpPr>
            <p:cNvPr id="124" name=""/>
            <p:cNvSpPr/>
            <p:nvPr/>
          </p:nvSpPr>
          <p:spPr>
            <a:xfrm flipV="1">
              <a:off x="571680" y="1688760"/>
              <a:ext cx="0" cy="3809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6200000">
              <a:off x="-2397600" y="3388680"/>
              <a:ext cx="550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cremento de la primera energía de ioniz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2677320" y="932040"/>
            <a:ext cx="550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o de la primera energía de ion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20720" y="1546200"/>
          <a:ext cx="8244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1546200"/>
                    <a:ext cx="8244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914400" y="152280"/>
          <a:ext cx="3532320" cy="25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280"/>
                    <a:ext cx="3532320" cy="250668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876920" y="152280"/>
          <a:ext cx="3429000" cy="24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52280"/>
                    <a:ext cx="3429000" cy="24908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990720" y="3530520"/>
          <a:ext cx="3475080" cy="248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3530520"/>
                    <a:ext cx="3475080" cy="248148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876920" y="3530520"/>
          <a:ext cx="3352680" cy="2467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530520"/>
                    <a:ext cx="3352680" cy="246708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684360" y="2774880"/>
            <a:ext cx="7543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             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H                He               Li                           Be               B                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Z       1                 2                  3                             4                 5                 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04760" y="6045120"/>
            <a:ext cx="7239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N                  O                F                          Ne              Na              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Z     7                  8                9                           10               11              1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527040" y="771480"/>
          <a:ext cx="8077320" cy="35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771480"/>
                    <a:ext cx="8077320" cy="35942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826920" y="5157720"/>
            <a:ext cx="7491600" cy="703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puede observar que la variación está de acuerdo con la configuración electrónica de los elemento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43080" y="3808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finidad electrón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afinid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 el cambio de energía que ocurre cuando un electrón es aceptado por un átomo en estado gaseoso para formar un an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31520" y="2857680"/>
            <a:ext cx="25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8 kJ/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5560" y="2857680"/>
            <a:ext cx="25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 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8 kJ/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31520" y="3543480"/>
            <a:ext cx="25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1 kJ/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27000" y="3543480"/>
            <a:ext cx="25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 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1 kJ/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52280" y="2133720"/>
            <a:ext cx="3333960" cy="510120"/>
            <a:chOff x="152280" y="2133720"/>
            <a:chExt cx="3333960" cy="510120"/>
          </a:xfrm>
        </p:grpSpPr>
        <p:sp>
          <p:nvSpPr>
            <p:cNvPr id="148" name=""/>
            <p:cNvSpPr/>
            <p:nvPr/>
          </p:nvSpPr>
          <p:spPr>
            <a:xfrm>
              <a:off x="152280" y="2133720"/>
              <a:ext cx="3333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+ e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28800" y="236232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52280" y="2857680"/>
            <a:ext cx="3333960" cy="510120"/>
            <a:chOff x="152280" y="2857680"/>
            <a:chExt cx="3333960" cy="510120"/>
          </a:xfrm>
        </p:grpSpPr>
        <p:sp>
          <p:nvSpPr>
            <p:cNvPr id="151" name=""/>
            <p:cNvSpPr/>
            <p:nvPr/>
          </p:nvSpPr>
          <p:spPr>
            <a:xfrm>
              <a:off x="152280" y="2857680"/>
              <a:ext cx="3333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+ e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28800" y="30862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52280" y="3543480"/>
            <a:ext cx="3333960" cy="510120"/>
            <a:chOff x="152280" y="3543480"/>
            <a:chExt cx="3333960" cy="510120"/>
          </a:xfrm>
        </p:grpSpPr>
        <p:sp>
          <p:nvSpPr>
            <p:cNvPr id="154" name=""/>
            <p:cNvSpPr/>
            <p:nvPr/>
          </p:nvSpPr>
          <p:spPr>
            <a:xfrm>
              <a:off x="152280" y="3543480"/>
              <a:ext cx="3333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+ e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O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28800" y="37720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2:14:45Z</dcterms:created>
  <dc:creator>Stephanie Manzur Andreu</dc:creator>
  <dc:description/>
  <dc:language>en-US</dc:language>
  <cp:lastModifiedBy>Dpto. Cs. de los Materiales</cp:lastModifiedBy>
  <dcterms:modified xsi:type="dcterms:W3CDTF">2007-08-07T19:03:14Z</dcterms:modified>
  <cp:revision>62</cp:revision>
  <dc:subject/>
  <dc:title>Presentación de PowerPoint</dc:title>
</cp:coreProperties>
</file>