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9B3-67FD-4359-9711-5723B8D1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F03-521F-4B8E-AE8C-7F93E9BA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0A8-DB46-43E3-BB58-27AF3049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CF5-3FEA-42D0-BA4C-0C9EE2DE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83E-D4A8-462E-B498-DD13569D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146-C1F6-437C-8636-CE28CFB5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32E-0954-4065-9626-A9AD9E85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E2F-46DF-4098-B2F4-3F52F0E4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19D-8945-40D7-9AE9-E8D8916A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6AC-CCC4-4F67-B3F4-B042987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D78-F056-491F-BC66-1C5A1355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4CF-FEB9-4708-BC38-D5DDD16F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04A1-1F06-46AB-951B-7EE691A7B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000" y="914400"/>
          <a:ext cx="640080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14400"/>
                    <a:ext cx="6400800" cy="53848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124000" y="228600"/>
            <a:ext cx="47005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PIEDADES PERIO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1981080"/>
            <a:ext cx="2286000" cy="1618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ME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NO ME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SEMIME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1829" r="0" b="0"/>
          <a:stretch/>
        </p:blipFill>
        <p:spPr>
          <a:xfrm>
            <a:off x="1066680" y="925560"/>
            <a:ext cx="6782040" cy="5856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38800" y="115920"/>
            <a:ext cx="57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ón de la afinidad electrónica co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atómico (H – 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2286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ectronegatividad, 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dencia de un determinado átomo a atraer un par de electrones compartido en un enl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16527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scala estandarizada a X(F)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3352680"/>
            <a:ext cx="304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cala de Mulliken: 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  I +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Arial"/>
              </a:rPr>
              <a:t>ae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733920"/>
            <a:ext cx="76212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3780" r="0" b="0"/>
          <a:stretch/>
        </p:blipFill>
        <p:spPr>
          <a:xfrm>
            <a:off x="3276720" y="2060640"/>
            <a:ext cx="5651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7333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con bajos potenciales de ionización y bajas afinidades electrónicas son electropositivos y tienen carácter metá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2096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con altos potenciales de ionización y altas afinidades electrónicas son electronegativos y tienen carácter no metá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7576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lúor es el elemento más electronegativo de la tabla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48387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rancio es el elemento más electropositivo de la tabla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797040"/>
            <a:ext cx="8280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 Covalen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mitad de la distancia internuclear en las moléculas diatómicas gaseosas de los elementos no metálicos: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 metál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mitad de la distancia internuclear entre dos átomos en la red metá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24360" y="2290680"/>
          <a:ext cx="489564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90680"/>
                    <a:ext cx="4895640" cy="44514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843200" y="22860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s Atómicos (Volúmenes atóm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2276640"/>
          <a:ext cx="2613240" cy="44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276640"/>
                    <a:ext cx="2613240" cy="44654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2333" t="2329" r="0" b="0"/>
          <a:stretch/>
        </p:blipFill>
        <p:spPr>
          <a:xfrm>
            <a:off x="1447920" y="304920"/>
            <a:ext cx="6391080" cy="6400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35840" y="7632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o del radio at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-5760" y="35956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o del radio at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974" r="0" b="4506"/>
          <a:stretch/>
        </p:blipFill>
        <p:spPr>
          <a:xfrm>
            <a:off x="768240" y="692280"/>
            <a:ext cx="7620120" cy="612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90600" y="76320"/>
            <a:ext cx="71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ción de radios atómicos con radios i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220680" y="1197000"/>
            <a:ext cx="8599320" cy="2305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2200" y="46530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t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empre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ás pequeñ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l átomo a partir del cual se form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empre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ás gran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l átomo a partir del cual se form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2000" y="115920"/>
            <a:ext cx="30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dio Ió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679320"/>
            <a:ext cx="882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lementos pueden perder o ganar electrones para formar iones positivos (cationes) o iones negativos (aniones).  El radio de un catión es siempre menor que el átomo que lo genera, mientras que el ión negativo tendrá siempre un radio may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66680" y="2637000"/>
          <a:ext cx="716292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37000"/>
                    <a:ext cx="716292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86160" y="2060640"/>
            <a:ext cx="26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                 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+  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08720" y="20574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  +   e                  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20760" y="2276640"/>
            <a:ext cx="687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2273400"/>
            <a:ext cx="687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35040" y="1652760"/>
          <a:ext cx="607392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652760"/>
                    <a:ext cx="6073920" cy="45194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143000" y="449280"/>
            <a:ext cx="70102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RIACIÓN DE LAS PROPIEDADES PERIÓDICAS EN EL SISTEMA PERIÓD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16040" y="13500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ciones electrónicas de cationes y an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40" y="99864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 [Ne]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8920" y="99864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600" y="15699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 [Ar]4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4120" y="15699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A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9000" y="214164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  [Ne]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59120" y="2141640"/>
            <a:ext cx="11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4600" y="1179360"/>
            <a:ext cx="403848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átomos ceden electrones de modo que los cationes adquieren la configuración electrónica de un gas no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3000" y="308772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2200" y="308772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[H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71640" y="371016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662280"/>
            <a:ext cx="31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70920" y="433224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284720"/>
            <a:ext cx="34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71640" y="49546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906800"/>
            <a:ext cx="34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382920"/>
            <a:ext cx="342900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átomos aceptan electrones de modo que los aniones adquieren la configuración electrónica de un gas no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33560" y="49536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elementos represen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5896080"/>
            <a:ext cx="820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todo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soelectróni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 el Ne. Poseen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ma configuración electrón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l 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3080" y="442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nergía de ioniz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la energía mínima (kJ/mol) requerida para remover un electrón de un átomo gaseoso en su estado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9480" y="1967040"/>
            <a:ext cx="3333960" cy="510120"/>
            <a:chOff x="609480" y="1967040"/>
            <a:chExt cx="3333960" cy="510120"/>
          </a:xfrm>
        </p:grpSpPr>
        <p:sp>
          <p:nvSpPr>
            <p:cNvPr id="66" name=""/>
            <p:cNvSpPr/>
            <p:nvPr/>
          </p:nvSpPr>
          <p:spPr>
            <a:xfrm>
              <a:off x="609480" y="196704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20960" y="22654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3520" y="2787480"/>
            <a:ext cx="3657600" cy="510120"/>
            <a:chOff x="533520" y="2787480"/>
            <a:chExt cx="3657600" cy="510120"/>
          </a:xfrm>
        </p:grpSpPr>
        <p:sp>
          <p:nvSpPr>
            <p:cNvPr id="69" name=""/>
            <p:cNvSpPr/>
            <p:nvPr/>
          </p:nvSpPr>
          <p:spPr>
            <a:xfrm>
              <a:off x="533520" y="2787480"/>
              <a:ext cx="3657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6920" y="3090960"/>
              <a:ext cx="66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480" y="3592440"/>
            <a:ext cx="3581640" cy="510120"/>
            <a:chOff x="609480" y="3592440"/>
            <a:chExt cx="3581640" cy="510120"/>
          </a:xfrm>
        </p:grpSpPr>
        <p:sp>
          <p:nvSpPr>
            <p:cNvPr id="72" name=""/>
            <p:cNvSpPr/>
            <p:nvPr/>
          </p:nvSpPr>
          <p:spPr>
            <a:xfrm>
              <a:off x="609480" y="3592440"/>
              <a:ext cx="358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23920" y="389556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415400" y="1996920"/>
            <a:ext cx="446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mer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6480" y="2817720"/>
            <a:ext cx="459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und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4320" y="3622680"/>
            <a:ext cx="437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cer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27520" y="4498920"/>
            <a:ext cx="1431360" cy="51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52440" y="533520"/>
            <a:ext cx="8437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rga nuclear 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s la “carga positiva” que siente un elect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03640" y="3770280"/>
            <a:ext cx="604440" cy="2707560"/>
            <a:chOff x="1403640" y="3770280"/>
            <a:chExt cx="604440" cy="2707560"/>
          </a:xfrm>
        </p:grpSpPr>
        <p:sp>
          <p:nvSpPr>
            <p:cNvPr id="80" name=""/>
            <p:cNvSpPr/>
            <p:nvPr/>
          </p:nvSpPr>
          <p:spPr>
            <a:xfrm>
              <a:off x="1437840" y="377028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03640" y="454644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64840" y="528156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90040" y="601812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2520" y="3770280"/>
            <a:ext cx="519120" cy="2707560"/>
            <a:chOff x="2432520" y="3770280"/>
            <a:chExt cx="519120" cy="2707560"/>
          </a:xfrm>
        </p:grpSpPr>
        <p:sp>
          <p:nvSpPr>
            <p:cNvPr id="85" name=""/>
            <p:cNvSpPr/>
            <p:nvPr/>
          </p:nvSpPr>
          <p:spPr>
            <a:xfrm>
              <a:off x="2432520" y="3770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32520" y="4545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2520" y="5281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2520" y="6018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591360" y="3770280"/>
            <a:ext cx="519120" cy="2707560"/>
            <a:chOff x="3591360" y="3770280"/>
            <a:chExt cx="519120" cy="2707560"/>
          </a:xfrm>
        </p:grpSpPr>
        <p:sp>
          <p:nvSpPr>
            <p:cNvPr id="90" name=""/>
            <p:cNvSpPr/>
            <p:nvPr/>
          </p:nvSpPr>
          <p:spPr>
            <a:xfrm>
              <a:off x="3591360" y="3770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91360" y="4545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91360" y="5281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1360" y="6018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627800" y="3770280"/>
            <a:ext cx="349920" cy="2707560"/>
            <a:chOff x="4627800" y="3770280"/>
            <a:chExt cx="349920" cy="2707560"/>
          </a:xfrm>
        </p:grpSpPr>
        <p:sp>
          <p:nvSpPr>
            <p:cNvPr id="95" name=""/>
            <p:cNvSpPr/>
            <p:nvPr/>
          </p:nvSpPr>
          <p:spPr>
            <a:xfrm>
              <a:off x="4627800" y="377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27800" y="45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27800" y="528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7800" y="601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90480" y="3770280"/>
            <a:ext cx="688320" cy="2707560"/>
            <a:chOff x="6090480" y="3770280"/>
            <a:chExt cx="688320" cy="2707560"/>
          </a:xfrm>
        </p:grpSpPr>
        <p:sp>
          <p:nvSpPr>
            <p:cNvPr id="100" name=""/>
            <p:cNvSpPr/>
            <p:nvPr/>
          </p:nvSpPr>
          <p:spPr>
            <a:xfrm>
              <a:off x="6090480" y="37702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0480" y="45450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0480" y="52815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0480" y="6018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508120" y="3084480"/>
            <a:ext cx="4753080" cy="511920"/>
            <a:chOff x="2508120" y="3084480"/>
            <a:chExt cx="4753080" cy="511920"/>
          </a:xfrm>
        </p:grpSpPr>
        <p:sp>
          <p:nvSpPr>
            <p:cNvPr id="105" name=""/>
            <p:cNvSpPr/>
            <p:nvPr/>
          </p:nvSpPr>
          <p:spPr>
            <a:xfrm>
              <a:off x="4549680" y="3086280"/>
              <a:ext cx="97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Z</a:t>
              </a:r>
              <a:r>
                <a:rPr b="0" lang="en-US" sz="2400" spc="-1" strike="noStrike" u="sng" baseline="-25000">
                  <a:solidFill>
                    <a:srgbClr val="000000"/>
                  </a:solidFill>
                  <a:uFillTx/>
                  <a:latin typeface="Arial"/>
                </a:rPr>
                <a:t>efecti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31520" y="3084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08120" y="3086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73160" y="308448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Radio (p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20560" y="1600200"/>
            <a:ext cx="19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Z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4400" y="1600200"/>
            <a:ext cx="63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Z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stante de apantallamien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6280" y="2286000"/>
            <a:ext cx="71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– número de electrones internos  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2197" r="0" b="0"/>
          <a:stretch/>
        </p:blipFill>
        <p:spPr>
          <a:xfrm>
            <a:off x="304920" y="1103400"/>
            <a:ext cx="8534160" cy="5297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615320" y="12700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3280" y="17017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58320" y="26161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47440" y="3009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06440" y="32274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29920" y="1922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ón de la primera energía de ion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el número at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1666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encia general en la primer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042920" y="1003320"/>
            <a:ext cx="7796160" cy="396720"/>
            <a:chOff x="1042920" y="1003320"/>
            <a:chExt cx="7796160" cy="396720"/>
          </a:xfrm>
        </p:grpSpPr>
        <p:sp>
          <p:nvSpPr>
            <p:cNvPr id="121" name=""/>
            <p:cNvSpPr/>
            <p:nvPr/>
          </p:nvSpPr>
          <p:spPr>
            <a:xfrm>
              <a:off x="1042920" y="1336320"/>
              <a:ext cx="7796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18880" y="1003320"/>
              <a:ext cx="177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4080" y="837000"/>
            <a:ext cx="417600" cy="5502600"/>
            <a:chOff x="154080" y="837000"/>
            <a:chExt cx="417600" cy="5502600"/>
          </a:xfrm>
        </p:grpSpPr>
        <p:sp>
          <p:nvSpPr>
            <p:cNvPr id="124" name=""/>
            <p:cNvSpPr/>
            <p:nvPr/>
          </p:nvSpPr>
          <p:spPr>
            <a:xfrm flipV="1">
              <a:off x="571680" y="1688760"/>
              <a:ext cx="0" cy="380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-2397600" y="3388680"/>
              <a:ext cx="550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remento de la primera energía de ion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677320" y="932040"/>
            <a:ext cx="55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o de la primera energía de io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20720" y="1546200"/>
          <a:ext cx="82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546200"/>
                    <a:ext cx="82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14400" y="152280"/>
          <a:ext cx="3532320" cy="25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280"/>
                    <a:ext cx="3532320" cy="25066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876920" y="152280"/>
          <a:ext cx="342900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52280"/>
                    <a:ext cx="3429000" cy="2490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990720" y="3530520"/>
          <a:ext cx="3475080" cy="24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30520"/>
                    <a:ext cx="3475080" cy="2481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876920" y="3530520"/>
          <a:ext cx="3352680" cy="246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30520"/>
                    <a:ext cx="3352680" cy="24670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84360" y="27748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H                He               Li                           Be               B                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       1                 2                  3                             4                 5                 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04760" y="6045120"/>
            <a:ext cx="7239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N                  O                F                          Ne              Na              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     7                  8                9                           10               11              1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27040" y="771480"/>
          <a:ext cx="8077320" cy="35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771480"/>
                    <a:ext cx="8077320" cy="35942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826920" y="5157720"/>
            <a:ext cx="749160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observar que la variación está de acuerdo con la configuración electrónica de los elemento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4308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finidad electró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afin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el cambio de energía que ocurre cuando un electrón es aceptado por un átomo en estado gaseoso para formar un an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31520" y="28576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8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5560" y="2857680"/>
            <a:ext cx="25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8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31520" y="35434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1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7000" y="3543480"/>
            <a:ext cx="25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1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52280" y="2133720"/>
            <a:ext cx="3333960" cy="510120"/>
            <a:chOff x="152280" y="2133720"/>
            <a:chExt cx="3333960" cy="510120"/>
          </a:xfrm>
        </p:grpSpPr>
        <p:sp>
          <p:nvSpPr>
            <p:cNvPr id="148" name=""/>
            <p:cNvSpPr/>
            <p:nvPr/>
          </p:nvSpPr>
          <p:spPr>
            <a:xfrm>
              <a:off x="152280" y="213372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23623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52280" y="2857680"/>
            <a:ext cx="3333960" cy="510120"/>
            <a:chOff x="152280" y="2857680"/>
            <a:chExt cx="3333960" cy="510120"/>
          </a:xfrm>
        </p:grpSpPr>
        <p:sp>
          <p:nvSpPr>
            <p:cNvPr id="151" name=""/>
            <p:cNvSpPr/>
            <p:nvPr/>
          </p:nvSpPr>
          <p:spPr>
            <a:xfrm>
              <a:off x="152280" y="285768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8800" y="30862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52280" y="3543480"/>
            <a:ext cx="3333960" cy="510120"/>
            <a:chOff x="152280" y="3543480"/>
            <a:chExt cx="3333960" cy="510120"/>
          </a:xfrm>
        </p:grpSpPr>
        <p:sp>
          <p:nvSpPr>
            <p:cNvPr id="154" name=""/>
            <p:cNvSpPr/>
            <p:nvPr/>
          </p:nvSpPr>
          <p:spPr>
            <a:xfrm>
              <a:off x="152280" y="354348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28800" y="37720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8-07T19:03:14Z</dcterms:modified>
  <cp:revision>62</cp:revision>
  <dc:subject/>
  <dc:title>Presentación de PowerPoint</dc:title>
</cp:coreProperties>
</file>