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FEA-086C-403E-B25F-2440F3D0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EF5-E5B3-4650-848C-98AF2E9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EA6-535C-43EA-8C6A-67BCD50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007-6F9B-4263-BC70-C91F5790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EDD-6D54-4055-90F3-FC81F1B0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246-F8B1-40E3-9054-152B00F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C15-2918-437D-9BC0-158B2DB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857-DBEE-48C8-91DA-97CA5C10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AB7-1281-47CC-B681-C28D7375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73B-902E-48B1-BCA3-627AF50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838-21F0-4BBD-B6B8-1CD4DF7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565-1885-46CA-A6B4-FDAE7AC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A49B-DE87-4481-ADEA-D5875B476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914400"/>
          <a:ext cx="6400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14400"/>
                    <a:ext cx="6400800" cy="53848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24000" y="228600"/>
            <a:ext cx="47005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IEDADES PERIO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1981080"/>
            <a:ext cx="2286000" cy="1618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NO 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SEMI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1829" r="0" b="0"/>
          <a:stretch/>
        </p:blipFill>
        <p:spPr>
          <a:xfrm>
            <a:off x="1066680" y="925560"/>
            <a:ext cx="6782040" cy="585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38800" y="115920"/>
            <a:ext cx="57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afinidad electrónica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atómico (H – 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2286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ctronegatividad, 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 de un determinado átomo a atraer un par de electrones compartido en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6527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scala estandarizada a X(F)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3352680"/>
            <a:ext cx="304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ala de Mulliken: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I +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Arial"/>
              </a:rPr>
              <a:t>a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733920"/>
            <a:ext cx="7621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3780" r="0" b="0"/>
          <a:stretch/>
        </p:blipFill>
        <p:spPr>
          <a:xfrm>
            <a:off x="3276720" y="2060640"/>
            <a:ext cx="565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7333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bajos potenciales de ionización y bajas afinidades electrónicas son electropositivos y tienen carácter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209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altos potenciales de ionización y altas afinidades electrónicas son electronegativos y tienen carácter no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576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lúor es el elemento más electronega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838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rancio es el elemento más electroposi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797040"/>
            <a:ext cx="828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Coval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 las moléculas diatómicas gaseosas de los elementos no metálicos: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metál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tre dos átomos en la red metá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24360" y="2290680"/>
          <a:ext cx="48956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90680"/>
                    <a:ext cx="4895640" cy="4451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843200" y="2286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s Atómicos (Volúmenes atóm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2276640"/>
          <a:ext cx="2613240" cy="44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76640"/>
                    <a:ext cx="2613240" cy="4465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333" t="2329" r="0" b="0"/>
          <a:stretch/>
        </p:blipFill>
        <p:spPr>
          <a:xfrm>
            <a:off x="1447920" y="304920"/>
            <a:ext cx="639108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35840" y="763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5760" y="35956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974" r="0" b="4506"/>
          <a:stretch/>
        </p:blipFill>
        <p:spPr>
          <a:xfrm>
            <a:off x="768240" y="692280"/>
            <a:ext cx="7620120" cy="612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90600" y="7632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de radios atómicos con radio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220680" y="1197000"/>
            <a:ext cx="859932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2200" y="46530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t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pequeñ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gran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2000" y="11592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I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679320"/>
            <a:ext cx="882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pueden perder o ganar electrones para formar iones positivos (cationes) o iones negativos (aniones).  El radio de un catión es siempre menor que el átomo que lo genera, mientras que el ión negativo tendrá siempre un radio may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2637000"/>
          <a:ext cx="716292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37000"/>
                    <a:ext cx="71629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86160" y="2060640"/>
            <a:ext cx="26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+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20574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+   e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0760" y="227664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27340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35040" y="1652760"/>
          <a:ext cx="607392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652760"/>
                    <a:ext cx="6073920" cy="4519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43000" y="449280"/>
            <a:ext cx="70102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CIÓN DE LAS PROPIEDADES PERIÓDICAS EN EL SISTEMA PERIÓD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16040" y="1350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ciones electrónicas de cationes y an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40" y="99864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8920" y="9986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600" y="15699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 [Ar]4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4120" y="15699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A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9000" y="21416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9120" y="2141640"/>
            <a:ext cx="11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4600" y="1179360"/>
            <a:ext cx="403848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ceden electrones de modo que los cat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3000" y="30877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2200" y="3087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H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1640" y="371016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66228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0920" y="433224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28472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640" y="4954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0680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382920"/>
            <a:ext cx="342900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aceptan electrones de modo que los an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33560" y="4953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lementos represen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89608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tod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oelectrón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el Ne. Poseen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 configuración electró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3080" y="442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nergía de ioniz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la energía mínima (kJ/mol) requerida para remover un electrón de un átomo gaseoso en su estad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1967040"/>
            <a:ext cx="3333960" cy="510120"/>
            <a:chOff x="609480" y="1967040"/>
            <a:chExt cx="3333960" cy="510120"/>
          </a:xfrm>
        </p:grpSpPr>
        <p:sp>
          <p:nvSpPr>
            <p:cNvPr id="66" name=""/>
            <p:cNvSpPr/>
            <p:nvPr/>
          </p:nvSpPr>
          <p:spPr>
            <a:xfrm>
              <a:off x="609480" y="196704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0960" y="22654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2787480"/>
            <a:ext cx="3657600" cy="510120"/>
            <a:chOff x="533520" y="2787480"/>
            <a:chExt cx="3657600" cy="510120"/>
          </a:xfrm>
        </p:grpSpPr>
        <p:sp>
          <p:nvSpPr>
            <p:cNvPr id="69" name=""/>
            <p:cNvSpPr/>
            <p:nvPr/>
          </p:nvSpPr>
          <p:spPr>
            <a:xfrm>
              <a:off x="533520" y="2787480"/>
              <a:ext cx="3657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6920" y="3090960"/>
              <a:ext cx="66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480" y="3592440"/>
            <a:ext cx="3581640" cy="510120"/>
            <a:chOff x="609480" y="3592440"/>
            <a:chExt cx="3581640" cy="510120"/>
          </a:xfrm>
        </p:grpSpPr>
        <p:sp>
          <p:nvSpPr>
            <p:cNvPr id="72" name=""/>
            <p:cNvSpPr/>
            <p:nvPr/>
          </p:nvSpPr>
          <p:spPr>
            <a:xfrm>
              <a:off x="609480" y="3592440"/>
              <a:ext cx="358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3920" y="389556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415400" y="1996920"/>
            <a:ext cx="44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6480" y="2817720"/>
            <a:ext cx="459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und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4320" y="3622680"/>
            <a:ext cx="437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c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4498920"/>
            <a:ext cx="143136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2440" y="533520"/>
            <a:ext cx="843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ga nuclear 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la “carga positiva” que siente un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03640" y="3770280"/>
            <a:ext cx="604440" cy="2707560"/>
            <a:chOff x="1403640" y="3770280"/>
            <a:chExt cx="604440" cy="2707560"/>
          </a:xfrm>
        </p:grpSpPr>
        <p:sp>
          <p:nvSpPr>
            <p:cNvPr id="80" name=""/>
            <p:cNvSpPr/>
            <p:nvPr/>
          </p:nvSpPr>
          <p:spPr>
            <a:xfrm>
              <a:off x="1437840" y="37702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3640" y="45464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64840" y="528156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90040" y="601812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2520" y="3770280"/>
            <a:ext cx="519120" cy="2707560"/>
            <a:chOff x="2432520" y="3770280"/>
            <a:chExt cx="519120" cy="2707560"/>
          </a:xfrm>
        </p:grpSpPr>
        <p:sp>
          <p:nvSpPr>
            <p:cNvPr id="85" name=""/>
            <p:cNvSpPr/>
            <p:nvPr/>
          </p:nvSpPr>
          <p:spPr>
            <a:xfrm>
              <a:off x="243252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252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252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252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91360" y="3770280"/>
            <a:ext cx="519120" cy="2707560"/>
            <a:chOff x="3591360" y="3770280"/>
            <a:chExt cx="519120" cy="2707560"/>
          </a:xfrm>
        </p:grpSpPr>
        <p:sp>
          <p:nvSpPr>
            <p:cNvPr id="90" name=""/>
            <p:cNvSpPr/>
            <p:nvPr/>
          </p:nvSpPr>
          <p:spPr>
            <a:xfrm>
              <a:off x="359136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9136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9136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136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627800" y="3770280"/>
            <a:ext cx="349920" cy="2707560"/>
            <a:chOff x="4627800" y="3770280"/>
            <a:chExt cx="349920" cy="2707560"/>
          </a:xfrm>
        </p:grpSpPr>
        <p:sp>
          <p:nvSpPr>
            <p:cNvPr id="95" name=""/>
            <p:cNvSpPr/>
            <p:nvPr/>
          </p:nvSpPr>
          <p:spPr>
            <a:xfrm>
              <a:off x="4627800" y="37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2780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7800" y="528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7800" y="601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0480" y="3770280"/>
            <a:ext cx="688320" cy="2707560"/>
            <a:chOff x="6090480" y="3770280"/>
            <a:chExt cx="688320" cy="2707560"/>
          </a:xfrm>
        </p:grpSpPr>
        <p:sp>
          <p:nvSpPr>
            <p:cNvPr id="100" name=""/>
            <p:cNvSpPr/>
            <p:nvPr/>
          </p:nvSpPr>
          <p:spPr>
            <a:xfrm>
              <a:off x="6090480" y="37702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0480" y="4545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0480" y="52815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0480" y="6018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08120" y="3084480"/>
            <a:ext cx="4753080" cy="511920"/>
            <a:chOff x="2508120" y="3084480"/>
            <a:chExt cx="4753080" cy="511920"/>
          </a:xfrm>
        </p:grpSpPr>
        <p:sp>
          <p:nvSpPr>
            <p:cNvPr id="105" name=""/>
            <p:cNvSpPr/>
            <p:nvPr/>
          </p:nvSpPr>
          <p:spPr>
            <a:xfrm>
              <a:off x="4549680" y="3086280"/>
              <a:ext cx="97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r>
                <a:rPr b="0" lang="en-US" sz="2400" spc="-1" strike="noStrike" u="sng" baseline="-25000">
                  <a:solidFill>
                    <a:srgbClr val="000000"/>
                  </a:solidFill>
                  <a:uFillTx/>
                  <a:latin typeface="Arial"/>
                </a:rPr>
                <a:t>efec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1520" y="3084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8120" y="3086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3160" y="308448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Radio (p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20560" y="16002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Z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4400" y="160020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Z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e de apantallamien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6280" y="2286000"/>
            <a:ext cx="71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– número de electrones internos  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2197" r="0" b="0"/>
          <a:stretch/>
        </p:blipFill>
        <p:spPr>
          <a:xfrm>
            <a:off x="304920" y="1103400"/>
            <a:ext cx="8534160" cy="529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15320" y="12700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3280" y="1701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8320" y="26161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47440" y="3009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6440" y="32274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29920" y="1922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primera energía de 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el número at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666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encia general en la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42920" y="1003320"/>
            <a:ext cx="7796160" cy="396720"/>
            <a:chOff x="1042920" y="1003320"/>
            <a:chExt cx="7796160" cy="396720"/>
          </a:xfrm>
        </p:grpSpPr>
        <p:sp>
          <p:nvSpPr>
            <p:cNvPr id="121" name=""/>
            <p:cNvSpPr/>
            <p:nvPr/>
          </p:nvSpPr>
          <p:spPr>
            <a:xfrm>
              <a:off x="1042920" y="1336320"/>
              <a:ext cx="779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8880" y="1003320"/>
              <a:ext cx="177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4080" y="837000"/>
            <a:ext cx="417600" cy="5502600"/>
            <a:chOff x="154080" y="837000"/>
            <a:chExt cx="417600" cy="5502600"/>
          </a:xfrm>
        </p:grpSpPr>
        <p:sp>
          <p:nvSpPr>
            <p:cNvPr id="124" name=""/>
            <p:cNvSpPr/>
            <p:nvPr/>
          </p:nvSpPr>
          <p:spPr>
            <a:xfrm flipV="1">
              <a:off x="571680" y="1688760"/>
              <a:ext cx="0" cy="38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-2397600" y="3388680"/>
              <a:ext cx="55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mento de la primera energía de 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677320" y="93204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o de la primera energía de io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20720" y="1546200"/>
          <a:ext cx="82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546200"/>
                    <a:ext cx="82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152280"/>
          <a:ext cx="353232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3532320" cy="25066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76920" y="152280"/>
          <a:ext cx="342900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52280"/>
                    <a:ext cx="3429000" cy="24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90720" y="3530520"/>
          <a:ext cx="3475080" cy="24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30520"/>
                    <a:ext cx="3475080" cy="2481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876920" y="3530520"/>
          <a:ext cx="3352680" cy="24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30520"/>
                    <a:ext cx="3352680" cy="24670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84360" y="2774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                He               Li                           Be               B              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  1                 2                  3                             4                 5                 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4760" y="6045120"/>
            <a:ext cx="7239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N                  O                F                          Ne              Na              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7                  8                9                           10               11              1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27040" y="771480"/>
          <a:ext cx="807732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771480"/>
                    <a:ext cx="8077320" cy="35942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6920" y="5157720"/>
            <a:ext cx="749160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observar que la variación está de acuerdo con la configuración electrónica de los elemento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30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inidad electr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afin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cambio de energía que ocurre cuando un electrón es aceptado por un átomo en estado gaseoso para formar un an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1520" y="28576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5560" y="28576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1520" y="3543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7000" y="35434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280" y="2133720"/>
            <a:ext cx="3333960" cy="510120"/>
            <a:chOff x="152280" y="2133720"/>
            <a:chExt cx="3333960" cy="510120"/>
          </a:xfrm>
        </p:grpSpPr>
        <p:sp>
          <p:nvSpPr>
            <p:cNvPr id="148" name=""/>
            <p:cNvSpPr/>
            <p:nvPr/>
          </p:nvSpPr>
          <p:spPr>
            <a:xfrm>
              <a:off x="152280" y="213372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23623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52280" y="2857680"/>
            <a:ext cx="3333960" cy="510120"/>
            <a:chOff x="152280" y="2857680"/>
            <a:chExt cx="3333960" cy="510120"/>
          </a:xfrm>
        </p:grpSpPr>
        <p:sp>
          <p:nvSpPr>
            <p:cNvPr id="151" name=""/>
            <p:cNvSpPr/>
            <p:nvPr/>
          </p:nvSpPr>
          <p:spPr>
            <a:xfrm>
              <a:off x="152280" y="28576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30862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2280" y="3543480"/>
            <a:ext cx="3333960" cy="510120"/>
            <a:chOff x="152280" y="3543480"/>
            <a:chExt cx="3333960" cy="510120"/>
          </a:xfrm>
        </p:grpSpPr>
        <p:sp>
          <p:nvSpPr>
            <p:cNvPr id="154" name=""/>
            <p:cNvSpPr/>
            <p:nvPr/>
          </p:nvSpPr>
          <p:spPr>
            <a:xfrm>
              <a:off x="152280" y="35434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800" y="3772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07T19:03:14Z</dcterms:modified>
  <cp:revision>62</cp:revision>
  <dc:subject/>
  <dc:title>Presentación de PowerPoint</dc:title>
</cp:coreProperties>
</file>