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wmf" ContentType="image/x-wmf"/>
  <Override PartName="/ppt/media/image12.png" ContentType="image/png"/>
  <Override PartName="/ppt/media/image29.jpeg" ContentType="image/jpeg"/>
  <Override PartName="/ppt/media/image13.wmf" ContentType="image/x-wmf"/>
  <Override PartName="/ppt/media/image8.wmf" ContentType="image/x-wmf"/>
  <Override PartName="/ppt/media/image10.png" ContentType="image/png"/>
  <Override PartName="/ppt/media/image5.wmf" ContentType="image/x-wmf"/>
  <Override PartName="/ppt/media/image31.jpeg" ContentType="image/jpeg"/>
  <Override PartName="/ppt/media/image4.png" ContentType="image/png"/>
  <Override PartName="/ppt/media/image33.png" ContentType="image/png"/>
  <Override PartName="/ppt/media/image6.wmf" ContentType="image/x-wmf"/>
  <Override PartName="/ppt/media/image34.jpeg" ContentType="image/jpeg"/>
  <Override PartName="/ppt/media/image35.png" ContentType="image/png"/>
  <Override PartName="/ppt/media/image32.jpeg" ContentType="image/jpeg"/>
  <Override PartName="/ppt/media/image20.wmf" ContentType="image/x-wmf"/>
  <Override PartName="/ppt/media/image30.png" ContentType="image/png"/>
  <Override PartName="/ppt/media/image3.jpeg" ContentType="image/jpeg"/>
  <Override PartName="/ppt/media/image2.wmf" ContentType="image/x-wmf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8DE-DA14-44F5-B058-C16E878B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6EA-9751-4EEC-BEE2-B4BB5196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287-D659-4CAE-B7DB-103A4086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88C-5A55-4F39-BD53-45B49556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5E3-A847-48F9-84C8-1D7F234D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A00-B479-4F0D-916D-D7628900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234-459C-4F7E-85B9-F163C9A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C42-2316-4E2F-83D6-9C8E2D2D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DA8-1DEC-4F29-9012-57C450A6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BF8-EDCE-4EAA-8D5F-FDA872D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996-0A70-43B4-9F72-DA53EEC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E2B-8F56-4324-B5F2-AD0BB21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728-5C60-49DE-995E-8370B4A0E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ímic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studio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80172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172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4920" y="436680"/>
          <a:ext cx="9109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436680"/>
                    <a:ext cx="9109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compuest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substancia constituida por átomos de dos o más elementos químicos unidos  en proporciones fijas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101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ólo pueden ser separados en los elementos químicos que los forman mediante medios quím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0440" y="3505320"/>
            <a:ext cx="8724960" cy="2996640"/>
            <a:chOff x="190440" y="3505320"/>
            <a:chExt cx="8724960" cy="2996640"/>
          </a:xfrm>
        </p:grpSpPr>
        <p:grpSp>
          <p:nvGrpSpPr>
            <p:cNvPr id="97" name=""/>
            <p:cNvGrpSpPr/>
            <p:nvPr/>
          </p:nvGrpSpPr>
          <p:grpSpPr>
            <a:xfrm>
              <a:off x="190440" y="3505320"/>
              <a:ext cx="8724960" cy="2993400"/>
              <a:chOff x="190440" y="3505320"/>
              <a:chExt cx="8724960" cy="2993400"/>
            </a:xfrm>
          </p:grpSpPr>
          <p:sp>
            <p:nvSpPr>
              <p:cNvPr id="98" name=""/>
              <p:cNvSpPr/>
              <p:nvPr/>
            </p:nvSpPr>
            <p:spPr>
              <a:xfrm>
                <a:off x="1799280" y="3505320"/>
                <a:ext cx="1736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 (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92000" y="3505320"/>
                <a:ext cx="266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Glucosa (C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34760" y="4190760"/>
                <a:ext cx="236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moniaco (N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3911400"/>
                <a:ext cx="1565280" cy="258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57920" y="4063680"/>
                <a:ext cx="1257480" cy="977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771720" y="4690800"/>
              <a:ext cx="1957680" cy="181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407960"/>
          <a:ext cx="914400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7960"/>
                    <a:ext cx="91440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87280" y="260280"/>
          <a:ext cx="698364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60280"/>
                    <a:ext cx="69836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 de la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320" y="1711440"/>
          <a:ext cx="89154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11440"/>
                    <a:ext cx="89154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59160" y="35892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es estados de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876280" y="551196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ó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6960" y="55627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í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90760" y="156384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990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físic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ltera la estructura o la identidad de una sub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895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 quím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tera la estructura o la identidad de las substancias involuc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3765600"/>
            <a:ext cx="7390800" cy="2695320"/>
            <a:chOff x="762120" y="3765600"/>
            <a:chExt cx="7390800" cy="2695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987720" y="3765600"/>
              <a:ext cx="416520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2120" y="4701960"/>
              <a:ext cx="27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El hidrógeno arde  en el aire para  formar a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74120" y="38088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ambios físicos o quím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7400" y="19810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usión del hielo            Ázucar disuelta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838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ex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a substancia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657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piedad intensiv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material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no depend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cantidad total de materia conside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82880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4879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40680" y="19224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extensivas e inten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02200" y="2227320"/>
            <a:ext cx="155088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4800600"/>
            <a:ext cx="16574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28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  - todo lo que ocupa un lugar en el espacio y  tien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7080"/>
            <a:ext cx="79250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edida de la cantidad de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I, la unidad de masa es e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kilogra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048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es el resultado de la fuerza que la gravedad ejerce sobre la masa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9040" y="4394160"/>
            <a:ext cx="5122800" cy="1841400"/>
            <a:chOff x="419040" y="4394160"/>
            <a:chExt cx="5122800" cy="1841400"/>
          </a:xfrm>
        </p:grpSpPr>
        <p:grpSp>
          <p:nvGrpSpPr>
            <p:cNvPr id="135" name=""/>
            <p:cNvGrpSpPr/>
            <p:nvPr/>
          </p:nvGrpSpPr>
          <p:grpSpPr>
            <a:xfrm>
              <a:off x="419040" y="4394160"/>
              <a:ext cx="2732760" cy="1551960"/>
              <a:chOff x="419040" y="4394160"/>
              <a:chExt cx="2732760" cy="15519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1640" y="4394160"/>
                <a:ext cx="24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peso =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x ma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040" y="4952880"/>
                <a:ext cx="271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tierr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520" y="5486400"/>
                <a:ext cx="26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en la  luna, </a:t>
                </a:r>
                <a:r>
                  <a:rPr b="0" i="1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726000" y="4724280"/>
              <a:ext cx="18158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412600" y="4448160"/>
            <a:ext cx="3722400" cy="1551960"/>
            <a:chOff x="5412600" y="4448160"/>
            <a:chExt cx="3722400" cy="1551960"/>
          </a:xfrm>
        </p:grpSpPr>
        <p:sp>
          <p:nvSpPr>
            <p:cNvPr id="141" name=""/>
            <p:cNvSpPr/>
            <p:nvPr/>
          </p:nvSpPr>
          <p:spPr>
            <a:xfrm>
              <a:off x="5412600" y="444816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Una barra de 1 kg pesará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45200" y="500688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 kg en la tier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86080" y="55404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0.1 kg en la 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243000"/>
          <a:ext cx="830592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000"/>
                    <a:ext cx="830592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685800"/>
            <a:ext cx="6095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 y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meros, cerámicos y cristales 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erconductores a temperatura amb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putación molecu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208400"/>
            <a:ext cx="53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icultura y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ltivos modificados genét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sticidas “natu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tilizantes especi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5440" y="838080"/>
            <a:ext cx="2587680" cy="163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37018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1280" y="1446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rimeros descubrimien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619360"/>
            <a:ext cx="8002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oisier 17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y de conservación de la m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31417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ust 17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Ley de la composic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720" y="371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 1803-188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Teoría at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61956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eoría atómic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4130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lemento se compone de partículas diminutas denominadas át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480" y="2349360"/>
            <a:ext cx="8318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átomos no pueden ni crearse ni destruirse durante una transformación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284640"/>
            <a:ext cx="835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átomos de un elemento son semej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93372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uestos se forman cuando los átomos de            diferentes elementos se combin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42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ecuencias de la teoría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520" y="1558800"/>
            <a:ext cx="777240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733840"/>
            <a:ext cx="5329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monóxido de carbono, 1,33 g de oxígeno se combina con 1,0 g de carbon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720" y="13413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Ley de las proporciones definidas: las combinaciones de elementos están en una relación de números enteros senci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2743200"/>
          <a:ext cx="2560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743200"/>
                    <a:ext cx="2560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95280" y="4511520"/>
            <a:ext cx="496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formación de dióxido de carbono, 2,66 g de oxígeno se combina con 1,0 g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482920" y="1413000"/>
          <a:ext cx="424980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1413000"/>
                    <a:ext cx="424980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4480" y="304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acción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es un proceso en el que una o más substancias se transforman en una o más nuevas sust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9080" y="3554280"/>
          <a:ext cx="691200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3554280"/>
                    <a:ext cx="691200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0200" y="476280"/>
            <a:ext cx="79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cu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ímica emplea símbolos químicos para mostrar lo que ocurre en una reacción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1640" y="2133720"/>
            <a:ext cx="8317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89000" y="1346040"/>
            <a:ext cx="331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g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2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5320" y="1585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9680"/>
            <a:ext cx="914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átomos de Mg + 1 molécula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fórmulas unitaria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oles de Mg + 1 mol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2 moles de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.6 gramos de Mg + 32.0 gramos d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n 80.6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0" y="5495760"/>
            <a:ext cx="61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gramos Mg + 1 gramo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man 2 g 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64080" y="3100320"/>
            <a:ext cx="39222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átomo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“pesa” 12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61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16280" y="43578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a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1.008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16.00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508200"/>
            <a:ext cx="3314880" cy="2441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731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ató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de un átomo en unidades de masa atómica (u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5280" y="18900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tomos y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0600" y="18900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-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189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sustancia que contiene tantos átomos como hay en exactamente 12.00 gramos de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680" y="1413000"/>
            <a:ext cx="42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=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.0221367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9280" y="1413000"/>
            <a:ext cx="40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Avogadro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1480" y="227664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uma = 1.66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24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  o 1 g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06864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mo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masa atómica o molecular expresada en g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2400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 = 12.00 g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de átomos de litio = 6.941 g de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60880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atómic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977760" y="1663560"/>
            <a:ext cx="3048120" cy="1703880"/>
            <a:chOff x="977760" y="1663560"/>
            <a:chExt cx="3048120" cy="170388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77760" y="1663560"/>
              <a:ext cx="30481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094120" y="285732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002200" y="1816200"/>
            <a:ext cx="3454920" cy="510480"/>
            <a:chOff x="5002200" y="1816200"/>
            <a:chExt cx="3454920" cy="510480"/>
          </a:xfrm>
        </p:grpSpPr>
        <p:sp>
          <p:nvSpPr>
            <p:cNvPr id="193" name=""/>
            <p:cNvSpPr/>
            <p:nvPr/>
          </p:nvSpPr>
          <p:spPr>
            <a:xfrm>
              <a:off x="5002200" y="18162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36040" y="1866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2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65560" y="2349360"/>
            <a:ext cx="3683160" cy="459720"/>
            <a:chOff x="5065560" y="2349360"/>
            <a:chExt cx="3683160" cy="459720"/>
          </a:xfrm>
        </p:grpSpPr>
        <p:sp>
          <p:nvSpPr>
            <p:cNvPr id="196" name=""/>
            <p:cNvSpPr/>
            <p:nvPr/>
          </p:nvSpPr>
          <p:spPr>
            <a:xfrm>
              <a:off x="5065560" y="23493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66000" y="2349360"/>
              <a:ext cx="24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2 x 16.00 um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1840" y="2755800"/>
              <a:ext cx="2666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40640" y="2806560"/>
            <a:ext cx="3532680" cy="510120"/>
            <a:chOff x="4940640" y="2806560"/>
            <a:chExt cx="3532680" cy="510120"/>
          </a:xfrm>
        </p:grpSpPr>
        <p:sp>
          <p:nvSpPr>
            <p:cNvPr id="200" name=""/>
            <p:cNvSpPr/>
            <p:nvPr/>
          </p:nvSpPr>
          <p:spPr>
            <a:xfrm>
              <a:off x="4940640" y="280656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2240" y="28209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64.07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20880" y="402588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molé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molecular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920" y="5445000"/>
            <a:ext cx="40669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écula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64.07 g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040" y="27936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asa molec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o peso molecular) es la suma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ómicas (en uma) de los elementos de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71640" y="476280"/>
            <a:ext cx="72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¿Cuántos átomos de H hay en 72.5 g of 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20120" y="1628640"/>
            <a:ext cx="70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= (3 x 12) + (8 x 1) + 16 = 60 g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62160" y="289872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H = 6.02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92920" y="46767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.82 x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3800" y="2289240"/>
            <a:ext cx="62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moléculas = 8 mol átomo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0640" y="3851280"/>
            <a:ext cx="168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2.5 g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190240" y="3684600"/>
            <a:ext cx="1763640" cy="797760"/>
            <a:chOff x="2190240" y="3684600"/>
            <a:chExt cx="1763640" cy="797760"/>
          </a:xfrm>
        </p:grpSpPr>
        <p:sp>
          <p:nvSpPr>
            <p:cNvPr id="212" name=""/>
            <p:cNvSpPr/>
            <p:nvPr/>
          </p:nvSpPr>
          <p:spPr>
            <a:xfrm>
              <a:off x="2349720" y="368460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4880" y="4041720"/>
              <a:ext cx="147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0 g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6840" y="40672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9024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88720" y="3673440"/>
            <a:ext cx="2185920" cy="806040"/>
            <a:chOff x="3888720" y="3673440"/>
            <a:chExt cx="2185920" cy="806040"/>
          </a:xfrm>
        </p:grpSpPr>
        <p:sp>
          <p:nvSpPr>
            <p:cNvPr id="217" name=""/>
            <p:cNvSpPr/>
            <p:nvPr/>
          </p:nvSpPr>
          <p:spPr>
            <a:xfrm>
              <a:off x="4112280" y="36734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8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9560" y="4038840"/>
              <a:ext cx="160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8840" y="406728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872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44600" y="3673440"/>
            <a:ext cx="2918880" cy="764280"/>
            <a:chOff x="5844600" y="3673440"/>
            <a:chExt cx="2918880" cy="764280"/>
          </a:xfrm>
        </p:grpSpPr>
        <p:sp>
          <p:nvSpPr>
            <p:cNvPr id="222" name=""/>
            <p:cNvSpPr/>
            <p:nvPr/>
          </p:nvSpPr>
          <p:spPr>
            <a:xfrm>
              <a:off x="5976000" y="3673440"/>
              <a:ext cx="26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6.022 x 10</a:t>
              </a:r>
              <a:r>
                <a:rPr b="0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1040" y="403884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átomos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4720" y="4067280"/>
              <a:ext cx="2374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4600" y="3851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3360" y="38642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1220760" y="39142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209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744640" y="3685680"/>
            <a:ext cx="990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4976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97480" y="3685680"/>
            <a:ext cx="9903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859440" y="406728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estudio de l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2344680"/>
            <a:ext cx="8839440" cy="367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3840" y="1600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48240" y="16002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croscó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1520" y="279360"/>
            <a:ext cx="82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masa form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suma de las masas atómicas (en uma) en una fórmula unitaria de un compuesto i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4191120"/>
            <a:ext cx="7734240" cy="869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ualquier compuesto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sa de la fórmula (uma) = masa molar (gra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32560" y="5460840"/>
            <a:ext cx="5085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fórmula unitaria NaCl = 58.44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mol NaCl = 58.44 g Na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11280" y="1341360"/>
            <a:ext cx="3565800" cy="2514600"/>
            <a:chOff x="611280" y="1341360"/>
            <a:chExt cx="3565800" cy="25146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rcRect l="0" t="35003" r="69692" b="23747"/>
            <a:stretch/>
          </p:blipFill>
          <p:spPr>
            <a:xfrm>
              <a:off x="611280" y="1341360"/>
              <a:ext cx="2463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321360" y="224460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76720" y="1763640"/>
            <a:ext cx="3004200" cy="510480"/>
            <a:chOff x="5076720" y="1763640"/>
            <a:chExt cx="3004200" cy="510480"/>
          </a:xfrm>
        </p:grpSpPr>
        <p:sp>
          <p:nvSpPr>
            <p:cNvPr id="240" name=""/>
            <p:cNvSpPr/>
            <p:nvPr/>
          </p:nvSpPr>
          <p:spPr>
            <a:xfrm>
              <a:off x="5076720" y="176364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9840" y="181440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2.99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79960" y="2355840"/>
            <a:ext cx="3245400" cy="465840"/>
            <a:chOff x="5079960" y="2355840"/>
            <a:chExt cx="3245400" cy="465840"/>
          </a:xfrm>
        </p:grpSpPr>
        <p:sp>
          <p:nvSpPr>
            <p:cNvPr id="243" name=""/>
            <p:cNvSpPr/>
            <p:nvPr/>
          </p:nvSpPr>
          <p:spPr>
            <a:xfrm>
              <a:off x="5079960" y="23558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1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5440" y="236196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+  35.45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9000" y="2762280"/>
              <a:ext cx="21225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080680" y="2813040"/>
            <a:ext cx="3000240" cy="474120"/>
            <a:chOff x="5080680" y="2813040"/>
            <a:chExt cx="3000240" cy="474120"/>
          </a:xfrm>
        </p:grpSpPr>
        <p:sp>
          <p:nvSpPr>
            <p:cNvPr id="247" name=""/>
            <p:cNvSpPr/>
            <p:nvPr/>
          </p:nvSpPr>
          <p:spPr>
            <a:xfrm>
              <a:off x="5080680" y="28130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59840" y="282744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8.44 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4501" r="0" b="0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4000" y="523224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= 1/2 x m x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(2 x Ec/m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q x v x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590920" cy="19368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6568920" y="192240"/>
            <a:ext cx="1488600" cy="4157640"/>
            <a:chOff x="6568920" y="192240"/>
            <a:chExt cx="1488600" cy="4157640"/>
          </a:xfrm>
        </p:grpSpPr>
        <p:grpSp>
          <p:nvGrpSpPr>
            <p:cNvPr id="253" name=""/>
            <p:cNvGrpSpPr/>
            <p:nvPr/>
          </p:nvGrpSpPr>
          <p:grpSpPr>
            <a:xfrm>
              <a:off x="7597800" y="192240"/>
              <a:ext cx="459720" cy="1604880"/>
              <a:chOff x="7597800" y="192240"/>
              <a:chExt cx="459720" cy="1604880"/>
            </a:xfrm>
          </p:grpSpPr>
          <p:sp>
            <p:nvSpPr>
              <p:cNvPr id="254" name=""/>
              <p:cNvSpPr/>
              <p:nvPr/>
            </p:nvSpPr>
            <p:spPr>
              <a:xfrm rot="16200000">
                <a:off x="7314120" y="475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05520" y="12639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568920" y="2745000"/>
              <a:ext cx="459720" cy="1604880"/>
              <a:chOff x="6568920" y="2745000"/>
              <a:chExt cx="459720" cy="1604880"/>
            </a:xfrm>
          </p:grpSpPr>
          <p:sp>
            <p:nvSpPr>
              <p:cNvPr id="257" name=""/>
              <p:cNvSpPr/>
              <p:nvPr/>
            </p:nvSpPr>
            <p:spPr>
              <a:xfrm rot="16200000">
                <a:off x="6285240" y="30283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ige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76640" y="3816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470720" y="47520"/>
            <a:ext cx="1362960" cy="5751360"/>
            <a:chOff x="7470720" y="47520"/>
            <a:chExt cx="1362960" cy="5751360"/>
          </a:xfrm>
        </p:grpSpPr>
        <p:grpSp>
          <p:nvGrpSpPr>
            <p:cNvPr id="260" name=""/>
            <p:cNvGrpSpPr/>
            <p:nvPr/>
          </p:nvGrpSpPr>
          <p:grpSpPr>
            <a:xfrm>
              <a:off x="8373960" y="47520"/>
              <a:ext cx="459720" cy="1792080"/>
              <a:chOff x="8373960" y="47520"/>
              <a:chExt cx="459720" cy="1792080"/>
            </a:xfrm>
          </p:grpSpPr>
          <p:sp>
            <p:nvSpPr>
              <p:cNvPr id="261" name=""/>
              <p:cNvSpPr/>
              <p:nvPr/>
            </p:nvSpPr>
            <p:spPr>
              <a:xfrm rot="16200000">
                <a:off x="7997400" y="42372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81680" y="130644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470720" y="4010040"/>
              <a:ext cx="459720" cy="1788840"/>
              <a:chOff x="7470720" y="4010040"/>
              <a:chExt cx="459720" cy="1788840"/>
            </a:xfrm>
          </p:grpSpPr>
          <p:sp>
            <p:nvSpPr>
              <p:cNvPr id="264" name=""/>
              <p:cNvSpPr/>
              <p:nvPr/>
            </p:nvSpPr>
            <p:spPr>
              <a:xfrm rot="16200000">
                <a:off x="7094160" y="438624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s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78440" y="526572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260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sición porcentu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elemento en un compuesto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55720" y="1125360"/>
            <a:ext cx="5928480" cy="876960"/>
            <a:chOff x="1755720" y="1125360"/>
            <a:chExt cx="5928480" cy="876960"/>
          </a:xfrm>
        </p:grpSpPr>
        <p:sp>
          <p:nvSpPr>
            <p:cNvPr id="268" name=""/>
            <p:cNvSpPr/>
            <p:nvPr/>
          </p:nvSpPr>
          <p:spPr>
            <a:xfrm>
              <a:off x="1755720" y="1125360"/>
              <a:ext cx="40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masa molar del ele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640" y="1542600"/>
              <a:ext cx="38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asa molar del com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68320" y="156816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60240" y="13140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80880" y="2495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número de moles del elemento en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1 m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6320" y="3805200"/>
            <a:ext cx="3200400" cy="2542320"/>
            <a:chOff x="76320" y="3805200"/>
            <a:chExt cx="3200400" cy="2542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6320" y="380520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069920" y="583740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735360" y="3511440"/>
            <a:ext cx="5267160" cy="828000"/>
            <a:chOff x="3735360" y="3511440"/>
            <a:chExt cx="5267160" cy="828000"/>
          </a:xfrm>
        </p:grpSpPr>
        <p:sp>
          <p:nvSpPr>
            <p:cNvPr id="277" name=""/>
            <p:cNvSpPr/>
            <p:nvPr/>
          </p:nvSpPr>
          <p:spPr>
            <a:xfrm>
              <a:off x="3735360" y="368892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351144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4520" y="38797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23120" y="368892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60920" y="39430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735360" y="4260960"/>
            <a:ext cx="5267160" cy="828000"/>
            <a:chOff x="3735360" y="4260960"/>
            <a:chExt cx="5267160" cy="828000"/>
          </a:xfrm>
        </p:grpSpPr>
        <p:sp>
          <p:nvSpPr>
            <p:cNvPr id="283" name=""/>
            <p:cNvSpPr/>
            <p:nvPr/>
          </p:nvSpPr>
          <p:spPr>
            <a:xfrm>
              <a:off x="3735360" y="4438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5680" y="4260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34520" y="46292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3120" y="443844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0920" y="46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734280" y="5022720"/>
            <a:ext cx="5268240" cy="828000"/>
            <a:chOff x="3734280" y="5022720"/>
            <a:chExt cx="5268240" cy="828000"/>
          </a:xfrm>
        </p:grpSpPr>
        <p:sp>
          <p:nvSpPr>
            <p:cNvPr id="289" name=""/>
            <p:cNvSpPr/>
            <p:nvPr/>
          </p:nvSpPr>
          <p:spPr>
            <a:xfrm>
              <a:off x="3734280" y="5200200"/>
              <a:ext cx="9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85680" y="502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4520" y="5391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23120" y="5200200"/>
              <a:ext cx="25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60920" y="5454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45720" y="592452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30920" y="19224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7333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termine la fórmula de un compuesto que tiene la siguiente composición porcentual en peso:           24.75 % K,  34.77 % Mn, 40.51 %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86560" y="2890800"/>
            <a:ext cx="5670360" cy="784800"/>
            <a:chOff x="2986560" y="2890800"/>
            <a:chExt cx="5670360" cy="784800"/>
          </a:xfrm>
        </p:grpSpPr>
        <p:sp>
          <p:nvSpPr>
            <p:cNvPr id="298" name=""/>
            <p:cNvSpPr/>
            <p:nvPr/>
          </p:nvSpPr>
          <p:spPr>
            <a:xfrm>
              <a:off x="2986560" y="3059280"/>
              <a:ext cx="206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24.75 g K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58640" y="307188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30 mol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329440" y="2890800"/>
              <a:ext cx="1467360" cy="784800"/>
              <a:chOff x="5329440" y="2890800"/>
              <a:chExt cx="1467360" cy="784800"/>
            </a:xfrm>
          </p:grpSpPr>
          <p:sp>
            <p:nvSpPr>
              <p:cNvPr id="301" name=""/>
              <p:cNvSpPr/>
              <p:nvPr/>
            </p:nvSpPr>
            <p:spPr>
              <a:xfrm>
                <a:off x="5464800" y="2890800"/>
                <a:ext cx="104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29440" y="3276720"/>
                <a:ext cx="126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39.10 g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49600" y="3254400"/>
                <a:ext cx="144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2928960" y="4073400"/>
            <a:ext cx="5797440" cy="784800"/>
            <a:chOff x="2928960" y="4073400"/>
            <a:chExt cx="5797440" cy="784800"/>
          </a:xfrm>
        </p:grpSpPr>
        <p:sp>
          <p:nvSpPr>
            <p:cNvPr id="305" name=""/>
            <p:cNvSpPr/>
            <p:nvPr/>
          </p:nvSpPr>
          <p:spPr>
            <a:xfrm>
              <a:off x="2928960" y="4241880"/>
              <a:ext cx="235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Mn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34.77 g Mn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43800" y="4254480"/>
              <a:ext cx="20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0.6329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5640" y="40734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36920" y="445932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54.94 g 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5480" y="443700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244320" y="5154480"/>
            <a:ext cx="5621400" cy="784440"/>
            <a:chOff x="3244320" y="5154480"/>
            <a:chExt cx="5621400" cy="784440"/>
          </a:xfrm>
        </p:grpSpPr>
        <p:sp>
          <p:nvSpPr>
            <p:cNvPr id="311" name=""/>
            <p:cNvSpPr/>
            <p:nvPr/>
          </p:nvSpPr>
          <p:spPr>
            <a:xfrm>
              <a:off x="3244320" y="5322600"/>
              <a:ext cx="211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= 40.51 g O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5335200"/>
              <a:ext cx="178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2.532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6400" y="51544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76240" y="554004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6.00 g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98840" y="5518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4572000" y="3200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248520" y="342864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97320" y="440676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126120" y="455904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73720" y="5492520"/>
            <a:ext cx="5331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226200" y="5644800"/>
            <a:ext cx="5335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82440" y="1484280"/>
          <a:ext cx="29052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484280"/>
                    <a:ext cx="2905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4532040" y="2244600"/>
            <a:ext cx="2467440" cy="814680"/>
            <a:chOff x="4532040" y="2244600"/>
            <a:chExt cx="2467440" cy="814680"/>
          </a:xfrm>
        </p:grpSpPr>
        <p:sp>
          <p:nvSpPr>
            <p:cNvPr id="325" name=""/>
            <p:cNvSpPr/>
            <p:nvPr/>
          </p:nvSpPr>
          <p:spPr>
            <a:xfrm>
              <a:off x="4532040" y="243684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K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223320" y="2397240"/>
              <a:ext cx="336240" cy="498600"/>
              <a:chOff x="6223320" y="2397240"/>
              <a:chExt cx="336240" cy="498600"/>
            </a:xfrm>
          </p:grpSpPr>
          <p:sp>
            <p:nvSpPr>
              <p:cNvPr id="327" name=""/>
              <p:cNvSpPr/>
              <p:nvPr/>
            </p:nvSpPr>
            <p:spPr>
              <a:xfrm>
                <a:off x="6229440" y="2397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23320" y="24969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465240" y="243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128920" y="2244600"/>
              <a:ext cx="1066680" cy="814680"/>
              <a:chOff x="5128920" y="2244600"/>
              <a:chExt cx="1066680" cy="814680"/>
            </a:xfrm>
          </p:grpSpPr>
          <p:sp>
            <p:nvSpPr>
              <p:cNvPr id="331" name=""/>
              <p:cNvSpPr/>
              <p:nvPr/>
            </p:nvSpPr>
            <p:spPr>
              <a:xfrm>
                <a:off x="5183280" y="2244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840" y="26604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28920" y="26334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4433040" y="3179880"/>
            <a:ext cx="2515320" cy="814320"/>
            <a:chOff x="4433040" y="3179880"/>
            <a:chExt cx="2515320" cy="814320"/>
          </a:xfrm>
        </p:grpSpPr>
        <p:sp>
          <p:nvSpPr>
            <p:cNvPr id="335" name=""/>
            <p:cNvSpPr/>
            <p:nvPr/>
          </p:nvSpPr>
          <p:spPr>
            <a:xfrm>
              <a:off x="4433040" y="337176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n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137200" y="3179880"/>
              <a:ext cx="1066680" cy="814320"/>
              <a:chOff x="5137200" y="3179880"/>
              <a:chExt cx="1066680" cy="814320"/>
            </a:xfrm>
          </p:grpSpPr>
          <p:sp>
            <p:nvSpPr>
              <p:cNvPr id="337" name=""/>
              <p:cNvSpPr/>
              <p:nvPr/>
            </p:nvSpPr>
            <p:spPr>
              <a:xfrm>
                <a:off x="5191560" y="317988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90120" y="359532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37200" y="3568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194520" y="336708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 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521600" y="4114800"/>
            <a:ext cx="2486160" cy="814680"/>
            <a:chOff x="4521600" y="4114800"/>
            <a:chExt cx="2486160" cy="814680"/>
          </a:xfrm>
        </p:grpSpPr>
        <p:sp>
          <p:nvSpPr>
            <p:cNvPr id="342" name=""/>
            <p:cNvSpPr/>
            <p:nvPr/>
          </p:nvSpPr>
          <p:spPr>
            <a:xfrm>
              <a:off x="4521600" y="430704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214320" y="4267440"/>
              <a:ext cx="336240" cy="498600"/>
              <a:chOff x="6214320" y="4267440"/>
              <a:chExt cx="336240" cy="49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6220440" y="42674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14320" y="43671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6473520" y="4308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119560" y="4114800"/>
              <a:ext cx="1066680" cy="814680"/>
              <a:chOff x="5119560" y="4114800"/>
              <a:chExt cx="1066680" cy="814680"/>
            </a:xfrm>
          </p:grpSpPr>
          <p:sp>
            <p:nvSpPr>
              <p:cNvPr id="348" name=""/>
              <p:cNvSpPr/>
              <p:nvPr/>
            </p:nvSpPr>
            <p:spPr>
              <a:xfrm>
                <a:off x="5247000" y="4114800"/>
                <a:ext cx="81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2.53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72480" y="45306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0.63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19560" y="45036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5219640" y="1054080"/>
            <a:ext cx="2089080" cy="790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3840" y="556092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6920" y="40788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 porcentual y 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92360" y="1197000"/>
            <a:ext cx="548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30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6329,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1628640"/>
          <a:ext cx="290520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29052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148360" y="5516640"/>
            <a:ext cx="1224000" cy="576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lanceo de ecuaciones 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9907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riba la(s) fórmula(s) correctas para los reactivos en el lado izquierdo de la ecuación y la(s) fórmula(s) correcta(s) de los productos del lad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1560" y="2743200"/>
            <a:ext cx="86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etano reacciona con oxígeno y produce dióxido de carb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y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307240" y="3546360"/>
            <a:ext cx="4165200" cy="511920"/>
            <a:chOff x="2307240" y="3546360"/>
            <a:chExt cx="4165200" cy="511920"/>
          </a:xfrm>
        </p:grpSpPr>
        <p:sp>
          <p:nvSpPr>
            <p:cNvPr id="362" name=""/>
            <p:cNvSpPr/>
            <p:nvPr/>
          </p:nvSpPr>
          <p:spPr>
            <a:xfrm>
              <a:off x="2307240" y="3546360"/>
              <a:ext cx="150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43440" y="37749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30480" y="3548160"/>
              <a:ext cx="164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03040" y="440208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e los números antecediendo las fórmulas (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efic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para igualar el número de átomos en ambos lados de la ecuación. No cambie los subínd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50280" y="6048360"/>
            <a:ext cx="5032080" cy="510120"/>
            <a:chOff x="2150280" y="6048360"/>
            <a:chExt cx="5032080" cy="510120"/>
          </a:xfrm>
        </p:grpSpPr>
        <p:sp>
          <p:nvSpPr>
            <p:cNvPr id="367" name=""/>
            <p:cNvSpPr/>
            <p:nvPr/>
          </p:nvSpPr>
          <p:spPr>
            <a:xfrm>
              <a:off x="2150280" y="604836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26480" y="6067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 ES IGUAL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4000" y="6048360"/>
              <a:ext cx="25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2760" y="11592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ience balanceando los elementos que aparecen en sólo un reactivo y un produ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69560" y="1241280"/>
            <a:ext cx="3925440" cy="442080"/>
            <a:chOff x="1069560" y="1241280"/>
            <a:chExt cx="3925440" cy="442080"/>
          </a:xfrm>
        </p:grpSpPr>
        <p:sp>
          <p:nvSpPr>
            <p:cNvPr id="372" name=""/>
            <p:cNvSpPr/>
            <p:nvPr/>
          </p:nvSpPr>
          <p:spPr>
            <a:xfrm>
              <a:off x="1069560" y="12412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12960" y="14220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94600" y="1242720"/>
              <a:ext cx="140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08640" y="1574640"/>
            <a:ext cx="32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omience con C o H pero no co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5120" y="1650960"/>
            <a:ext cx="2134440" cy="1284840"/>
            <a:chOff x="195120" y="1650960"/>
            <a:chExt cx="2134440" cy="1284840"/>
          </a:xfrm>
        </p:grpSpPr>
        <p:sp>
          <p:nvSpPr>
            <p:cNvPr id="377" name=""/>
            <p:cNvSpPr/>
            <p:nvPr/>
          </p:nvSpPr>
          <p:spPr>
            <a:xfrm flipV="1">
              <a:off x="124308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120" y="2232000"/>
              <a:ext cx="213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carbonos en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2200" y="1641600"/>
            <a:ext cx="2693880" cy="1284840"/>
            <a:chOff x="2482200" y="1641600"/>
            <a:chExt cx="2693880" cy="1284840"/>
          </a:xfrm>
        </p:grpSpPr>
        <p:sp>
          <p:nvSpPr>
            <p:cNvPr id="380" name=""/>
            <p:cNvSpPr/>
            <p:nvPr/>
          </p:nvSpPr>
          <p:spPr>
            <a:xfrm flipV="1">
              <a:off x="3803400" y="164160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2200" y="2222640"/>
              <a:ext cx="269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1 carbono 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799960" y="3068640"/>
            <a:ext cx="258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C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69680" y="3084480"/>
            <a:ext cx="4066920" cy="442080"/>
            <a:chOff x="769680" y="3084480"/>
            <a:chExt cx="4066920" cy="442080"/>
          </a:xfrm>
        </p:grpSpPr>
        <p:sp>
          <p:nvSpPr>
            <p:cNvPr id="384" name=""/>
            <p:cNvSpPr/>
            <p:nvPr/>
          </p:nvSpPr>
          <p:spPr>
            <a:xfrm>
              <a:off x="769680" y="308448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13080" y="326520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4360" y="3085920"/>
              <a:ext cx="1542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85760" y="3500280"/>
            <a:ext cx="2035440" cy="1284840"/>
            <a:chOff x="185760" y="3500280"/>
            <a:chExt cx="2035440" cy="1284840"/>
          </a:xfrm>
        </p:grpSpPr>
        <p:sp>
          <p:nvSpPr>
            <p:cNvPr id="388" name=""/>
            <p:cNvSpPr/>
            <p:nvPr/>
          </p:nvSpPr>
          <p:spPr>
            <a:xfrm flipV="1">
              <a:off x="1195200" y="35002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5760" y="4081320"/>
              <a:ext cx="203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6 hidrógenos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l lado 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950920" y="3514680"/>
            <a:ext cx="2827800" cy="1284840"/>
            <a:chOff x="2950920" y="3514680"/>
            <a:chExt cx="2827800" cy="1284840"/>
          </a:xfrm>
        </p:grpSpPr>
        <p:sp>
          <p:nvSpPr>
            <p:cNvPr id="391" name=""/>
            <p:cNvSpPr/>
            <p:nvPr/>
          </p:nvSpPr>
          <p:spPr>
            <a:xfrm flipV="1">
              <a:off x="4349520" y="35146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0920" y="4095720"/>
              <a:ext cx="282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hidrógenos en el 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dere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718960" y="5013360"/>
            <a:ext cx="258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H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87320" y="5013360"/>
            <a:ext cx="4207680" cy="442080"/>
            <a:chOff x="787320" y="5013360"/>
            <a:chExt cx="4207680" cy="442080"/>
          </a:xfrm>
        </p:grpSpPr>
        <p:sp>
          <p:nvSpPr>
            <p:cNvPr id="395" name=""/>
            <p:cNvSpPr/>
            <p:nvPr/>
          </p:nvSpPr>
          <p:spPr>
            <a:xfrm>
              <a:off x="787320" y="501336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0360" y="51940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11280" y="501480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2760" y="442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lancee los elementos que aparecen en dos o más reactivos o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83640" y="1625400"/>
            <a:ext cx="1427400" cy="1589760"/>
            <a:chOff x="683640" y="1625400"/>
            <a:chExt cx="1427400" cy="1589760"/>
          </a:xfrm>
        </p:grpSpPr>
        <p:sp>
          <p:nvSpPr>
            <p:cNvPr id="400" name=""/>
            <p:cNvSpPr/>
            <p:nvPr/>
          </p:nvSpPr>
          <p:spPr>
            <a:xfrm flipV="1">
              <a:off x="1393920" y="1625400"/>
              <a:ext cx="0" cy="4568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3640" y="2206440"/>
              <a:ext cx="142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en el la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izquier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714040" y="1628640"/>
            <a:ext cx="1427400" cy="1284840"/>
            <a:chOff x="2714040" y="1628640"/>
            <a:chExt cx="1427400" cy="1284840"/>
          </a:xfrm>
        </p:grpSpPr>
        <p:sp>
          <p:nvSpPr>
            <p:cNvPr id="403" name=""/>
            <p:cNvSpPr/>
            <p:nvPr/>
          </p:nvSpPr>
          <p:spPr>
            <a:xfrm flipV="1">
              <a:off x="3422520" y="162864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040" y="220968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4 oxíge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2x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94920" y="1170000"/>
            <a:ext cx="4558320" cy="442080"/>
            <a:chOff x="394920" y="1170000"/>
            <a:chExt cx="4558320" cy="442080"/>
          </a:xfrm>
        </p:grpSpPr>
        <p:sp>
          <p:nvSpPr>
            <p:cNvPr id="406" name=""/>
            <p:cNvSpPr/>
            <p:nvPr/>
          </p:nvSpPr>
          <p:spPr>
            <a:xfrm>
              <a:off x="394920" y="1170000"/>
              <a:ext cx="128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38320" y="135072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8880" y="1171440"/>
              <a:ext cx="203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+ 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690000" y="1650960"/>
            <a:ext cx="2137320" cy="1275480"/>
            <a:chOff x="3690000" y="1650960"/>
            <a:chExt cx="2137320" cy="1275480"/>
          </a:xfrm>
        </p:grpSpPr>
        <p:sp>
          <p:nvSpPr>
            <p:cNvPr id="410" name=""/>
            <p:cNvSpPr/>
            <p:nvPr/>
          </p:nvSpPr>
          <p:spPr>
            <a:xfrm flipV="1">
              <a:off x="4749840" y="165096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90000" y="2222640"/>
              <a:ext cx="213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+ 3 oxígen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(3x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871600" y="3481560"/>
            <a:ext cx="22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que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172360" y="3405240"/>
            <a:ext cx="526680" cy="673200"/>
            <a:chOff x="8172360" y="3405240"/>
            <a:chExt cx="526680" cy="673200"/>
          </a:xfrm>
        </p:grpSpPr>
        <p:sp>
          <p:nvSpPr>
            <p:cNvPr id="414" name=""/>
            <p:cNvSpPr/>
            <p:nvPr/>
          </p:nvSpPr>
          <p:spPr>
            <a:xfrm>
              <a:off x="8190720" y="3405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72360" y="3700800"/>
              <a:ext cx="526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90720" y="367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059520" y="222264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= 7 oxíg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e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3960" y="3357720"/>
            <a:ext cx="4716000" cy="703440"/>
            <a:chOff x="723960" y="3357720"/>
            <a:chExt cx="4716000" cy="703440"/>
          </a:xfrm>
        </p:grpSpPr>
        <p:sp>
          <p:nvSpPr>
            <p:cNvPr id="419" name=""/>
            <p:cNvSpPr/>
            <p:nvPr/>
          </p:nvSpPr>
          <p:spPr>
            <a:xfrm>
              <a:off x="723960" y="3495960"/>
              <a:ext cx="243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          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5440" y="3676680"/>
              <a:ext cx="761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6000" y="3497400"/>
              <a:ext cx="1893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827000" y="3357720"/>
              <a:ext cx="380880" cy="703440"/>
              <a:chOff x="1827000" y="3357720"/>
              <a:chExt cx="380880" cy="703440"/>
            </a:xfrm>
          </p:grpSpPr>
          <p:sp>
            <p:nvSpPr>
              <p:cNvPr id="423" name=""/>
              <p:cNvSpPr/>
              <p:nvPr/>
            </p:nvSpPr>
            <p:spPr>
              <a:xfrm>
                <a:off x="1841040" y="3357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27000" y="36910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41040" y="3662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5852520" y="422280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Quite la f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multiplicando am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lados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86880" y="4508640"/>
            <a:ext cx="4544640" cy="442080"/>
            <a:chOff x="686880" y="4508640"/>
            <a:chExt cx="4544640" cy="442080"/>
          </a:xfrm>
        </p:grpSpPr>
        <p:sp>
          <p:nvSpPr>
            <p:cNvPr id="428" name=""/>
            <p:cNvSpPr/>
            <p:nvPr/>
          </p:nvSpPr>
          <p:spPr>
            <a:xfrm>
              <a:off x="686880" y="4508640"/>
              <a:ext cx="156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6880" y="4689360"/>
              <a:ext cx="761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7800" y="4510080"/>
              <a:ext cx="168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12760" y="54640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e que tenga el mismo número de cada tipo de átomos en ambos lados de la ec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33520" y="41148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riba la ecuación química balanc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cantidades conocidas de sustancias en m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s coeficientes estequiométricos para calcular el número de moles de la cantidad busc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a los moles de la cantidad buscada en las unidades dese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720" y="25236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reactivos y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0" t="3039" r="0" b="0"/>
          <a:stretch/>
        </p:blipFill>
        <p:spPr>
          <a:xfrm>
            <a:off x="1295280" y="838080"/>
            <a:ext cx="6553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08040" y="420840"/>
            <a:ext cx="725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457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l Metanol hace combustión en el aire según la siguiente ec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45880" y="941400"/>
            <a:ext cx="4853160" cy="510120"/>
            <a:chOff x="2045880" y="941400"/>
            <a:chExt cx="4853160" cy="510120"/>
          </a:xfrm>
        </p:grpSpPr>
        <p:sp>
          <p:nvSpPr>
            <p:cNvPr id="438" name=""/>
            <p:cNvSpPr/>
            <p:nvPr/>
          </p:nvSpPr>
          <p:spPr>
            <a:xfrm>
              <a:off x="2045880" y="941400"/>
              <a:ext cx="48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2C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H + 3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         2CO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 + 4H</a:t>
              </a:r>
              <a:r>
                <a:rPr b="0" lang="es-ES_tradnl" sz="2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28920" y="11811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364760" y="1434960"/>
            <a:ext cx="61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 209 g de metanol se consumen en la combu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¿qué masa de agua es produc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4240" y="2409840"/>
            <a:ext cx="9040320" cy="440640"/>
            <a:chOff x="84240" y="2409840"/>
            <a:chExt cx="9040320" cy="440640"/>
          </a:xfrm>
        </p:grpSpPr>
        <p:sp>
          <p:nvSpPr>
            <p:cNvPr id="442" name=""/>
            <p:cNvSpPr/>
            <p:nvPr/>
          </p:nvSpPr>
          <p:spPr>
            <a:xfrm>
              <a:off x="84240" y="2409840"/>
              <a:ext cx="193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23840" y="2409840"/>
              <a:ext cx="176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7720" y="2409840"/>
              <a:ext cx="13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ole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8560" y="2409840"/>
              <a:ext cx="156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gramos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1932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59200" y="2590560"/>
              <a:ext cx="5335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58080" y="259056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456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72880" y="2987640"/>
            <a:ext cx="22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eficient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la 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5200" y="2971800"/>
            <a:ext cx="1773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Masa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3800" y="4373640"/>
            <a:ext cx="172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9 g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15520" y="4195800"/>
            <a:ext cx="1955160" cy="797760"/>
            <a:chOff x="2315520" y="4195800"/>
            <a:chExt cx="1955160" cy="797760"/>
          </a:xfrm>
        </p:grpSpPr>
        <p:sp>
          <p:nvSpPr>
            <p:cNvPr id="454" name=""/>
            <p:cNvSpPr/>
            <p:nvPr/>
          </p:nvSpPr>
          <p:spPr>
            <a:xfrm>
              <a:off x="2530440" y="419580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8960" y="4552920"/>
              <a:ext cx="179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32.0 g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8960" y="45784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5520" y="4362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217400" y="4191120"/>
            <a:ext cx="2056320" cy="805680"/>
            <a:chOff x="4217400" y="4191120"/>
            <a:chExt cx="2056320" cy="805680"/>
          </a:xfrm>
        </p:grpSpPr>
        <p:sp>
          <p:nvSpPr>
            <p:cNvPr id="459" name=""/>
            <p:cNvSpPr/>
            <p:nvPr/>
          </p:nvSpPr>
          <p:spPr>
            <a:xfrm>
              <a:off x="4727520" y="4191120"/>
              <a:ext cx="133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4 mol 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44640" y="4556160"/>
              <a:ext cx="170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C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0880" y="4584600"/>
              <a:ext cx="1752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17400" y="436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49600" y="4191120"/>
            <a:ext cx="2158560" cy="805680"/>
            <a:chOff x="6249600" y="4191120"/>
            <a:chExt cx="2158560" cy="805680"/>
          </a:xfrm>
        </p:grpSpPr>
        <p:grpSp>
          <p:nvGrpSpPr>
            <p:cNvPr id="464" name=""/>
            <p:cNvGrpSpPr/>
            <p:nvPr/>
          </p:nvGrpSpPr>
          <p:grpSpPr>
            <a:xfrm>
              <a:off x="6249600" y="4191120"/>
              <a:ext cx="1764000" cy="805680"/>
              <a:chOff x="6249600" y="4191120"/>
              <a:chExt cx="1764000" cy="805680"/>
            </a:xfrm>
          </p:grpSpPr>
          <p:sp>
            <p:nvSpPr>
              <p:cNvPr id="465" name=""/>
              <p:cNvSpPr/>
              <p:nvPr/>
            </p:nvSpPr>
            <p:spPr>
              <a:xfrm>
                <a:off x="6588000" y="4191120"/>
                <a:ext cx="1422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8.0 g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15360" y="4556160"/>
                <a:ext cx="1337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45846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49600" y="436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8078040" y="4356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048120" y="46483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48120" y="41911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219320" y="44197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0292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029200" y="426672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858000" y="45716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0280" y="541008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35 g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étodo científico es un procedimiento para llevar a cabo una 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581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hipótesi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explicación tentativa para un conjunto de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67840" y="5105520"/>
            <a:ext cx="3196800" cy="1066320"/>
            <a:chOff x="2967840" y="5105520"/>
            <a:chExt cx="3196800" cy="1066320"/>
          </a:xfrm>
        </p:grpSpPr>
        <p:sp>
          <p:nvSpPr>
            <p:cNvPr id="53" name=""/>
            <p:cNvSpPr/>
            <p:nvPr/>
          </p:nvSpPr>
          <p:spPr>
            <a:xfrm>
              <a:off x="2967840" y="5410080"/>
              <a:ext cx="31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probado     modifi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179280" y="1484280"/>
          <a:ext cx="87854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854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34400" y="2937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27280" y="2170080"/>
            <a:ext cx="3132720" cy="510120"/>
            <a:chOff x="827280" y="2170080"/>
            <a:chExt cx="3132720" cy="510120"/>
          </a:xfrm>
        </p:grpSpPr>
        <p:sp>
          <p:nvSpPr>
            <p:cNvPr id="479" name=""/>
            <p:cNvSpPr/>
            <p:nvPr/>
          </p:nvSpPr>
          <p:spPr>
            <a:xfrm>
              <a:off x="827280" y="2170080"/>
              <a:ext cx="31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2NO +  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2N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36560" y="2396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34320" y="32180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el reactiv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6000" y="4267080"/>
            <a:ext cx="38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es el reactivo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932360" y="0"/>
          <a:ext cx="4162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0"/>
                    <a:ext cx="4162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62120" y="115920"/>
            <a:ext cx="838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En un proceso,124 g de Al reaccionan con 601 g de Fe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5280" y="620640"/>
            <a:ext cx="3515760" cy="440640"/>
            <a:chOff x="485280" y="620640"/>
            <a:chExt cx="3515760" cy="440640"/>
          </a:xfrm>
        </p:grpSpPr>
        <p:sp>
          <p:nvSpPr>
            <p:cNvPr id="487" name=""/>
            <p:cNvSpPr/>
            <p:nvPr/>
          </p:nvSpPr>
          <p:spPr>
            <a:xfrm>
              <a:off x="485280" y="620640"/>
              <a:ext cx="3515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2Al + Fe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         Al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Arial"/>
                </a:rPr>
                <a:t> + 2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9800" y="8128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291560" y="620640"/>
            <a:ext cx="4631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Calcule la masa de A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que se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-7560" y="12682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10200" y="1268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4480" y="1268280"/>
            <a:ext cx="303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66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78040" y="144936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52568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79520" y="1268280"/>
            <a:ext cx="235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5760" y="1906560"/>
            <a:ext cx="105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8280" y="1906560"/>
            <a:ext cx="132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92640" y="19065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es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4136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59040" y="2087640"/>
            <a:ext cx="5335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215100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8320" y="190656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 Al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680" y="2881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83760" y="2703600"/>
            <a:ext cx="1791360" cy="755640"/>
            <a:chOff x="1283760" y="2703600"/>
            <a:chExt cx="1791360" cy="755640"/>
          </a:xfrm>
        </p:grpSpPr>
        <p:sp>
          <p:nvSpPr>
            <p:cNvPr id="506" name=""/>
            <p:cNvSpPr/>
            <p:nvPr/>
          </p:nvSpPr>
          <p:spPr>
            <a:xfrm>
              <a:off x="1781280" y="270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29800" y="306036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27200" y="308592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83760" y="2869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076200" y="2698920"/>
            <a:ext cx="2056320" cy="763560"/>
            <a:chOff x="3076200" y="2698920"/>
            <a:chExt cx="2056320" cy="763560"/>
          </a:xfrm>
        </p:grpSpPr>
        <p:sp>
          <p:nvSpPr>
            <p:cNvPr id="511" name=""/>
            <p:cNvSpPr/>
            <p:nvPr/>
          </p:nvSpPr>
          <p:spPr>
            <a:xfrm>
              <a:off x="3493080" y="2698920"/>
              <a:ext cx="153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8200" y="306360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80040" y="30924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76200" y="2876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82560" y="2698920"/>
            <a:ext cx="2158560" cy="805320"/>
            <a:chOff x="5182560" y="2698920"/>
            <a:chExt cx="2158560" cy="805320"/>
          </a:xfrm>
        </p:grpSpPr>
        <p:grpSp>
          <p:nvGrpSpPr>
            <p:cNvPr id="516" name=""/>
            <p:cNvGrpSpPr/>
            <p:nvPr/>
          </p:nvGrpSpPr>
          <p:grpSpPr>
            <a:xfrm>
              <a:off x="5182560" y="2698920"/>
              <a:ext cx="1881720" cy="805320"/>
              <a:chOff x="5182560" y="2698920"/>
              <a:chExt cx="1881720" cy="805320"/>
            </a:xfrm>
          </p:grpSpPr>
          <p:sp>
            <p:nvSpPr>
              <p:cNvPr id="517" name=""/>
              <p:cNvSpPr/>
              <p:nvPr/>
            </p:nvSpPr>
            <p:spPr>
              <a:xfrm>
                <a:off x="5446080" y="2698920"/>
                <a:ext cx="1618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60. g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46800" y="3063600"/>
                <a:ext cx="153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Fe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86040" y="309240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82560" y="28764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7011000" y="2863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V="1">
            <a:off x="19810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905120" y="277452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33520" y="292752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962520" y="307944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6200" y="269892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867280" y="307944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426080" y="2874960"/>
            <a:ext cx="15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7 g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02560" y="3645000"/>
            <a:ext cx="6098760" cy="440640"/>
            <a:chOff x="1402560" y="3645000"/>
            <a:chExt cx="6098760" cy="440640"/>
          </a:xfrm>
        </p:grpSpPr>
        <p:sp>
          <p:nvSpPr>
            <p:cNvPr id="530" name=""/>
            <p:cNvSpPr/>
            <p:nvPr/>
          </p:nvSpPr>
          <p:spPr>
            <a:xfrm>
              <a:off x="1402560" y="3645000"/>
              <a:ext cx="24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ara 124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18120" y="3826080"/>
              <a:ext cx="533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33800" y="3645000"/>
              <a:ext cx="256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necesita 367 g Fe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384920" y="4191120"/>
            <a:ext cx="656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tiene más F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601 g), Al es el reactivo lim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5920" y="4859280"/>
            <a:ext cx="793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reactivo limitante (Al) para calcular la cantidad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e puede for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9680" y="58644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4 g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283760" y="5686560"/>
            <a:ext cx="1791360" cy="756000"/>
            <a:chOff x="1283760" y="5686560"/>
            <a:chExt cx="1791360" cy="756000"/>
          </a:xfrm>
        </p:grpSpPr>
        <p:sp>
          <p:nvSpPr>
            <p:cNvPr id="537" name=""/>
            <p:cNvSpPr/>
            <p:nvPr/>
          </p:nvSpPr>
          <p:spPr>
            <a:xfrm>
              <a:off x="1781280" y="568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04600" y="60436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7.0 g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27200" y="606888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83760" y="5853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076200" y="5681520"/>
            <a:ext cx="2056320" cy="763920"/>
            <a:chOff x="3076200" y="5681520"/>
            <a:chExt cx="2056320" cy="763920"/>
          </a:xfrm>
        </p:grpSpPr>
        <p:sp>
          <p:nvSpPr>
            <p:cNvPr id="542" name=""/>
            <p:cNvSpPr/>
            <p:nvPr/>
          </p:nvSpPr>
          <p:spPr>
            <a:xfrm>
              <a:off x="3494160" y="5681520"/>
              <a:ext cx="146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 mol Al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88200" y="604656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2 mol 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80040" y="60753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76200" y="585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182560" y="5681520"/>
            <a:ext cx="2158560" cy="805680"/>
            <a:chOff x="5182560" y="5681520"/>
            <a:chExt cx="2158560" cy="805680"/>
          </a:xfrm>
        </p:grpSpPr>
        <p:grpSp>
          <p:nvGrpSpPr>
            <p:cNvPr id="547" name=""/>
            <p:cNvGrpSpPr/>
            <p:nvPr/>
          </p:nvGrpSpPr>
          <p:grpSpPr>
            <a:xfrm>
              <a:off x="5182560" y="5681520"/>
              <a:ext cx="1811160" cy="805680"/>
              <a:chOff x="5182560" y="5681520"/>
              <a:chExt cx="1811160" cy="805680"/>
            </a:xfrm>
          </p:grpSpPr>
          <p:sp>
            <p:nvSpPr>
              <p:cNvPr id="548" name=""/>
              <p:cNvSpPr/>
              <p:nvPr/>
            </p:nvSpPr>
            <p:spPr>
              <a:xfrm>
                <a:off x="5447160" y="5681520"/>
                <a:ext cx="1546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02. g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47880" y="6046560"/>
                <a:ext cx="146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1 mol Al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040" y="6075360"/>
                <a:ext cx="1460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182560" y="5859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011000" y="5846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V="1">
            <a:off x="19810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905120" y="575748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33520" y="5909760"/>
            <a:ext cx="99036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962520" y="6062760"/>
            <a:ext cx="99036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886200" y="5681160"/>
            <a:ext cx="990720" cy="3049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867280" y="6062760"/>
            <a:ext cx="990720" cy="304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63520" y="5857920"/>
            <a:ext cx="14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4 g A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680040" y="112536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teór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ría si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eactivo limitante reaccion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7480" y="227808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rendimiento re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la cantidad de producto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lm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obtiene de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79600" y="52038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  <a:ea typeface="Arial"/>
              </a:rPr>
              <a:t>[%]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13520" y="4797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7000" y="55594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ultado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71800" y="5407200"/>
            <a:ext cx="312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2960" y="51786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13000" y="29376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de un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3789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ndimiento porcentual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895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eor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principio unificador que explica un conjunto de hechos y/o aquellas  leyes que se basan en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 enunciado conciso de una relación entre fenómenos que es siempre  válido bajo las mism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4520" y="51055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oría at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21080" y="205740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 = masa x 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6584" r="0" b="0"/>
          <a:stretch/>
        </p:blipFill>
        <p:spPr>
          <a:xfrm>
            <a:off x="3581280" y="4648320"/>
            <a:ext cx="487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93212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todo lo que ocupa un lugar en el espacio y tien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s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forma de materia que tiene una composición dada y propiedades específicas que la distinguen de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000" y="533520"/>
            <a:ext cx="612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ím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estudio de la materia, 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s y compor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5080" y="4370400"/>
            <a:ext cx="8109000" cy="2133720"/>
            <a:chOff x="235080" y="4370400"/>
            <a:chExt cx="8109000" cy="2133720"/>
          </a:xfrm>
        </p:grpSpPr>
        <p:sp>
          <p:nvSpPr>
            <p:cNvPr id="66" name=""/>
            <p:cNvSpPr/>
            <p:nvPr/>
          </p:nvSpPr>
          <p:spPr>
            <a:xfrm>
              <a:off x="7149240" y="548784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35080" y="4373640"/>
              <a:ext cx="2259000" cy="2130480"/>
              <a:chOff x="235080" y="4373640"/>
              <a:chExt cx="2259000" cy="2130480"/>
            </a:xfrm>
          </p:grpSpPr>
          <p:sp>
            <p:nvSpPr>
              <p:cNvPr id="68" name=""/>
              <p:cNvSpPr/>
              <p:nvPr/>
            </p:nvSpPr>
            <p:spPr>
              <a:xfrm>
                <a:off x="1603080" y="522936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Agu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5080" y="4373640"/>
                <a:ext cx="1288800" cy="2130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086600" y="4370400"/>
              <a:ext cx="1257480" cy="97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3581280" y="4370400"/>
              <a:ext cx="1828800" cy="2048760"/>
              <a:chOff x="3581280" y="4370400"/>
              <a:chExt cx="1828800" cy="2048760"/>
            </a:xfrm>
          </p:grpSpPr>
          <p:sp>
            <p:nvSpPr>
              <p:cNvPr id="72" name=""/>
              <p:cNvSpPr/>
              <p:nvPr/>
            </p:nvSpPr>
            <p:spPr>
              <a:xfrm>
                <a:off x="4028400" y="59594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4370400"/>
                <a:ext cx="1828800" cy="15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5720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combinación de dos o más substancias puras en la que cada una conserva sus propiedades 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1905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mezcla homogéne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la composición  de la mezcla es la misma en cualquier p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zcla heterogéne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su composición no es igual en cualquier punto de la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17960" y="2514600"/>
            <a:ext cx="5870520" cy="1415880"/>
            <a:chOff x="3117960" y="2514600"/>
            <a:chExt cx="5870520" cy="1415880"/>
          </a:xfrm>
        </p:grpSpPr>
        <p:sp>
          <p:nvSpPr>
            <p:cNvPr id="78" name=""/>
            <p:cNvSpPr/>
            <p:nvPr/>
          </p:nvSpPr>
          <p:spPr>
            <a:xfrm>
              <a:off x="3117960" y="3098520"/>
              <a:ext cx="36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fresco, leche, soldad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7461360" y="2514600"/>
              <a:ext cx="1527120" cy="14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304920" y="5181480"/>
            <a:ext cx="6138000" cy="1341720"/>
            <a:chOff x="304920" y="5181480"/>
            <a:chExt cx="6138000" cy="1341720"/>
          </a:xfrm>
        </p:grpSpPr>
        <p:sp>
          <p:nvSpPr>
            <p:cNvPr id="81" name=""/>
            <p:cNvSpPr/>
            <p:nvPr/>
          </p:nvSpPr>
          <p:spPr>
            <a:xfrm>
              <a:off x="2519280" y="5384880"/>
              <a:ext cx="392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emento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limadura de hierro en are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0" t="40536" r="52019" b="0"/>
            <a:stretch/>
          </p:blipFill>
          <p:spPr>
            <a:xfrm>
              <a:off x="304920" y="5181480"/>
              <a:ext cx="2107800" cy="134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mponentes de una mezcla pueden ser separados media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ocesos fís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97560" y="2627280"/>
            <a:ext cx="4394160" cy="2861640"/>
            <a:chOff x="4597560" y="2627280"/>
            <a:chExt cx="4394160" cy="28616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597560" y="262728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50292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Im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900000" y="1844640"/>
          <a:ext cx="298152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44640"/>
                    <a:ext cx="2981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003320"/>
            <a:ext cx="7975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una substancia que no puede ser separada en substancias más simples por medios quí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n identificado en total 114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ncuentran naturalmente en la Tierra un total de 82 elementos. Por ejemplo: oro, aluminio, oxigeno, carbo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2 elementos han sido creados por científicos, como por ejemplo: el Americio, el Pol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7-22T05:34:44Z</dcterms:modified>
  <cp:revision>129</cp:revision>
  <dc:subject/>
  <dc:title>Presentación de PowerPoint</dc:title>
</cp:coreProperties>
</file>