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wmf" ContentType="image/x-wmf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7.wmf" ContentType="image/x-wmf"/>
  <Override PartName="/ppt/media/image12.png" ContentType="image/png"/>
  <Override PartName="/ppt/media/image29.jpeg" ContentType="image/jpeg"/>
  <Override PartName="/ppt/media/image13.wmf" ContentType="image/x-wmf"/>
  <Override PartName="/ppt/media/image8.wmf" ContentType="image/x-wmf"/>
  <Override PartName="/ppt/media/image10.png" ContentType="image/png"/>
  <Override PartName="/ppt/media/image5.wmf" ContentType="image/x-wmf"/>
  <Override PartName="/ppt/media/image31.jpeg" ContentType="image/jpeg"/>
  <Override PartName="/ppt/media/image4.png" ContentType="image/png"/>
  <Override PartName="/ppt/media/image33.png" ContentType="image/png"/>
  <Override PartName="/ppt/media/image6.wmf" ContentType="image/x-wmf"/>
  <Override PartName="/ppt/media/image34.jpeg" ContentType="image/jpeg"/>
  <Override PartName="/ppt/media/image35.png" ContentType="image/png"/>
  <Override PartName="/ppt/media/image32.jpeg" ContentType="image/jpeg"/>
  <Override PartName="/ppt/media/image20.wmf" ContentType="image/x-wmf"/>
  <Override PartName="/ppt/media/image30.png" ContentType="image/png"/>
  <Override PartName="/ppt/media/image3.jpeg" ContentType="image/jpeg"/>
  <Override PartName="/ppt/media/image2.wmf" ContentType="image/x-wmf"/>
  <Override PartName="/ppt/media/image11.png" ContentType="image/png"/>
  <Override PartName="/ppt/media/image9.jpeg" ContentType="image/jpeg"/>
  <Override PartName="/ppt/media/image1.wmf" ContentType="image/x-wmf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997-B219-4396-9D7E-480DD0E7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6DA1-08FC-4E03-9137-A48C9A4D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C423-70B5-4FD6-9AD0-5570F729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C572-2F50-4DF9-A2D3-FC3F59A6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31DA-5FB8-4E83-8CF8-A72A360B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A411-CC37-49D1-A4E6-FDC56C7D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DD8-1752-417D-B37C-3F995DBD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D709-B452-4BCE-8142-4D9A0F71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784B-F351-475B-9434-7F105EC6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6117-0CC5-4FDF-BD99-264B3C5E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04B1-8959-46D7-AB95-83F90307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2857-BA0C-465A-B9C6-90609F17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92B6-DEF3-4496-A40F-7E459334F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ímic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estudio del camb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801720"/>
          <a:ext cx="9144000" cy="50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01720"/>
                    <a:ext cx="914400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4920" y="436680"/>
          <a:ext cx="9109080" cy="52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436680"/>
                    <a:ext cx="910908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4572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compuesto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a substancia constituida por átomos de dos o más elementos químicos unidos  en proporciones fijas defin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21016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mpuestos sólo pueden ser separados en los elementos químicos que los forman mediante medios quím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90440" y="3505320"/>
            <a:ext cx="8724960" cy="2996640"/>
            <a:chOff x="190440" y="3505320"/>
            <a:chExt cx="8724960" cy="2996640"/>
          </a:xfrm>
        </p:grpSpPr>
        <p:grpSp>
          <p:nvGrpSpPr>
            <p:cNvPr id="97" name=""/>
            <p:cNvGrpSpPr/>
            <p:nvPr/>
          </p:nvGrpSpPr>
          <p:grpSpPr>
            <a:xfrm>
              <a:off x="190440" y="3505320"/>
              <a:ext cx="8724960" cy="2993400"/>
              <a:chOff x="190440" y="3505320"/>
              <a:chExt cx="8724960" cy="2993400"/>
            </a:xfrm>
          </p:grpSpPr>
          <p:sp>
            <p:nvSpPr>
              <p:cNvPr id="98" name=""/>
              <p:cNvSpPr/>
              <p:nvPr/>
            </p:nvSpPr>
            <p:spPr>
              <a:xfrm>
                <a:off x="1799280" y="3505320"/>
                <a:ext cx="1736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Agua (H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O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292000" y="3505320"/>
                <a:ext cx="2660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Glucosa (C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434760" y="4190760"/>
                <a:ext cx="236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Amoniaco (NH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440" y="3911400"/>
                <a:ext cx="1565280" cy="258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57920" y="4063680"/>
                <a:ext cx="1257480" cy="977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3771720" y="4690800"/>
              <a:ext cx="1957680" cy="1811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1407960"/>
          <a:ext cx="9144000" cy="545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7960"/>
                    <a:ext cx="91440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187280" y="260280"/>
          <a:ext cx="6983640" cy="92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260280"/>
                    <a:ext cx="698364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380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lasificación de la ma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6320" y="1711440"/>
          <a:ext cx="8915400" cy="33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711440"/>
                    <a:ext cx="891540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459160" y="358920"/>
            <a:ext cx="42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tres estados de la ma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981080" y="1219320"/>
            <a:ext cx="5257800" cy="5333760"/>
            <a:chOff x="1981080" y="1219320"/>
            <a:chExt cx="5257800" cy="53337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rcRect l="13542" t="2780" r="14581" b="0"/>
            <a:stretch/>
          </p:blipFill>
          <p:spPr>
            <a:xfrm>
              <a:off x="1981080" y="1219320"/>
              <a:ext cx="525780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876280" y="5511960"/>
              <a:ext cx="102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Sóli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36960" y="5562720"/>
              <a:ext cx="117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Líqui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90760" y="156384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9907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ambio físico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altera la estructura o la identidad de una substa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8954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ambio quím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ltera la estructura o la identidad de las substancias involucr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62120" y="3765600"/>
            <a:ext cx="7390800" cy="2695320"/>
            <a:chOff x="762120" y="3765600"/>
            <a:chExt cx="7390800" cy="269532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rcRect l="0" t="13748" r="0" b="0"/>
            <a:stretch/>
          </p:blipFill>
          <p:spPr>
            <a:xfrm>
              <a:off x="3987720" y="3765600"/>
              <a:ext cx="416520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62120" y="4701960"/>
              <a:ext cx="2742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El hidrógeno arde  en el aire para  formar agu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274120" y="380880"/>
            <a:ext cx="45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Cambios físicos o químic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7400" y="1981080"/>
            <a:ext cx="69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fusión del hielo            Ázucar disuelta en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0880" y="8380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opiedad extensiv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una substancia </a:t>
            </a: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depend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 cantidad total de materia consider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36576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opiedad intensiv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un material </a:t>
            </a: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no depend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 cantidad total de materia consider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1828800"/>
            <a:ext cx="198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62000" y="487980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n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40680" y="192240"/>
            <a:ext cx="54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piedades extensivas e intens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02200" y="2227320"/>
            <a:ext cx="1550880" cy="1079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952880" y="4800600"/>
            <a:ext cx="165744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2286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teria  - todo lo que ocupa un lugar en el espacio y  tiene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ma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97080"/>
            <a:ext cx="7925040" cy="13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Ma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medida de la cantidad de ma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SI, la unidad de masa es el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kilogram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kg = 1000 g = 1 x 1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048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es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es el resultado de la fuerza que la gravedad ejerce sobre la masa de un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19040" y="4394160"/>
            <a:ext cx="5122800" cy="1841400"/>
            <a:chOff x="419040" y="4394160"/>
            <a:chExt cx="5122800" cy="1841400"/>
          </a:xfrm>
        </p:grpSpPr>
        <p:grpSp>
          <p:nvGrpSpPr>
            <p:cNvPr id="135" name=""/>
            <p:cNvGrpSpPr/>
            <p:nvPr/>
          </p:nvGrpSpPr>
          <p:grpSpPr>
            <a:xfrm>
              <a:off x="419040" y="4394160"/>
              <a:ext cx="2732760" cy="1551960"/>
              <a:chOff x="419040" y="4394160"/>
              <a:chExt cx="2732760" cy="1551960"/>
            </a:xfrm>
          </p:grpSpPr>
          <p:sp>
            <p:nvSpPr>
              <p:cNvPr id="136" name=""/>
              <p:cNvSpPr/>
              <p:nvPr/>
            </p:nvSpPr>
            <p:spPr>
              <a:xfrm>
                <a:off x="611640" y="4394160"/>
                <a:ext cx="24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peso = </a:t>
                </a:r>
                <a:r>
                  <a:rPr b="0" i="1" lang="es-ES_tradnl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x mas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9040" y="4952880"/>
                <a:ext cx="271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en la tierra, </a:t>
                </a:r>
                <a:r>
                  <a:rPr b="0" i="1" lang="es-ES_tradnl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= 1.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0520" y="5486400"/>
                <a:ext cx="268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en la  luna, </a:t>
                </a:r>
                <a:r>
                  <a:rPr b="0" i="1" lang="es-ES_tradnl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~ 0.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3726000" y="4724280"/>
              <a:ext cx="18158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"/>
          <p:cNvGrpSpPr/>
          <p:nvPr/>
        </p:nvGrpSpPr>
        <p:grpSpPr>
          <a:xfrm>
            <a:off x="5412600" y="4448160"/>
            <a:ext cx="3722400" cy="1551960"/>
            <a:chOff x="5412600" y="4448160"/>
            <a:chExt cx="3722400" cy="1551960"/>
          </a:xfrm>
        </p:grpSpPr>
        <p:sp>
          <p:nvSpPr>
            <p:cNvPr id="141" name=""/>
            <p:cNvSpPr/>
            <p:nvPr/>
          </p:nvSpPr>
          <p:spPr>
            <a:xfrm>
              <a:off x="5412600" y="4448160"/>
              <a:ext cx="372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Una barra de 1 kg pesará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45200" y="5006880"/>
              <a:ext cx="22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1 kg en la tier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86080" y="554040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0.1 kg en la lu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80880" y="243000"/>
          <a:ext cx="8305920" cy="64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43000"/>
                    <a:ext cx="830592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320" y="685800"/>
            <a:ext cx="60958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teriales y 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meros, cerámicos y cristales líq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perconductores a temperatura ambien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omputación molecul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4208400"/>
            <a:ext cx="5356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gricultura y ali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ltivos modificados genét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sticidas “natur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ertilizantes especi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5440" y="838080"/>
            <a:ext cx="2587680" cy="1632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080" y="3701880"/>
            <a:ext cx="22860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11280" y="144684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primeros descubrimientos quí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2619360"/>
            <a:ext cx="8002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voisier 177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y de conservación de la ma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2720" y="314172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ust 17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Ley de la composición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2720" y="3716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ton 1803-188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Teoría ató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52480" y="619560"/>
            <a:ext cx="55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teoría atómica de Da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413000"/>
            <a:ext cx="8686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elemento se compone de partículas diminutas denominadas áto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1480" y="2349360"/>
            <a:ext cx="8318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átomos no pueden ni crearse ni destruirse durante una transformación quí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3284640"/>
            <a:ext cx="8353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los átomos de un elemento son semej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3933720"/>
            <a:ext cx="8209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mpuestos se forman cuando los átomos de            diferentes elementos se combin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62120" y="425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ecuencias de la teoría de Da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9520" y="1558800"/>
            <a:ext cx="7772400" cy="41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733840"/>
            <a:ext cx="5329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formación de monóxido de carbono, 1,33 g de oxígeno se combina con 1,0 g de carbon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3720" y="134136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Ley de las proporciones definidas: las combinaciones de elementos están en una relación de números enteros senci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867280" y="2743200"/>
          <a:ext cx="256068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743200"/>
                    <a:ext cx="25606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95280" y="4511520"/>
            <a:ext cx="4967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formación de dióxido de carbono, 2,66 g de oxígeno se combina con 1,0 g de hidr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2482920" y="1413000"/>
          <a:ext cx="4249800" cy="15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2920" y="1413000"/>
                    <a:ext cx="424980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14480" y="3049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reacción químic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es un proceso en el que una o más substancias se transforman en una o más nuevas susta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9080" y="3554280"/>
          <a:ext cx="6912000" cy="267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9080" y="3554280"/>
                    <a:ext cx="691200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00200" y="476280"/>
            <a:ext cx="797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cu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química emplea símbolos químicos para mostrar lo que ocurre en una reacción 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31640" y="2133720"/>
            <a:ext cx="831708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ecuaciones quí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89000" y="1346040"/>
            <a:ext cx="331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g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2 M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05320" y="1585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209680"/>
            <a:ext cx="914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átomos de Mg + 1 molécula d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an 2 fórmulas unitarias de M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oles de Mg + 1 mol d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an 2 moles de M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.6 gramos de Mg + 32.0 gramos d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an 80.6 g M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0" y="5495760"/>
            <a:ext cx="614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gramos Mg + 1 gramo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man 2 g M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90920" y="47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SE L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64080" y="3100320"/>
            <a:ext cx="392220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defini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átomo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 “pesa” 12 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91120" y="611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16280" y="43578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sta esca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 = 1.008 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 = 16.00 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3508200"/>
            <a:ext cx="3314880" cy="2441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80880" y="173196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masa atómic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la masa de un átomo en unidades de masa atómica (u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5280" y="189000"/>
            <a:ext cx="290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cro-m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Átomos y molé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0600" y="189000"/>
            <a:ext cx="20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cro-m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r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39640" y="18900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mo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la cantidad de sustancia que contiene tantos átomos como hay en exactamente 12.00 gramos de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680" y="1413000"/>
            <a:ext cx="425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mol =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 6.0221367 x 1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39280" y="1413000"/>
            <a:ext cx="40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número de Avogadro (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21480" y="2276640"/>
            <a:ext cx="660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uma = 1.66 x 1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-24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  o 1 g = 6.022 x 1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3068640"/>
            <a:ext cx="797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masa mol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la masa atómica o molecular expresada en gr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424008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mol de átomos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 = 12.00 g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mol de átomos de litio = 6.941 g de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5608800"/>
            <a:ext cx="7734240" cy="869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cualquier el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sa atómica (uma) = masa molar (gra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977760" y="1663560"/>
            <a:ext cx="3048120" cy="1703880"/>
            <a:chOff x="977760" y="1663560"/>
            <a:chExt cx="3048120" cy="170388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977760" y="1663560"/>
              <a:ext cx="3048120" cy="16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094120" y="2857320"/>
              <a:ext cx="72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002200" y="1816200"/>
            <a:ext cx="3454920" cy="510480"/>
            <a:chOff x="5002200" y="1816200"/>
            <a:chExt cx="3454920" cy="510480"/>
          </a:xfrm>
        </p:grpSpPr>
        <p:sp>
          <p:nvSpPr>
            <p:cNvPr id="193" name=""/>
            <p:cNvSpPr/>
            <p:nvPr/>
          </p:nvSpPr>
          <p:spPr>
            <a:xfrm>
              <a:off x="5002200" y="181620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1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36040" y="18669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32.07 u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065560" y="2349360"/>
            <a:ext cx="3683160" cy="459720"/>
            <a:chOff x="5065560" y="2349360"/>
            <a:chExt cx="3683160" cy="459720"/>
          </a:xfrm>
        </p:grpSpPr>
        <p:sp>
          <p:nvSpPr>
            <p:cNvPr id="196" name=""/>
            <p:cNvSpPr/>
            <p:nvPr/>
          </p:nvSpPr>
          <p:spPr>
            <a:xfrm>
              <a:off x="5065560" y="234936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2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66000" y="2349360"/>
              <a:ext cx="246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+ 2 x 16.00 um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81840" y="2755800"/>
              <a:ext cx="26668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940640" y="2806560"/>
            <a:ext cx="3532680" cy="510120"/>
            <a:chOff x="4940640" y="2806560"/>
            <a:chExt cx="3532680" cy="510120"/>
          </a:xfrm>
        </p:grpSpPr>
        <p:sp>
          <p:nvSpPr>
            <p:cNvPr id="200" name=""/>
            <p:cNvSpPr/>
            <p:nvPr/>
          </p:nvSpPr>
          <p:spPr>
            <a:xfrm>
              <a:off x="4940640" y="2806560"/>
              <a:ext cx="72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2240" y="28209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64.07 u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920880" y="4025880"/>
            <a:ext cx="7734240" cy="869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cualquier molé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sa molecular (uma) = masa molar (gra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35920" y="5445000"/>
            <a:ext cx="406692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molécula S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 64.07 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mol S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 64.07 g S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4040" y="279360"/>
            <a:ext cx="80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Masa molecul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o peso molecular) es la suma de m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ómicas (en uma) de los elementos de una moléc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71640" y="476280"/>
            <a:ext cx="72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¿Cuántos átomos de H hay en 72.5 g of 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Arial"/>
              </a:rPr>
              <a:t>8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20120" y="1628640"/>
            <a:ext cx="707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mol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 = (3 x 12) + (8 x 1) + 16 = 60 g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162160" y="2898720"/>
            <a:ext cx="45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mol H = 6.022 x 1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átomos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92920" y="4676760"/>
            <a:ext cx="34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5.82 x 1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4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átomos d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3800" y="2289240"/>
            <a:ext cx="624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mol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 moléculas = 8 mol átomos d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0640" y="3851280"/>
            <a:ext cx="168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72.5 g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190240" y="3684600"/>
            <a:ext cx="1763640" cy="797760"/>
            <a:chOff x="2190240" y="3684600"/>
            <a:chExt cx="1763640" cy="797760"/>
          </a:xfrm>
        </p:grpSpPr>
        <p:sp>
          <p:nvSpPr>
            <p:cNvPr id="212" name=""/>
            <p:cNvSpPr/>
            <p:nvPr/>
          </p:nvSpPr>
          <p:spPr>
            <a:xfrm>
              <a:off x="2349720" y="3684600"/>
              <a:ext cx="1604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C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14880" y="4041720"/>
              <a:ext cx="1477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60 g C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6840" y="4067280"/>
              <a:ext cx="1447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90240" y="385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88720" y="3673440"/>
            <a:ext cx="2185920" cy="806040"/>
            <a:chOff x="3888720" y="3673440"/>
            <a:chExt cx="2185920" cy="806040"/>
          </a:xfrm>
        </p:grpSpPr>
        <p:sp>
          <p:nvSpPr>
            <p:cNvPr id="217" name=""/>
            <p:cNvSpPr/>
            <p:nvPr/>
          </p:nvSpPr>
          <p:spPr>
            <a:xfrm>
              <a:off x="4112280" y="3673440"/>
              <a:ext cx="196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8 mol átomos 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19560" y="4038840"/>
              <a:ext cx="1604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C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8840" y="4067280"/>
              <a:ext cx="1752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88720" y="385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844600" y="3673440"/>
            <a:ext cx="2918880" cy="764280"/>
            <a:chOff x="5844600" y="3673440"/>
            <a:chExt cx="2918880" cy="764280"/>
          </a:xfrm>
        </p:grpSpPr>
        <p:sp>
          <p:nvSpPr>
            <p:cNvPr id="222" name=""/>
            <p:cNvSpPr/>
            <p:nvPr/>
          </p:nvSpPr>
          <p:spPr>
            <a:xfrm>
              <a:off x="5976000" y="3673440"/>
              <a:ext cx="269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6.022 x 10</a:t>
              </a:r>
              <a:r>
                <a:rPr b="0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átomos 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41040" y="4038840"/>
              <a:ext cx="196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átomos 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84720" y="4067280"/>
              <a:ext cx="2374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44600" y="385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433360" y="38642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flipV="1">
            <a:off x="1220760" y="3914280"/>
            <a:ext cx="990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820960" y="4067280"/>
            <a:ext cx="99072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744640" y="3685680"/>
            <a:ext cx="990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649760" y="4067280"/>
            <a:ext cx="99072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497480" y="3685680"/>
            <a:ext cx="9903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859440" y="4067280"/>
            <a:ext cx="99072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304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estudio de la quí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4412" r="0" b="0"/>
          <a:stretch/>
        </p:blipFill>
        <p:spPr>
          <a:xfrm>
            <a:off x="152280" y="2344680"/>
            <a:ext cx="8839440" cy="3675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3840" y="160020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acroscóp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48240" y="160020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croscóp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71520" y="279360"/>
            <a:ext cx="82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masa formul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la suma de las masas atómicas (en uma) en una fórmula unitaria de un compuesto ión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4191120"/>
            <a:ext cx="7734240" cy="869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cualquier compuesto i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sa de la fórmula (uma) = masa molar (gra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32560" y="5460840"/>
            <a:ext cx="5085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fórmula unitaria NaCl = 58.44 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mol NaCl = 58.44 g NaC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11280" y="1341360"/>
            <a:ext cx="3565800" cy="2514600"/>
            <a:chOff x="611280" y="1341360"/>
            <a:chExt cx="3565800" cy="251460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rcRect l="0" t="35003" r="69692" b="23747"/>
            <a:stretch/>
          </p:blipFill>
          <p:spPr>
            <a:xfrm>
              <a:off x="611280" y="1341360"/>
              <a:ext cx="24634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3321360" y="224460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076720" y="1763640"/>
            <a:ext cx="3004200" cy="510480"/>
            <a:chOff x="5076720" y="1763640"/>
            <a:chExt cx="3004200" cy="510480"/>
          </a:xfrm>
        </p:grpSpPr>
        <p:sp>
          <p:nvSpPr>
            <p:cNvPr id="240" name=""/>
            <p:cNvSpPr/>
            <p:nvPr/>
          </p:nvSpPr>
          <p:spPr>
            <a:xfrm>
              <a:off x="5076720" y="1763640"/>
              <a:ext cx="92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1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59840" y="181440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22.99 u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079960" y="2355840"/>
            <a:ext cx="3245400" cy="465840"/>
            <a:chOff x="5079960" y="2355840"/>
            <a:chExt cx="3245400" cy="465840"/>
          </a:xfrm>
        </p:grpSpPr>
        <p:sp>
          <p:nvSpPr>
            <p:cNvPr id="243" name=""/>
            <p:cNvSpPr/>
            <p:nvPr/>
          </p:nvSpPr>
          <p:spPr>
            <a:xfrm>
              <a:off x="5079960" y="2355840"/>
              <a:ext cx="63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1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55440" y="2361960"/>
              <a:ext cx="196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+  35.45 u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29000" y="2762280"/>
              <a:ext cx="21225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080680" y="2813040"/>
            <a:ext cx="3000240" cy="474120"/>
            <a:chOff x="5080680" y="2813040"/>
            <a:chExt cx="3000240" cy="474120"/>
          </a:xfrm>
        </p:grpSpPr>
        <p:sp>
          <p:nvSpPr>
            <p:cNvPr id="247" name=""/>
            <p:cNvSpPr/>
            <p:nvPr/>
          </p:nvSpPr>
          <p:spPr>
            <a:xfrm>
              <a:off x="5080680" y="281304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59840" y="282744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58.44 u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rcRect l="0" t="4501" r="0" b="0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84000" y="5232240"/>
            <a:ext cx="246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 = 1/2 x m x 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(2 x Ec/m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q x v x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867280" y="4724280"/>
            <a:ext cx="2590920" cy="19368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6568920" y="192240"/>
            <a:ext cx="1488600" cy="4157640"/>
            <a:chOff x="6568920" y="192240"/>
            <a:chExt cx="1488600" cy="4157640"/>
          </a:xfrm>
        </p:grpSpPr>
        <p:grpSp>
          <p:nvGrpSpPr>
            <p:cNvPr id="253" name=""/>
            <p:cNvGrpSpPr/>
            <p:nvPr/>
          </p:nvGrpSpPr>
          <p:grpSpPr>
            <a:xfrm>
              <a:off x="7597800" y="192240"/>
              <a:ext cx="459720" cy="1604880"/>
              <a:chOff x="7597800" y="192240"/>
              <a:chExt cx="459720" cy="1604880"/>
            </a:xfrm>
          </p:grpSpPr>
          <p:sp>
            <p:nvSpPr>
              <p:cNvPr id="254" name=""/>
              <p:cNvSpPr/>
              <p:nvPr/>
            </p:nvSpPr>
            <p:spPr>
              <a:xfrm rot="16200000">
                <a:off x="7314120" y="4755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iger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805520" y="126396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568920" y="2745000"/>
              <a:ext cx="459720" cy="1604880"/>
              <a:chOff x="6568920" y="2745000"/>
              <a:chExt cx="459720" cy="1604880"/>
            </a:xfrm>
          </p:grpSpPr>
          <p:sp>
            <p:nvSpPr>
              <p:cNvPr id="257" name=""/>
              <p:cNvSpPr/>
              <p:nvPr/>
            </p:nvSpPr>
            <p:spPr>
              <a:xfrm rot="16200000">
                <a:off x="6285240" y="302832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iger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776640" y="381672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7470720" y="47520"/>
            <a:ext cx="1362960" cy="5751360"/>
            <a:chOff x="7470720" y="47520"/>
            <a:chExt cx="1362960" cy="5751360"/>
          </a:xfrm>
        </p:grpSpPr>
        <p:grpSp>
          <p:nvGrpSpPr>
            <p:cNvPr id="260" name=""/>
            <p:cNvGrpSpPr/>
            <p:nvPr/>
          </p:nvGrpSpPr>
          <p:grpSpPr>
            <a:xfrm>
              <a:off x="8373960" y="47520"/>
              <a:ext cx="459720" cy="1792080"/>
              <a:chOff x="8373960" y="47520"/>
              <a:chExt cx="459720" cy="1792080"/>
            </a:xfrm>
          </p:grpSpPr>
          <p:sp>
            <p:nvSpPr>
              <p:cNvPr id="261" name=""/>
              <p:cNvSpPr/>
              <p:nvPr/>
            </p:nvSpPr>
            <p:spPr>
              <a:xfrm rot="16200000">
                <a:off x="7997400" y="423720"/>
                <a:ext cx="121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esa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581680" y="130644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470720" y="4010040"/>
              <a:ext cx="459720" cy="1788840"/>
              <a:chOff x="7470720" y="4010040"/>
              <a:chExt cx="459720" cy="1788840"/>
            </a:xfrm>
          </p:grpSpPr>
          <p:sp>
            <p:nvSpPr>
              <p:cNvPr id="264" name=""/>
              <p:cNvSpPr/>
              <p:nvPr/>
            </p:nvSpPr>
            <p:spPr>
              <a:xfrm rot="16200000">
                <a:off x="7094160" y="4386240"/>
                <a:ext cx="121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esa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78440" y="526572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08000" y="2602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mposición porcentua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un elemento en un compuesto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755720" y="1125360"/>
            <a:ext cx="5928480" cy="876960"/>
            <a:chOff x="1755720" y="1125360"/>
            <a:chExt cx="5928480" cy="876960"/>
          </a:xfrm>
        </p:grpSpPr>
        <p:sp>
          <p:nvSpPr>
            <p:cNvPr id="268" name=""/>
            <p:cNvSpPr/>
            <p:nvPr/>
          </p:nvSpPr>
          <p:spPr>
            <a:xfrm>
              <a:off x="1755720" y="1125360"/>
              <a:ext cx="409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x masa molar del ele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44640" y="1542600"/>
              <a:ext cx="383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masa molar del compues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68320" y="1568160"/>
              <a:ext cx="4267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60240" y="1314000"/>
              <a:ext cx="162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x 10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80880" y="24955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el número de moles del elemento en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1 mo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l 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76320" y="3805200"/>
            <a:ext cx="3200400" cy="2542320"/>
            <a:chOff x="76320" y="3805200"/>
            <a:chExt cx="3200400" cy="254232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76320" y="3805200"/>
              <a:ext cx="3200400" cy="20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069920" y="583740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735360" y="3511440"/>
            <a:ext cx="5267160" cy="828000"/>
            <a:chOff x="3735360" y="3511440"/>
            <a:chExt cx="5267160" cy="828000"/>
          </a:xfrm>
        </p:grpSpPr>
        <p:sp>
          <p:nvSpPr>
            <p:cNvPr id="277" name=""/>
            <p:cNvSpPr/>
            <p:nvPr/>
          </p:nvSpPr>
          <p:spPr>
            <a:xfrm>
              <a:off x="3735360" y="3688920"/>
              <a:ext cx="9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%C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85680" y="351144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x (12.01 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34520" y="387972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23120" y="3688920"/>
              <a:ext cx="257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x 100% = 52.14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60920" y="394308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735360" y="4260960"/>
            <a:ext cx="5267160" cy="828000"/>
            <a:chOff x="3735360" y="4260960"/>
            <a:chExt cx="5267160" cy="828000"/>
          </a:xfrm>
        </p:grpSpPr>
        <p:sp>
          <p:nvSpPr>
            <p:cNvPr id="283" name=""/>
            <p:cNvSpPr/>
            <p:nvPr/>
          </p:nvSpPr>
          <p:spPr>
            <a:xfrm>
              <a:off x="3735360" y="4438440"/>
              <a:ext cx="9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%H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85680" y="426096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x (1.008 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34520" y="46292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23120" y="4438440"/>
              <a:ext cx="257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x 100% = 13.13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60920" y="469260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734280" y="5022720"/>
            <a:ext cx="5268240" cy="828000"/>
            <a:chOff x="3734280" y="5022720"/>
            <a:chExt cx="5268240" cy="828000"/>
          </a:xfrm>
        </p:grpSpPr>
        <p:sp>
          <p:nvSpPr>
            <p:cNvPr id="289" name=""/>
            <p:cNvSpPr/>
            <p:nvPr/>
          </p:nvSpPr>
          <p:spPr>
            <a:xfrm>
              <a:off x="3734280" y="5200200"/>
              <a:ext cx="9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%O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85680" y="502272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x (16.00 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34520" y="53910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23120" y="5200200"/>
              <a:ext cx="257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x 100% = 34.73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60920" y="545436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645720" y="592452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52.14% + 13.13% + 34.73% = 100.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330920" y="192240"/>
            <a:ext cx="63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sición porcentual y fórmulas empí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9880" y="73332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etermine la fórmula de un compuesto que tiene la siguiente composición porcentual en peso:           24.75 % K,  34.77 % Mn, 40.51 %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986560" y="2890800"/>
            <a:ext cx="5670360" cy="784800"/>
            <a:chOff x="2986560" y="2890800"/>
            <a:chExt cx="5670360" cy="784800"/>
          </a:xfrm>
        </p:grpSpPr>
        <p:sp>
          <p:nvSpPr>
            <p:cNvPr id="298" name=""/>
            <p:cNvSpPr/>
            <p:nvPr/>
          </p:nvSpPr>
          <p:spPr>
            <a:xfrm>
              <a:off x="2986560" y="3059280"/>
              <a:ext cx="206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= 24.75 g K x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58640" y="3071880"/>
              <a:ext cx="189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 0.6330 mol 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5329440" y="2890800"/>
              <a:ext cx="1467360" cy="784800"/>
              <a:chOff x="5329440" y="2890800"/>
              <a:chExt cx="1467360" cy="784800"/>
            </a:xfrm>
          </p:grpSpPr>
          <p:sp>
            <p:nvSpPr>
              <p:cNvPr id="301" name=""/>
              <p:cNvSpPr/>
              <p:nvPr/>
            </p:nvSpPr>
            <p:spPr>
              <a:xfrm>
                <a:off x="5464800" y="2890800"/>
                <a:ext cx="1041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1 mol 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329440" y="3276720"/>
                <a:ext cx="126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39.10 g 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349600" y="3254400"/>
                <a:ext cx="144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2928960" y="4073400"/>
            <a:ext cx="5797440" cy="784800"/>
            <a:chOff x="2928960" y="4073400"/>
            <a:chExt cx="5797440" cy="784800"/>
          </a:xfrm>
        </p:grpSpPr>
        <p:sp>
          <p:nvSpPr>
            <p:cNvPr id="305" name=""/>
            <p:cNvSpPr/>
            <p:nvPr/>
          </p:nvSpPr>
          <p:spPr>
            <a:xfrm>
              <a:off x="2928960" y="4241880"/>
              <a:ext cx="2358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Mn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= 34.77 g Mn x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43800" y="4254480"/>
              <a:ext cx="20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 0.6329 mol M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5640" y="4073400"/>
              <a:ext cx="122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M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36920" y="4459320"/>
              <a:ext cx="145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54.94 g M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35480" y="443700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244320" y="5154480"/>
            <a:ext cx="5621400" cy="784440"/>
            <a:chOff x="3244320" y="5154480"/>
            <a:chExt cx="5621400" cy="784440"/>
          </a:xfrm>
        </p:grpSpPr>
        <p:sp>
          <p:nvSpPr>
            <p:cNvPr id="311" name=""/>
            <p:cNvSpPr/>
            <p:nvPr/>
          </p:nvSpPr>
          <p:spPr>
            <a:xfrm>
              <a:off x="3244320" y="5322600"/>
              <a:ext cx="2111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= 40.51 g O x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80120" y="5335200"/>
              <a:ext cx="178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 2.532 mol 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86400" y="5154480"/>
              <a:ext cx="107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76240" y="5540040"/>
              <a:ext cx="12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6.00 g 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98840" y="551808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 flipV="1">
            <a:off x="4572000" y="3200040"/>
            <a:ext cx="5335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248520" y="3428640"/>
            <a:ext cx="5331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297320" y="4406760"/>
            <a:ext cx="533520" cy="152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126120" y="4559040"/>
            <a:ext cx="5335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73720" y="5492520"/>
            <a:ext cx="5331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6226200" y="5644800"/>
            <a:ext cx="5335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82440" y="1484280"/>
          <a:ext cx="290520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" y="1484280"/>
                    <a:ext cx="290520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4532040" y="2244600"/>
            <a:ext cx="2467440" cy="814680"/>
            <a:chOff x="4532040" y="2244600"/>
            <a:chExt cx="2467440" cy="814680"/>
          </a:xfrm>
        </p:grpSpPr>
        <p:sp>
          <p:nvSpPr>
            <p:cNvPr id="325" name=""/>
            <p:cNvSpPr/>
            <p:nvPr/>
          </p:nvSpPr>
          <p:spPr>
            <a:xfrm>
              <a:off x="4532040" y="2436840"/>
              <a:ext cx="56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K 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6223320" y="2397240"/>
              <a:ext cx="336240" cy="498600"/>
              <a:chOff x="6223320" y="2397240"/>
              <a:chExt cx="336240" cy="498600"/>
            </a:xfrm>
          </p:grpSpPr>
          <p:sp>
            <p:nvSpPr>
              <p:cNvPr id="327" name=""/>
              <p:cNvSpPr/>
              <p:nvPr/>
            </p:nvSpPr>
            <p:spPr>
              <a:xfrm>
                <a:off x="6229440" y="239724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223320" y="249696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6465240" y="24382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5128920" y="2244600"/>
              <a:ext cx="1066680" cy="814680"/>
              <a:chOff x="5128920" y="2244600"/>
              <a:chExt cx="1066680" cy="814680"/>
            </a:xfrm>
          </p:grpSpPr>
          <p:sp>
            <p:nvSpPr>
              <p:cNvPr id="331" name=""/>
              <p:cNvSpPr/>
              <p:nvPr/>
            </p:nvSpPr>
            <p:spPr>
              <a:xfrm>
                <a:off x="5183280" y="22446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0.633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181840" y="26604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0.632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28920" y="263340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"/>
          <p:cNvGrpSpPr/>
          <p:nvPr/>
        </p:nvGrpSpPr>
        <p:grpSpPr>
          <a:xfrm>
            <a:off x="4433040" y="3179880"/>
            <a:ext cx="2515320" cy="814320"/>
            <a:chOff x="4433040" y="3179880"/>
            <a:chExt cx="2515320" cy="814320"/>
          </a:xfrm>
        </p:grpSpPr>
        <p:sp>
          <p:nvSpPr>
            <p:cNvPr id="335" name=""/>
            <p:cNvSpPr/>
            <p:nvPr/>
          </p:nvSpPr>
          <p:spPr>
            <a:xfrm>
              <a:off x="4433040" y="3371760"/>
              <a:ext cx="74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Mn 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5137200" y="3179880"/>
              <a:ext cx="1066680" cy="814320"/>
              <a:chOff x="5137200" y="3179880"/>
              <a:chExt cx="1066680" cy="814320"/>
            </a:xfrm>
          </p:grpSpPr>
          <p:sp>
            <p:nvSpPr>
              <p:cNvPr id="337" name=""/>
              <p:cNvSpPr/>
              <p:nvPr/>
            </p:nvSpPr>
            <p:spPr>
              <a:xfrm>
                <a:off x="5191560" y="317988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0.632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90120" y="359532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0.632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137200" y="356832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6194520" y="3367080"/>
              <a:ext cx="75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 1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521600" y="4114800"/>
            <a:ext cx="2486160" cy="814680"/>
            <a:chOff x="4521600" y="4114800"/>
            <a:chExt cx="2486160" cy="814680"/>
          </a:xfrm>
        </p:grpSpPr>
        <p:sp>
          <p:nvSpPr>
            <p:cNvPr id="342" name=""/>
            <p:cNvSpPr/>
            <p:nvPr/>
          </p:nvSpPr>
          <p:spPr>
            <a:xfrm>
              <a:off x="4521600" y="4307040"/>
              <a:ext cx="58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 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6214320" y="4267440"/>
              <a:ext cx="336240" cy="498600"/>
              <a:chOff x="6214320" y="4267440"/>
              <a:chExt cx="336240" cy="498600"/>
            </a:xfrm>
          </p:grpSpPr>
          <p:sp>
            <p:nvSpPr>
              <p:cNvPr id="344" name=""/>
              <p:cNvSpPr/>
              <p:nvPr/>
            </p:nvSpPr>
            <p:spPr>
              <a:xfrm>
                <a:off x="6220440" y="426744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214320" y="436716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6473520" y="43084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5119560" y="4114800"/>
              <a:ext cx="1066680" cy="814680"/>
              <a:chOff x="5119560" y="4114800"/>
              <a:chExt cx="1066680" cy="814680"/>
            </a:xfrm>
          </p:grpSpPr>
          <p:sp>
            <p:nvSpPr>
              <p:cNvPr id="348" name=""/>
              <p:cNvSpPr/>
              <p:nvPr/>
            </p:nvSpPr>
            <p:spPr>
              <a:xfrm>
                <a:off x="5247000" y="411480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2.53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172480" y="45306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0.632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119560" y="4503600"/>
                <a:ext cx="1066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1" name=""/>
          <p:cNvSpPr/>
          <p:nvPr/>
        </p:nvSpPr>
        <p:spPr>
          <a:xfrm>
            <a:off x="5219640" y="1054080"/>
            <a:ext cx="2089080" cy="790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53840" y="5560920"/>
            <a:ext cx="98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46920" y="407880"/>
            <a:ext cx="63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sición porcentual y fórmulas empí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92360" y="1197000"/>
            <a:ext cx="5486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0.6330,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M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0.6329,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2.5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50920" y="1628640"/>
          <a:ext cx="2905200" cy="43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28640"/>
                    <a:ext cx="290520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5148360" y="5516640"/>
            <a:ext cx="1224000" cy="5763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lanceo de ecuaciones quí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99072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criba la(s) fórmula(s) correctas para los reactivos en el lado izquierdo de la ecuación y la(s) fórmula(s) correcta(s) de los productos del lado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1560" y="2743200"/>
            <a:ext cx="861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El etano reacciona con oxígeno y produce dióxido de carbo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y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307240" y="3546360"/>
            <a:ext cx="4165200" cy="511920"/>
            <a:chOff x="2307240" y="3546360"/>
            <a:chExt cx="4165200" cy="511920"/>
          </a:xfrm>
        </p:grpSpPr>
        <p:sp>
          <p:nvSpPr>
            <p:cNvPr id="362" name=""/>
            <p:cNvSpPr/>
            <p:nvPr/>
          </p:nvSpPr>
          <p:spPr>
            <a:xfrm>
              <a:off x="2307240" y="3546360"/>
              <a:ext cx="1503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6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 + O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43440" y="3774960"/>
              <a:ext cx="761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30480" y="3548160"/>
              <a:ext cx="164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CO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 + H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03040" y="440208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e los números antecediendo las fórmulas (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eficien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 para igualar el número de átomos en ambos lados de la ecuación. No cambie los subínd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50280" y="6048360"/>
            <a:ext cx="5032080" cy="510120"/>
            <a:chOff x="2150280" y="6048360"/>
            <a:chExt cx="5032080" cy="510120"/>
          </a:xfrm>
        </p:grpSpPr>
        <p:sp>
          <p:nvSpPr>
            <p:cNvPr id="367" name=""/>
            <p:cNvSpPr/>
            <p:nvPr/>
          </p:nvSpPr>
          <p:spPr>
            <a:xfrm>
              <a:off x="2150280" y="6048360"/>
              <a:ext cx="987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2C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26480" y="606744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NO ES IGUAL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44000" y="6048360"/>
              <a:ext cx="253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                   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4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12760" y="115920"/>
            <a:ext cx="855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ience balanceando los elementos que aparecen en sólo un reactivo y un produ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069560" y="1241280"/>
            <a:ext cx="3925440" cy="442080"/>
            <a:chOff x="1069560" y="1241280"/>
            <a:chExt cx="3925440" cy="442080"/>
          </a:xfrm>
        </p:grpSpPr>
        <p:sp>
          <p:nvSpPr>
            <p:cNvPr id="372" name=""/>
            <p:cNvSpPr/>
            <p:nvPr/>
          </p:nvSpPr>
          <p:spPr>
            <a:xfrm>
              <a:off x="1069560" y="1241280"/>
              <a:ext cx="1284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6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12960" y="1422000"/>
              <a:ext cx="761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94600" y="1242720"/>
              <a:ext cx="1400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408640" y="1574640"/>
            <a:ext cx="326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Comience con C o H pero no con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95120" y="1650960"/>
            <a:ext cx="2134440" cy="1284840"/>
            <a:chOff x="195120" y="1650960"/>
            <a:chExt cx="2134440" cy="1284840"/>
          </a:xfrm>
        </p:grpSpPr>
        <p:sp>
          <p:nvSpPr>
            <p:cNvPr id="377" name=""/>
            <p:cNvSpPr/>
            <p:nvPr/>
          </p:nvSpPr>
          <p:spPr>
            <a:xfrm flipV="1">
              <a:off x="1243080" y="1650960"/>
              <a:ext cx="0" cy="4572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5120" y="2232000"/>
              <a:ext cx="2134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2 carbonos en e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lado izquier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482200" y="1641600"/>
            <a:ext cx="2693880" cy="1284840"/>
            <a:chOff x="2482200" y="1641600"/>
            <a:chExt cx="2693880" cy="1284840"/>
          </a:xfrm>
        </p:grpSpPr>
        <p:sp>
          <p:nvSpPr>
            <p:cNvPr id="380" name=""/>
            <p:cNvSpPr/>
            <p:nvPr/>
          </p:nvSpPr>
          <p:spPr>
            <a:xfrm flipV="1">
              <a:off x="3803400" y="1641600"/>
              <a:ext cx="0" cy="4572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82200" y="2222640"/>
              <a:ext cx="269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      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1 carbono e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         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el lado derech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5799960" y="3068640"/>
            <a:ext cx="258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multiplique CO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 por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769680" y="3084480"/>
            <a:ext cx="4066920" cy="442080"/>
            <a:chOff x="769680" y="3084480"/>
            <a:chExt cx="4066920" cy="442080"/>
          </a:xfrm>
        </p:grpSpPr>
        <p:sp>
          <p:nvSpPr>
            <p:cNvPr id="384" name=""/>
            <p:cNvSpPr/>
            <p:nvPr/>
          </p:nvSpPr>
          <p:spPr>
            <a:xfrm>
              <a:off x="769680" y="3084480"/>
              <a:ext cx="1284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6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13080" y="3265200"/>
              <a:ext cx="761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294360" y="3085920"/>
              <a:ext cx="1542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185760" y="3500280"/>
            <a:ext cx="2035440" cy="1284840"/>
            <a:chOff x="185760" y="3500280"/>
            <a:chExt cx="2035440" cy="1284840"/>
          </a:xfrm>
        </p:grpSpPr>
        <p:sp>
          <p:nvSpPr>
            <p:cNvPr id="388" name=""/>
            <p:cNvSpPr/>
            <p:nvPr/>
          </p:nvSpPr>
          <p:spPr>
            <a:xfrm flipV="1">
              <a:off x="1195200" y="3500280"/>
              <a:ext cx="0" cy="4572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5760" y="4081320"/>
              <a:ext cx="203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6 hidrógenos 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el lado izquier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2950920" y="3514680"/>
            <a:ext cx="2827800" cy="1284840"/>
            <a:chOff x="2950920" y="3514680"/>
            <a:chExt cx="2827800" cy="1284840"/>
          </a:xfrm>
        </p:grpSpPr>
        <p:sp>
          <p:nvSpPr>
            <p:cNvPr id="391" name=""/>
            <p:cNvSpPr/>
            <p:nvPr/>
          </p:nvSpPr>
          <p:spPr>
            <a:xfrm flipV="1">
              <a:off x="4349520" y="3514680"/>
              <a:ext cx="0" cy="4572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50920" y="4095720"/>
              <a:ext cx="282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2 hidrógenos en el l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derech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5718960" y="5013360"/>
            <a:ext cx="2582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multiplique H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O por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787320" y="5013360"/>
            <a:ext cx="4207680" cy="442080"/>
            <a:chOff x="787320" y="5013360"/>
            <a:chExt cx="4207680" cy="442080"/>
          </a:xfrm>
        </p:grpSpPr>
        <p:sp>
          <p:nvSpPr>
            <p:cNvPr id="395" name=""/>
            <p:cNvSpPr/>
            <p:nvPr/>
          </p:nvSpPr>
          <p:spPr>
            <a:xfrm>
              <a:off x="787320" y="5013360"/>
              <a:ext cx="1284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6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30360" y="5194080"/>
              <a:ext cx="7614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11280" y="5014800"/>
              <a:ext cx="1683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12760" y="44280"/>
            <a:ext cx="855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lancee los elementos que aparecen en dos o más reactivos o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83640" y="1625400"/>
            <a:ext cx="1427400" cy="1589760"/>
            <a:chOff x="683640" y="1625400"/>
            <a:chExt cx="1427400" cy="1589760"/>
          </a:xfrm>
        </p:grpSpPr>
        <p:sp>
          <p:nvSpPr>
            <p:cNvPr id="400" name=""/>
            <p:cNvSpPr/>
            <p:nvPr/>
          </p:nvSpPr>
          <p:spPr>
            <a:xfrm flipV="1">
              <a:off x="1393920" y="1625400"/>
              <a:ext cx="0" cy="4568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3640" y="2206440"/>
              <a:ext cx="1427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2 oxígen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en el lad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izquier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714040" y="1628640"/>
            <a:ext cx="1427400" cy="1284840"/>
            <a:chOff x="2714040" y="1628640"/>
            <a:chExt cx="1427400" cy="1284840"/>
          </a:xfrm>
        </p:grpSpPr>
        <p:sp>
          <p:nvSpPr>
            <p:cNvPr id="403" name=""/>
            <p:cNvSpPr/>
            <p:nvPr/>
          </p:nvSpPr>
          <p:spPr>
            <a:xfrm flipV="1">
              <a:off x="3422520" y="1628640"/>
              <a:ext cx="0" cy="4572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14040" y="2209680"/>
              <a:ext cx="142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4 oxígen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(2x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394920" y="1170000"/>
            <a:ext cx="4558320" cy="442080"/>
            <a:chOff x="394920" y="1170000"/>
            <a:chExt cx="4558320" cy="442080"/>
          </a:xfrm>
        </p:grpSpPr>
        <p:sp>
          <p:nvSpPr>
            <p:cNvPr id="406" name=""/>
            <p:cNvSpPr/>
            <p:nvPr/>
          </p:nvSpPr>
          <p:spPr>
            <a:xfrm>
              <a:off x="394920" y="1170000"/>
              <a:ext cx="1284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6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38320" y="1350720"/>
              <a:ext cx="761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18880" y="1171440"/>
              <a:ext cx="2034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  +   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3690000" y="1650960"/>
            <a:ext cx="2137320" cy="1275480"/>
            <a:chOff x="3690000" y="1650960"/>
            <a:chExt cx="2137320" cy="1275480"/>
          </a:xfrm>
        </p:grpSpPr>
        <p:sp>
          <p:nvSpPr>
            <p:cNvPr id="410" name=""/>
            <p:cNvSpPr/>
            <p:nvPr/>
          </p:nvSpPr>
          <p:spPr>
            <a:xfrm flipV="1">
              <a:off x="4749840" y="1650960"/>
              <a:ext cx="0" cy="4572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90000" y="2222640"/>
              <a:ext cx="213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    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+ 3 oxígeno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(3x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5871600" y="3481560"/>
            <a:ext cx="22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Multiplique O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 p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172360" y="3405240"/>
            <a:ext cx="526680" cy="673200"/>
            <a:chOff x="8172360" y="3405240"/>
            <a:chExt cx="526680" cy="673200"/>
          </a:xfrm>
        </p:grpSpPr>
        <p:sp>
          <p:nvSpPr>
            <p:cNvPr id="414" name=""/>
            <p:cNvSpPr/>
            <p:nvPr/>
          </p:nvSpPr>
          <p:spPr>
            <a:xfrm>
              <a:off x="8190720" y="3405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172360" y="3700800"/>
              <a:ext cx="5266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190720" y="367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6059520" y="2222640"/>
            <a:ext cx="227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= 7 oxíg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en el lad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23960" y="3357720"/>
            <a:ext cx="4716000" cy="703440"/>
            <a:chOff x="723960" y="3357720"/>
            <a:chExt cx="4716000" cy="703440"/>
          </a:xfrm>
        </p:grpSpPr>
        <p:sp>
          <p:nvSpPr>
            <p:cNvPr id="419" name=""/>
            <p:cNvSpPr/>
            <p:nvPr/>
          </p:nvSpPr>
          <p:spPr>
            <a:xfrm>
              <a:off x="723960" y="3495960"/>
              <a:ext cx="243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6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          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65440" y="3676680"/>
              <a:ext cx="7614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46000" y="3497400"/>
              <a:ext cx="1893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1827000" y="3357720"/>
              <a:ext cx="380880" cy="703440"/>
              <a:chOff x="1827000" y="3357720"/>
              <a:chExt cx="380880" cy="703440"/>
            </a:xfrm>
          </p:grpSpPr>
          <p:sp>
            <p:nvSpPr>
              <p:cNvPr id="423" name=""/>
              <p:cNvSpPr/>
              <p:nvPr/>
            </p:nvSpPr>
            <p:spPr>
              <a:xfrm>
                <a:off x="1841040" y="33577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27000" y="369108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841040" y="36622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5852520" y="4222800"/>
            <a:ext cx="250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Quite la fra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multiplicando amb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lados por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686880" y="4508640"/>
            <a:ext cx="4544640" cy="442080"/>
            <a:chOff x="686880" y="4508640"/>
            <a:chExt cx="4544640" cy="442080"/>
          </a:xfrm>
        </p:grpSpPr>
        <p:sp>
          <p:nvSpPr>
            <p:cNvPr id="428" name=""/>
            <p:cNvSpPr/>
            <p:nvPr/>
          </p:nvSpPr>
          <p:spPr>
            <a:xfrm>
              <a:off x="686880" y="4508640"/>
              <a:ext cx="1567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6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666880" y="4689360"/>
              <a:ext cx="761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47800" y="4510080"/>
              <a:ext cx="1683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12760" y="5464080"/>
            <a:ext cx="855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vise que tenga el mismo número de cada tipo de átomos en ambos lados de la ec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533520" y="41148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criba la ecuación química balance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vierta cantidades conocidas de sustancias en mo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e los coeficientes estequiométricos para calcular el número de moles de la cantidad busc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vierta los moles de la cantidad buscada en las unidades dese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78720" y="25236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ntidad de reactivos y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rcRect l="0" t="3039" r="0" b="0"/>
          <a:stretch/>
        </p:blipFill>
        <p:spPr>
          <a:xfrm>
            <a:off x="1295280" y="838080"/>
            <a:ext cx="65534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508040" y="420840"/>
            <a:ext cx="725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143000" y="4572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El Metanol hace combustión en el aire según la siguiente ecu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045880" y="941400"/>
            <a:ext cx="4853160" cy="510120"/>
            <a:chOff x="2045880" y="941400"/>
            <a:chExt cx="4853160" cy="510120"/>
          </a:xfrm>
        </p:grpSpPr>
        <p:sp>
          <p:nvSpPr>
            <p:cNvPr id="438" name=""/>
            <p:cNvSpPr/>
            <p:nvPr/>
          </p:nvSpPr>
          <p:spPr>
            <a:xfrm>
              <a:off x="2045880" y="941400"/>
              <a:ext cx="485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2CH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OH + 3O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          2CO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 + 4H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28920" y="118116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1364760" y="1434960"/>
            <a:ext cx="616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Si 209 g de metanol se consumen en la combustió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¿qué masa de agua es produci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84240" y="2409840"/>
            <a:ext cx="9040320" cy="440640"/>
            <a:chOff x="84240" y="2409840"/>
            <a:chExt cx="9040320" cy="440640"/>
          </a:xfrm>
        </p:grpSpPr>
        <p:sp>
          <p:nvSpPr>
            <p:cNvPr id="442" name=""/>
            <p:cNvSpPr/>
            <p:nvPr/>
          </p:nvSpPr>
          <p:spPr>
            <a:xfrm>
              <a:off x="84240" y="2409840"/>
              <a:ext cx="1935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gramos C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823840" y="2409840"/>
              <a:ext cx="1764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moles C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27720" y="2409840"/>
              <a:ext cx="1395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moles 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58560" y="2409840"/>
              <a:ext cx="1566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gramos 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119320" y="2590560"/>
              <a:ext cx="5335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59200" y="2590560"/>
              <a:ext cx="5335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958080" y="2590560"/>
              <a:ext cx="5331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1456200" y="2971800"/>
            <a:ext cx="1773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Masa m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72880" y="2987640"/>
            <a:ext cx="22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Coeficientes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la ec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325200" y="2971800"/>
            <a:ext cx="1773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Masa m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3800" y="4373640"/>
            <a:ext cx="1721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09 g C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315520" y="4195800"/>
            <a:ext cx="1955160" cy="797760"/>
            <a:chOff x="2315520" y="4195800"/>
            <a:chExt cx="1955160" cy="797760"/>
          </a:xfrm>
        </p:grpSpPr>
        <p:sp>
          <p:nvSpPr>
            <p:cNvPr id="454" name=""/>
            <p:cNvSpPr/>
            <p:nvPr/>
          </p:nvSpPr>
          <p:spPr>
            <a:xfrm>
              <a:off x="2530440" y="4195800"/>
              <a:ext cx="1706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C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78960" y="4552920"/>
              <a:ext cx="1791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32.0 g C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58960" y="4578480"/>
              <a:ext cx="1447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315520" y="4362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4217400" y="4191120"/>
            <a:ext cx="2056320" cy="805680"/>
            <a:chOff x="4217400" y="4191120"/>
            <a:chExt cx="2056320" cy="805680"/>
          </a:xfrm>
        </p:grpSpPr>
        <p:sp>
          <p:nvSpPr>
            <p:cNvPr id="459" name=""/>
            <p:cNvSpPr/>
            <p:nvPr/>
          </p:nvSpPr>
          <p:spPr>
            <a:xfrm>
              <a:off x="4727520" y="4191120"/>
              <a:ext cx="1337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4 mol 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44640" y="4556160"/>
              <a:ext cx="1706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2 mol C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20880" y="4584600"/>
              <a:ext cx="1752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17400" y="4368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249600" y="4191120"/>
            <a:ext cx="2158560" cy="805680"/>
            <a:chOff x="6249600" y="4191120"/>
            <a:chExt cx="2158560" cy="805680"/>
          </a:xfrm>
        </p:grpSpPr>
        <p:grpSp>
          <p:nvGrpSpPr>
            <p:cNvPr id="464" name=""/>
            <p:cNvGrpSpPr/>
            <p:nvPr/>
          </p:nvGrpSpPr>
          <p:grpSpPr>
            <a:xfrm>
              <a:off x="6249600" y="4191120"/>
              <a:ext cx="1764000" cy="805680"/>
              <a:chOff x="6249600" y="4191120"/>
              <a:chExt cx="1764000" cy="805680"/>
            </a:xfrm>
          </p:grpSpPr>
          <p:sp>
            <p:nvSpPr>
              <p:cNvPr id="465" name=""/>
              <p:cNvSpPr/>
              <p:nvPr/>
            </p:nvSpPr>
            <p:spPr>
              <a:xfrm>
                <a:off x="6588000" y="4191120"/>
                <a:ext cx="1422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18.0 g H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15360" y="4556160"/>
                <a:ext cx="1337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1 mol H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553080" y="4584600"/>
                <a:ext cx="14605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249600" y="43689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8078040" y="43560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 flipV="1">
            <a:off x="3048120" y="4648320"/>
            <a:ext cx="990360" cy="304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3048120" y="4191120"/>
            <a:ext cx="990360" cy="304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1219320" y="4419720"/>
            <a:ext cx="990360" cy="304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029200" y="4571640"/>
            <a:ext cx="99072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029200" y="4266720"/>
            <a:ext cx="99072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858000" y="4571640"/>
            <a:ext cx="99072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90280" y="5410080"/>
            <a:ext cx="158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35 g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049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método científico es un procedimiento para llevar a cabo una 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581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hipótesi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a explicación tentativa para un conjunto de observ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967840" y="5105520"/>
            <a:ext cx="3196800" cy="1066320"/>
            <a:chOff x="2967840" y="5105520"/>
            <a:chExt cx="3196800" cy="1066320"/>
          </a:xfrm>
        </p:grpSpPr>
        <p:sp>
          <p:nvSpPr>
            <p:cNvPr id="53" name=""/>
            <p:cNvSpPr/>
            <p:nvPr/>
          </p:nvSpPr>
          <p:spPr>
            <a:xfrm>
              <a:off x="2967840" y="5410080"/>
              <a:ext cx="31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probado     modific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916440" y="5867280"/>
              <a:ext cx="1295280" cy="304560"/>
            </a:xfrm>
            <a:custGeom>
              <a:avLst/>
              <a:gdLst>
                <a:gd name="textAreaLeft" fmla="*/ 226440 w 1295280"/>
                <a:gd name="textAreaRight" fmla="*/ 939240 w 129528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916440" y="5105520"/>
              <a:ext cx="1295280" cy="304560"/>
            </a:xfrm>
            <a:custGeom>
              <a:avLst/>
              <a:gdLst>
                <a:gd name="textAreaLeft" fmla="*/ 226440 w 1295280"/>
                <a:gd name="textAreaRight" fmla="*/ 939240 w 129528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" name=""/>
          <p:cNvGraphicFramePr/>
          <p:nvPr/>
        </p:nvGraphicFramePr>
        <p:xfrm>
          <a:off x="179280" y="1484280"/>
          <a:ext cx="878544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8544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734400" y="29376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activo limi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827280" y="2170080"/>
            <a:ext cx="3132720" cy="510120"/>
            <a:chOff x="827280" y="2170080"/>
            <a:chExt cx="3132720" cy="510120"/>
          </a:xfrm>
        </p:grpSpPr>
        <p:sp>
          <p:nvSpPr>
            <p:cNvPr id="479" name=""/>
            <p:cNvSpPr/>
            <p:nvPr/>
          </p:nvSpPr>
          <p:spPr>
            <a:xfrm>
              <a:off x="827280" y="2170080"/>
              <a:ext cx="3132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2NO +  O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  2NO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36560" y="23968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634320" y="321804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 el reactivo limi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66000" y="4267080"/>
            <a:ext cx="38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es el reactivo en ex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932360" y="0"/>
          <a:ext cx="41623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0"/>
                    <a:ext cx="4162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762120" y="115920"/>
            <a:ext cx="8381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En un proceso,124 g de Al reaccionan con 601 g de Fe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85280" y="620640"/>
            <a:ext cx="3515760" cy="440640"/>
            <a:chOff x="485280" y="620640"/>
            <a:chExt cx="3515760" cy="440640"/>
          </a:xfrm>
        </p:grpSpPr>
        <p:sp>
          <p:nvSpPr>
            <p:cNvPr id="487" name=""/>
            <p:cNvSpPr/>
            <p:nvPr/>
          </p:nvSpPr>
          <p:spPr>
            <a:xfrm>
              <a:off x="485280" y="620640"/>
              <a:ext cx="3515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2Al + Fe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         Al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2F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09800" y="8128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291560" y="620640"/>
            <a:ext cx="4631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Calcule la masa de A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 que se for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-7560" y="126828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10200" y="126828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l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54480" y="1268280"/>
            <a:ext cx="3035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les F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necesari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36640" y="1449360"/>
            <a:ext cx="5335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78040" y="1449360"/>
            <a:ext cx="5335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248520" y="1525680"/>
            <a:ext cx="5331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79520" y="1268280"/>
            <a:ext cx="235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 F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neces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-5760" y="1906560"/>
            <a:ext cx="1052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 F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8280" y="1906560"/>
            <a:ext cx="1320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l F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292640" y="190656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les Al neces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41360" y="2087640"/>
            <a:ext cx="5335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659040" y="2087640"/>
            <a:ext cx="5335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05720" y="2151000"/>
            <a:ext cx="5331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68320" y="190656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 Al neces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9680" y="288144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24 g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283760" y="2703600"/>
            <a:ext cx="1791360" cy="755640"/>
            <a:chOff x="1283760" y="2703600"/>
            <a:chExt cx="1791360" cy="755640"/>
          </a:xfrm>
        </p:grpSpPr>
        <p:sp>
          <p:nvSpPr>
            <p:cNvPr id="506" name=""/>
            <p:cNvSpPr/>
            <p:nvPr/>
          </p:nvSpPr>
          <p:spPr>
            <a:xfrm>
              <a:off x="1781280" y="2703600"/>
              <a:ext cx="109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29800" y="306036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27.0 g 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627200" y="3085920"/>
              <a:ext cx="1447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283760" y="2869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076200" y="2698920"/>
            <a:ext cx="2056320" cy="763560"/>
            <a:chOff x="3076200" y="2698920"/>
            <a:chExt cx="2056320" cy="763560"/>
          </a:xfrm>
        </p:grpSpPr>
        <p:sp>
          <p:nvSpPr>
            <p:cNvPr id="511" name=""/>
            <p:cNvSpPr/>
            <p:nvPr/>
          </p:nvSpPr>
          <p:spPr>
            <a:xfrm>
              <a:off x="3493080" y="2698920"/>
              <a:ext cx="1532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Fe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88200" y="3063600"/>
              <a:ext cx="109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2 mol 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380040" y="309240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076200" y="2876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182560" y="2698920"/>
            <a:ext cx="2158560" cy="805320"/>
            <a:chOff x="5182560" y="2698920"/>
            <a:chExt cx="2158560" cy="805320"/>
          </a:xfrm>
        </p:grpSpPr>
        <p:grpSp>
          <p:nvGrpSpPr>
            <p:cNvPr id="516" name=""/>
            <p:cNvGrpSpPr/>
            <p:nvPr/>
          </p:nvGrpSpPr>
          <p:grpSpPr>
            <a:xfrm>
              <a:off x="5182560" y="2698920"/>
              <a:ext cx="1881720" cy="805320"/>
              <a:chOff x="5182560" y="2698920"/>
              <a:chExt cx="1881720" cy="805320"/>
            </a:xfrm>
          </p:grpSpPr>
          <p:sp>
            <p:nvSpPr>
              <p:cNvPr id="517" name=""/>
              <p:cNvSpPr/>
              <p:nvPr/>
            </p:nvSpPr>
            <p:spPr>
              <a:xfrm>
                <a:off x="5446080" y="2698920"/>
                <a:ext cx="1618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160. g Fe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46800" y="3063600"/>
                <a:ext cx="1532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1 mol Fe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86040" y="3092400"/>
                <a:ext cx="14605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182560" y="28764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7011000" y="28638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 flipV="1">
            <a:off x="1981080" y="3079440"/>
            <a:ext cx="99072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1905120" y="2774520"/>
            <a:ext cx="99036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533520" y="2927520"/>
            <a:ext cx="990360" cy="304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3962520" y="3079440"/>
            <a:ext cx="99036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3886200" y="2698920"/>
            <a:ext cx="990720" cy="304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867280" y="3079440"/>
            <a:ext cx="99072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426080" y="2874960"/>
            <a:ext cx="154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67 g F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402560" y="3645000"/>
            <a:ext cx="6098760" cy="440640"/>
            <a:chOff x="1402560" y="3645000"/>
            <a:chExt cx="6098760" cy="440640"/>
          </a:xfrm>
        </p:grpSpPr>
        <p:sp>
          <p:nvSpPr>
            <p:cNvPr id="530" name=""/>
            <p:cNvSpPr/>
            <p:nvPr/>
          </p:nvSpPr>
          <p:spPr>
            <a:xfrm>
              <a:off x="1402560" y="3645000"/>
              <a:ext cx="242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Para 124 g 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218120" y="3826080"/>
              <a:ext cx="5331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933800" y="3645000"/>
              <a:ext cx="256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necesita 367 g Fe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384920" y="4191120"/>
            <a:ext cx="6566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o tiene más F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601 g), Al es el reactivo limi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45920" y="4859280"/>
            <a:ext cx="793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usa el reactivo limitante (Al) para calcular la cantidad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se puede for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9680" y="586440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24 g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1283760" y="5686560"/>
            <a:ext cx="1791360" cy="756000"/>
            <a:chOff x="1283760" y="5686560"/>
            <a:chExt cx="1791360" cy="756000"/>
          </a:xfrm>
        </p:grpSpPr>
        <p:sp>
          <p:nvSpPr>
            <p:cNvPr id="537" name=""/>
            <p:cNvSpPr/>
            <p:nvPr/>
          </p:nvSpPr>
          <p:spPr>
            <a:xfrm>
              <a:off x="1781280" y="5686560"/>
              <a:ext cx="109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04600" y="604368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27.0 g 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27200" y="6068880"/>
              <a:ext cx="1447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283760" y="5853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3076200" y="5681520"/>
            <a:ext cx="2056320" cy="763920"/>
            <a:chOff x="3076200" y="5681520"/>
            <a:chExt cx="2056320" cy="763920"/>
          </a:xfrm>
        </p:grpSpPr>
        <p:sp>
          <p:nvSpPr>
            <p:cNvPr id="542" name=""/>
            <p:cNvSpPr/>
            <p:nvPr/>
          </p:nvSpPr>
          <p:spPr>
            <a:xfrm>
              <a:off x="3494160" y="5681520"/>
              <a:ext cx="146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Al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88200" y="6046560"/>
              <a:ext cx="109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2 mol 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80040" y="607536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76200" y="5859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5182560" y="5681520"/>
            <a:ext cx="2158560" cy="805680"/>
            <a:chOff x="5182560" y="5681520"/>
            <a:chExt cx="2158560" cy="805680"/>
          </a:xfrm>
        </p:grpSpPr>
        <p:grpSp>
          <p:nvGrpSpPr>
            <p:cNvPr id="547" name=""/>
            <p:cNvGrpSpPr/>
            <p:nvPr/>
          </p:nvGrpSpPr>
          <p:grpSpPr>
            <a:xfrm>
              <a:off x="5182560" y="5681520"/>
              <a:ext cx="1811160" cy="805680"/>
              <a:chOff x="5182560" y="5681520"/>
              <a:chExt cx="1811160" cy="805680"/>
            </a:xfrm>
          </p:grpSpPr>
          <p:sp>
            <p:nvSpPr>
              <p:cNvPr id="548" name=""/>
              <p:cNvSpPr/>
              <p:nvPr/>
            </p:nvSpPr>
            <p:spPr>
              <a:xfrm>
                <a:off x="5447160" y="5681520"/>
                <a:ext cx="1546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102. g Al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47880" y="6046560"/>
                <a:ext cx="1460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1 mol Al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86040" y="6075360"/>
                <a:ext cx="14605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182560" y="58593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7011000" y="58467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 flipV="1">
            <a:off x="1981080" y="6062760"/>
            <a:ext cx="990720" cy="304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1905120" y="5757480"/>
            <a:ext cx="99036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33520" y="5909760"/>
            <a:ext cx="99036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962520" y="6062760"/>
            <a:ext cx="990360" cy="304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886200" y="5681160"/>
            <a:ext cx="99072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5867280" y="6062760"/>
            <a:ext cx="990720" cy="304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463520" y="5857920"/>
            <a:ext cx="14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34 g Al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680040" y="1125360"/>
            <a:ext cx="76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rendimiento teór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la cantidad de product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ría si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l reactivo limitante reacciona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17480" y="2278080"/>
            <a:ext cx="759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rendimiento re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la cantidad de producto qu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almen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 obtiene de la re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79600" y="520380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  <a:ea typeface="Arial"/>
              </a:rPr>
              <a:t>[%]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413520" y="479736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sultado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357000" y="5559480"/>
            <a:ext cx="25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sultado teó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971800" y="5407200"/>
            <a:ext cx="312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402960" y="51786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x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13000" y="293760"/>
            <a:ext cx="41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ndimiento de una re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03280" y="3789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ndimiento porcentual de la re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28954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teorí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un principio unificador que explica un conjunto de hechos y/o aquellas  leyes que se basan en e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049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ey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un enunciado conciso de una relación entre fenómenos que es siempre  válido bajo las mismas con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84520" y="510552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oría at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21080" y="2057400"/>
            <a:ext cx="41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erza = masa x acel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6584" r="0" b="0"/>
          <a:stretch/>
        </p:blipFill>
        <p:spPr>
          <a:xfrm>
            <a:off x="3581280" y="4648320"/>
            <a:ext cx="4876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1932120"/>
            <a:ext cx="8686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ter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todo lo que ocupa un lugar en el espacio y tiene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ubstanc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una forma de materia que tiene una composición dada y propiedades específicas que la distinguen de o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9000" y="533520"/>
            <a:ext cx="612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químic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el estudio de la materia, s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os y comport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35080" y="4370400"/>
            <a:ext cx="8109000" cy="2133720"/>
            <a:chOff x="235080" y="4370400"/>
            <a:chExt cx="8109000" cy="2133720"/>
          </a:xfrm>
        </p:grpSpPr>
        <p:sp>
          <p:nvSpPr>
            <p:cNvPr id="66" name=""/>
            <p:cNvSpPr/>
            <p:nvPr/>
          </p:nvSpPr>
          <p:spPr>
            <a:xfrm>
              <a:off x="7149240" y="5487840"/>
              <a:ext cx="11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Azúc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35080" y="4373640"/>
              <a:ext cx="2259000" cy="2130480"/>
              <a:chOff x="235080" y="4373640"/>
              <a:chExt cx="2259000" cy="2130480"/>
            </a:xfrm>
          </p:grpSpPr>
          <p:sp>
            <p:nvSpPr>
              <p:cNvPr id="68" name=""/>
              <p:cNvSpPr/>
              <p:nvPr/>
            </p:nvSpPr>
            <p:spPr>
              <a:xfrm>
                <a:off x="1603080" y="5229360"/>
                <a:ext cx="89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Agu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35080" y="4373640"/>
                <a:ext cx="1288800" cy="2130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7086600" y="4370400"/>
              <a:ext cx="1257480" cy="97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" name=""/>
            <p:cNvGrpSpPr/>
            <p:nvPr/>
          </p:nvGrpSpPr>
          <p:grpSpPr>
            <a:xfrm>
              <a:off x="3581280" y="4370400"/>
              <a:ext cx="1828800" cy="2048760"/>
              <a:chOff x="3581280" y="4370400"/>
              <a:chExt cx="1828800" cy="2048760"/>
            </a:xfrm>
          </p:grpSpPr>
          <p:sp>
            <p:nvSpPr>
              <p:cNvPr id="72" name=""/>
              <p:cNvSpPr/>
              <p:nvPr/>
            </p:nvSpPr>
            <p:spPr>
              <a:xfrm>
                <a:off x="4028400" y="5959440"/>
                <a:ext cx="68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Or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581280" y="4370400"/>
                <a:ext cx="1828800" cy="1542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457200"/>
            <a:ext cx="85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mezcl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a combinación de dos o más substancias puras en la que cada una conserva sus propiedades partic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920" y="19051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a mezcla homogéne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la composición  de la mezcla es la misma en cualquier pu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40384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zcla heterogéne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su composición no es igual en cualquier punto de la m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117960" y="2514600"/>
            <a:ext cx="5870520" cy="1415880"/>
            <a:chOff x="3117960" y="2514600"/>
            <a:chExt cx="5870520" cy="1415880"/>
          </a:xfrm>
        </p:grpSpPr>
        <p:sp>
          <p:nvSpPr>
            <p:cNvPr id="78" name=""/>
            <p:cNvSpPr/>
            <p:nvPr/>
          </p:nvSpPr>
          <p:spPr>
            <a:xfrm>
              <a:off x="3117960" y="3098520"/>
              <a:ext cx="368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refresco, leche, soldadu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7461360" y="2514600"/>
              <a:ext cx="1527120" cy="141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"/>
          <p:cNvGrpSpPr/>
          <p:nvPr/>
        </p:nvGrpSpPr>
        <p:grpSpPr>
          <a:xfrm>
            <a:off x="304920" y="5181480"/>
            <a:ext cx="6138000" cy="1341720"/>
            <a:chOff x="304920" y="5181480"/>
            <a:chExt cx="6138000" cy="1341720"/>
          </a:xfrm>
        </p:grpSpPr>
        <p:sp>
          <p:nvSpPr>
            <p:cNvPr id="81" name=""/>
            <p:cNvSpPr/>
            <p:nvPr/>
          </p:nvSpPr>
          <p:spPr>
            <a:xfrm>
              <a:off x="2519280" y="5384880"/>
              <a:ext cx="392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emento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limadura de hierro en are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2"/>
            <a:srcRect l="0" t="40536" r="52019" b="0"/>
            <a:stretch/>
          </p:blipFill>
          <p:spPr>
            <a:xfrm>
              <a:off x="304920" y="5181480"/>
              <a:ext cx="2107800" cy="13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6858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mponentes de una mezcla pueden ser separados mediante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procesos fís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597560" y="2627280"/>
            <a:ext cx="4394160" cy="2861640"/>
            <a:chOff x="4597560" y="2627280"/>
            <a:chExt cx="4394160" cy="286164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4597560" y="2627280"/>
              <a:ext cx="439416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195960" y="502920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Imá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900000" y="1844640"/>
          <a:ext cx="2981520" cy="381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844640"/>
                    <a:ext cx="29815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3520" y="1003320"/>
            <a:ext cx="797544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em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una substancia que no puede ser separada en substancias más simples por medios quím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han identificado en total 114 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encuentran naturalmente en la Tierra un total de 82 elementos. Por ejemplo: oro, aluminio, oxigeno, carbo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2 elementos han sido creados por científicos, como por ejemplo: el Americio, el Polon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07-22T05:34:44Z</dcterms:modified>
  <cp:revision>129</cp:revision>
  <dc:subject/>
  <dc:title>Presentación de PowerPoint</dc:title>
</cp:coreProperties>
</file>