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B98-7E7F-4447-8BEB-19BFF79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D05-4FF6-4AED-BEE8-70AE070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DB0-27E5-4D93-A045-5AEAEED3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20B-4223-4655-B78D-3CC27D0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27D-74E9-4E30-A2D1-C864452B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54F-71D3-4FBF-8B7B-5DE6820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3C8-DB9A-499C-AB02-905BE5E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489-CBFD-4A24-980A-2C134A8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191-384A-43AA-8F62-3C1B263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E82-154D-47C5-9ED2-89F0759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9E0-F471-4FEA-9B98-13E278A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3E1-742F-4929-937A-9583C57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CD6-6D96-4490-BFB2-788EB7045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ART 2: Factors controlling the properties or soils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(three main groups 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99"/>
                </a:solidFill>
                <a:latin typeface="Arial"/>
              </a:rPr>
              <a:t>SOIL GROUPING – ON WHAT BA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81298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Undisturbed and remoul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Normally consolidated and over-consoli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Fully saturated and partially satur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edimentary (transported) and residual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Perhaps the best basic grouping i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edimentary so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Residual so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c) Remoulded (or destructured) soils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2590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Factors influencing soil formation</a:t>
            </a:r>
            <a:br>
              <a:rPr sz="2800"/>
            </a:b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- two factors make sedimentary soils more predictable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orting processes 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stres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il%20formation%20chart" descr=""/>
          <p:cNvPicPr/>
          <p:nvPr/>
        </p:nvPicPr>
        <p:blipFill>
          <a:blip r:embed="rId1"/>
          <a:stretch/>
        </p:blipFill>
        <p:spPr>
          <a:xfrm>
            <a:off x="3355920" y="228600"/>
            <a:ext cx="57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Soil properties are closely linked to their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composition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and the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processes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which formed them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960640"/>
            <a:ext cx="7635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We need to be aware of the formation processes applicable to any particular s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28240"/>
            <a:ext cx="66978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990099"/>
                </a:solidFill>
                <a:latin typeface="Arial"/>
              </a:rPr>
              <a:t>SEDIMENTARY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1219320"/>
            <a:ext cx="8624880" cy="524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sorting process during erosion, transportation and redeposition tends to produce homogeneous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loading and unloading ie “stress history” is a major influence on behavioural characteristics  - provides the basis for division into N.C. and O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 Importance of stress history probably somewhat over-stat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Leaching, aging and hardening are equally important infl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Influence of aging or “hardening” on soft normally consolidated clay” (OCR = 2)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ot%20Eng%20in%20Residual%20Soils%20Fig%202.3" descr=""/>
          <p:cNvPicPr/>
          <p:nvPr/>
        </p:nvPicPr>
        <p:blipFill>
          <a:blip r:embed="rId1"/>
          <a:srcRect l="0" t="-2900" r="-5256" b="0"/>
          <a:stretch/>
        </p:blipFill>
        <p:spPr>
          <a:xfrm>
            <a:off x="228600" y="3816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44360"/>
            <a:ext cx="6985080" cy="10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SIDUAL SOILS – IMPORTANT CHARACTERISTICS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00320"/>
            <a:ext cx="8915400" cy="53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ariability and heteroge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Structure – (a) from features of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(b) new, from weathering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The soil may not be “particulate” ie not a collection of individual parti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bsence of stress history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esence of unusual clay miner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zone of interest to geotechnical engineers may be mainly above the water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99"/>
                </a:solidFill>
                <a:latin typeface="Arial"/>
              </a:rPr>
              <a:t>Factors governing behaviour of three groups</a:t>
            </a:r>
            <a:r>
              <a:rPr b="1" lang="en-NZ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ot%20Eng%20Fig%202" descr=""/>
          <p:cNvPicPr/>
          <p:nvPr/>
        </p:nvPicPr>
        <p:blipFill>
          <a:blip r:embed="rId1"/>
          <a:srcRect l="-3700" t="-3403" r="-7401" b="-1888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3640" y="380880"/>
            <a:ext cx="5327640" cy="67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REMOULDED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883944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The term “de-structured” soils is sometimes preferred for these so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Includes soils prepared by sedimentation from an artificial soil slur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While generally free of structure, some compaction processes my create minor structural characteristics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2:57:20Z</dcterms:created>
  <dc:creator>lwes010</dc:creator>
  <dc:description/>
  <dc:language>en-US</dc:language>
  <cp:lastModifiedBy>Laurie Wesley </cp:lastModifiedBy>
  <dcterms:modified xsi:type="dcterms:W3CDTF">2007-07-21T22:08:05Z</dcterms:modified>
  <cp:revision>39</cp:revision>
  <dc:subject/>
  <dc:title>GEOTECHNICAL ENGINEERING IN RESIUDAL SOILS  University of Chile, Santiago   PART 2: Factors controlling the properties or soils (three main groups)</dc:title>
</cp:coreProperties>
</file>