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950-F2CA-49D0-B394-DEE1AF4B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4A27-F44C-4AFD-B4D3-4EC8869E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CF4-C3B9-4B74-86A6-90159531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79AB-1EAD-4383-AB1D-17D86B54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3EF-4C2E-4BDE-BAA6-46B77818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4460-14AE-49A6-8603-D71A38E2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375-454E-4CCF-9358-88930AB1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F71-312D-4996-B2E7-8EBD003B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884-888C-48F2-B548-2087519D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84C7-4F0B-43F4-9168-FFA5FA9A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CBC-C18E-4A1E-8FC4-89AAA064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B9E-D8D4-4CC1-B765-5C290929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1CB7-CAE9-4D6B-8BB9-2E778427F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GEOTECHNICAL ENGINEERING IN RESIDUAL SOILS </a:t>
            </a:r>
            <a:br>
              <a:rPr sz="3600"/>
            </a:b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University of Chile, Santiago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ART 8: OTHER SPECIAL SOIL GROUPS - </a:t>
            </a: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ARTIALLY SATURATED SOILS, EXPANSIVE SOILS,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LLAPSING SOIL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o help understand this equation consider a natural soil close to the ground surfac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air pressure is atmospheric (ie zero) so the equation becom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Symbol"/>
                <a:ea typeface="Symbol"/>
              </a:rPr>
              <a:t></a:t>
            </a: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-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Normally the equation would b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Symbol"/>
                <a:ea typeface="Symbol"/>
              </a:rPr>
              <a:t></a:t>
            </a: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–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 the effect of air in the soil is to reduce the influence of the pore pressure on the effective stress in the soil (Since 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is less than one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ffective stress – pore pressure relationship and degree of saturation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63" name="Stresses%20in%20ground%20&amp;%20partial%20saturation" descr=""/>
          <p:cNvPicPr/>
          <p:nvPr/>
        </p:nvPicPr>
        <p:blipFill>
          <a:blip r:embed="rId1"/>
          <a:srcRect l="-7625" t="-2248" r="-10881" b="-4109"/>
          <a:stretch/>
        </p:blipFill>
        <p:spPr>
          <a:xfrm>
            <a:off x="0" y="1295280"/>
            <a:ext cx="914400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ttempts to apply this equation to analyse practical problems have not met with much succes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2133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mpler semi-empirical approaches have been proposed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redlund &amp; Rahardjo have proposed treating the components of strength coming from (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-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) and  (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–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) separately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s avoids trying to determine the actual or true effective stress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Main interest in analytical treatment of partially saturated soils appears be slope stability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wo behaviour “models” are needed: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ne to relate the pore pressure in the ground to weather conditions (transient behaviour) 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ne to relate the soil strength to the pore pressure state (actually to the effective stress state)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Lam, Fredlund, and Barbour (1987) method: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form of the conventional continuity equation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Where  Q is flow into element from external source 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is the slope of the volumetric water content versus u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volumetric water content (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) is the volume of water per unit volume of soil, so that: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                  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581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38080" y="1676520"/>
                <a:ext cx="62485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162400" y="5181480"/>
                <a:ext cx="20448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volumetric water content,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, is the volume of water per unit volume of soil,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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56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hanges in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arise from two sources: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ater that moves in or out as a result of compression of the soil (as in normal consolidation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ater that flows in and out and is inter-changed with air  - ie the degree of saturation varies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Volumetric water content curve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77" name="Volumetric%20water%20content%20functions" descr=""/>
          <p:cNvPicPr/>
          <p:nvPr/>
        </p:nvPicPr>
        <p:blipFill>
          <a:blip r:embed="rId1"/>
          <a:srcRect l="-6340" t="-4808" r="5317" b="-5775"/>
          <a:stretch/>
        </p:blipFill>
        <p:spPr>
          <a:xfrm>
            <a:off x="0" y="100332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part from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(or m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), a second parameter governs seepage, namely k – and must be defined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79" name="Vol.%20wc%20and%20k%20functions%20Uns.%20soil" descr=""/>
          <p:cNvPicPr/>
          <p:nvPr/>
        </p:nvPicPr>
        <p:blipFill>
          <a:blip r:embed="rId1"/>
          <a:srcRect l="-15429" t="-3455" r="-19965" b="-2508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e application of this method, along with any other complex seepage analysis, requires a numerical solution and therefore can really only be used if a suitable computer programme is available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e programme SEEP/W is based around this method of Lam et al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Fredlund and Rahardjo’s equation for shear strength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66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= c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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+ (u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– u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)tan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US" sz="3600" spc="-1" strike="noStrike" baseline="30000">
                <a:solidFill>
                  <a:srgbClr val="0066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+ (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- u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)tan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GB" sz="3600" spc="-1" strike="noStrike">
                <a:solidFill>
                  <a:srgbClr val="006600"/>
                </a:solidFill>
                <a:latin typeface="Symbol"/>
                <a:ea typeface="Symbol"/>
              </a:rPr>
              <a:t>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US" sz="3200" spc="-1" strike="noStrike" baseline="30000">
                <a:solidFill>
                  <a:srgbClr val="0066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= angle of cohesion intercept increase with increasing stress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 this expression, the frictional component of shear strength is divided into two components – one essentially from the total stress, and one from the soil “suction” ie the negative pore pressur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Partially saturated soils: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Factors that control their existence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Climate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Particle size of the soil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Depth of water table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Topography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Extended Mohr-Coulomb failure envelope for partially saturated soils (Fredlund’s equation)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84" name="Mohr%20Coulomb%20diagram%20-%20unsaturated%20soil" descr=""/>
          <p:cNvPicPr/>
          <p:nvPr/>
        </p:nvPicPr>
        <p:blipFill>
          <a:blip r:embed="rId1"/>
          <a:stretch/>
        </p:blipFill>
        <p:spPr>
          <a:xfrm>
            <a:off x="0" y="1392120"/>
            <a:ext cx="9144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computer programme Slope/W uses this equation when dealing with partially saturated soils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parameter </a:t>
            </a: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is usually found to have a value between 15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and 20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, (according to the writer’s of the computer programme SLOPE/W),  though it could theoretically exceed 45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(????)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The Fredlund expression for shear strength is not really satisfactory theoretically as it implies the contribution to shear strength from soil suction is a cohesion component, whereas it is actually a frictional component . 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However, the expression provides a means of modelling unsaturated soils for practical purposes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Note the difference between the Fredlund approach and Bishop’s approach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89" name="Fredlund-Bishop%20shear%20strength%20approaches" descr=""/>
          <p:cNvPicPr/>
          <p:nvPr/>
        </p:nvPicPr>
        <p:blipFill>
          <a:blip r:embed="rId1"/>
          <a:srcRect l="-1513" t="-5803" r="-3903" b="-5861"/>
          <a:stretch/>
        </p:blipFill>
        <p:spPr>
          <a:xfrm>
            <a:off x="0" y="1173240"/>
            <a:ext cx="914400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xpanisive or Swelling Clay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se problem soils occur in relatively dry countries, especially South Africa (and other parts of Africa) and Australia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ground surface swells causing distortion and damage to buildings on shallow foundations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onditions for occurrence of expansive clay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280" y="14475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xistence of clayey soils containing active clay minerals – smectite (montmorillonite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 fairly dry climate, with long dry seasons and some periods of rainfall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Both factors must be present – a case where both soil properties and groundwater conditions are equally important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xpansive clays represent a soil condition rather than a particular type of material. 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289548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ils of the CH type found in relatively low lying flat areas having a relatively dry climate are most likely to cause swelling problem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Basic mechanism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 their natural state, the soils exist in a state of high “suction” ie large negative pore water pressur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s natural state is upset and water becomes available to the soil. It soaks up water and swell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 the worst cases the soil is partly saturated, but the problem can still occur with fully saturated soils. 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Sources of increased water supply to the soil: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ost commonly, a change in land us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s could be urban development, or conversion of land to farming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rrigation or leaking pipes supply water to the ground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n external water source is not essential – simply covering the ground can be enough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is swelling soil problem is simply an extension of the  foundation settlement situation covered earlier – Assignment No 2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27428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negative pore pressure is much greater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net change in effective stress becomes negative and the soil swells rather than compresse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limate is clearly the most dominant influence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ustralia, South Africa, parts of the Middle East, are known to have large areas of partially saturated soil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et tropical countries like Indonesia and Malaysia, and temperate countries like New Zealand and most of Northern Europe and North America contain only minor areas of partially saturated soil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Groundwater%20re-charge%20and%20evaporation" descr=""/>
          <p:cNvPicPr/>
          <p:nvPr/>
        </p:nvPicPr>
        <p:blipFill>
          <a:blip r:embed="rId1"/>
          <a:srcRect l="-2016" t="-7199" r="-546" b="-7199"/>
          <a:stretch/>
        </p:blipFill>
        <p:spPr>
          <a:xfrm>
            <a:off x="0" y="231840"/>
            <a:ext cx="9144000" cy="4533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5105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ituation where no external water source is needed to cause soil swelling - covering the surface cuts off evaporation, and water is taken up by the soil 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stimation of Swelling Pressure and Swell Magnitud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main concern with swelling clays is the magnitude rather than the pressur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ethods in use for estimating pressure and magnitude range from purely empirical to theoretical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e will only consider methods which make use, or relate to the principle of effective stress in this course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ethods using the principle of effective stress involve the following: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stimation of initial and final stresses and changes in effective stress throughout laye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easurement of swell characteristics of the soil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alculation of swell of sub-layers, similar to normal settlement estim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asic soil swelling model – 2 identical samples – water added – one allowed to swell, the other restrained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09" name="Basic%20swelling%20model%20(Frydman)" descr=""/>
          <p:cNvPicPr/>
          <p:nvPr/>
        </p:nvPicPr>
        <p:blipFill>
          <a:blip r:embed="rId1"/>
          <a:srcRect l="-3227" t="-2096" r="-1746" b="-916"/>
          <a:stretch/>
        </p:blipFill>
        <p:spPr>
          <a:xfrm>
            <a:off x="76320" y="1363680"/>
            <a:ext cx="883908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Measurement of swell pressure, and swell magnitude – identical samples, differing stresses applied, water added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11" name="Swell%20pressure%20measurement" descr=""/>
          <p:cNvPicPr/>
          <p:nvPr/>
        </p:nvPicPr>
        <p:blipFill>
          <a:blip r:embed="rId1"/>
          <a:srcRect l="0" t="-3484" r="-2912" b="-2550"/>
          <a:stretch/>
        </p:blipFill>
        <p:spPr>
          <a:xfrm>
            <a:off x="0" y="107964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This graph can be used directly to estimate </a:t>
            </a:r>
            <a:r>
              <a:rPr b="1" lang="en-US" sz="2800" spc="-1" strike="noStrike" u="sng">
                <a:solidFill>
                  <a:srgbClr val="990033"/>
                </a:solidFill>
                <a:uFillTx/>
                <a:latin typeface="Arial"/>
              </a:rPr>
              <a:t>potential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well. Note the important limitations: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test data may be dependent on the time of year the test is don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swell estimate assumes that “wetting” of the soil causes the suction to entirely disappear. This may not be the case in practice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ollapsing Soils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ils which undergo a sudden decrease in volume when water becomes available to them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sually refers to foundation performanc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y behave in the opposite manner to swelling soil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nlike swelling soils, their behaviour cannot be explained on the basis of effective stress concep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Occurrence of collapsing soils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(all are partially saturated)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Loess soils – wind blown deposits having a very loose open structur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2.   Highly weathered residual soils, such as some weathered granites, - and a variety of rock types in Brazil result in a “porous clay” with collapsing behaviou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aline soils – found in various countries, including northern Chil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Influence of wetting: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ftens the soil particles themselv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ftens bonds between particle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solves bonding material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liminates surface tension forces between particles that were providing stability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Illustration of collapsing behaviour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21" name="Collapsing%20soil%20concept" descr=""/>
          <p:cNvPicPr/>
          <p:nvPr/>
        </p:nvPicPr>
        <p:blipFill>
          <a:blip r:embed="rId1"/>
          <a:srcRect l="-4707" t="-4883" r="-4741" b="9141"/>
          <a:stretch/>
        </p:blipFill>
        <p:spPr>
          <a:xfrm>
            <a:off x="0" y="934920"/>
            <a:ext cx="91440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limate has two significant effects: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Warm, wet climates promote intense weathering, and the formation of fine grained soils ie clays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Warm, wet climates inhibit evaporation from the soi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hese factors mean that the soils are likely to be fully saturated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n dry climates, the opposite is likely to be true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ome partially saturated soils can show both expansive  and collapse behaviour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23" name="Swell%20collapse%20behaviour" descr=""/>
          <p:cNvPicPr/>
          <p:nvPr/>
        </p:nvPicPr>
        <p:blipFill>
          <a:blip r:embed="rId1"/>
          <a:srcRect l="0" t="0" r="0" b="6120"/>
          <a:stretch/>
        </p:blipFill>
        <p:spPr>
          <a:xfrm>
            <a:off x="1066680" y="1066680"/>
            <a:ext cx="670572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Particle size has a very important influence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s already discussed, water cannot drain out of a very fine grained soil under gravity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finest particle size permitting easy drainage under gravity is about 0.06mm – the division between sand and silt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oils finer than this can still become unsaturated - by evaporation, at ground surface or along fissures or cracks in the soil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he Hong Kong weathered granites – an example of partially saturated soil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Hong Kong appears to be reasonably warm and wet – but has partially saturated soil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eathered granites in Hong Kong are not very fine grained – and the place is very hilly (ie deep water table) - this accounts for partial satura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2743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Measurements of degree of saturation – Hong Kong study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=  40% with deep water table</a:t>
            </a: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=  90% with shallow water table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719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HK deg of saturation graphs" descr=""/>
          <p:cNvPicPr/>
          <p:nvPr/>
        </p:nvPicPr>
        <p:blipFill>
          <a:blip r:embed="rId1"/>
          <a:srcRect l="0" t="3330" r="0" b="3330"/>
          <a:stretch/>
        </p:blipFill>
        <p:spPr>
          <a:xfrm>
            <a:off x="3214800" y="0"/>
            <a:ext cx="58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echanics of Partially Saturated Soils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il behaviour is controlled by the effective stresses acting on 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presence of air complicates the estimation of effective stress – pore air pressure and pore water pressure have different values, pore air pressure being greater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arious attempts have been made to find a “form” of the effective stress equation applicable to partially saturated soil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Bishop’s equation was the first and is still probably the best known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GB" sz="3200" spc="-1" strike="noStrike">
                <a:solidFill>
                  <a:srgbClr val="006600"/>
                </a:solidFill>
                <a:latin typeface="Symbol"/>
                <a:ea typeface="Symbol"/>
              </a:rPr>
              <a:t></a:t>
            </a: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(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-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) +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(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–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GB" sz="3200" spc="-1" strike="noStrike">
                <a:solidFill>
                  <a:srgbClr val="0066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= effective stres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total stres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= pore air pressur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= pore water pressur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parameter depending on degree of saturation, having a value from 0 to1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–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is generally called the matric suc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666880"/>
            <a:ext cx="766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0T00:45:01Z</dcterms:created>
  <dc:creator>Laurie Wesley</dc:creator>
  <dc:description/>
  <dc:language>en-US</dc:language>
  <cp:lastModifiedBy>Laurie Wesley</cp:lastModifiedBy>
  <dcterms:modified xsi:type="dcterms:W3CDTF">2005-09-26T21:59:58Z</dcterms:modified>
  <cp:revision>79</cp:revision>
  <dc:subject/>
  <dc:title>GEOTECHNICAL ENGINEERING IN RESIUDAL SOILS  University of Chile, Santiago   PART 1: WEATHERING PROCESSES AND SOIL FORMATION</dc:title>
</cp:coreProperties>
</file>