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7A2-3E1C-4A95-96C8-0EE95D47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CD1-3FA3-4AE8-94B5-BEF1076F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6CE-BC2C-4630-B888-CCFECED8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A8A-50BD-4794-81E9-586CFE8D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7F0-FEB5-4F66-B31D-E6B0C376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DD4-F677-4ACD-8EE9-7B62D5CF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35D-EFE5-4E71-82D6-9DB4A93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9C-A530-4C16-AB3F-71EFFA5D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79F-560D-4C50-BF54-421C5A9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FCB-526C-4DB8-B23A-FADEF4B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36F-CE8B-41B2-A28F-B2F302B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13C-7661-403B-B371-C05C1CB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C3F-6C69-45C4-A3BE-65B25AC8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EOTECHNICAL ENGINEERING IN RESIDUAL SOILS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8: OTHER SPECIAL SOIL GROUPS -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TIALLY SATURATED SOILS, EXPANSIVE SOILS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LAPSING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 help understand this equation consider a natural soil close to the ground surfa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air pressure is atmospheric (ie zero) so the equation becom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-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ly the equation would b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 the effect of air in the soil is to reduce the influence of the pore pressure on the effective stress in the soil (Since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less than on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ffective stress – pore pressure relationship and degree of saturation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Stresses%20in%20ground%20&amp;%20partial%20saturation" descr=""/>
          <p:cNvPicPr/>
          <p:nvPr/>
        </p:nvPicPr>
        <p:blipFill>
          <a:blip r:embed="rId1"/>
          <a:srcRect l="-7625" t="-2248" r="-10881" b="-4109"/>
          <a:stretch/>
        </p:blipFill>
        <p:spPr>
          <a:xfrm>
            <a:off x="0" y="129528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ttempts to apply this equation to analyse practical problems have not met with much succes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pler semi-empirical approaches have been proposed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redlund &amp; Rahardjo have proposed treating the components of strength coming from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and 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separatel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avoids trying to determine the actual or true effective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ain interest in analytical treatment of partially saturated soils appears be slope stab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wo behaviour “models” are needed: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pore pressure in the ground to weather conditions (transient behaviour)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soil strength to the pore pressure state (actually to the effective stress state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m, Fredlund, and Barbour (1987) method: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form of the conventional continuity equation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here  Q is flow into element from external source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is the slope of the volumetric water content versus u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volumetric water content (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 is the volume of water per unit volume of soil, so that: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581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1676520"/>
                <a:ext cx="624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62400" y="5181480"/>
                <a:ext cx="2044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olumetric water content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 is the volume of water per unit volume of soil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nges in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rise from two sources: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moves in or out as a result of compression of the soil (as in normal consolidation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flows in and out and is inter-changed with air  - ie the degree of saturation varie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lumetric water content curv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7" name="Volumetric%20water%20content%20functions" descr=""/>
          <p:cNvPicPr/>
          <p:nvPr/>
        </p:nvPicPr>
        <p:blipFill>
          <a:blip r:embed="rId1"/>
          <a:srcRect l="-6340" t="-4808" r="5317" b="-5775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art from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(or m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), a second parameter governs seepage, namely k – and must be defined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9" name="Vol.%20wc%20and%20k%20functions%20Uns.%20soil" descr=""/>
          <p:cNvPicPr/>
          <p:nvPr/>
        </p:nvPicPr>
        <p:blipFill>
          <a:blip r:embed="rId1"/>
          <a:srcRect l="-15429" t="-3455" r="-19965" b="-2508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application of this method, along with any other complex seepage analysis, requires a numerical solution and therefore can really only be used if a suitable computer programme is availabl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programme SEEP/W is based around this method of Lam et al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redlund and Rahardjo’s equation for shear strength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 c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angle of cohesion intercept increase with increasing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is expression, the frictional component of shear strength is divided into two components – one essentially from the total stress, and one from the soil “suction” ie the negative pore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ally saturated soils: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actors that control their exist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mat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icle size of the soil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Depth of water tab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opography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tended Mohr-Coulomb failure envelope for partially saturated soils (Fredlund’s equation)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4" name="Mohr%20Coulomb%20diagram%20-%20unsaturated%20soil" descr="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omputer programme Slope/W uses this equation when dealing with partially saturated soils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parameter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usually found to have a value between 1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and 20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(according to the writer’s of the computer programme SLOPE/W),  though it could theoretically exceed 4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????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redlund expression for shear strength is not really satisfactory theoretically as it implies the contribution to shear strength from soil suction is a cohesion component, whereas it is actually a frictional component 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ever, the expression provides a means of modelling unsaturated soils for practical purposes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 the difference between the Fredlund approach and Bishop’s approach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9" name="Fredlund-Bishop%20shear%20strength%20approaches" descr=""/>
          <p:cNvPicPr/>
          <p:nvPr/>
        </p:nvPicPr>
        <p:blipFill>
          <a:blip r:embed="rId1"/>
          <a:srcRect l="-1513" t="-5803" r="-3903" b="-5861"/>
          <a:stretch/>
        </p:blipFill>
        <p:spPr>
          <a:xfrm>
            <a:off x="0" y="117324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isive or Swelling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se problem soils occur in relatively dry countries, especially South Africa (and other parts of Africa) and Australia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ground surface swells causing distortion and damage to buildings on shallow foundations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ditions for occurrence of expansive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istence of clayey soils containing active clay minerals – smectite (montmorillonit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fairly dry climate, with long dry seasons and some periods of rainfal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oth factors must be present – a case where both soil properties and groundwater conditions are equally important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sive clays represent a soil condition rather than a particular type of material. 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28954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of the CH type found in relatively low lying flat areas having a relatively dry climate are most likely to cause swelling problem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asic mechanism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ir natural state, the soils exist in a state of high “suction” ie large negative pore water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natural state is upset and water becomes available to the soil. It soaks up water and swel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 worst cases the soil is partly saturated, but the problem can still occur with fully saturated soils.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ources of increased water supply to the soil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ost commonly, a change in land u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could be urban development, or conversion of land to farming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rrigation or leaking pipes supply water to the ground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n external water source is not essential – simply covering the ground can be enough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s swelling soil problem is simply an extension of the  foundation settlement situation covered earlier – Assignment No 2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gative pore pressure is much greater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t change in effective stress becomes negative and the soil swells rather than compress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is clearly the most domin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ustralia, South Africa, parts of the Middle East, are known to have large areas of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t tropical countries like Indonesia and Malaysia, and temperate countries like New Zealand and most of Northern Europe and North America contain only minor areas of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oundwater%20re-charge%20and%20evaporation" descr=""/>
          <p:cNvPicPr/>
          <p:nvPr/>
        </p:nvPicPr>
        <p:blipFill>
          <a:blip r:embed="rId1"/>
          <a:srcRect l="-2016" t="-7199" r="-546" b="-7199"/>
          <a:stretch/>
        </p:blipFill>
        <p:spPr>
          <a:xfrm>
            <a:off x="0" y="23184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uation where no external water source is needed to cause soil swelling - covering the surface cuts off evaporation, and water is taken up by the soil 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stimation of Swelling Pressure and Swell Magnitud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main concern with swelling clays is the magnitude rather than the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thods in use for estimating pressure and magnitude range from purely empirical to theoretica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 will only consider methods which make use, or relate to the principle of effective stress in this cours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thods using the principle of effective stress involve the following: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timation of initial and final stresses and changes in effective stress throughout lay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asurement of swell characteristics of the soi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lculation of swell of sub-layers, similar to normal settlement estim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c soil swelling model – 2 identical samples – water added – one allowed to swell, the other restrained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9" name="Basic%20swelling%20model%20(Frydman)" descr=""/>
          <p:cNvPicPr/>
          <p:nvPr/>
        </p:nvPicPr>
        <p:blipFill>
          <a:blip r:embed="rId1"/>
          <a:srcRect l="-3227" t="-2096" r="-1746" b="-916"/>
          <a:stretch/>
        </p:blipFill>
        <p:spPr>
          <a:xfrm>
            <a:off x="76320" y="1363680"/>
            <a:ext cx="8839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asurement of swell pressure, and swell magnitude – identical samples, differing stresses applied, water added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Swell%20pressure%20measurement" descr=""/>
          <p:cNvPicPr/>
          <p:nvPr/>
        </p:nvPicPr>
        <p:blipFill>
          <a:blip r:embed="rId1"/>
          <a:srcRect l="0" t="-3484" r="-2912" b="-2550"/>
          <a:stretch/>
        </p:blipFill>
        <p:spPr>
          <a:xfrm>
            <a:off x="0" y="107964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is graph can be used directly to estimate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potential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well. Note the important limitations: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test data may be dependent on the time of year the test is don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swell estimate assumes that “wetting” of the soil causes the suction to entirely disappear. This may not be the case in practice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llapsing Soil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which undergo a sudden decrease in volume when water becomes available to them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sually refers to foundation performanc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y behave in the opposite manner to swelling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like swelling soils, their behaviour cannot be explained on the basis of effective stress concep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ccurrence of collapsing soils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all are partially saturated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oess soils – wind blown deposits having a very loose open struct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  Highly weathered residual soils, such as some weathered granites, - and a variety of rock types in Brazil result in a “porous clay” with collapsing behaviou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line soils – found in various countries, including northern Chil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fluence of wetting: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the soil particles themselv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bonds between particl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solves bonding material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liminates surface tension forces between particles that were providing stabilit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llustration of collapsing behaviou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1" name="Collapsing%20soil%20concept" descr=""/>
          <p:cNvPicPr/>
          <p:nvPr/>
        </p:nvPicPr>
        <p:blipFill>
          <a:blip r:embed="rId1"/>
          <a:srcRect l="-4707" t="-4883" r="-4741" b="9141"/>
          <a:stretch/>
        </p:blipFill>
        <p:spPr>
          <a:xfrm>
            <a:off x="0" y="9349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has two significant effects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promote intense weathering, and the formation of fine grained soils ie clay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inhibit evaporation from the soi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factors mean that the soils are likely to be fully saturated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dry climates, the opposite is likely to be tru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partially saturated soils can show both expansive  and collapse behaviou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3" name="Swell%20collapse%20behaviour" descr=""/>
          <p:cNvPicPr/>
          <p:nvPr/>
        </p:nvPicPr>
        <p:blipFill>
          <a:blip r:embed="rId1"/>
          <a:srcRect l="0" t="0" r="0" b="6120"/>
          <a:stretch/>
        </p:blipFill>
        <p:spPr>
          <a:xfrm>
            <a:off x="1066680" y="1066680"/>
            <a:ext cx="6705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cle size has a very import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already discussed, water cannot drain out of a very fine grained soil under gravity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nest particle size permitting easy drainage under gravity is about 0.06mm – the division between sand and silt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oils finer than this can still become unsaturated - by evaporation, at ground surface or along fissures or cracks in the soi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Hong Kong weathered granites – an example of partially saturated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ng Kong appears to be reasonably warm and wet – but has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athered granites in Hong Kong are not very fine grained – and the place is very hilly (ie deep water table) - this accounts for partial satur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ments of degree of saturation – Hong Kong study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40% with deep water table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90% with shallow water tabl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19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K deg of saturation graphs" descr="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3214800" y="0"/>
            <a:ext cx="58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echanics of Partially Saturated Soils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 behaviour is controlled by the effective stresses acting on 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presence of air complicates the estimation of effective stress – pore air pressure and pore water pressure have different values, pore air pressure being greater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arious attempts have been made to find a “form” of the effective stress equation applicable to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ishop’s equation was the first and is still probably the best know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+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effective stres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total stres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ai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wate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parameter depending on degree of saturation, having a value from 0 to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generally called the matric s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76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00:45:01Z</dcterms:created>
  <dc:creator>Laurie Wesley</dc:creator>
  <dc:description/>
  <dc:language>en-US</dc:language>
  <cp:lastModifiedBy>Laurie Wesley</cp:lastModifiedBy>
  <dcterms:modified xsi:type="dcterms:W3CDTF">2005-09-26T21:59:58Z</dcterms:modified>
  <cp:revision>79</cp:revision>
  <dc:subject/>
  <dc:title>GEOTECHNICAL ENGINEERING IN RESIUDAL SOILS  University of Chile, Santiago   PART 1: WEATHERING PROCESSES AND SOIL FORMATION</dc:title>
</cp:coreProperties>
</file>