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media/image9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image8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02A1-2FD4-4E6D-A3A8-155E52BA9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198F-3F67-4A3F-A965-97BA1D9DF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C48F-37FC-4A96-88D8-DF222028D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4DB0-9955-4F58-97CF-6E915E4AA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4C3D-D412-4484-94DD-24C7E7C63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4F67-62A8-49C9-A055-B969A8E29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E8A0-FC9F-4C53-B853-D90380BD9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2386-CA4C-443F-83D9-FD7830ED8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F92E-BD91-4B30-8FC8-3D9678698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A113-CB81-4D57-8A9C-E1A5020CE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B4C3-4C48-40D2-BD08-209509A2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BDE8-4684-4680-BB7C-3EFF9233D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43653-3261-4912-ACE2-87E9BB659B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GEOTECHNICAL ENGINEERING IN RESIDUAL SOILS </a:t>
            </a:r>
            <a:br>
              <a:rPr sz="3600"/>
            </a:b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University of Chile, Santiago 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PART 8: OTHER SPECIAL SOIL GROUPS - </a:t>
            </a:r>
            <a:br>
              <a:rPr sz="3600"/>
            </a:b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ARTIALLY SATURATED SOILS, EXPANSIVE SOILS,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OLLAPSING SOILS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To help understand this equation consider a natural soil close to the ground surface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28600" y="13716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The air pressure is atmospheric (ie zero) so the equation become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Symbol"/>
                <a:ea typeface="Symbol"/>
              </a:rPr>
              <a:t></a:t>
            </a: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006600"/>
                </a:solidFill>
                <a:latin typeface="Symbol"/>
                <a:ea typeface="Symbol"/>
              </a:rPr>
              <a:t>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 - </a:t>
            </a:r>
            <a:r>
              <a:rPr b="1" lang="en-US" sz="3200" spc="-1" strike="noStrike">
                <a:solidFill>
                  <a:srgbClr val="006600"/>
                </a:solidFill>
                <a:latin typeface="Symbol"/>
                <a:ea typeface="Symbol"/>
              </a:rPr>
              <a:t>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u</a:t>
            </a:r>
            <a:r>
              <a:rPr b="1" lang="en-US" sz="3200" spc="-1" strike="noStrike" baseline="-25000">
                <a:solidFill>
                  <a:srgbClr val="006600"/>
                </a:solidFill>
                <a:latin typeface="Arial"/>
              </a:rPr>
              <a:t>w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Normally the equation would be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Symbol"/>
                <a:ea typeface="Symbol"/>
              </a:rPr>
              <a:t></a:t>
            </a: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006600"/>
                </a:solidFill>
                <a:latin typeface="Symbol"/>
                <a:ea typeface="Symbol"/>
              </a:rPr>
              <a:t>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 – u</a:t>
            </a:r>
            <a:r>
              <a:rPr b="1" lang="en-US" sz="3200" spc="-1" strike="noStrike" baseline="-25000">
                <a:solidFill>
                  <a:srgbClr val="006600"/>
                </a:solidFill>
                <a:latin typeface="Arial"/>
              </a:rPr>
              <a:t>w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so the effect of air in the soil is to reduce the influence of the pore pressure on the effective stress in the soil (Since  </a:t>
            </a:r>
            <a:r>
              <a:rPr b="1" lang="en-US" sz="3200" spc="-1" strike="noStrike">
                <a:solidFill>
                  <a:srgbClr val="006600"/>
                </a:solidFill>
                <a:latin typeface="Symbol"/>
                <a:ea typeface="Symbol"/>
              </a:rPr>
              <a:t>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is less than one)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Effective stress – pore pressure relationship and degree of saturation</a:t>
            </a: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pic>
        <p:nvPicPr>
          <p:cNvPr id="63" name="Stresses%20in%20ground%20&amp;%20partial%20saturation" descr=""/>
          <p:cNvPicPr/>
          <p:nvPr/>
        </p:nvPicPr>
        <p:blipFill>
          <a:blip r:embed="rId1"/>
          <a:srcRect l="-7625" t="-2248" r="-10881" b="-4109"/>
          <a:stretch/>
        </p:blipFill>
        <p:spPr>
          <a:xfrm>
            <a:off x="0" y="1295280"/>
            <a:ext cx="9144000" cy="551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3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Attempts to apply this equation to analyse practical problems have not met with much success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4920" y="21333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Simpler semi-empirical approaches have been proposed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Fredlund &amp; Rahardjo have proposed treating the components of strength coming from (</a:t>
            </a:r>
            <a:r>
              <a:rPr b="1" lang="en-US" sz="3200" spc="-1" strike="noStrike">
                <a:solidFill>
                  <a:srgbClr val="006600"/>
                </a:solidFill>
                <a:latin typeface="Symbol"/>
                <a:ea typeface="Symbol"/>
              </a:rPr>
              <a:t>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- u</a:t>
            </a:r>
            <a:r>
              <a:rPr b="1" lang="en-US" sz="3200" spc="-1" strike="noStrike" baseline="-25000">
                <a:solidFill>
                  <a:srgbClr val="006600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) and  (u</a:t>
            </a:r>
            <a:r>
              <a:rPr b="1" lang="en-US" sz="3200" spc="-1" strike="noStrike" baseline="-25000">
                <a:solidFill>
                  <a:srgbClr val="006600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– u</a:t>
            </a:r>
            <a:r>
              <a:rPr b="1" lang="en-US" sz="3200" spc="-1" strike="noStrike" baseline="-25000">
                <a:solidFill>
                  <a:srgbClr val="006600"/>
                </a:solidFill>
                <a:latin typeface="Arial"/>
              </a:rPr>
              <a:t>w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) separately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This avoids trying to determine the actual or true effective stress.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Main interest in analytical treatment of partially saturated soils appears be slope stability</a:t>
            </a:r>
            <a:endParaRPr b="1" lang="en-US" sz="28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765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Two behaviour “models” are needed: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One to relate the pore pressure in the ground to weather conditions (transient behaviour) 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One to relate the soil strength to the pore pressure state (actually to the effective stress state)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Lam, Fredlund, and Barbour (1987) method:</a:t>
            </a: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228600" y="99072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A form of the conventional continuity equation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Where  Q is flow into element from external source 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m</a:t>
            </a:r>
            <a:r>
              <a:rPr b="1" lang="en-US" sz="2400" spc="-1" strike="noStrike" baseline="-25000">
                <a:solidFill>
                  <a:srgbClr val="006600"/>
                </a:solidFill>
                <a:latin typeface="Arial"/>
              </a:rPr>
              <a:t>w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is the slope of the volumetric water content versus u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The volumetric water content (</a:t>
            </a:r>
            <a:r>
              <a:rPr b="1" lang="en-US" sz="2400" spc="-1" strike="noStrike">
                <a:solidFill>
                  <a:srgbClr val="006600"/>
                </a:solidFill>
                <a:latin typeface="Symbol"/>
                <a:ea typeface="Symbol"/>
              </a:rPr>
              <a:t>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) is the volume of water per unit volume of soil, so that: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                              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4508640" y="3340080"/>
                <a:ext cx="1267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5812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838080" y="1676520"/>
                <a:ext cx="6248520" cy="15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Q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w</m:t>
                        </m:r>
                        <m:r>
                          <m:t xml:space="preserve"> </m:t>
                        </m:r>
                      </m:sub>
                    </m:sSub>
                    <m:f>
                      <m:num>
                        <m:r>
                          <m:t xml:space="preserve">∂</m:t>
                        </m:r>
                        <m:r>
                          <m:t xml:space="preserve">h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5162400" y="5181480"/>
                <a:ext cx="2044800" cy="13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θ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u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The volumetric water content, </a:t>
            </a:r>
            <a:r>
              <a:rPr b="1" lang="en-US" sz="3200" spc="-1" strike="noStrike">
                <a:solidFill>
                  <a:srgbClr val="990033"/>
                </a:solidFill>
                <a:latin typeface="Symbol"/>
                <a:ea typeface="Symbol"/>
              </a:rPr>
              <a:t>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, is the volume of water per unit volume of soil, </a:t>
            </a:r>
            <a:r>
              <a:rPr b="1" lang="en-US" sz="3200" spc="-1" strike="noStrike">
                <a:solidFill>
                  <a:srgbClr val="990033"/>
                </a:solidFill>
                <a:latin typeface="Symbol"/>
                <a:ea typeface="Symbol"/>
              </a:rPr>
              <a:t>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304560" y="1523520"/>
            <a:ext cx="8458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Changes in </a:t>
            </a:r>
            <a:r>
              <a:rPr b="1" lang="en-US" sz="3200" spc="-1" strike="noStrike">
                <a:solidFill>
                  <a:srgbClr val="006600"/>
                </a:solidFill>
                <a:latin typeface="Symbol"/>
                <a:ea typeface="Symbol"/>
              </a:rPr>
              <a:t>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arise from two sources: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Water that moves in or out as a result of compression of the soil (as in normal consolidation)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Water that flows in and out and is inter-changed with air  - ie the degree of saturation varies.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Volumetric water content curves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pic>
        <p:nvPicPr>
          <p:cNvPr id="77" name="Volumetric%20water%20content%20functions" descr=""/>
          <p:cNvPicPr/>
          <p:nvPr/>
        </p:nvPicPr>
        <p:blipFill>
          <a:blip r:embed="rId1"/>
          <a:srcRect l="-6340" t="-4808" r="5317" b="-5775"/>
          <a:stretch/>
        </p:blipFill>
        <p:spPr>
          <a:xfrm>
            <a:off x="0" y="1003320"/>
            <a:ext cx="914400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991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Apart from </a:t>
            </a:r>
            <a:r>
              <a:rPr b="1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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 (or m</a:t>
            </a:r>
            <a:r>
              <a:rPr b="1" lang="en-US" sz="2800" spc="-1" strike="noStrike" baseline="-25000">
                <a:solidFill>
                  <a:srgbClr val="990033"/>
                </a:solidFill>
                <a:latin typeface="Arial"/>
              </a:rPr>
              <a:t>w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), a second parameter governs seepage, namely k – and must be defined </a:t>
            </a:r>
            <a:endParaRPr b="1" lang="en-US" sz="2800" spc="-1" strike="noStrike">
              <a:solidFill>
                <a:srgbClr val="990033"/>
              </a:solidFill>
              <a:latin typeface="Arial"/>
            </a:endParaRPr>
          </a:p>
        </p:txBody>
      </p:sp>
      <p:pic>
        <p:nvPicPr>
          <p:cNvPr id="79" name="Vol.%20wc%20and%20k%20functions%20Uns.%20soil" descr=""/>
          <p:cNvPicPr/>
          <p:nvPr/>
        </p:nvPicPr>
        <p:blipFill>
          <a:blip r:embed="rId1"/>
          <a:srcRect l="-15429" t="-3455" r="-19965" b="-2508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The application of this method, along with any other complex seepage analysis, requires a numerical solution and therefore can really only be used if a suitable computer programme is available 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The programme SEEP/W is based around this method of Lam et al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Fredlund and Rahardjo’s equation for shear strength</a:t>
            </a: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28600" y="160020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buClr>
                <a:srgbClr val="006600"/>
              </a:buClr>
              <a:buFont typeface="Symbol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= c</a:t>
            </a:r>
            <a:r>
              <a:rPr b="1" lang="en-US" sz="3600" spc="-1" strike="noStrike">
                <a:solidFill>
                  <a:srgbClr val="006600"/>
                </a:solidFill>
                <a:latin typeface="Symbol"/>
                <a:ea typeface="Symbol"/>
              </a:rPr>
              <a:t>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 + (u</a:t>
            </a:r>
            <a:r>
              <a:rPr b="1" lang="en-US" sz="3600" spc="-1" strike="noStrike" baseline="-25000">
                <a:solidFill>
                  <a:srgbClr val="006600"/>
                </a:solidFill>
                <a:latin typeface="Arial"/>
              </a:rPr>
              <a:t>a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 – u</a:t>
            </a:r>
            <a:r>
              <a:rPr b="1" lang="en-US" sz="3600" spc="-1" strike="noStrike" baseline="-25000">
                <a:solidFill>
                  <a:srgbClr val="006600"/>
                </a:solidFill>
                <a:latin typeface="Arial"/>
              </a:rPr>
              <a:t>w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)tan</a:t>
            </a:r>
            <a:r>
              <a:rPr b="1" lang="en-US" sz="3600" spc="-1" strike="noStrike">
                <a:solidFill>
                  <a:srgbClr val="006600"/>
                </a:solidFill>
                <a:latin typeface="Symbol"/>
                <a:ea typeface="Symbol"/>
              </a:rPr>
              <a:t></a:t>
            </a:r>
            <a:r>
              <a:rPr b="1" lang="en-US" sz="3600" spc="-1" strike="noStrike" baseline="30000">
                <a:solidFill>
                  <a:srgbClr val="006600"/>
                </a:solidFill>
                <a:latin typeface="Arial"/>
              </a:rPr>
              <a:t>b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 + (</a:t>
            </a:r>
            <a:r>
              <a:rPr b="1" lang="en-US" sz="3600" spc="-1" strike="noStrike">
                <a:solidFill>
                  <a:srgbClr val="006600"/>
                </a:solidFill>
                <a:latin typeface="Symbol"/>
                <a:ea typeface="Symbol"/>
              </a:rPr>
              <a:t>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 - u</a:t>
            </a:r>
            <a:r>
              <a:rPr b="1" lang="en-US" sz="3600" spc="-1" strike="noStrike" baseline="-25000">
                <a:solidFill>
                  <a:srgbClr val="006600"/>
                </a:solidFill>
                <a:latin typeface="Arial"/>
              </a:rPr>
              <a:t>a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)tan</a:t>
            </a:r>
            <a:r>
              <a:rPr b="1" lang="en-US" sz="3600" spc="-1" strike="noStrike">
                <a:solidFill>
                  <a:srgbClr val="006600"/>
                </a:solidFill>
                <a:latin typeface="Symbol"/>
                <a:ea typeface="Symbol"/>
              </a:rPr>
              <a:t></a:t>
            </a:r>
            <a:r>
              <a:rPr b="1" lang="en-GB" sz="3600" spc="-1" strike="noStrike">
                <a:solidFill>
                  <a:srgbClr val="006600"/>
                </a:solidFill>
                <a:latin typeface="Symbol"/>
                <a:ea typeface="Symbol"/>
              </a:rPr>
              <a:t>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where </a:t>
            </a:r>
            <a:r>
              <a:rPr b="1" lang="en-US" sz="3200" spc="-1" strike="noStrike">
                <a:solidFill>
                  <a:srgbClr val="006600"/>
                </a:solidFill>
                <a:latin typeface="Symbol"/>
                <a:ea typeface="Symbol"/>
              </a:rPr>
              <a:t></a:t>
            </a:r>
            <a:r>
              <a:rPr b="1" lang="en-US" sz="3200" spc="-1" strike="noStrike" baseline="30000">
                <a:solidFill>
                  <a:srgbClr val="006600"/>
                </a:solidFill>
                <a:latin typeface="Arial"/>
              </a:rPr>
              <a:t>b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= angle of cohesion intercept increase with increasing stress.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In this expression, the frictional component of shear strength is divided into two components – one essentially from the total stress, and one from the soil “suction” ie the negative pore pressure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Partially saturated soils:</a:t>
            </a:r>
            <a:br>
              <a:rPr sz="4000"/>
            </a:b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Factors that control their existence 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Climate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Particle size of the soil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Depth of water table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Topography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Extended Mohr-Coulomb failure envelope for partially saturated soils (Fredlund’s equation)</a:t>
            </a: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pic>
        <p:nvPicPr>
          <p:cNvPr id="84" name="Mohr%20Coulomb%20diagram%20-%20unsaturated%20soil" descr=""/>
          <p:cNvPicPr/>
          <p:nvPr/>
        </p:nvPicPr>
        <p:blipFill>
          <a:blip r:embed="rId1"/>
          <a:stretch/>
        </p:blipFill>
        <p:spPr>
          <a:xfrm>
            <a:off x="0" y="1392120"/>
            <a:ext cx="9144000" cy="54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The computer programme Slope/W uses this equation when dealing with partially saturated soils</a:t>
            </a: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The parameter </a:t>
            </a:r>
            <a:r>
              <a:rPr b="1" lang="en-US" sz="2800" spc="-1" strike="noStrike">
                <a:solidFill>
                  <a:srgbClr val="006600"/>
                </a:solidFill>
                <a:latin typeface="Symbol"/>
                <a:ea typeface="Symbol"/>
              </a:rPr>
              <a:t></a:t>
            </a:r>
            <a:r>
              <a:rPr b="1" lang="en-US" sz="2800" spc="-1" strike="noStrike" baseline="30000">
                <a:solidFill>
                  <a:srgbClr val="006600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is usually found to have a value between 15</a:t>
            </a:r>
            <a:r>
              <a:rPr b="1" lang="en-US" sz="2800" spc="-1" strike="noStrike" baseline="30000">
                <a:solidFill>
                  <a:srgbClr val="006600"/>
                </a:solidFill>
                <a:latin typeface="Arial"/>
              </a:rPr>
              <a:t>o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and 20</a:t>
            </a:r>
            <a:r>
              <a:rPr b="1" lang="en-US" sz="2800" spc="-1" strike="noStrike" baseline="30000">
                <a:solidFill>
                  <a:srgbClr val="006600"/>
                </a:solidFill>
                <a:latin typeface="Arial"/>
              </a:rPr>
              <a:t>o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, (according to the writer’s of the computer programme SLOPE/W),  though it could theoretically exceed 45</a:t>
            </a:r>
            <a:r>
              <a:rPr b="1" lang="en-US" sz="2800" spc="-1" strike="noStrike" baseline="30000">
                <a:solidFill>
                  <a:srgbClr val="006600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(????)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1430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The Fredlund expression for shear strength is not really satisfactory theoretically as it implies the contribution to shear strength from soil suction is a cohesion component, whereas it is actually a frictional component . 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However, the expression provides a means of modelling unsaturated soils for practical purposes.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Note the difference between the Fredlund approach and Bishop’s approach.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pic>
        <p:nvPicPr>
          <p:cNvPr id="89" name="Fredlund-Bishop%20shear%20strength%20approaches" descr=""/>
          <p:cNvPicPr/>
          <p:nvPr/>
        </p:nvPicPr>
        <p:blipFill>
          <a:blip r:embed="rId1"/>
          <a:srcRect l="-1513" t="-5803" r="-3903" b="-5861"/>
          <a:stretch/>
        </p:blipFill>
        <p:spPr>
          <a:xfrm>
            <a:off x="0" y="1173240"/>
            <a:ext cx="9144000" cy="56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Expanisive or Swelling Clays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2860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These problem soils occur in relatively dry countries, especially South Africa (and other parts of Africa) and Australia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The ground surface swells causing distortion and damage to buildings on shallow foundations.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Conditions for occurrence of expansive clays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52280" y="14475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existence of clayey soils containing active clay minerals – smectite (montmorillonite)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a fairly dry climate, with long dry seasons and some periods of rainfall.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Both factors must be present – a case where both soil properties and groundwater conditions are equally important.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Expansive clays represent a soil condition rather than a particular type of material.  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6840" y="2895480"/>
            <a:ext cx="79246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Soils of the CH type found in relatively low lying flat areas having a relatively dry climate are most likely to cause swelling problems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Basic mechanism 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28240" y="114300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In their natural state, the soils exist in a state of high “suction” ie large negative pore water pressure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This natural state is upset and water becomes available to the soil. It soaks up water and swells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In the worst cases the soil is partly saturated, but the problem can still occur with fully saturated soils. 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Sources of increased water supply to the soil: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Most commonly, a change in land use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This could be urban development, or conversion of land to farming.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Irrigation or leaking pipes supply water to the ground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An external water source is not essential – simply covering the ground can be enough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This swelling soil problem is simply an extension of the  foundation settlement situation covered earlier – Assignment No 2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28600" y="274284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The negative pore pressure is much greater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The net change in effective stress becomes negative and the soil swells rather than compresses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Climate is clearly the most dominant influence 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Australia, South Africa, parts of the Middle East, are known to have large areas of partially saturated soil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Wet tropical countries like Indonesia and Malaysia, and temperate countries like New Zealand and most of Northern Europe and North America contain only minor areas of partially saturated soils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Groundwater%20re-charge%20and%20evaporation" descr=""/>
          <p:cNvPicPr/>
          <p:nvPr/>
        </p:nvPicPr>
        <p:blipFill>
          <a:blip r:embed="rId1"/>
          <a:srcRect l="-2016" t="-7199" r="-546" b="-7199"/>
          <a:stretch/>
        </p:blipFill>
        <p:spPr>
          <a:xfrm>
            <a:off x="0" y="231840"/>
            <a:ext cx="9144000" cy="45338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5105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Situation where no external water source is needed to cause soil swelling - covering the surface cuts off evaporation, and water is taken up by the soil </a:t>
            </a:r>
            <a:endParaRPr b="1" lang="en-US" sz="24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Estimation of Swelling Pressure and Swell Magnitude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The main concern with swelling clays is the magnitude rather than the pressure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Methods in use for estimating pressure and magnitude range from purely empirical to theoretical.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We will only consider methods which make use, or relate to the principle of effective stress in this course.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Methods using the principle of effective stress involve the following: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8534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0066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Estimation of initial and final stresses and changes in effective stress throughout layer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Measurement of swell characteristics of the soil.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Calculation of swell of sub-layers, similar to normal settlement estimate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Basic soil swelling model – 2 identical samples – water added – one allowed to swell, the other restrained</a:t>
            </a:r>
            <a:endParaRPr b="1" lang="en-US" sz="2800" spc="-1" strike="noStrike">
              <a:solidFill>
                <a:srgbClr val="990033"/>
              </a:solidFill>
              <a:latin typeface="Arial"/>
            </a:endParaRPr>
          </a:p>
        </p:txBody>
      </p:sp>
      <p:pic>
        <p:nvPicPr>
          <p:cNvPr id="109" name="Basic%20swelling%20model%20(Frydman)" descr=""/>
          <p:cNvPicPr/>
          <p:nvPr/>
        </p:nvPicPr>
        <p:blipFill>
          <a:blip r:embed="rId1"/>
          <a:srcRect l="-3227" t="-2096" r="-1746" b="-916"/>
          <a:stretch/>
        </p:blipFill>
        <p:spPr>
          <a:xfrm>
            <a:off x="76320" y="1363680"/>
            <a:ext cx="8839080" cy="54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15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Measurement of swell pressure, and swell magnitude – identical samples, differing stresses applied, water added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990033"/>
              </a:solidFill>
              <a:latin typeface="Arial"/>
            </a:endParaRPr>
          </a:p>
        </p:txBody>
      </p:sp>
      <p:pic>
        <p:nvPicPr>
          <p:cNvPr id="111" name="Swell%20pressure%20measurement" descr=""/>
          <p:cNvPicPr/>
          <p:nvPr/>
        </p:nvPicPr>
        <p:blipFill>
          <a:blip r:embed="rId1"/>
          <a:srcRect l="0" t="-3484" r="-2912" b="-2550"/>
          <a:stretch/>
        </p:blipFill>
        <p:spPr>
          <a:xfrm>
            <a:off x="0" y="1079640"/>
            <a:ext cx="91440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This graph can be used directly to estimate </a:t>
            </a:r>
            <a:r>
              <a:rPr b="1" lang="en-US" sz="2800" spc="-1" strike="noStrike" u="sng">
                <a:solidFill>
                  <a:srgbClr val="990033"/>
                </a:solidFill>
                <a:uFillTx/>
                <a:latin typeface="Arial"/>
              </a:rPr>
              <a:t>potential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swell. Note the important limitations: </a:t>
            </a:r>
            <a:endParaRPr b="1" lang="en-US" sz="28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The test data may be dependent on the time of year the test is done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The swell estimate assumes that “wetting” of the soil causes the suction to entirely disappear. This may not be the case in practice.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Collapsing Soils 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Soils which undergo a sudden decrease in volume when water becomes available to them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Usually refers to foundation performance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They behave in the opposite manner to swelling soils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Unlike swelling soils, their behaviour cannot be explained on the basis of effective stress concept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Occurrence of collapsing soils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(all are partially saturated)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Loess soils – wind blown deposits having a very loose open structure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2.   Highly weathered residual soils, such as some weathered granites, - and a variety of rock types in Brazil result in a “porous clay” with collapsing behaviour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Saline soils – found in various countries, including northern Chile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Influence of wetting: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304560" y="12189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Softens the soil particles themselve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Softens bonds between particles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Dissolves bonding material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Eliminates surface tension forces between particles that were providing stability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Illustration of collapsing behaviour</a:t>
            </a:r>
            <a:endParaRPr b="1" lang="en-US" sz="2800" spc="-1" strike="noStrike">
              <a:solidFill>
                <a:srgbClr val="990033"/>
              </a:solidFill>
              <a:latin typeface="Arial"/>
            </a:endParaRPr>
          </a:p>
        </p:txBody>
      </p:sp>
      <p:pic>
        <p:nvPicPr>
          <p:cNvPr id="121" name="Collapsing%20soil%20concept" descr=""/>
          <p:cNvPicPr/>
          <p:nvPr/>
        </p:nvPicPr>
        <p:blipFill>
          <a:blip r:embed="rId1"/>
          <a:srcRect l="-4707" t="-4883" r="-4741" b="9141"/>
          <a:stretch/>
        </p:blipFill>
        <p:spPr>
          <a:xfrm>
            <a:off x="0" y="934920"/>
            <a:ext cx="9144000" cy="58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Climate has two significant effects: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Warm, wet climates promote intense weathering, and the formation of fine grained soils ie clays.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Warm, wet climates inhibit evaporation from the soi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These factors mean that the soils are likely to be fully saturated.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In dry climates, the opposite is likely to be true.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Some partially saturated soils can show both expansive  and collapse behaviour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990033"/>
              </a:solidFill>
              <a:latin typeface="Arial"/>
            </a:endParaRPr>
          </a:p>
        </p:txBody>
      </p:sp>
      <p:pic>
        <p:nvPicPr>
          <p:cNvPr id="123" name="Swell%20collapse%20behaviour" descr=""/>
          <p:cNvPicPr/>
          <p:nvPr/>
        </p:nvPicPr>
        <p:blipFill>
          <a:blip r:embed="rId1"/>
          <a:srcRect l="0" t="0" r="0" b="6120"/>
          <a:stretch/>
        </p:blipFill>
        <p:spPr>
          <a:xfrm>
            <a:off x="1066680" y="1066680"/>
            <a:ext cx="6705720" cy="55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763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Particle size has a very important influence 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As already discussed, water cannot drain out of a very fine grained soil under gravity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The finest particle size permitting easy drainage under gravity is about 0.06mm – the division between sand and silt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Soils finer than this can still become unsaturated - by evaporation, at ground surface or along fissures or cracks in the soil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960" y="76320"/>
            <a:ext cx="8915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The Hong Kong weathered granites – an example of partially saturated soils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Hong Kong appears to be reasonably warm and wet – but has partially saturated soil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Weathered granites in Hong Kong are not very fine grained – and the place is very hilly (ie deep water table) - this accounts for partial saturation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2743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Measurements of degree of saturation – Hong Kong study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S</a:t>
            </a:r>
            <a:r>
              <a:rPr b="1" lang="en-US" sz="2800" spc="-1" strike="noStrike" baseline="-25000">
                <a:solidFill>
                  <a:srgbClr val="990033"/>
                </a:solidFill>
                <a:latin typeface="Arial"/>
              </a:rPr>
              <a:t>r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 =  40% with deep water table</a:t>
            </a:r>
            <a:br>
              <a:rPr sz="2800"/>
            </a:b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S</a:t>
            </a:r>
            <a:r>
              <a:rPr b="1" lang="en-US" sz="2800" spc="-1" strike="noStrike" baseline="-25000">
                <a:solidFill>
                  <a:srgbClr val="990033"/>
                </a:solidFill>
                <a:latin typeface="Arial"/>
              </a:rPr>
              <a:t>r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 =  90% with shallow water table</a:t>
            </a:r>
            <a:endParaRPr b="1" lang="en-US" sz="28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71960" y="16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HK deg of saturation graphs" descr=""/>
          <p:cNvPicPr/>
          <p:nvPr/>
        </p:nvPicPr>
        <p:blipFill>
          <a:blip r:embed="rId1"/>
          <a:srcRect l="0" t="3330" r="0" b="3330"/>
          <a:stretch/>
        </p:blipFill>
        <p:spPr>
          <a:xfrm>
            <a:off x="3214800" y="0"/>
            <a:ext cx="585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Mechanics of Partially Saturated Soils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104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Soil behaviour is controlled by the effective stresses acting on it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The presence of air complicates the estimation of effective stress – pore air pressure and pore water pressure have different values, pore air pressure being greater.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Various attempts have been made to find a “form” of the effective stress equation applicable to partially saturated soils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763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Bishop’s equation was the first and is still probably the best known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0" y="15998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6600"/>
                </a:solidFill>
                <a:latin typeface="Symbol"/>
                <a:ea typeface="Symbol"/>
              </a:rPr>
              <a:t></a:t>
            </a:r>
            <a:r>
              <a:rPr b="1" lang="en-GB" sz="3200" spc="-1" strike="noStrike">
                <a:solidFill>
                  <a:srgbClr val="006600"/>
                </a:solidFill>
                <a:latin typeface="Symbol"/>
                <a:ea typeface="Symbol"/>
              </a:rPr>
              <a:t></a:t>
            </a: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= (</a:t>
            </a:r>
            <a:r>
              <a:rPr b="1" lang="en-US" sz="3200" spc="-1" strike="noStrike">
                <a:solidFill>
                  <a:srgbClr val="006600"/>
                </a:solidFill>
                <a:latin typeface="Symbol"/>
                <a:ea typeface="Symbol"/>
              </a:rPr>
              <a:t>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- u</a:t>
            </a:r>
            <a:r>
              <a:rPr b="1" lang="en-US" sz="3200" spc="-1" strike="noStrike" baseline="-25000">
                <a:solidFill>
                  <a:srgbClr val="006600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) + </a:t>
            </a:r>
            <a:r>
              <a:rPr b="1" lang="en-US" sz="3200" spc="-1" strike="noStrike">
                <a:solidFill>
                  <a:srgbClr val="006600"/>
                </a:solidFill>
                <a:latin typeface="Symbol"/>
                <a:ea typeface="Symbol"/>
              </a:rPr>
              <a:t>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(u</a:t>
            </a:r>
            <a:r>
              <a:rPr b="1" lang="en-US" sz="3200" spc="-1" strike="noStrike" baseline="-25000">
                <a:solidFill>
                  <a:srgbClr val="006600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– u</a:t>
            </a:r>
            <a:r>
              <a:rPr b="1" lang="en-US" sz="3200" spc="-1" strike="noStrike" baseline="-25000">
                <a:solidFill>
                  <a:srgbClr val="006600"/>
                </a:solidFill>
                <a:latin typeface="Arial"/>
              </a:rPr>
              <a:t>w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)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where </a:t>
            </a:r>
            <a:r>
              <a:rPr b="1" lang="en-US" sz="3200" spc="-1" strike="noStrike">
                <a:solidFill>
                  <a:srgbClr val="006600"/>
                </a:solidFill>
                <a:latin typeface="Symbol"/>
                <a:ea typeface="Symbol"/>
              </a:rPr>
              <a:t></a:t>
            </a:r>
            <a:r>
              <a:rPr b="1" lang="en-GB" sz="3200" spc="-1" strike="noStrike">
                <a:solidFill>
                  <a:srgbClr val="0066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= effective stres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            </a:t>
            </a:r>
            <a:r>
              <a:rPr b="1" lang="en-US" sz="3200" spc="-1" strike="noStrike">
                <a:solidFill>
                  <a:srgbClr val="006600"/>
                </a:solidFill>
                <a:latin typeface="Symbol"/>
                <a:ea typeface="Symbol"/>
              </a:rPr>
              <a:t>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= total stress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           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u</a:t>
            </a:r>
            <a:r>
              <a:rPr b="1" lang="en-US" sz="3200" spc="-1" strike="noStrike" baseline="-25000">
                <a:solidFill>
                  <a:srgbClr val="006600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= pore air pressure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           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u</a:t>
            </a:r>
            <a:r>
              <a:rPr b="1" lang="en-US" sz="3200" spc="-1" strike="noStrike" baseline="-25000">
                <a:solidFill>
                  <a:srgbClr val="006600"/>
                </a:solidFill>
                <a:latin typeface="Arial"/>
              </a:rPr>
              <a:t>w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= pore water pressure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              </a:t>
            </a:r>
            <a:r>
              <a:rPr b="1" lang="en-US" sz="3200" spc="-1" strike="noStrike">
                <a:solidFill>
                  <a:srgbClr val="006600"/>
                </a:solidFill>
                <a:latin typeface="Symbol"/>
                <a:ea typeface="Symbol"/>
              </a:rPr>
              <a:t>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= parameter depending on degree of saturation, having a value from 0 to1.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u</a:t>
            </a:r>
            <a:r>
              <a:rPr b="1" lang="en-US" sz="3200" spc="-1" strike="noStrike" baseline="-25000">
                <a:solidFill>
                  <a:srgbClr val="006600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– u</a:t>
            </a:r>
            <a:r>
              <a:rPr b="1" lang="en-US" sz="3200" spc="-1" strike="noStrike" baseline="-25000">
                <a:solidFill>
                  <a:srgbClr val="006600"/>
                </a:solidFill>
                <a:latin typeface="Arial"/>
              </a:rPr>
              <a:t>w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is generally called the matric suction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2666880"/>
            <a:ext cx="7668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0T00:45:01Z</dcterms:created>
  <dc:creator>Laurie Wesley</dc:creator>
  <dc:description/>
  <dc:language>en-US</dc:language>
  <cp:lastModifiedBy>Laurie Wesley</cp:lastModifiedBy>
  <dcterms:modified xsi:type="dcterms:W3CDTF">2005-09-26T21:59:58Z</dcterms:modified>
  <cp:revision>79</cp:revision>
  <dc:subject/>
  <dc:title>GEOTECHNICAL ENGINEERING IN RESIUDAL SOILS  University of Chile, Santiago   PART 1: WEATHERING PROCESSES AND SOIL FORMATION</dc:title>
</cp:coreProperties>
</file>