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522-306A-4190-9899-8E87614D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AAB-55E1-4423-9062-2B962A0B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4F5-6CC0-4388-A8D5-F6999305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4A0-FB11-40B9-9BD6-B5E36F9A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144-D828-44EF-8FE1-815E25E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D9C-3018-4903-8F41-3624B103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86E-653D-4146-BDC4-837EA08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B1A-DDDA-4EBA-8B6D-6BC2188E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094-0241-4059-8D6F-F82377C8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800-4D49-43F4-9F55-E0264F8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7DC-9685-4B87-8183-02C3720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D5F-F048-4C89-82FC-D6FB1BA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97DC-52FC-4472-9713-470C992B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GEOTECHNICAL ENGINEERING IN RESIDUAL SOILS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T 7: GEOTECHNICAL ENGINEERING IN RESIDUAL SOIL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olutions for the 2D case of a strip footing, and the 3D case of a circular footing have been obtained by Davis &amp; Poulos (1972)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16864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umerical methods were used to obtain th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cause there is no longer a fixed max drainage path length, the time factor T is defined in terms either of the depth to the hard layer, or a dimension of the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solutions are given for a range of ratios of depth to foundation dimen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D%20cons%20rate%20strip%20footing" descr=""/>
          <p:cNvPicPr/>
          <p:nvPr/>
        </p:nvPicPr>
        <p:blipFill>
          <a:blip r:embed="rId1"/>
          <a:srcRect l="-2536" t="-9608" r="-2536" b="-8317"/>
          <a:stretch/>
        </p:blipFill>
        <p:spPr>
          <a:xfrm>
            <a:off x="0" y="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90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avid &amp; Poulos solution for a strip foot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D%20cons%20rate%20circular%20footing" descr=""/>
          <p:cNvPicPr/>
          <p:nvPr/>
        </p:nvPicPr>
        <p:blipFill>
          <a:blip r:embed="rId1"/>
          <a:srcRect l="-2120" t="-6495" r="-1055" b="-6131"/>
          <a:stretch/>
        </p:blipFill>
        <p:spPr>
          <a:xfrm>
            <a:off x="0" y="0"/>
            <a:ext cx="9144000" cy="5467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avis &amp; Poulos solution for a circular foot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nsider the following example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8534520" cy="56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ircular footing of radius = 1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deep soil layer overlying an impermeabl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soil with a c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of 0.1 m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suming h/a to be about 50, the value of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about 20, so that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about 200 days or 6 mon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any residual soils have c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s greater than this, so that if the construction period is 6 months or longer, most settlement will occur during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f settlement occurs as the load is applied then we can not divide settlement into immediate (elastic) settlement and consolidation (primary) settlem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t is also not possible to divide settlement into primary and secondary settlement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eep Foundation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Large bored piles are widely used in residual soils, especially for high rise building in citie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 bored piles are constructed dry and some wet (ie drilled below water level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ry piles are a big advantage – material can be inspected directly, and hole can be properly cleaned ou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Larger safety factors are necessary when bored piles are formed wet, because base of hole may not be properly cleaned out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 Stability &amp; Slope Engineer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 in residual soils often stable at steep angl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ips are commonly triggered by heavy rainfal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xtent to which stability can be evaluated by analytical methods often very limited because of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certainty in strength parameters,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discontinuites,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certain seepage conditions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ypes%20of%20slips" descr=""/>
          <p:cNvPicPr/>
          <p:nvPr/>
        </p:nvPicPr>
        <p:blipFill>
          <a:blip r:embed="rId1"/>
          <a:srcRect l="-3521" t="-4906" r="-4641" b="-6714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ypes of slides (failure modes) in residual soi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Limitations of Analytical Method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respect to strength parameters, - three slope categories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of homogeneous soil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containing distinct continuous planes of weaknes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of heterogeneous material, but without distinct planes of weaknes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d%20clay%20(stream%20bank)-2" descr=""/>
          <p:cNvPicPr/>
          <p:nvPr/>
        </p:nvPicPr>
        <p:blipFill>
          <a:blip r:embed="rId1"/>
          <a:srcRect l="0" t="5957" r="0" b="11914"/>
          <a:stretch/>
        </p:blipFill>
        <p:spPr>
          <a:xfrm>
            <a:off x="2692440" y="0"/>
            <a:ext cx="6343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281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lope of homogeneous soil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 General Observation on Geotechnical Engineering in Residual Soils :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wo important factors should be recognised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soil itself may behave rather differently from “normal” sedimentary soil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lot of the “action” or activity of interest to geotechnical engineers often occurs above the water table, so the pore pressure state here needs to be taken into account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consisting of homogeneous materia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alue of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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can be measured with reasonable accuracy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alue of c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is very significant but not so easy to measure (tests at low stress levels needed)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MKK%20slope%20defect%20failure" descr=""/>
          <p:cNvPicPr/>
          <p:nvPr/>
        </p:nvPicPr>
        <p:blipFill>
          <a:blip r:embed="rId1"/>
          <a:srcRect l="0" t="0" r="0" b="12240"/>
          <a:stretch/>
        </p:blipFill>
        <p:spPr>
          <a:xfrm>
            <a:off x="2486160" y="0"/>
            <a:ext cx="6608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 containing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containing specific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esence of discontinuities may completely rule out analytical methods of assessing stability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times, discontinuities all have a common orientation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the orientation can be determined, and the strength on it measured, then analytical methods may still be possib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-Karak%20Highway%202-2" descr=""/>
          <p:cNvPicPr/>
          <p:nvPr/>
        </p:nvPicPr>
        <p:blipFill>
          <a:blip r:embed="rId1"/>
          <a:srcRect l="3346" t="9987" r="21748" b="877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ope of heterogenous material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ithout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lopes of heterogeneous materials without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ot the same situation as previous cas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termination of strength parameters still very difficult, because of difficulty of sampling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may be possible to determine strength parameters by back analysis – we will look at these methods later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eepage Conditions &amp; Pore Pressur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ips in residual soils usually occur during periods of heavy rainfall – the result of incresed pore pressur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s an important difference between residual and sedimentary soil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example, in “London clay” pore pressures do not change significantly with seasons – they only change as a result of human activity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urther notes re pore pressure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tability analysis must normally be carried out in terms of effective stress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pore pressure must be the “worst case” value, or at least a value related to a storm intensity, ie a 10 year or a 100 year stor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By doing this, a “supposed” known risk is accepted, similar to the risk accepted in designing for flood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nfluence of negative pore pressur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any slopes in residual soils are stable at steep angles because of negative pore pressure (suction or pore water tension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rainfall may simply be to reduce the negative pore pressu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Rainfall can still induce failures even though the water table does not rise above base of slope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rediction of Pore Pressures in Residual Soil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re are no reliable ways of predicting the “worst cast” pore pressures, or the values corresponding to particular storm event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Various methods are being proposed, from theoretical to empiric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s unlikely that there will ever be reliable theoretical methods – because of heterogenuity and difficulty of defining relevant parameter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 theoretical method available in the Seep/W and Slope/W programm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6" name="Rainfall%20and%20slope%20failures%20-%20Fig%201" descr=""/>
          <p:cNvPicPr/>
          <p:nvPr/>
        </p:nvPicPr>
        <p:blipFill>
          <a:blip r:embed="rId1"/>
          <a:stretch/>
        </p:blipFill>
        <p:spPr>
          <a:xfrm>
            <a:off x="609480" y="1386000"/>
            <a:ext cx="8001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oundation Design and Settlement Estimate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2122560"/>
            <a:ext cx="8093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hallow Foundations – Bearing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latively high strength of most residual soils means that surface foundations are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 bearing capacity theories apply, but following points should be noted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What the method do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EP/W is used to carry out a transient analysis of the changes in water table and pore pressures below and above the water table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puts include rainfall intensity, and soil parameters such as permeability, compressibility, and air entry valu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transient pore pressure conditions are then transferred to SLOPE/W to determine corresponding safety factors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ainfall%20and%20slope%20failures%20-%20Figs%202%20&amp;%203" descr=""/>
          <p:cNvPicPr/>
          <p:nvPr/>
        </p:nvPicPr>
        <p:blipFill>
          <a:blip r:embed="rId1"/>
          <a:srcRect l="0" t="0" r="0" b="2485"/>
          <a:stretch/>
        </p:blipFill>
        <p:spPr>
          <a:xfrm>
            <a:off x="4154400" y="-17640"/>
            <a:ext cx="4989600" cy="687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fluence of rainfall on safety factor after 4 days of intense rainfal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note that the water table has not risen above the toe of the slope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ainfall%20and%20slope%20failures%20-%20Fig%205" descr=""/>
          <p:cNvPicPr/>
          <p:nvPr/>
        </p:nvPicPr>
        <p:blipFill>
          <a:blip r:embed="rId1"/>
          <a:srcRect l="0" t="0" r="4720" b="0"/>
          <a:stretch/>
        </p:blipFill>
        <p:spPr>
          <a:xfrm>
            <a:off x="1371600" y="22320"/>
            <a:ext cx="7696080" cy="6811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1295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Change in suction graph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Toe of slope is at Elev. 13m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ainfall%20and%20slope%20failures%20-%20Fig%206" descr=""/>
          <p:cNvPicPr/>
          <p:nvPr/>
        </p:nvPicPr>
        <p:blipFill>
          <a:blip r:embed="rId1"/>
          <a:srcRect l="0" t="0" r="0" b="3360"/>
          <a:stretch/>
        </p:blipFill>
        <p:spPr>
          <a:xfrm>
            <a:off x="1752480" y="0"/>
            <a:ext cx="739152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1447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rength change with suction change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943600"/>
            <a:ext cx="891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ote: “Suction strength” is actually a component of frictional strength but is calculated separately in the strength parameters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ainfall%20and%20slope%20failures%20-%20Fig%207" descr=""/>
          <p:cNvPicPr/>
          <p:nvPr/>
        </p:nvPicPr>
        <p:blipFill>
          <a:blip r:embed="rId1"/>
          <a:stretch/>
        </p:blipFill>
        <p:spPr>
          <a:xfrm>
            <a:off x="1676520" y="101520"/>
            <a:ext cx="7467480" cy="6335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5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afety factor related to rainfall intensity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8360"/>
            <a:ext cx="12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ote that no change in SF occurs until rainfall intensity exceeds a certai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How reliable is this theoretical method?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“model” used for seepage in partially saturated soils and for predicting pore pressure changes in response to rainfall is a reasonable approximation, but involves simplistic assumption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model for the soil shear strength also involves simplifying assumptions to take account of partial saturation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method is very useful for helping to understand the concepts involved in seepage mechanics above the water table, and especially the influence of partial saturation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Hong Kong situation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ong Kong has been doing field measurements of pore pressure response to weather effects for about 3 decade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conjunction with this attempts have been made to develop predictive method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se methods are essentially empiric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ore pressure response can be divided into two types –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seasonal respon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storm respon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iezometer response in Hong Kong slopes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- note the great variety of respons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14" name="HK%20Typical%20piezometer%20responses" descr=""/>
          <p:cNvPicPr/>
          <p:nvPr/>
        </p:nvPicPr>
        <p:blipFill>
          <a:blip r:embed="rId1"/>
          <a:srcRect l="-2890" t="-1232" r="-1801" b="-1232"/>
          <a:stretch/>
        </p:blipFill>
        <p:spPr>
          <a:xfrm>
            <a:off x="404640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mments on the computer method and the Hong Kong record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52480"/>
            <a:ext cx="8763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great variety of responses obtained from the Hong Kong measurements shows the difficulty of trying to predict pore pressure behaviour theor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computer prediction does agree with one of the Hong Kong forms – it predicts no response until the rainfall intensity reaches a certain value. It thus predicts no seasonal response, only intense storm respo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is sort of behaviour seems quite hard to ex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ote Kenny &amp; Lau paper (1984)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ir study, both from observation and theoretical considerations, suggests that pore pressures in a slope will only change significantly with seasonal change if c</a:t>
            </a:r>
            <a:r>
              <a:rPr b="1" lang="en-US" sz="3200" spc="-1" strike="noStrike" baseline="-25000">
                <a:solidFill>
                  <a:srgbClr val="3366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is greater than about 0.1m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/day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oints to Note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High permeability means that foundation loading may be drained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Design still usually done on basis of undrained strength (E/Q loading is still undrained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Heterogeneous material makes measurement of shear strength difficult. Plate loading tests a good alternativ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nfluence of discontinuities needs consideration – effect not as great as on slope behaviour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Construction in  hilly areas means bearing capacity may be influenced by proximity of slope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Mechanics of Analytical Method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general effective stress analysis is essenti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only exception is an embankment built on a residual soil – the undrained strength of the foundation soil could be use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y well recognised method of stability analysis is OK – Bishop, Sarma, Morgenstern &amp; Price, Spencer etc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articular Rock/Soil Typ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371600"/>
            <a:ext cx="748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We will look at particular residual soil types later in Part 6 of this course, in partic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gneous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andst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olcanic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afety Factors – the Hong Kong “Guide”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4" name="HK%20SFs%20for%20new%20slopes" descr=""/>
          <p:cNvPicPr/>
          <p:nvPr/>
        </p:nvPicPr>
        <p:blipFill>
          <a:blip r:embed="rId1"/>
          <a:srcRect l="-3118" t="-2080" r="-2079" b="-2464"/>
          <a:stretch/>
        </p:blipFill>
        <p:spPr>
          <a:xfrm>
            <a:off x="380880" y="744480"/>
            <a:ext cx="84582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ck Analysis Methods to Determine Soil Parameter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a single slip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a number of slips in same materi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intact slop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for retaining forces for cuts in slop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an we determine the values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this one slip?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8" name="Back%20analysis%20b%206" descr=""/>
          <p:cNvPicPr/>
          <p:nvPr/>
        </p:nvPicPr>
        <p:blipFill>
          <a:blip r:embed="rId1"/>
          <a:srcRect l="-3485" t="-7171" r="-6623" b="-5327"/>
          <a:stretch/>
        </p:blipFill>
        <p:spPr>
          <a:xfrm>
            <a:off x="990720" y="774720"/>
            <a:ext cx="81532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2438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hich is the correct combination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there are several ways to find out.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0" name="Back%20analysis%20c%206.5PP" descr=""/>
          <p:cNvPicPr/>
          <p:nvPr/>
        </p:nvPicPr>
        <p:blipFill>
          <a:blip r:embed="rId1"/>
          <a:srcRect l="-5720" t="-2466" r="-4452" b="-3850"/>
          <a:stretch/>
        </p:blipFill>
        <p:spPr>
          <a:xfrm>
            <a:off x="2514600" y="0"/>
            <a:ext cx="6629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lip circle analysis using each set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values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2" name="Back%20analysis%20a%206.5" descr=""/>
          <p:cNvPicPr/>
          <p:nvPr/>
        </p:nvPicPr>
        <p:blipFill>
          <a:blip r:embed="rId1"/>
          <a:srcRect l="4207" t="-2409" r="5841" b="-5299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981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gnore the actual slip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- determine new combinations of c</a:t>
            </a:r>
            <a:r>
              <a:rPr b="1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to give SF = 1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4" name="Back%20analysis%20c%206" descr=""/>
          <p:cNvPicPr/>
          <p:nvPr/>
        </p:nvPicPr>
        <p:blipFill>
          <a:blip r:embed="rId1"/>
          <a:srcRect l="-1946" t="-4807" r="-1976" b="-4592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Mohr-Coulomb failure lines for the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combinations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6" name="Back%20analysis%20e%207.5" descr=""/>
          <p:cNvPicPr/>
          <p:nvPr/>
        </p:nvPicPr>
        <p:blipFill>
          <a:blip r:embed="rId1"/>
          <a:srcRect l="-1600" t="-3656" r="-2558" b="-3691"/>
          <a:stretch/>
        </p:blipFill>
        <p:spPr>
          <a:xfrm>
            <a:off x="0" y="99072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ck Analysis of a Number of Slips in the Same Material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040" y="1676520"/>
            <a:ext cx="855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each slip it is possible to calculate the average value of shear stress and effective normal stress along the slip surface (Pore pressure must be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gives one point to plot on a graph of shear stress against norm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a number of such points a Mohr-Coulomb failure line can be determ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ettlement Predictions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9960" y="1920960"/>
            <a:ext cx="7026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edometer test probably still the most used basis for settlement 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lternatives are in situ tests, especially plate loading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London Clay Example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40" name="Geom%203%20back%20analysis%20chart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nalysis of Data from a Large Number of Intact Slopes (in the same material)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eld surveys and measurements can gather data on slope height and slope angle from as many slopes as possible consisting of the same material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higher and steeper the slopes the bett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nformation an be plotted and then a “curve fitting” procedure used to determine values of c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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2590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urve fitting to slope height  &amp; slope angle dat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can be quite a tedious procedure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44" name="Slope%20height%20vs%20angle%20analysis%20-%20concept" descr=""/>
          <p:cNvPicPr/>
          <p:nvPr/>
        </p:nvPicPr>
        <p:blipFill>
          <a:blip r:embed="rId1"/>
          <a:srcRect l="-5327" t="-1019" r="-9472" b="-1019"/>
          <a:stretch/>
        </p:blipFill>
        <p:spPr>
          <a:xfrm>
            <a:off x="2949480" y="0"/>
            <a:ext cx="61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etermination of Retaining Forces for Cuts in Steep Slop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termination of the force P to retain a cut as shown can be quite difficult – back analysis can provide a solution – this will be a tutorial exerci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edge%20analysis%20Fig%201" descr=""/>
          <p:cNvPicPr/>
          <p:nvPr/>
        </p:nvPicPr>
        <p:blipFill>
          <a:blip r:embed="rId1"/>
          <a:srcRect l="-7717" t="-3760" r="-5402" b="7005"/>
          <a:stretch/>
        </p:blipFill>
        <p:spPr>
          <a:xfrm>
            <a:off x="2514600" y="1577880"/>
            <a:ext cx="66294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ssessment of the stability of natural slopes involves the following: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sual inspection of the slope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eological appraisal of slope and surrounding area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nspection of aerial photos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nspection of any existing cuts in similar material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lytical studies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is probably the case that 80 to 90% of the “input” into any assessment of slope stability comes from non analytical methods – only 10 to 20 % from analytical methods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Visual inspection – shape of slope  surface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51" name="Instability%20signs%20in%20%20slope%20contours" descr=""/>
          <p:cNvPicPr/>
          <p:nvPr/>
        </p:nvPicPr>
        <p:blipFill>
          <a:blip r:embed="rId1"/>
          <a:srcRect l="1711" t="-20263" r="-940" b="-35965"/>
          <a:stretch/>
        </p:blipFill>
        <p:spPr>
          <a:xfrm>
            <a:off x="0" y="2365200"/>
            <a:ext cx="9144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medial measure to stabilise slop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ngineers often are called in after a slip has occurred to advise on how to stabilise the slop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te investigation and soil testing should be focused on gaining information useful for designing remedial work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o often a lot of time and money are spent on investigation and measurement of properties which are not helpful to the design of remedial measure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irst possibility is to reduce the disturbing forces: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29716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Flatten the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Reduce the he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dd a toe weight (ber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Second possibility is to increase the shear resistance of the soil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00664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Lower the pore water pressure (drainage)   - frequently u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Use mechanical keying such as piling or retaining walls – sometimes u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Grout the soil – rarely us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measure(s) to be used in a particular situation depend on the nature of the slope and the slip.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9520" y="2506680"/>
            <a:ext cx="775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640" y="260208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wo kinds of slope/sl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lope of limited height – rotational slip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lope of great height – translational sl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99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Magnitude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appears that estimates based on oedometer test results are generally conservative –ie they are overestimates.  Two possible reasons for thi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ample disturbance – mentioned earlier – can be minimised by block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pore pressure state in the ground not taken into account – assumption usually made that pore pressure equilibrium state is unchanged by construction of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of limited height/ rotational slips – reshaping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2" name="Remedial%20measures%20-%20shape%20alteration" descr=""/>
          <p:cNvPicPr/>
          <p:nvPr/>
        </p:nvPicPr>
        <p:blipFill>
          <a:blip r:embed="rId1"/>
          <a:srcRect l="-1033" t="-15530" r="-949" b="-21238"/>
          <a:stretch/>
        </p:blipFill>
        <p:spPr>
          <a:xfrm>
            <a:off x="0" y="1981080"/>
            <a:ext cx="914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657240"/>
            <a:ext cx="2286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rainage measur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4" name="Simple%20trench%20drain" descr=""/>
          <p:cNvPicPr/>
          <p:nvPr/>
        </p:nvPicPr>
        <p:blipFill>
          <a:blip r:embed="rId1"/>
          <a:srcRect l="0" t="-8034" r="-4051" b="-8877"/>
          <a:stretch/>
        </p:blipFill>
        <p:spPr>
          <a:xfrm>
            <a:off x="0" y="0"/>
            <a:ext cx="8763120" cy="3578400"/>
          </a:xfrm>
          <a:prstGeom prst="rect">
            <a:avLst/>
          </a:prstGeom>
          <a:ln w="0">
            <a:noFill/>
          </a:ln>
        </p:spPr>
      </p:pic>
      <p:pic>
        <p:nvPicPr>
          <p:cNvPr id="165" name="Horizontal%20bored%20drains" descr=""/>
          <p:cNvPicPr/>
          <p:nvPr/>
        </p:nvPicPr>
        <p:blipFill>
          <a:blip r:embed="rId2"/>
          <a:srcRect l="0" t="-10141" r="0" b="-10464"/>
          <a:stretch/>
        </p:blipFill>
        <p:spPr>
          <a:xfrm>
            <a:off x="2438280" y="3821040"/>
            <a:ext cx="6705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lopes of “unlimited” height – translational slides. Reducing pore pressure is often the only practical possibility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7" name="Trench%20drains%20for%20translational%20slide" descr=""/>
          <p:cNvPicPr/>
          <p:nvPr/>
        </p:nvPicPr>
        <p:blipFill>
          <a:blip r:embed="rId1"/>
          <a:srcRect l="-3484" t="-3982" r="-2346" b="0"/>
          <a:stretch/>
        </p:blipFill>
        <p:spPr>
          <a:xfrm>
            <a:off x="0" y="1177920"/>
            <a:ext cx="90676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Other notes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many situations, it is only possible to raise the safety factor by a small amount  - from 1.0 to 1.1 or 1.2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echanical methods can sometimes be used – especially in urban situation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routing is rarely possible – slides generally occur in clay, and grouting is often not possible in clay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ndonesia%20Feb%202005%20010" descr=""/>
          <p:cNvPicPr/>
          <p:nvPr/>
        </p:nvPicPr>
        <p:blipFill>
          <a:blip r:embed="rId1"/>
          <a:srcRect l="11429" t="10696" r="23275" b="24359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46784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arthworks and Compaction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ssues in compacting residual soils 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much wetter than optimum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highly variable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an allophane clay, without a clear optimum water content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highly structured &amp; sensitive, and softens during compaction (over-compaction)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oils much wetter than optimum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o simple solution – essentials are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dequate spells of dry (and windy) weath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lenty of wide, open space, so the soil can be spread out, and exposed to max. sunshine and max. win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ood site management.  Maximising use of dry weather, and not exposing loose fill to rainfall. All stockpiles should be sealed by surface shaping and rolling to prevent water infiltration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mpaction%20curves" descr=""/>
          <p:cNvPicPr/>
          <p:nvPr/>
        </p:nvPicPr>
        <p:blipFill>
          <a:blip r:embed="rId1"/>
          <a:srcRect l="-2326" t="-9138" r="-1477" b="-2726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ighly  variable soils on small sites - control using optimum water content and dry density almost impossible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An alternative method uses undrained shear strength and air voids as control parameter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is method completely overcomes the problem of variable soil type – the same limits of undrained shear strength and air voids apply regardless of variations in the soil.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Sh%20Str%20and%20air%20voids%20compaction%20control" descr=""/>
          <p:cNvPicPr/>
          <p:nvPr/>
        </p:nvPicPr>
        <p:blipFill>
          <a:blip r:embed="rId1"/>
          <a:srcRect l="-8257" t="-3689" r="-1717" b="-5757"/>
          <a:stretch/>
        </p:blipFill>
        <p:spPr>
          <a:xfrm>
            <a:off x="228600" y="25560"/>
            <a:ext cx="8458200" cy="6022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ncept of the method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ore%20pressure%20stress%20state_1" descr=""/>
          <p:cNvPicPr/>
          <p:nvPr/>
        </p:nvPicPr>
        <p:blipFill>
          <a:blip r:embed="rId1"/>
          <a:srcRect l="-13232" t="-4453" r="-12880" b="-4496"/>
          <a:stretch/>
        </p:blipFill>
        <p:spPr>
          <a:xfrm>
            <a:off x="0" y="-6336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ossible pore pressure stat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Important aspects of the method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lower limit on undrained shear strength prevents the soil being too we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upper limit on air voids prevents the soil being too dry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ost clayey soils compacted at optimum w/c content have a shear strength of between about 150 kPa and 200 kPa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resulting fill has properties essentially the same as those produced by the conventional control metho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uitable control limits for compaction specification are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drained shear strength: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nimum average value: 150 kPa (10 tests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nimum single value: 120 kPa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ir voids: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“normal” soils: not greater than 8%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volcanic ash (allophane) clay: not greater than 10% or 12%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Measurement of undrained shear strength and air void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Undrained shear strength is easily measured in the field using a hand vane apparatus. Some authorities prefer to take samples and do U.C. Tests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ir voids has to be measured in the normal way – by measuring density, water content and specific gravity.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3124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Hand shear vane of the “Pilcon” type, for in situ measurement of undrained shear strength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89" name="Hand%20shear%20vane" descr=""/>
          <p:cNvPicPr/>
          <p:nvPr/>
        </p:nvPicPr>
        <p:blipFill>
          <a:blip r:embed="rId1"/>
          <a:srcRect l="-6490" t="-5636" r="-4087" b="-3822"/>
          <a:stretch/>
        </p:blipFill>
        <p:spPr>
          <a:xfrm>
            <a:off x="3935520" y="0"/>
            <a:ext cx="52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0504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Geotechnique paper Fig 5" descr=""/>
          <p:cNvPicPr/>
          <p:nvPr/>
        </p:nvPicPr>
        <p:blipFill>
          <a:blip r:embed="rId1"/>
          <a:srcRect l="-2010" t="-1454" r="-1708" b="-1165"/>
          <a:stretch/>
        </p:blipFill>
        <p:spPr>
          <a:xfrm>
            <a:off x="1752480" y="0"/>
            <a:ext cx="7315200" cy="5943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5943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ndard compaction test together with undrained shear strength measurements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0176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oil tested was a clay from weathered sand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dditional advantages of the shear strength &amp; air voids method of compaction contro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riteria can easily be changed to meet a particular objective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a highly plastic (ductile) fill is needed (eg for an earth dam core) the shear strength can be lowered – 70 to 100 kPa would be appropriat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the subgrade of a highway pavement a higher strength might be desirable – say at least 200kpa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oils Without a Clear Peak Dry Density &amp; no Opt. Water Content – especially allophane clays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97" name="Allophane%20compaction%20graph" descr=""/>
          <p:cNvPicPr/>
          <p:nvPr/>
        </p:nvPicPr>
        <p:blipFill>
          <a:blip r:embed="rId1"/>
          <a:srcRect l="-3183" t="-4047" r="-1050" b="-4545"/>
          <a:stretch/>
        </p:blipFill>
        <p:spPr>
          <a:xfrm>
            <a:off x="0" y="2881440"/>
            <a:ext cx="7086600" cy="3976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4280" y="1492200"/>
            <a:ext cx="71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shear strength and air void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s ideal for such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83772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Compaction of soils subject to loss of strength when remoulded or compacted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(an effect called “over-compaction”)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0" name="NUS%20Fig%2021" descr=""/>
          <p:cNvPicPr/>
          <p:nvPr/>
        </p:nvPicPr>
        <p:blipFill>
          <a:blip r:embed="rId1"/>
          <a:srcRect l="0" t="3412" r="0" b="0"/>
          <a:stretch/>
        </p:blipFill>
        <p:spPr>
          <a:xfrm>
            <a:off x="287640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 Important to Recognise that Compaction has Two Effects: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“densifies” the soil,  ie it pushes the particles closer togeth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destroys the structure of the soil and causes it to soften. Particles and bonds may be crushed and trapped water released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some soils this softening effect may be small, but with other soils it may be very significant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Overcoming this problem??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ake sure you understand the properties of the soil – ie carry out adequate laboratory test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nd out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if the soil soften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with repeated compaction, and how easily it soften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arry out field trials of excavation and compaction to determine the best procedure. (Use a strength measurement for evaluation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times “light” compaction with a tracked bulldozer is better than heavy sheeps-foot roller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We cannot know the pore pressure state at time of construction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foundation and structure are built during wet weather, the final pore pressure is likely to be less – meaning an increase in effective stress, and an underestimate of settlemen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foundation and structure are built during dry weather, the final pore pressure is likely to be more – meaning a decrease in effective stress, and an overestimate of settlemen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swelling could even occur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mpaction of Ganular &amp; Non-plastic Materia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octor compaction tests or relative density tests are not always usefu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ests on gravel/sand show very flat curves and water contents may not be reliab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spite this, the test gives a useful guide to the density which can be expected in the fiel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s often the case that higher densities can be achieved by field compaction than in the Proctor tes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Field Trials of Compaction Are Very Useful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bjective should be to determine: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n appropriate density to aim for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ype of equipment and number of passes to achieve this density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ppropriate control methods 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- measurement of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ensity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trength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For compaction control of granular materials, the use of hand penetrometers is becoming common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mall “falling weight” dynamic penetrometers are easy to us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parameter measured is blows/distance penetrate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s a measure of both density and strength – for granular materials they are closely relate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Types of hand penetrometers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12" name="Hand%20penetrometers" descr=""/>
          <p:cNvPicPr/>
          <p:nvPr/>
        </p:nvPicPr>
        <p:blipFill>
          <a:blip r:embed="rId1"/>
          <a:srcRect l="-3410" t="-3239" r="-2244" b="-7031"/>
          <a:stretch/>
        </p:blipFill>
        <p:spPr>
          <a:xfrm>
            <a:off x="1981080" y="23760"/>
            <a:ext cx="71629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enetrometers commonly used in some parts of the world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ynamic: Scala penetromet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ip: 20mm dia. 30</a:t>
            </a:r>
            <a:r>
              <a:rPr b="1" lang="en-US" sz="2800" spc="-1" strike="noStrike" baseline="30000">
                <a:solidFill>
                  <a:srgbClr val="33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point ang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ammer weight: 9 kg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eight of fall: 51.0c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rameter measured: S = no of blows/100m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rrelation with SPT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PT N value = 1.5 S from Scala tes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mmon specification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cala S value from 50mm to 150mm in compacted fill not less than 10-12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enetrometers commonly used in some parts of the world (contd)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S Army Corps of Engineers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ip 12.8mm diameter 30</a:t>
            </a:r>
            <a:r>
              <a:rPr b="1" lang="en-US" sz="2800" spc="-1" strike="noStrike" baseline="30000">
                <a:solidFill>
                  <a:srgbClr val="33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ne ang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rameter measured (originally) Force in units of 0.5 pounds (1.102 kg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cone can be calibrated with either CBR or with undrained shear strength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cone is intended mainly for cohesive soils of soft to moderate strength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42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(b) Time Rate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57" name="1D%20and%203D%20Consolidation" descr=""/>
          <p:cNvPicPr/>
          <p:nvPr/>
        </p:nvPicPr>
        <p:blipFill>
          <a:blip r:embed="rId1"/>
          <a:srcRect l="-5259" t="-8206" r="-3309" b="-4913"/>
          <a:stretch/>
        </p:blipFill>
        <p:spPr>
          <a:xfrm>
            <a:off x="0" y="76212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26:23Z</dcterms:created>
  <dc:creator>Laurie Wesley</dc:creator>
  <dc:description/>
  <dc:language>en-US</dc:language>
  <cp:lastModifiedBy>Laurie Wesley</cp:lastModifiedBy>
  <dcterms:modified xsi:type="dcterms:W3CDTF">2005-09-05T16:03:10Z</dcterms:modified>
  <cp:revision>134</cp:revision>
  <dc:subject/>
  <dc:title>GEOTECHNICAL ENGINEERING IN RESIUDAL SOILS  University of Chile, Santiago   PART 7: GEOTECHNICAL ENGINEERING IN RESIDUAL SOILS </dc:title>
</cp:coreProperties>
</file>