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615-21EA-4E29-8C00-AEAB3BEE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19F-2867-4001-A466-68CFE5B8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5D6-5567-4FEB-AA9D-B05D96A4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09A-EEB7-459A-BB59-6CD94634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F54-9772-46B3-A817-D2126238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DE9-BB50-4660-AAB6-C7500F64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0D8-EEF2-43A8-876B-038E345D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07E-B2CB-4F12-9358-A5035D82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22E-2A9F-473F-9B94-C5C72A49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28A7-20D4-431D-ADAF-A85AEC5F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4E3-203D-4202-9CF4-9761D690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6F5-FCC6-4D4D-9BB8-6BA1D3A1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1A94-5520-40A1-8A72-58D78CDBD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764640"/>
            <a:ext cx="8223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GEOTECHNICAL ENGINEERING IN RESIUDAL SOILS </a:t>
            </a:r>
            <a:br>
              <a:rPr sz="4000"/>
            </a:b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University of Chile, Santiago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PART 4: GROUNDWATER, SEEPAGE CONDITIONS, AND THE K</a:t>
            </a:r>
            <a:r>
              <a:rPr b="1" lang="en-US" sz="40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VALU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4392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a50021"/>
                </a:solidFill>
                <a:latin typeface="Arial"/>
              </a:rPr>
              <a:t>The last picture was an over-simplification – the influence of seasons on the pore pressure state above the water table is more subtle, and is different in clays to sands, as indicated in the next two pictures 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alphaModFix amt="73000"/>
          </a:blip>
          <a:srcRect l="-3093" t="-4408" r="-3121" b="-2704"/>
          <a:stretch/>
        </p:blipFill>
        <p:spPr>
          <a:xfrm>
            <a:off x="0" y="17640"/>
            <a:ext cx="9144000" cy="5811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594972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Seasonal influence on water table and pore pressures in sand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-1983" t="-3247" r="-1983" b="-3247"/>
          <a:stretch/>
        </p:blipFill>
        <p:spPr>
          <a:xfrm>
            <a:off x="0" y="34920"/>
            <a:ext cx="9144000" cy="5784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021000"/>
            <a:ext cx="9144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Influence of seasons on water table and pore pressure in cla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-2902" t="-4229" r="-1941" b="-4387"/>
          <a:stretch/>
        </p:blipFill>
        <p:spPr>
          <a:xfrm>
            <a:off x="0" y="3168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3093840" cy="289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Hillside seepage – note that seepage takes place above the water table according to the same laws as below the water table 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6171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epage state in fully saturated hill slope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-3235" r="1725" b="0"/>
          <a:stretch/>
        </p:blipFill>
        <p:spPr>
          <a:xfrm>
            <a:off x="0" y="0"/>
            <a:ext cx="9144000" cy="627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7760" y="1557360"/>
            <a:ext cx="359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mited recharge at ground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pore pressures generally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18560" y="148428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table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725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Climatic influences on seepage conditions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000" y="1308240"/>
            <a:ext cx="8451720" cy="521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Not much information of real value in the literature. Hong Kong records the best to d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ontinuous records are extremely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ppropriate type of piezometers are needed – those whose readings can be recorded automatical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ith very low permeability clays, such as London clay, it appears that there is very little seasonal change in seepage condi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Implications of Groundwater and Seepage State on Practical Situations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080" y="1666800"/>
            <a:ext cx="847404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stimations of foundation settlement should include pore pressure changes resulting from foundation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Ground settlement from groundwater lowering must examine state above and below the water 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imply placing a sealed layer at the surface without applied loading may cause heave (or sett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ny slopes are stable because of influence of suction (negative pore pressure) above the water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6920" y="6064200"/>
            <a:ext cx="66978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Estimation  of foundation settlement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-5590" t="-4444" r="-4007" b="-4138"/>
          <a:stretch/>
        </p:blipFill>
        <p:spPr>
          <a:xfrm>
            <a:off x="0" y="0"/>
            <a:ext cx="91090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round settlement from groundwater lowering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-13625" t="-3533" r="-13093" b="1963"/>
          <a:stretch/>
        </p:blipFill>
        <p:spPr>
          <a:xfrm>
            <a:off x="228600" y="673200"/>
            <a:ext cx="853452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nfluence of sealing the ground surface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-3173" t="-7199" r="-3173" b="-7199"/>
          <a:stretch/>
        </p:blipFill>
        <p:spPr>
          <a:xfrm>
            <a:off x="0" y="685800"/>
            <a:ext cx="9144000" cy="4371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9080" y="5334120"/>
            <a:ext cx="86263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ealing the ground surface prevents evaporation and soil may take up water leading to swell, or to collapse, depending on soil characteristic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04000" cy="251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Arial"/>
              </a:rPr>
              <a:t>Understanding the seepage state and pore pressures is important with all soils, and even more so with residual soil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2360" y="3428640"/>
            <a:ext cx="7775640" cy="23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With residual soils, much of the action of interest to geotechnical engineers takes place above the water table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2895480" cy="4800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nfluence of negative pore pressure on stability of slop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ilure can still occur even with water table below the slip surface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60720" y="-9360"/>
            <a:ext cx="48783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33920" y="27000"/>
            <a:ext cx="5181480" cy="3327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733920" y="3451320"/>
            <a:ext cx="5181480" cy="3325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2895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ossible seepage conditions in a slope depending on assumed boundary conditions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4280" y="228600"/>
            <a:ext cx="52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c01"/>
                </a:solidFill>
                <a:latin typeface="Arial"/>
              </a:rPr>
              <a:t>Seepage source from adjacent catc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7242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c01"/>
                </a:solidFill>
                <a:latin typeface="Arial"/>
              </a:rPr>
              <a:t>Seepage source from surface rainfall only</a:t>
            </a:r>
            <a:r>
              <a:rPr b="0" lang="en-US" sz="2400" spc="-1" strike="noStrike">
                <a:solidFill>
                  <a:srgbClr val="990c0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-1914" t="-3367" r="-1914" b="-835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6320" y="6019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iezometric levels from the flow net with surface re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different levels do not indicate perched water tables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6624720" cy="647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he K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Stress State in Residual Soil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9080" y="1360440"/>
            <a:ext cx="8321400" cy="509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No reliable measurements from residual soi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eathering processes tend to remove material, resulting in strength and stiffness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moval of material will tend to “relieve” any locked in stresses, and to progressively reduce horizontal st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ogic suggests that the stress state will tend towards the active Rankine pressure st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However, opposing processes may op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he K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Stress State – Continued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382760"/>
            <a:ext cx="8534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 some situations, for example with sedimentary rocks, weathering removes bonds or cementation agents, releasing active clay minerals – could result in an increase in horizontal st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eathering does not always result in a reduction in density. Weathering from allophane to halloysite is accompanied by an increase in density. This could result in an increase in horizontal str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he K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Stress State – Continued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95280"/>
            <a:ext cx="89154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oretical analysis by Vaughan &amp; Kwan leads to following conclus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fluence of initial horizontal stress disappears fairly early in weathering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) The stress state tends towards the “at rest” K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value given by simple elastic theory: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86000" y="4724280"/>
                <a:ext cx="20574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354320" y="6186600"/>
            <a:ext cx="48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ere </a:t>
            </a: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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is Poisson’s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10993" t="0" r="832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3889440"/>
            <a:ext cx="7140600" cy="15562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F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Gracias por su atenc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7080" y="228240"/>
            <a:ext cx="7415280" cy="679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990033"/>
                </a:solidFill>
                <a:latin typeface="Arial"/>
              </a:rPr>
              <a:t>WHAT IS THE WATER TABLE ?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219320"/>
            <a:ext cx="8740800" cy="5211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A dividing line? Between what? Is it the same as the phreatic surface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2. A line below which seepage occurs and above which no seepage occu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3. A line below which pore pressure is positive, and above which pore pressure is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4. A line at which the pore pressure is zero (atmospheric)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8569080" cy="446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6600"/>
                </a:solidFill>
                <a:latin typeface="Arial"/>
              </a:rPr>
              <a:t>Seepage may be occurring in a continuous manner above and below the water table.</a:t>
            </a:r>
            <a:br>
              <a:rPr sz="3600"/>
            </a:br>
            <a:br>
              <a:rPr sz="1600"/>
            </a:br>
            <a:r>
              <a:rPr b="1" lang="en-NZ" sz="3600" spc="-1" strike="noStrike">
                <a:solidFill>
                  <a:srgbClr val="006600"/>
                </a:solidFill>
                <a:latin typeface="Arial"/>
              </a:rPr>
              <a:t>The phreatic surface is essentially the same as the water table, but is normally used when seepage flow is taking place.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640" y="333000"/>
            <a:ext cx="7416720" cy="1150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990033"/>
                </a:solidFill>
                <a:latin typeface="Arial"/>
              </a:rPr>
              <a:t>The water table is a line of zero (atmospheric) pore pressure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5640" y="5947920"/>
            <a:ext cx="6769080" cy="5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Possible pore pressure states ?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-2373" t="-4261" r="-2394" b="-4297"/>
          <a:stretch/>
        </p:blipFill>
        <p:spPr>
          <a:xfrm>
            <a:off x="0" y="3024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8000" y="10800"/>
            <a:ext cx="561672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0033"/>
                </a:solidFill>
                <a:latin typeface="Arial"/>
              </a:rPr>
              <a:t>Groundwater behaviour:</a:t>
            </a:r>
            <a:r>
              <a:rPr b="0" lang="en-NZ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838080"/>
            <a:ext cx="8763120" cy="542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Groundwater cannot drain out of fine grained materials (clays) under gravity – limiting size is about 0.06mm, ie boundary of silt and 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Surface tension behaviour of water prevents air entering the soil and hence water cannot drain out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Fully saturated clays cannot become partially saturated from gravity drainage – only from evaporation starting at surface, or along discontinui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The water table is a line of zero (atmospheric)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If the soil below and immediately above the water table is fully saturated then seepage takes place above and below the water table according to the same seepage law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1657440" cy="158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round-</a:t>
            </a:r>
            <a:br>
              <a:rPr sz="2400"/>
            </a:b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ter </a:t>
            </a:r>
            <a:br>
              <a:rPr sz="2400"/>
            </a:b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zones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-3393" t="-3008" r="-2266" b="-4209"/>
          <a:stretch/>
        </p:blipFill>
        <p:spPr>
          <a:xfrm>
            <a:off x="2050920" y="65160"/>
            <a:ext cx="712944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Bishop’s demonstration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-2675" t="-5156" r="-5153" b="-5072"/>
          <a:stretch/>
        </p:blipFill>
        <p:spPr>
          <a:xfrm>
            <a:off x="0" y="1000080"/>
            <a:ext cx="914400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6237360"/>
            <a:ext cx="6985080" cy="473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00"/>
                </a:solidFill>
                <a:latin typeface="Arial"/>
              </a:rPr>
              <a:t>Pore pressure state – dry and wet weather (?) 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-8090" t="-2781" r="-8679" b="-713"/>
          <a:stretch/>
        </p:blipFill>
        <p:spPr>
          <a:xfrm>
            <a:off x="539640" y="15840"/>
            <a:ext cx="799308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1T02:42:07Z</dcterms:created>
  <dc:creator>lwes010</dc:creator>
  <dc:description/>
  <dc:language>en-US</dc:language>
  <cp:lastModifiedBy>Laurie Wesley </cp:lastModifiedBy>
  <dcterms:modified xsi:type="dcterms:W3CDTF">2007-07-24T01:43:03Z</dcterms:modified>
  <cp:revision>96</cp:revision>
  <dc:subject/>
  <dc:title>GEOTECHNICAL ENGINEERING IN RESIUDAL SOILS  University of Chile, Santiago   PART 4: GROUNDWATER, SEEPAGE CONDITIONS AND THE Ko VALUE</dc:title>
</cp:coreProperties>
</file>