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16.jpeg" ContentType="image/jpeg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8.wmf" ContentType="image/x-wmf"/>
  <Override PartName="/ppt/media/image12.jpeg" ContentType="image/jpeg"/>
  <Override PartName="/ppt/media/image6.wmf" ContentType="image/x-wmf"/>
  <Override PartName="/ppt/media/image11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872CC-2743-440D-A19E-F97FA094A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5F48F-CC05-422C-B4DA-2738CC7E2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1A73B-3FFA-4176-A721-A1EEB0397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E20FD-F351-46B8-B696-30FB8B23C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A944E-8BBA-46C2-BADF-8E65D4263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3077D-7296-4634-B29F-800DABE4F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4F894-99A4-41E4-9A7F-431D8FCA9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B8B35-EE44-47FA-8839-06754643C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1A249-43E1-497A-ABEF-A10A1F78A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21E62-985B-4AB5-8F26-E40A59671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DB507-D52E-4011-87E0-6BABD4D90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0344D-6D02-4CB9-8329-145AE128E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0E9CE-2D6F-4683-B0ED-A6B2E1AE11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764640"/>
            <a:ext cx="82234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Arial"/>
              </a:rPr>
              <a:t>GEOTECHNICAL ENGINEERING IN RESIUDAL SOILS </a:t>
            </a:r>
            <a:br>
              <a:rPr sz="4000"/>
            </a:br>
            <a:r>
              <a:rPr b="1" lang="en-US" sz="4000" spc="-1" strike="noStrike">
                <a:solidFill>
                  <a:srgbClr val="800080"/>
                </a:solidFill>
                <a:latin typeface="Arial"/>
              </a:rPr>
              <a:t>University of Chile, Santiago</a:t>
            </a:r>
            <a:r>
              <a:rPr b="0" lang="en-US" sz="4000" spc="-1" strike="noStrike">
                <a:solidFill>
                  <a:srgbClr val="800080"/>
                </a:solidFill>
                <a:latin typeface="Arial"/>
              </a:rPr>
              <a:t> 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6600"/>
                </a:solidFill>
                <a:latin typeface="Arial"/>
              </a:rPr>
              <a:t>PART 4: GROUNDWATER, SEEPAGE CONDITIONS, AND THE K</a:t>
            </a:r>
            <a:r>
              <a:rPr b="1" lang="en-US" sz="4000" spc="-1" strike="noStrike" baseline="-25000">
                <a:solidFill>
                  <a:srgbClr val="006600"/>
                </a:solidFill>
                <a:latin typeface="Arial"/>
              </a:rPr>
              <a:t>o</a:t>
            </a:r>
            <a:r>
              <a:rPr b="1" lang="en-US" sz="4000" spc="-1" strike="noStrike">
                <a:solidFill>
                  <a:srgbClr val="006600"/>
                </a:solidFill>
                <a:latin typeface="Arial"/>
              </a:rPr>
              <a:t> VALUE</a:t>
            </a:r>
            <a:endParaRPr b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95280" y="907920"/>
            <a:ext cx="8353440" cy="4392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a50021"/>
                </a:solidFill>
                <a:latin typeface="Arial"/>
              </a:rPr>
              <a:t>The last picture was an over-simplification – the influence of seasons on the pore pressure state above the water table is more subtle, and is different in clays to sands, as indicated in the next two pictures  </a:t>
            </a:r>
            <a:endParaRPr b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>
            <a:alphaModFix amt="73000"/>
          </a:blip>
          <a:srcRect l="-3093" t="-4408" r="-3121" b="-2704"/>
          <a:stretch/>
        </p:blipFill>
        <p:spPr>
          <a:xfrm>
            <a:off x="0" y="17640"/>
            <a:ext cx="9144000" cy="581184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50560" y="5949720"/>
            <a:ext cx="856908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a50021"/>
                </a:solidFill>
                <a:latin typeface="Arial"/>
              </a:rPr>
              <a:t>Seasonal influence on water table and pore pressures in sand</a:t>
            </a:r>
            <a:endParaRPr b="1" lang="en-US" sz="2400" spc="-1" strike="noStrike">
              <a:solidFill>
                <a:srgbClr val="a5002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rcRect l="-1983" t="-3247" r="-1983" b="-3247"/>
          <a:stretch/>
        </p:blipFill>
        <p:spPr>
          <a:xfrm>
            <a:off x="0" y="34920"/>
            <a:ext cx="9144000" cy="578484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6021000"/>
            <a:ext cx="9144000" cy="55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a50021"/>
                </a:solidFill>
                <a:latin typeface="Arial"/>
              </a:rPr>
              <a:t>Influence of seasons on water table and pore pressure in clay</a:t>
            </a:r>
            <a:endParaRPr b="1" lang="en-US" sz="2800" spc="-1" strike="noStrike">
              <a:solidFill>
                <a:srgbClr val="a5002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rcRect l="-2902" t="-4229" r="-1941" b="-4387"/>
          <a:stretch/>
        </p:blipFill>
        <p:spPr>
          <a:xfrm>
            <a:off x="0" y="31680"/>
            <a:ext cx="9144000" cy="626580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3093840" cy="2890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a50021"/>
                </a:solidFill>
                <a:latin typeface="Arial"/>
              </a:rPr>
              <a:t>Hillside seepage – note that seepage takes place above the water table according to the same laws as below the water table </a:t>
            </a:r>
            <a:endParaRPr b="1" lang="en-US" sz="2400" spc="-1" strike="noStrike">
              <a:solidFill>
                <a:srgbClr val="a5002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6171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epage state in fully saturated hill slope</a:t>
            </a:r>
            <a:endParaRPr b="1" lang="en-US" sz="2400" spc="-1" strike="noStrike">
              <a:solidFill>
                <a:srgbClr val="a50021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rcRect l="0" t="-3235" r="1725" b="0"/>
          <a:stretch/>
        </p:blipFill>
        <p:spPr>
          <a:xfrm>
            <a:off x="0" y="0"/>
            <a:ext cx="9144000" cy="62755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257760" y="1557360"/>
            <a:ext cx="3592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imited recharge at ground surf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pore pressures generally negat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018560" y="1484280"/>
            <a:ext cx="162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ater table</a:t>
            </a:r>
            <a:r>
              <a:rPr b="0" lang="en-US" sz="2000" spc="-1" strike="noStrike">
                <a:solidFill>
                  <a:srgbClr val="6600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8569080" cy="725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99"/>
                </a:solidFill>
                <a:latin typeface="Arial"/>
              </a:rPr>
              <a:t>Climatic influences on seepage conditions</a:t>
            </a:r>
            <a:endParaRPr b="1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97000" y="1308240"/>
            <a:ext cx="8451720" cy="5213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Not much information of real value in the literature. Hong Kong records the best to dat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Continuous records are extremely r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Appropriate type of piezometers are needed – those whose readings can be recorded automatically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With very low permeability clays, such as London clay, it appears that there is very little seasonal change in seepage condition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99"/>
                </a:solidFill>
                <a:latin typeface="Arial"/>
              </a:rPr>
              <a:t>Implications of Groundwater and Seepage State on Practical Situations</a:t>
            </a:r>
            <a:endParaRPr b="1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89080" y="1666800"/>
            <a:ext cx="8474040" cy="4483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Estimations of foundation settlement should include pore pressure changes resulting from foundation constr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Ground settlement from groundwater lowering must examine state above and below the water 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Simply placing a sealed layer at the surface without applied loading may cause heave (or settlem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Many slopes are stable because of influence of suction (negative pore pressure) above the water t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86920" y="6064200"/>
            <a:ext cx="6697800" cy="5335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Arial"/>
              </a:rPr>
              <a:t>Estimation  of foundation settlement</a:t>
            </a:r>
            <a:endParaRPr b="1" lang="en-US" sz="2800" spc="-1" strike="noStrike">
              <a:solidFill>
                <a:srgbClr val="a50021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rcRect l="-5590" t="-4444" r="-4007" b="-4138"/>
          <a:stretch/>
        </p:blipFill>
        <p:spPr>
          <a:xfrm>
            <a:off x="0" y="0"/>
            <a:ext cx="9109080" cy="58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Ground settlement from groundwater lowering</a:t>
            </a:r>
            <a:r>
              <a:rPr b="1" lang="en-US" sz="2800" spc="-1" strike="noStrike">
                <a:solidFill>
                  <a:srgbClr val="660033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a50021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rcRect l="-13625" t="-3533" r="-13093" b="1963"/>
          <a:stretch/>
        </p:blipFill>
        <p:spPr>
          <a:xfrm>
            <a:off x="228600" y="673200"/>
            <a:ext cx="8534520" cy="613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Arial"/>
              </a:rPr>
              <a:t>Influence of sealing the ground surface</a:t>
            </a:r>
            <a:r>
              <a:rPr b="1" lang="en-US" sz="2800" spc="-1" strike="noStrike">
                <a:solidFill>
                  <a:srgbClr val="660033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a50021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rcRect l="-3173" t="-7199" r="-3173" b="-7199"/>
          <a:stretch/>
        </p:blipFill>
        <p:spPr>
          <a:xfrm>
            <a:off x="0" y="685800"/>
            <a:ext cx="9144000" cy="437184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289080" y="5334120"/>
            <a:ext cx="8626320" cy="1191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Sealing the ground surface prevents evaporation and soil may take up water leading to swell, or to collapse, depending on soil characteristics</a:t>
            </a: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04000" cy="25196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a50021"/>
                </a:solidFill>
                <a:latin typeface="Arial"/>
              </a:rPr>
              <a:t>Understanding the seepage state and pore pressures is important with all soils, and even more so with residual soils</a:t>
            </a:r>
            <a:endParaRPr b="1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12360" y="3428640"/>
            <a:ext cx="7775640" cy="2376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00"/>
                </a:solidFill>
                <a:latin typeface="Arial"/>
              </a:rPr>
              <a:t>   </a:t>
            </a:r>
            <a:r>
              <a:rPr b="1" lang="en-GB" sz="3600" spc="-1" strike="noStrike">
                <a:solidFill>
                  <a:srgbClr val="006600"/>
                </a:solidFill>
                <a:latin typeface="Arial"/>
              </a:rPr>
              <a:t>With residual soils, much of the action of interest to geotechnical engineers takes place above the water table</a:t>
            </a:r>
            <a:endParaRPr b="1" lang="en-US" sz="36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28240" y="837720"/>
            <a:ext cx="2895480" cy="48006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Arial"/>
              </a:rPr>
              <a:t>Influence of negative pore pressure on stability of slopes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Failure can still occur even with water table below the slip surface</a:t>
            </a:r>
            <a:endParaRPr b="1" lang="en-US" sz="2800" spc="-1" strike="noStrike">
              <a:solidFill>
                <a:srgbClr val="a50021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3960720" y="-9360"/>
            <a:ext cx="4878360" cy="689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3733920" y="27000"/>
            <a:ext cx="5181480" cy="33274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3733920" y="3451320"/>
            <a:ext cx="5181480" cy="33256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4560" y="1294920"/>
            <a:ext cx="289548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Possible seepage conditions in a slope depending on assumed boundary conditions</a:t>
            </a:r>
            <a:endParaRPr b="1" lang="en-US" sz="2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24280" y="228600"/>
            <a:ext cx="521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c01"/>
                </a:solidFill>
                <a:latin typeface="Arial"/>
              </a:rPr>
              <a:t>Seepage source from adjacent catch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4724280"/>
            <a:ext cx="531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c01"/>
                </a:solidFill>
                <a:latin typeface="Arial"/>
              </a:rPr>
              <a:t>Seepage source from surface rainfall only</a:t>
            </a:r>
            <a:r>
              <a:rPr b="0" lang="en-US" sz="2400" spc="-1" strike="noStrike">
                <a:solidFill>
                  <a:srgbClr val="990c01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a50021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rcRect l="-1914" t="-3367" r="-1914" b="-835"/>
          <a:stretch/>
        </p:blipFill>
        <p:spPr>
          <a:xfrm>
            <a:off x="0" y="0"/>
            <a:ext cx="9144000" cy="59436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76320" y="6019920"/>
            <a:ext cx="8915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Piezometric levels from the flow net with surface rechar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- different levels do not indicate perched water tables.</a:t>
            </a: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16000" y="259920"/>
            <a:ext cx="6624720" cy="6476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33"/>
                </a:solidFill>
                <a:latin typeface="Arial"/>
              </a:rPr>
              <a:t>The K</a:t>
            </a:r>
            <a:r>
              <a:rPr b="1" lang="en-US" sz="2800" spc="-1" strike="noStrike" baseline="-25000">
                <a:solidFill>
                  <a:srgbClr val="660033"/>
                </a:solidFill>
                <a:latin typeface="Arial"/>
              </a:rPr>
              <a:t>o</a:t>
            </a:r>
            <a:r>
              <a:rPr b="1" lang="en-US" sz="2800" spc="-1" strike="noStrike">
                <a:solidFill>
                  <a:srgbClr val="660033"/>
                </a:solidFill>
                <a:latin typeface="Arial"/>
              </a:rPr>
              <a:t> Stress State in Residual Soils</a:t>
            </a:r>
            <a:endParaRPr b="1" lang="en-US" sz="2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89080" y="1360440"/>
            <a:ext cx="8321400" cy="50900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No reliable measurements from residual soil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Weathering processes tend to remove material, resulting in strength and stiffness redu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Removal of material will tend to “relieve” any locked in stresses, and to progressively reduce horizontal stre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Logic suggests that the stress state will tend towards the active Rankine pressure stat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However, opposing processes may oper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33"/>
                </a:solidFill>
                <a:latin typeface="Arial"/>
              </a:rPr>
              <a:t>The K</a:t>
            </a:r>
            <a:r>
              <a:rPr b="1" lang="en-US" sz="2800" spc="-1" strike="noStrike" baseline="-25000">
                <a:solidFill>
                  <a:srgbClr val="660033"/>
                </a:solidFill>
                <a:latin typeface="Arial"/>
              </a:rPr>
              <a:t>o</a:t>
            </a:r>
            <a:r>
              <a:rPr b="1" lang="en-US" sz="2800" spc="-1" strike="noStrike">
                <a:solidFill>
                  <a:srgbClr val="660033"/>
                </a:solidFill>
                <a:latin typeface="Arial"/>
              </a:rPr>
              <a:t> Stress State – Continued</a:t>
            </a:r>
            <a:endParaRPr b="1" lang="en-US" sz="2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1382760"/>
            <a:ext cx="85345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In some situations, for example with sedimentary rocks, weathering removes bonds or cementation agents, releasing active clay minerals – could result in an increase in horizontal stres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Weathering does not always result in a reduction in density. Weathering from allophane to halloysite is accompanied by an increase in density. This could result in an increase in horizontal stres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33"/>
                </a:solidFill>
                <a:latin typeface="Arial"/>
              </a:rPr>
              <a:t>The K</a:t>
            </a:r>
            <a:r>
              <a:rPr b="1" lang="en-US" sz="2800" spc="-1" strike="noStrike" baseline="-25000">
                <a:solidFill>
                  <a:srgbClr val="660033"/>
                </a:solidFill>
                <a:latin typeface="Arial"/>
              </a:rPr>
              <a:t>o</a:t>
            </a:r>
            <a:r>
              <a:rPr b="1" lang="en-US" sz="2800" spc="-1" strike="noStrike">
                <a:solidFill>
                  <a:srgbClr val="660033"/>
                </a:solidFill>
                <a:latin typeface="Arial"/>
              </a:rPr>
              <a:t> Stress State – Continued</a:t>
            </a:r>
            <a:endParaRPr b="1" lang="en-US" sz="2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0" y="1295280"/>
            <a:ext cx="8915400" cy="31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Theoretical analysis by Vaughan &amp; Kwan leads to following conclus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66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Influence of initial horizontal stress disappears fairly early in weathering st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2) The stress state tends towards the “at rest” K</a:t>
            </a:r>
            <a:r>
              <a:rPr b="1" lang="en-US" sz="2800" spc="-1" strike="noStrike" baseline="-25000">
                <a:solidFill>
                  <a:srgbClr val="006600"/>
                </a:solidFill>
                <a:latin typeface="Arial"/>
              </a:rPr>
              <a:t>o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 value given by simple elastic theory:</a:t>
            </a: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2286000" y="4724280"/>
                <a:ext cx="2057400" cy="12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sSup>
                          <m:e>
                            <m:r>
                              <m:t xml:space="preserve">ν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r>
                          <m:t xml:space="preserve">1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ν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7" name=""/>
          <p:cNvSpPr/>
          <p:nvPr/>
        </p:nvSpPr>
        <p:spPr>
          <a:xfrm>
            <a:off x="1354320" y="6186600"/>
            <a:ext cx="482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Where </a:t>
            </a:r>
            <a:r>
              <a:rPr b="1" lang="en-US" sz="2800" spc="-1" strike="noStrike">
                <a:solidFill>
                  <a:srgbClr val="006600"/>
                </a:solidFill>
                <a:latin typeface="Symbol"/>
                <a:ea typeface="Symbol"/>
              </a:rPr>
              <a:t>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 is Poisson’s Rat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rcRect l="10993" t="0" r="8329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826920" y="3889440"/>
            <a:ext cx="7140600" cy="1556280"/>
          </a:xfrm>
          <a:prstGeom prst="rect">
            <a:avLst/>
          </a:prstGeom>
          <a:solidFill>
            <a:srgbClr val="ff66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"/>
              </a:rPr>
              <a:t>FIN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"/>
              </a:rPr>
              <a:t>Gracias por su atenc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57080" y="228240"/>
            <a:ext cx="7415280" cy="6793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990033"/>
                </a:solidFill>
                <a:latin typeface="Arial"/>
              </a:rPr>
              <a:t>WHAT IS THE WATER TABLE ?</a:t>
            </a:r>
            <a:endParaRPr b="1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52280" y="1219320"/>
            <a:ext cx="8740800" cy="5211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3300"/>
                </a:solidFill>
                <a:latin typeface="Arial"/>
              </a:rPr>
              <a:t>A dividing line? Between what? Is it the same as the phreatic surface?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3300"/>
                </a:solidFill>
                <a:latin typeface="Arial"/>
              </a:rPr>
              <a:t>2. A line below which seepage occurs and above which no seepage occur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3300"/>
                </a:solidFill>
                <a:latin typeface="Arial"/>
              </a:rPr>
              <a:t>3. A line below which pore pressure is positive, and above which pore pressure is ze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33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3300"/>
                </a:solidFill>
                <a:latin typeface="Arial"/>
              </a:rPr>
              <a:t>4. A line at which the pore pressure is zero (atmospheric) 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50560" y="1988640"/>
            <a:ext cx="8569080" cy="4464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6600"/>
                </a:solidFill>
                <a:latin typeface="Arial"/>
              </a:rPr>
              <a:t>Seepage may be occurring in a continuous manner above and below the water table.</a:t>
            </a:r>
            <a:br>
              <a:rPr sz="3600"/>
            </a:br>
            <a:br>
              <a:rPr sz="1600"/>
            </a:br>
            <a:r>
              <a:rPr b="1" lang="en-NZ" sz="3600" spc="-1" strike="noStrike">
                <a:solidFill>
                  <a:srgbClr val="006600"/>
                </a:solidFill>
                <a:latin typeface="Arial"/>
              </a:rPr>
              <a:t>The phreatic surface is essentially the same as the water table, but is normally used when seepage flow is taking place.</a:t>
            </a:r>
            <a:endParaRPr b="1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971640" y="333000"/>
            <a:ext cx="7416720" cy="1150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990033"/>
                </a:solidFill>
                <a:latin typeface="Arial"/>
              </a:rPr>
              <a:t>The water table is a line of zero (atmospheric) pore pressure</a:t>
            </a:r>
            <a:endParaRPr b="1" lang="en-US" sz="36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15640" y="5947920"/>
            <a:ext cx="6769080" cy="5763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3300"/>
                </a:solidFill>
                <a:latin typeface="Arial"/>
              </a:rPr>
              <a:t>Possible pore pressure states ?</a:t>
            </a:r>
            <a:endParaRPr b="1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rcRect l="-2373" t="-4261" r="-2394" b="-4297"/>
          <a:stretch/>
        </p:blipFill>
        <p:spPr>
          <a:xfrm>
            <a:off x="0" y="30240"/>
            <a:ext cx="91440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08000" y="10800"/>
            <a:ext cx="5616720" cy="6094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660033"/>
                </a:solidFill>
                <a:latin typeface="Arial"/>
              </a:rPr>
              <a:t>Groundwater behaviour:</a:t>
            </a:r>
            <a:r>
              <a:rPr b="0" lang="en-NZ" sz="3200" spc="-1" strike="noStrike">
                <a:solidFill>
                  <a:srgbClr val="660033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838080"/>
            <a:ext cx="8763120" cy="5426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NZ" sz="2400" spc="-1" strike="noStrike">
                <a:solidFill>
                  <a:srgbClr val="006600"/>
                </a:solidFill>
                <a:latin typeface="Arial"/>
              </a:rPr>
              <a:t>Groundwater cannot drain out of fine grained materials (clays) under gravity – limiting size is about 0.06mm, ie boundary of silt and s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6600"/>
                </a:solidFill>
                <a:latin typeface="Arial"/>
              </a:rPr>
              <a:t>    </a:t>
            </a:r>
            <a:r>
              <a:rPr b="1" lang="en-NZ" sz="2400" spc="-1" strike="noStrike">
                <a:solidFill>
                  <a:srgbClr val="006600"/>
                </a:solidFill>
                <a:latin typeface="Arial"/>
              </a:rPr>
              <a:t>Surface tension behaviour of water prevents air entering the soil and hence water cannot drain out of i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6600"/>
                </a:solidFill>
                <a:latin typeface="Arial"/>
              </a:rPr>
              <a:t>    </a:t>
            </a:r>
            <a:r>
              <a:rPr b="1" lang="en-NZ" sz="2400" spc="-1" strike="noStrike">
                <a:solidFill>
                  <a:srgbClr val="006600"/>
                </a:solidFill>
                <a:latin typeface="Arial"/>
              </a:rPr>
              <a:t>Fully saturated clays cannot become partially saturated from gravity drainage – only from evaporation starting at surface, or along discontinuiti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6600"/>
                </a:solidFill>
                <a:latin typeface="Arial"/>
              </a:rPr>
              <a:t>  </a:t>
            </a:r>
            <a:r>
              <a:rPr b="1" lang="en-NZ" sz="2400" spc="-1" strike="noStrike">
                <a:solidFill>
                  <a:srgbClr val="006600"/>
                </a:solidFill>
                <a:latin typeface="Arial"/>
              </a:rPr>
              <a:t>The water table is a line of zero (atmospheric) press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6600"/>
                </a:solidFill>
                <a:latin typeface="Arial"/>
              </a:rPr>
              <a:t>   </a:t>
            </a:r>
            <a:r>
              <a:rPr b="1" lang="en-NZ" sz="2400" spc="-1" strike="noStrike">
                <a:solidFill>
                  <a:srgbClr val="006600"/>
                </a:solidFill>
                <a:latin typeface="Arial"/>
              </a:rPr>
              <a:t>If the soil below and immediately above the water table is fully saturated then seepage takes place above and below the water table according to the same seepage law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9280" y="2133720"/>
            <a:ext cx="1657440" cy="1582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Ground-</a:t>
            </a:r>
            <a:br>
              <a:rPr sz="2400"/>
            </a:b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water </a:t>
            </a:r>
            <a:br>
              <a:rPr sz="2400"/>
            </a:b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zones</a:t>
            </a: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rcRect l="-3393" t="-3008" r="-2266" b="-4209"/>
          <a:stretch/>
        </p:blipFill>
        <p:spPr>
          <a:xfrm>
            <a:off x="2050920" y="65160"/>
            <a:ext cx="7129440" cy="679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99"/>
                </a:solidFill>
                <a:latin typeface="Arial"/>
              </a:rPr>
              <a:t>Bishop’s demonstration</a:t>
            </a:r>
            <a:r>
              <a:rPr b="1" lang="en-US" sz="4000" spc="-1" strike="noStrike">
                <a:solidFill>
                  <a:srgbClr val="a50021"/>
                </a:solidFill>
                <a:latin typeface="Arial"/>
              </a:rPr>
              <a:t>:</a:t>
            </a:r>
            <a:endParaRPr b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rcRect l="-2675" t="-5156" r="-5153" b="-5072"/>
          <a:stretch/>
        </p:blipFill>
        <p:spPr>
          <a:xfrm>
            <a:off x="0" y="1000080"/>
            <a:ext cx="9144000" cy="58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42560" y="6237360"/>
            <a:ext cx="6985080" cy="4730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3300"/>
                </a:solidFill>
                <a:latin typeface="Arial"/>
              </a:rPr>
              <a:t>Pore pressure state – dry and wet weather (?) </a:t>
            </a:r>
            <a:endParaRPr b="1" lang="en-US" sz="2400" spc="-1" strike="noStrike">
              <a:solidFill>
                <a:srgbClr val="a50021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rcRect l="-8090" t="-2781" r="-8679" b="-713"/>
          <a:stretch/>
        </p:blipFill>
        <p:spPr>
          <a:xfrm>
            <a:off x="539640" y="15840"/>
            <a:ext cx="7993080" cy="607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01T02:42:07Z</dcterms:created>
  <dc:creator>lwes010</dc:creator>
  <dc:description/>
  <dc:language>en-US</dc:language>
  <cp:lastModifiedBy>Laurie Wesley </cp:lastModifiedBy>
  <dcterms:modified xsi:type="dcterms:W3CDTF">2007-07-24T01:43:03Z</dcterms:modified>
  <cp:revision>96</cp:revision>
  <dc:subject/>
  <dc:title>GEOTECHNICAL ENGINEERING IN RESIUDAL SOILS  University of Chile, Santiago   PART 4: GROUNDWATER, SEEPAGE CONDITIONS AND THE Ko VALUE</dc:title>
</cp:coreProperties>
</file>