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D58-47CE-4D1C-A57D-8321CC62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2A3-3DAC-4CBF-9294-4A2A025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7BC-D826-4643-ADBF-A402F9A9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481-D4CA-4EF1-8F1C-D6187D7B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167-1A71-4E43-8A53-628A075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38D-032B-41EE-A8B3-84F5BBB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D05-BF5E-4E50-B043-3F1C586F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0B7-4177-4F38-937D-84BE80A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B67-214C-4E5B-8159-07CB268A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23B-50D2-438A-9566-B27C6D3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11E-C0B6-41DE-88A1-9E785DFF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865-6328-4C1A-AE13-E61D876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EA1B-B6C4-41A0-BEF7-4A91E2EE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DU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ART 3: GROUPING &amp; CLASSIFICATION SCHEMES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6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00080"/>
                </a:solidFill>
                <a:latin typeface="Arial"/>
              </a:rPr>
              <a:t>British Geological Societ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676520"/>
            <a:ext cx="815508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very complex system based on pedologi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lmost no clear connection between classification groups and engineering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obably best ignored for engineering purpo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for specific local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436760"/>
            <a:ext cx="868680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oncer and Lohnes describe a method for use with lateritic soils in Hawaii and Puerto 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ender describes an adaptation of Little’s  method for use with NZ weathered greywac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and Zeiglet describe a system specifically developed for one project - the Baltimore subway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se approaches are very practical and very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A USEFUL GROUPING SYSTEM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87440"/>
            <a:ext cx="8380440" cy="50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The two components of residual soil that give them distinctive characteristic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Mineralogical compos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ial"/>
              </a:rPr>
              <a:t>These can be used as the basis for a grouping system for residual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Three main groups on basis of mineralogical composition: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2046240"/>
            <a:ext cx="855036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A: Soils without strong mineralogical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B: Soils with strong mineralogical influence from conventional (usual) clay minerals commonly found in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Group C: Soils with strong mineralogical influence from special clay minerals not found in sedimentar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0033"/>
                </a:solidFill>
                <a:latin typeface="Times New Roman"/>
              </a:rPr>
              <a:t>Each group can be sub-divided on basis of soil structure.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1768320"/>
            <a:ext cx="832176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ypes of  soil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acro structure – joints, fault lines, bedding planes, - features visible to the naked e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Micro structure – bonding or cementing between particles – not visible to the naked ey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43320" y="0"/>
            <a:ext cx="5800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2792520" cy="27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Times New Roman"/>
              </a:rPr>
              <a:t>Macro- structure in weathered sandst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5678280"/>
            <a:ext cx="8207280" cy="99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Times New Roman"/>
              </a:rPr>
              <a:t>Minor macro-structure but important micro-structure (sensitive volcanic 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440"/>
            <a:ext cx="80769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2200" y="1501560"/>
            <a:ext cx="2665440" cy="322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Soil with no structural influence</a:t>
            </a:r>
            <a:br>
              <a:rPr sz="3600"/>
            </a:b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 - tropical red c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9312"/>
          <a:stretch/>
        </p:blipFill>
        <p:spPr>
          <a:xfrm>
            <a:off x="3405240" y="0"/>
            <a:ext cx="57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0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A Soils – little influence from mineralogy</a:t>
            </a:r>
            <a:r>
              <a:rPr b="1" lang="en-NZ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3120" y="1893960"/>
            <a:ext cx="803124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Generally of a rather coarse nature ie a relatively low clay fr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Clay fraction usually of low activity mineral ie kaol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 common example of this group is weathered grani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8192" t="210" r="0" b="0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1400" y="404640"/>
            <a:ext cx="6026760" cy="52056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Arial"/>
              </a:rPr>
              <a:t>A group A soil: Weathered gran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Present Classification Systems: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7520" y="1803240"/>
            <a:ext cx="7872120" cy="393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Methods based on the weathering profile</a:t>
            </a:r>
            <a:r>
              <a:rPr b="0" lang="en-N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b) Methods based on pedalogical classifi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(c)  Methods intended for local use on specific soil types only</a:t>
            </a:r>
            <a:r>
              <a:rPr b="1" lang="en-AU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B – Soils with strong infuence from “common”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63760"/>
            <a:ext cx="81439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ne dominant group – “black cotton soi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trongly influenced by presene of active clay minerals of the smecti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clay mineral montmorillinite is the most common member of this group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.Doby%204%20Swelling%20soil%20Surabaya%2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6095880"/>
            <a:ext cx="20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07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Group B soil: Montmorillinite c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ffff66"/>
                </a:solidFill>
                <a:latin typeface="Arial"/>
              </a:rPr>
              <a:t>- shallow failure on gentle slop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6696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Times New Roman"/>
              </a:rPr>
              <a:t>Group C soils: strong influence from unusual clay minerals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7840" y="2085840"/>
            <a:ext cx="6220440" cy="350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Three important miner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Allophane/imogo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Halloy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3300"/>
                </a:solidFill>
                <a:latin typeface="Arial"/>
              </a:rPr>
              <a:t>Sesquioxid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ing sequence for the three unusual clay miner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35200"/>
            <a:ext cx="8397720" cy="478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 - “glass”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lloph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alloy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aterite - Sesquioxides - Hydrated oxides of iron (geothite) and aluminium (gib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2352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603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827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tes on this weathering proce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8664480" cy="475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ormation of allophane is conditional on non crystalline parent material (g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weathering process involves both chemical change and leaching (solution) out of si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moval of silica leads to concentration of iron and aluminium compounds – the sesquiox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e sesquioxides tend to act as cementing agents, leading to formation of laterite, a hard gravelly 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71280"/>
            <a:ext cx="4464000" cy="3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utline of Grou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609480"/>
          <a:ext cx="8915400" cy="62438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ajor 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mineralogy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Sub-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Other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 especially parent ro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A – no strong mineralogical infl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B – strong influence from “normal” clay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Group C – strong influence from unusual clay miner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a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Micro-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66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No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7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6019560"/>
            <a:ext cx="374508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ing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6092640"/>
            <a:ext cx="6048360" cy="53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roup examples and proper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51920"/>
            <a:ext cx="6120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place of conventional classification systems</a:t>
            </a:r>
            <a:r>
              <a:rPr b="1" lang="en-US" sz="3600" spc="-1" strike="noStrike">
                <a:solidFill>
                  <a:srgbClr val="660033"/>
                </a:solidFill>
                <a:latin typeface="SimHe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120" y="1844640"/>
            <a:ext cx="8129520" cy="437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his grouping system is not intended to be a rigorous classification system to replace exis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is intended to identify soil groups that can be expected to have similar engineering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t should be used alongside other well established systems, in particular the Unified Soil Classificatio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imHei"/>
              </a:rPr>
              <a:t>A point about the Plasticity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8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440" y="5703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9594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position a soil occupies on the chart is a very useful indicator of likely behaviour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-8412" t="-5075" r="-4999" b="-2591"/>
          <a:stretch/>
        </p:blipFill>
        <p:spPr>
          <a:xfrm>
            <a:off x="0" y="59040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2362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Methods based on weathering profile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0840" y="0"/>
            <a:ext cx="4949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36960"/>
            <a:ext cx="32004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Profile from Little (1969), based on experience with weathered gr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69840"/>
            <a:ext cx="5761080" cy="1235160"/>
          </a:xfrm>
          <a:prstGeom prst="rect">
            <a:avLst/>
          </a:prstGeom>
          <a:solidFill>
            <a:srgbClr val="ffff99">
              <a:alpha val="4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 the six weathering categor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1219320"/>
            <a:ext cx="8530920" cy="454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I  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    Complete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V    High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l    Moderately weathered (rock 80 to 9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l    Slight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l    Fresh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4803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Limitations of this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523880"/>
            <a:ext cx="8686800" cy="44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escribes the weathering profile of igneous rocks in the tropics  (Little’s inten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does not provide any comparative information between soils from one rock type and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the profile shown in the Little figure is relevant only to certain types of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other types of rock produce different profiles.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791320"/>
            <a:ext cx="727236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3300"/>
                </a:solidFill>
                <a:latin typeface="Arial"/>
              </a:rPr>
              <a:t>Variations in weathering profile</a:t>
            </a: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-897" t="-4054" r="-2646" b="-10682"/>
          <a:stretch/>
        </p:blipFill>
        <p:spPr>
          <a:xfrm>
            <a:off x="-1440" y="0"/>
            <a:ext cx="914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985080" cy="49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Notes on weathering profi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585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eathering of (igneous) acidic rocks produces a thick gradual transition zone, while basic rocks produce a very thin sharp transition z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volcanic ash or lahar layers, weathering may be greater deeper down – depending on relative age of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With limestones, there is no transition zone. The weathering process is simply one of solution of the whole r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Soil profile from highly stratified sandstone reflects the layers of the parent rock as much as the weathering infl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5676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Use of Pedalogical Group Nam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09600"/>
            <a:ext cx="8512200" cy="485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Various group names have been borrowed from pedalogical systems used by soil sci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y have crept in randomly - for conven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first and best known is probably late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The three most commonly used at present are probably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lateritic soi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l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atosol</a:t>
            </a:r>
            <a:r>
              <a:rPr b="1" lang="en-AU" sz="2800" spc="-1" strike="noStrike">
                <a:solidFill>
                  <a:srgbClr val="003300"/>
                </a:solidFill>
                <a:latin typeface="Arial"/>
              </a:rPr>
              <a:t>, and </a:t>
            </a:r>
            <a:r>
              <a:rPr b="1" lang="en-AU" sz="2800" spc="-1" strike="noStrike" u="sng">
                <a:solidFill>
                  <a:srgbClr val="003300"/>
                </a:solidFill>
                <a:uFillTx/>
                <a:latin typeface="Arial"/>
              </a:rPr>
              <a:t>black cotton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Three pedalogial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hree%20pedological%20groups" descr=""/>
          <p:cNvPicPr/>
          <p:nvPr/>
        </p:nvPicPr>
        <p:blipFill>
          <a:blip r:embed="rId1"/>
          <a:srcRect l="-1733" t="-2626" r="-2605" b="-1443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21:30:02Z</dcterms:created>
  <dc:creator>lwes010</dc:creator>
  <dc:description/>
  <dc:language>en-US</dc:language>
  <cp:lastModifiedBy>Laurie Wesley </cp:lastModifiedBy>
  <dcterms:modified xsi:type="dcterms:W3CDTF">2007-07-22T21:45:05Z</dcterms:modified>
  <cp:revision>99</cp:revision>
  <dc:subject/>
  <dc:title>GEOTECHNICAL ENGINEERING IN RESIUDAL SOILS  University of Chile, Santiago   PART 3: GROUPING &amp; CLASSIFICATION SCHEMES FOR RESIDUAL SOILS</dc:title>
</cp:coreProperties>
</file>